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4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13.jpeg" ContentType="image/jpeg"/>
  <Override PartName="/ppt/media/image2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5440-A7A1-4B80-B1B1-FE232BF4DBC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5646-1F04-44B6-9356-43125589C91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08F9-B3A7-4E3B-B672-466643FF2AE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4755-E3EF-4A29-875F-799EF5BA6E3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0C3E-3CD5-4D19-A198-FF263510C9A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DDFA-9C17-464C-BF2A-228685A5FBF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CB33-534A-4CE1-B8D8-76770D57D3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CC3D-78E5-44F3-A4AD-1B307EAA3D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9F08-2377-4DBB-A81A-B427A95964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988C-DD54-413A-A8B7-B945E5A96F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3BF2-88AD-4457-833D-776E69A6F2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2B26-045E-42A1-9576-9A694E9D1D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2B38-03AE-4F3A-8AC4-E3A0C7A6A9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2D0D-703D-4685-9803-BC6E1445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2D43-1090-4F5E-9E4B-763CC556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E011-6184-48EF-B9CD-1991EC64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DF55-7B15-4A49-BE63-B9A7F093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A901-BCF2-417C-8771-95F7C4B4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C387-B347-4792-9567-C65E4806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1E23-A856-44AA-BB05-F2A96707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664F-D7F1-499B-98A2-06EF2AD8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501F-23CA-4361-8D04-20ED8AD9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A0DE-EDF3-4F35-8980-AA9262DD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0322-85C6-4B06-97E3-A45D2529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967A-3038-453E-A6E4-42EB82BE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DBEE-CB82-4F15-A7A1-34F81741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A9A0-77EB-4E17-9A99-8C59D4D6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6FD2-0FB0-4DC8-B18F-2D0816CE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1EC5-3340-4642-A8BE-B8190706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86DB-05FA-4E96-AA57-1D762B59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6CF90-807E-4CAB-AD64-D60E820E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714E8-2101-4BFC-A75A-9A93733A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4F0DE-1359-4784-8C35-569D783A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9AC64-4619-4D03-8640-58825E7B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9A96A-9CDC-4FE3-B75A-158348AA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9BD2-C365-4124-942A-73E185A0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3AC1F-A353-4944-AEE3-B3C73CF5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86982-0AD0-41C1-A5B2-AE86CD8C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5F055-D439-4406-A02F-AA92DFCB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A9BBE-1B6B-47DD-BFCB-EB87AF06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7B871-459A-481B-B6F0-D7DB3B58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4123D-4DE6-41E7-A4DF-365A9D18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0E5E3-8C4E-4C56-B14A-EB3F2988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BC9F9-99EF-4E2D-BE0C-6926D27B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D36F2-7DBA-4C27-BA8E-CFB1F0EC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4B62F-2803-4868-9AA3-4AA79840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1586-62FD-4103-9AFD-31DAE3F2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EE32F-9F37-46D6-8B76-916AFC7E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094F7-0305-4E6F-BCD1-E5C45C39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7EF11-78E5-4496-90BC-7976E866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B34D4-FCA3-4B95-86A0-611B6274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08E8A-D1F2-46C0-810C-5D7E9BB2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8492C-5485-4332-A057-E1E1989F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1232F-AB4F-4790-A7EC-1E8ED0B0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381C5-9637-4E0D-B91F-AD917A9C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DC766-8499-48A9-8769-6C080809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31D2F-D41B-4AEA-BD29-FFEFE55D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DBB6-5FC2-46BD-AE35-9C03F140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9B139-B5DA-4CEA-A603-FDC6B5BE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B4BAB-34D5-4C3E-8976-1536E298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5078D-DEFB-41F5-80F4-324D2B62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B67BD-AD77-4E5A-87D9-048BF8EF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E1B47-EABB-405F-BE25-F12123C3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057B0-0486-45A2-9D02-9E6459EF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B323B-350C-4649-8222-72902A15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92D4B-82FC-418D-833E-32A6DE21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F234A-37B3-4716-A9B7-F2E0F797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D34D1-17E9-47FA-BDD7-C5F2C915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BF8F-87A5-41BA-A9EB-3BC0E137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3F973-2BA9-4C0D-B665-B35E0FB3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68A63-F5FB-4FE5-9E39-9AB20D08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B1CE1-6997-4F9F-8147-07B904C6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A0F49-9108-4C4A-9414-E219CB13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4E288-3978-45D3-8B4F-48E3C88A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F1945-DB8B-4AF8-BD16-203F8AF9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ACB3F-968A-4D06-9797-042BDA92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454FC-DD4E-4747-ABF3-F31E96B0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C42AA-B82C-4B27-A558-BBF166D1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B4776-A393-4FE0-B3FB-FE096A9C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98F1-FEB5-4A06-BBB0-6B17FB9B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7BD2F-5874-404C-86AF-4F40BE6A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43E6E-4422-4D54-AB4D-4D337043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F287A-3C5B-4C4D-ABB7-51725D08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A06A8-83CF-452A-BE3A-7F783FEF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E4A82-E147-4D79-9CBC-7A66B32A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13D55-AC5D-46E1-9BA9-37E67B93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FCA18-32E5-4A9F-89AE-2E8F00EA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796FF-5D75-4D17-A326-9A7A09B5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2292D-9978-49FF-9AE6-93C8BC6B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0CCD3-50F9-41C3-8846-B05FB06E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488D-3617-45D8-82BF-ED6E897E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651B3-A67B-4B00-86BF-EEE31A59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E8538-D695-4A20-BE03-29CF3876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BC23B-D9BB-4D52-90B7-C6394765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479B0-9D5D-4E3D-9EA8-4EE08FE4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1AA3A-3D00-4B89-AAD8-01A5218C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50CFA-4E11-4A9E-B772-357D68ED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FE4D1-65B6-49E3-8C2A-D5E0C8AF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17CF1-6CD9-4F85-AA37-5F9880FA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6176C-E755-4E80-AAB9-6B9CACB5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FE771-8690-4287-89AB-D3561177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777C-8B95-4281-B645-675AAF57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BE3AF-B2B6-4784-87B4-5B859B0E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B6922-EE33-4AEE-8FFB-0E57DFFA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E30F4-DD0C-4A77-9396-16C097B0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ABD7A-677D-4270-BEDE-A16E2EB2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04CDA-C951-4D90-91E9-327F7985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F548D-CD2C-4CDE-970A-2C705742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CDAA7-46FC-41DE-953F-3E0BD60C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orme libre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AF11-3375-4B4C-8E04-134AEB4E2D8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0C30-8B35-41EA-9353-781B575ABC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angle rect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e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e libre 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orme libre 7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orme libre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e libr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Connecteur droit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5DB5-710D-4459-BA91-561B3D48733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6645-631F-40F0-A800-D5B516833E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e libre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orme libre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2D9F-9BE1-4CD2-840D-376183D7005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2FA8-D9C2-4C29-BB75-5C3E93C75A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e libre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orme libre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15E6-4C22-4D66-AB3C-AD65CDA4A56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1B66-8909-4A38-AE0A-A9FB350773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A304-630C-41C9-93C2-4190CE35548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9CDB-39AC-4391-95B4-1F2447FA31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e libre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orme libre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EBD8-DC72-4A52-9235-011D2447CF2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8B91-F2FB-4A3B-8D1C-C4C788C5DA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4362-CD66-4415-ACB0-72B1175327E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E88A-BE53-4E4C-80F9-32DDA58CFD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e libre 7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orme libre 8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Triangle rect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angle rect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Connecteur droit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4F6A-6CC4-4AC8-AA55-A7B38BF21552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6F95-A33D-4084-965D-3B4B1DD4E3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r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faecd"/>
                </a:solidFill>
                <a:latin typeface="Lucida Sans Unicode"/>
              </a:rPr>
              <a:t>Pharmacies de PAR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468360" y="476280"/>
            <a:ext cx="457200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05766"/>
                </a:solidFill>
                <a:latin typeface="Lucida Sans Unicode"/>
              </a:rPr>
              <a:t>«Je jure, en présence des maîtres de la faculté, d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05766"/>
                </a:solidFill>
                <a:latin typeface="Lucida Sans Unicode"/>
              </a:rPr>
              <a:t>conseillers de l’ordre des pharmaciens et de m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05766"/>
                </a:solidFill>
                <a:latin typeface="Lucida Sans Unicode"/>
              </a:rPr>
              <a:t>condisciples…de ne jamais oublier ma responsabilité et mes devoir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05766"/>
                </a:solidFill>
                <a:latin typeface="Lucida Sans Unicode"/>
              </a:rPr>
              <a:t>envers le malade et sa dignité humaine.»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faecd"/>
                </a:solidFill>
                <a:latin typeface="Lucida Sans Unicode"/>
              </a:rPr>
              <a:t>-Extrait du Serment de Galien-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5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6836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Répartition des officines dans les secteurs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Homogénéité des tours de garde entre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les pharmacies du secteu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Couverture cohérente sur l’ensemble de Pari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Un atout Santé pour Pari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65160"/>
                </a:solidFill>
                <a:latin typeface="Lucida Sans Unicode"/>
              </a:rPr>
              <a:t>En application du CODE de la SANTE PUBLIQUE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65160"/>
                </a:solidFill>
                <a:latin typeface="Lucida Sans Unicode"/>
              </a:rPr>
              <a:t>et du CODE DU TRAVAIL, un système de garde pour en finir avec un système anarchique où chacun ouvrait quand il voulait…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6"/>
          <p:cNvSpPr/>
          <p:nvPr/>
        </p:nvSpPr>
        <p:spPr>
          <a:xfrm>
            <a:off x="0" y="339120"/>
            <a:ext cx="914400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5766"/>
                </a:solidFill>
                <a:latin typeface="Arial"/>
                <a:ea typeface="Arial Unicode MS"/>
              </a:rPr>
              <a:t>10 pharmacies de garde d’urgence seront en service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5766"/>
                </a:solidFill>
                <a:latin typeface="Arial"/>
                <a:ea typeface="Arial Unicode MS"/>
              </a:rPr>
              <a:t>depuis1</a:t>
            </a:r>
            <a:r>
              <a:rPr b="1" lang="en-US" sz="1400" spc="-1" strike="noStrike" baseline="30000">
                <a:solidFill>
                  <a:srgbClr val="105766"/>
                </a:solidFill>
                <a:latin typeface="Arial"/>
                <a:ea typeface="Arial Unicode MS"/>
              </a:rPr>
              <a:t>er</a:t>
            </a:r>
            <a:r>
              <a:rPr b="1" lang="en-US" sz="1400" spc="-1" strike="noStrike">
                <a:solidFill>
                  <a:srgbClr val="105766"/>
                </a:solidFill>
                <a:latin typeface="Arial"/>
                <a:ea typeface="Arial Unicode MS"/>
              </a:rPr>
              <a:t> octobre 2011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5766"/>
                </a:solidFill>
                <a:latin typeface="Arial"/>
                <a:ea typeface="Arial Unicode MS"/>
              </a:rPr>
              <a:t>pour répondre da façon optimale aux soins d’urgence sur Paris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0" y="1671840"/>
            <a:ext cx="9144000" cy="17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Titre 3"/>
          <p:cNvSpPr/>
          <p:nvPr/>
        </p:nvSpPr>
        <p:spPr>
          <a:xfrm>
            <a:off x="250920" y="162864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Les pharmacies assurant le service de nuit, de 21H à 8H du matin sont en accès libre,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 u="sng">
                <a:solidFill>
                  <a:srgbClr val="464646"/>
                </a:solidFill>
                <a:uFillTx/>
                <a:latin typeface="Lucida Sans Unicode"/>
              </a:rPr>
              <a:t>sans passage par le commissariat d’arrondissement.</a:t>
            </a: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  Ces pharmacies ont la possibilité d’effectuer leur garde à volets ouverts ou volets fermés. Dans ce dernier cas, le pharmacien mentionne son numéro de téléphone sur son officine pour répondre à toute urgence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Quelle que soit la solution choisie, ces pharmacies sont </a:t>
            </a:r>
            <a:r>
              <a:rPr b="1" lang="fr-FR" sz="1400" spc="-1" strike="noStrike" u="sng">
                <a:solidFill>
                  <a:srgbClr val="464646"/>
                </a:solidFill>
                <a:uFillTx/>
                <a:latin typeface="Lucida Sans Unicode"/>
              </a:rPr>
              <a:t>clairement identifiables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(croix allumée, éclairage extérieur, …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da1f28"/>
                </a:solidFill>
                <a:latin typeface="Lucida Sans Unicode"/>
              </a:rPr>
              <a:t>Pour les patients un accès simple à l’information concernant les pharmacies de gardes :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Affichage sur les vitrines de toutes les pharmacies de Pari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Resogarde : 3237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Application smartphone : Mon Pharmacie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3"/>
          <p:cNvSpPr/>
          <p:nvPr/>
        </p:nvSpPr>
        <p:spPr>
          <a:xfrm>
            <a:off x="468360" y="692280"/>
            <a:ext cx="835164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« Les syndicats se sont engagés à maintenir la permanence d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'accès aux soins su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'ensemble du territoire de santé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n  assurant  ce service,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es pharmaciens parisiens , professionnels de la  Santé,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ont  tenu à réaffirmer leur implication  pleine  et entièr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ans la chaîne de Santé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re 1" descr=""/>
          <p:cNvPicPr/>
          <p:nvPr/>
        </p:nvPicPr>
        <p:blipFill>
          <a:blip r:embed="rId1"/>
          <a:stretch/>
        </p:blipFill>
        <p:spPr>
          <a:xfrm>
            <a:off x="208080" y="755640"/>
            <a:ext cx="8497800" cy="11588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914400" y="177300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ada47"/>
                </a:solidFill>
                <a:latin typeface="Lucida Sans Unicode"/>
              </a:rPr>
              <a:t>1001 pharmacies 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ada47"/>
                </a:solidFill>
                <a:latin typeface="Lucida Sans Unicode"/>
              </a:rPr>
              <a:t>à votre service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re 1" descr=""/>
          <p:cNvPicPr/>
          <p:nvPr/>
        </p:nvPicPr>
        <p:blipFill>
          <a:blip r:embed="rId2"/>
          <a:stretch/>
        </p:blipFill>
        <p:spPr>
          <a:xfrm>
            <a:off x="390600" y="4718160"/>
            <a:ext cx="8240760" cy="1158840"/>
          </a:xfrm>
          <a:prstGeom prst="rect">
            <a:avLst/>
          </a:prstGeom>
          <a:ln w="0">
            <a:noFill/>
          </a:ln>
        </p:spPr>
      </p:pic>
      <p:pic>
        <p:nvPicPr>
          <p:cNvPr id="383" name="Image 4" descr="pharm.jpg"/>
          <p:cNvPicPr/>
          <p:nvPr/>
        </p:nvPicPr>
        <p:blipFill>
          <a:blip r:embed="rId3"/>
          <a:stretch/>
        </p:blipFill>
        <p:spPr>
          <a:xfrm>
            <a:off x="250920" y="2492280"/>
            <a:ext cx="1584360" cy="2051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re 1" descr=""/>
          <p:cNvPicPr/>
          <p:nvPr/>
        </p:nvPicPr>
        <p:blipFill>
          <a:blip r:embed="rId1"/>
          <a:stretch/>
        </p:blipFill>
        <p:spPr>
          <a:xfrm>
            <a:off x="463680" y="542880"/>
            <a:ext cx="8242200" cy="1157400"/>
          </a:xfrm>
          <a:prstGeom prst="rect">
            <a:avLst/>
          </a:prstGeom>
          <a:ln w="0">
            <a:noFill/>
          </a:ln>
        </p:spPr>
      </p:pic>
      <p:sp>
        <p:nvSpPr>
          <p:cNvPr id="386" name="Sous-titre 2"/>
          <p:cNvSpPr/>
          <p:nvPr/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ada47"/>
                </a:solidFill>
                <a:latin typeface="Lucida Sans Unicode"/>
              </a:rPr>
              <a:t>10 Pharmacies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re 1" descr=""/>
          <p:cNvPicPr/>
          <p:nvPr/>
        </p:nvPicPr>
        <p:blipFill>
          <a:blip r:embed="rId2"/>
          <a:stretch/>
        </p:blipFill>
        <p:spPr>
          <a:xfrm>
            <a:off x="463680" y="3713040"/>
            <a:ext cx="8242200" cy="1150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Espace réservé du contenu 7" descr="paris cycle 1.jpg"/>
          <p:cNvPicPr/>
          <p:nvPr/>
        </p:nvPicPr>
        <p:blipFill>
          <a:blip r:embed="rId2"/>
          <a:stretch/>
        </p:blipFill>
        <p:spPr>
          <a:xfrm>
            <a:off x="3132000" y="2637000"/>
            <a:ext cx="3187800" cy="25524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610920" y="1341000"/>
            <a:ext cx="784836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766"/>
                </a:solidFill>
                <a:latin typeface="Lucida Sans Unicode"/>
              </a:rPr>
              <a:t>De 21 H à 8 H du mati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0" name="Titr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5"/>
          <p:cNvSpPr/>
          <p:nvPr/>
        </p:nvSpPr>
        <p:spPr>
          <a:xfrm>
            <a:off x="2017080" y="5589720"/>
            <a:ext cx="55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lternance dans chaque secteu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Espace réservé du contenu 7" descr="paris cycle 2.jpg"/>
          <p:cNvPicPr/>
          <p:nvPr/>
        </p:nvPicPr>
        <p:blipFill>
          <a:blip r:embed="rId2"/>
          <a:stretch/>
        </p:blipFill>
        <p:spPr>
          <a:xfrm>
            <a:off x="3132000" y="2565360"/>
            <a:ext cx="3187800" cy="25527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684360" y="1268280"/>
            <a:ext cx="77040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766"/>
                </a:solidFill>
                <a:latin typeface="Lucida Sans Unicode"/>
              </a:rPr>
              <a:t>De 21 H à 8 H du mati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4" name="Titr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5"/>
          <p:cNvSpPr/>
          <p:nvPr/>
        </p:nvSpPr>
        <p:spPr>
          <a:xfrm>
            <a:off x="1476360" y="551664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épartition homogè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Espace réservé du contenu 10" descr="paris cycle3.jpg"/>
          <p:cNvPicPr/>
          <p:nvPr/>
        </p:nvPicPr>
        <p:blipFill>
          <a:blip r:embed="rId2"/>
          <a:stretch/>
        </p:blipFill>
        <p:spPr>
          <a:xfrm>
            <a:off x="2987640" y="2565360"/>
            <a:ext cx="3187800" cy="25527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755640" y="1341000"/>
            <a:ext cx="756144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766"/>
                </a:solidFill>
                <a:latin typeface="Lucida Sans Unicode"/>
              </a:rPr>
              <a:t>De 21 H à 8 H du mati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8" name="Titr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5"/>
          <p:cNvSpPr/>
          <p:nvPr/>
        </p:nvSpPr>
        <p:spPr>
          <a:xfrm>
            <a:off x="1872720" y="5516640"/>
            <a:ext cx="55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lternance dans chaque secteu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Espace réservé du contenu 5" descr="paris cycle 4.jpg"/>
          <p:cNvPicPr/>
          <p:nvPr/>
        </p:nvPicPr>
        <p:blipFill>
          <a:blip r:embed="rId2"/>
          <a:stretch/>
        </p:blipFill>
        <p:spPr>
          <a:xfrm>
            <a:off x="3059280" y="2276640"/>
            <a:ext cx="3187440" cy="25524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684360" y="141300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766"/>
                </a:solidFill>
                <a:latin typeface="Lucida Sans Unicode"/>
              </a:rPr>
              <a:t>De 21 H à 8 H du mati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2" name="Titr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6"/>
          <p:cNvSpPr/>
          <p:nvPr/>
        </p:nvSpPr>
        <p:spPr>
          <a:xfrm>
            <a:off x="1856880" y="5373720"/>
            <a:ext cx="55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ous les secteurs sont desservi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re 1" descr=""/>
          <p:cNvPicPr/>
          <p:nvPr/>
        </p:nvPicPr>
        <p:blipFill>
          <a:blip r:embed="rId1"/>
          <a:stretch/>
        </p:blipFill>
        <p:spPr>
          <a:xfrm>
            <a:off x="-23760" y="396720"/>
            <a:ext cx="9186840" cy="18464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ada47"/>
                </a:solidFill>
                <a:latin typeface="Lucida Sans Unicode"/>
              </a:rPr>
              <a:t>100 Pharmacies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Sous-titre 2"/>
          <p:cNvSpPr/>
          <p:nvPr/>
        </p:nvSpPr>
        <p:spPr>
          <a:xfrm>
            <a:off x="1403280" y="4076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65160"/>
                </a:solidFill>
                <a:latin typeface="Lucida Sans Unicode"/>
              </a:rPr>
              <a:t>De 8H00 à 21H00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Image 4" descr="Pharmacies_garde.jpg"/>
          <p:cNvPicPr/>
          <p:nvPr/>
        </p:nvPicPr>
        <p:blipFill>
          <a:blip r:embed="rId2"/>
          <a:stretch/>
        </p:blipFill>
        <p:spPr>
          <a:xfrm>
            <a:off x="3692520" y="5300640"/>
            <a:ext cx="1890720" cy="1052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re 1" descr=""/>
          <p:cNvPicPr/>
          <p:nvPr/>
        </p:nvPicPr>
        <p:blipFill>
          <a:blip r:embed="rId1"/>
          <a:stretch/>
        </p:blipFill>
        <p:spPr>
          <a:xfrm>
            <a:off x="225360" y="79200"/>
            <a:ext cx="8467920" cy="779760"/>
          </a:xfrm>
          <a:prstGeom prst="rect">
            <a:avLst/>
          </a:prstGeom>
          <a:ln w="0">
            <a:noFill/>
          </a:ln>
        </p:spPr>
      </p:pic>
      <p:pic>
        <p:nvPicPr>
          <p:cNvPr id="409" name="Espace réservé du contenu 3" descr="paris djf.jpg"/>
          <p:cNvPicPr/>
          <p:nvPr/>
        </p:nvPicPr>
        <p:blipFill>
          <a:blip r:embed="rId2"/>
          <a:stretch/>
        </p:blipFill>
        <p:spPr>
          <a:xfrm>
            <a:off x="2411280" y="1052640"/>
            <a:ext cx="4294440" cy="3435120"/>
          </a:xfrm>
          <a:prstGeom prst="rect">
            <a:avLst/>
          </a:prstGeom>
          <a:ln w="0">
            <a:noFill/>
          </a:ln>
        </p:spPr>
      </p:pic>
      <p:sp>
        <p:nvSpPr>
          <p:cNvPr id="410" name="Espace réservé du pied de page 8"/>
          <p:cNvSpPr/>
          <p:nvPr/>
        </p:nvSpPr>
        <p:spPr>
          <a:xfrm>
            <a:off x="62485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ZoneTexte 6"/>
          <p:cNvSpPr/>
          <p:nvPr/>
        </p:nvSpPr>
        <p:spPr>
          <a:xfrm>
            <a:off x="1979640" y="5300640"/>
            <a:ext cx="54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E PHARMACIE POU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7 000 PARISIEN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ZoneTexte 7"/>
          <p:cNvSpPr/>
          <p:nvPr/>
        </p:nvSpPr>
        <p:spPr>
          <a:xfrm>
            <a:off x="1835280" y="4653000"/>
            <a:ext cx="54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E PHARMACIE POU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5 000 RESIDENTS  AU NIVEAU  NATIONA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ZoneTexte 10"/>
          <p:cNvSpPr/>
          <p:nvPr/>
        </p:nvSpPr>
        <p:spPr>
          <a:xfrm>
            <a:off x="468360" y="59500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E REPARTITION HOMOGENE SUR TOUS LES SECTEUR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 PARIS, ASSUREE PAR  DES  PHARMACIENS  VOLONTAIR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8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7:27:35Z</dcterms:created>
  <dc:creator>ivaldi</dc:creator>
  <dc:description/>
  <dc:language>en-US</dc:language>
  <cp:lastModifiedBy>p3</cp:lastModifiedBy>
  <dcterms:modified xsi:type="dcterms:W3CDTF">2013-05-17T17:41:19Z</dcterms:modified>
  <cp:revision>75</cp:revision>
  <dc:subject/>
  <dc:title>GARDES D’URGENCE</dc:title>
</cp:coreProperties>
</file>