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4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13.jpeg" ContentType="image/jpeg"/>
  <Override PartName="/ppt/media/image2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D447-E932-4059-B45E-AF46FEAA584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381C-EB40-4F13-B824-A1C47148E04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CD1D-4127-496F-9E04-E9C1FD4E7D8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E547-2348-498F-AC1A-C8E648DC4EC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DACD-2265-4168-A17F-CD0CA7DAD77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77E1-2295-4231-B98B-F852A9107A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D980-7902-4417-890F-9130144DB79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D3C4-DFF8-4C47-9704-E9DF132E809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902F-8EB6-4F50-9A6C-885F6F8FE0D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E5DC-3F77-49F1-BA8E-2FD76C1EB32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E959-9DA3-4783-B92E-FC717B07FB3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D7D9-F81A-491F-A6B8-D74CB1C8E5E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B2CE-2681-42CC-BB8F-E4D1AE80CE8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9D4A-9C9F-46D1-9B61-1FE186AE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1855-D2D0-4A97-9114-9002B4BF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0E69-3951-4175-9D3B-2B87A613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4872-D3FB-4DB2-A761-167116E3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9E9F-6CA7-497F-B133-5D7C55F9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DCE4-2B82-4836-9C9A-D0807ACF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D422-83F0-4CE2-AC7A-100C9ADA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7AF2-D8B4-44FE-919A-0695D5B1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B092-8D2C-4523-8CAE-C1370740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3725-246E-44F6-B974-E70ACD1C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D1B4-575E-4449-A555-B2477E6D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A06C-7F2A-48B8-AE50-3F16DE8E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3CCB-FEF6-41FA-BFD0-750EC6F8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E800-5AC6-489B-A865-E6F59A3F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B346-9A72-47EA-B9D8-27FE2127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1074-A58F-4FE6-9A5F-91BCB776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9131-ED90-48F3-BB09-691753A9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AA0FA-7F77-43A9-8E72-B9BFB385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046AB-4786-45A2-8BBF-3560E30C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78F83-42C8-4513-AB84-304B4673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D67EE-7F4B-4B5D-8EFD-D0203CD9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9BFB3-CC12-44C0-B1DF-6426F0F5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702C-D45D-4C86-BAA5-C738F6A6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25F5A-B7E9-4792-9C7F-ADB82682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95D4D-76F4-41B6-9AAB-F3588B14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D37B4-8A9E-4A61-A805-E41F3C0E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15849-A7E2-4099-9F81-44801704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2821A-624C-40F9-B757-AA15D322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5CA7C-589A-4569-AC06-F20BC3955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09C94-3E8C-4AD0-A7B2-5630CE722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7E0B7-1144-45F8-A58D-265C880E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0D38B-9F52-49CD-87C7-92782F2C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DBD23-E35C-4883-8322-DF348320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C1EC-1EB0-4547-BA42-4531DA45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B85B6-3F12-452B-B392-92D55BC2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E30CA-D6A4-40D8-BB57-B68A2EB0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2359B-3AF2-401B-AE23-607B44B6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FE63F-2531-4976-8FE8-2F11CF78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90ACF-159D-47D8-8D73-41C49ED0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7F1BF-87C0-49EE-AB09-81CD7DCF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E03D6-FBB8-4B85-A5E5-AB8D3910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A904E-F7C2-402F-9C60-13C973D6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28AB2-C91D-4121-8AB1-E8ACF9393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DE876-FD16-40F7-83BC-908D54ED7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4941-83DD-4503-A96A-19F761DC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09B9A-E909-4CBB-B03F-F0C3F7A6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16954-FFE6-41E3-941A-A742A3F8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E6AF7-DDE9-4266-B348-1BF713C6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8F169-3C6F-4A09-B02C-37F699C7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61020-8879-481C-AECC-DAD588D3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9C529-0243-46A6-9442-65370B90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04E43-E816-4102-B908-7A9955B1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214A6-5F3F-4846-B80F-C5F73584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4F604-7B28-4652-8FC8-8D553239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64478-9119-49BE-889A-C82749F5A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1973-0B1A-4C3B-9761-40BF86FA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94E86-8AA7-4BFF-85CB-7CBC1022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2C9F8-A2C5-4E1A-8998-360E0F30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68E3F-774E-4D9D-A19F-5427C422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8121D-2F10-4DD5-A29E-77BBDCA6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3B858-8341-4CAB-9201-5B967BB7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58C97-2CEE-4F8B-A55B-EE6C8618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C6E40-4D57-4035-8B50-8FAF5777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C2D2E-DE2C-4DCA-8C89-CB602273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05597-F0C5-426F-92F9-D640D5F1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6501D-BF6F-4C6F-AA8D-BA3325B4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DA89-0BAA-4919-8F4A-759EAC08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1F1DD-8048-490F-8479-AB2EBDC6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4363A-A832-401B-9046-D739A300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C3685-2CEF-4971-9B51-FFA7B1FA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EC125-CF3A-431F-B7EE-66347679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E05B3-2569-4C79-A4F2-65EFD20B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D3CEF-E4C5-44C1-AEBE-5764AD62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2771D-4685-4D8B-97C7-ED500AC1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34541-A79E-444B-9179-0B85AFD4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88C90-5D69-4B9A-AFC0-61E2DE8B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5C6C1-3EB3-458E-AA76-F002617D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B135-5801-4A97-8A04-FCC99FDA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347A2-C5FC-45FD-9CE3-8E5DDF41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7F1D4-C7FC-445F-B8EF-8BDF5813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4AAFE-B525-4318-9A90-4A5CC1EA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D5F26-E38B-490B-9863-42B60AEA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A4000-8673-401A-A2D7-48CEC679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4EAF3-B790-429B-A4C3-A2CBF950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6130A-C5EB-44BB-8886-F6394ED8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D7170-2C89-434E-A87C-CAF74A32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00598-EA76-45A5-8083-1953603A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1BBC1-C1B7-4BB6-9D82-E725E440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8A5A-9D9F-427D-9EED-CE352E02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A4A32-1CD9-4CEB-B8DF-71CA0393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46021-4501-445E-831B-1B0858D5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E0697-3C22-444C-A548-C463B9BC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CFE8B-3E65-4D6F-9F96-3C0AC260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6C722-9030-4CAA-9133-50DF08E1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2DFD5-487D-4634-A06B-53EA80BC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FF3D5-9043-41D6-AF6E-5A597AD6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orme libre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6579-0F11-4D0C-9B35-A0A0068D454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5952-2B9C-4F23-B102-88BA632073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angle rect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e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e libre 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orme libre 7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orme libre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e libr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Connecteur droit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9E6F-D09B-44E7-82DF-62B237FB891A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FF1F-16D5-4F2E-BF69-B07D76052B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e libre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orme libre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C456-1F52-4700-BECA-48AB37F46F3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7B14-A5AA-40A4-9CC7-6E372A6B5B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e libre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orme libre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3158-53B4-4221-B3EC-C4287286A3A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8357-A10A-41CD-A7E3-9E00901CFF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25A0-439E-4418-A4AF-E1AE96DEAF4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18BD-9180-4D42-B1EE-FD802A9071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e libre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orme libre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C861-5D58-4D89-AAA8-4AD6312F2FB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5637-4791-452E-A8B6-46FA0F9F73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DC0B-7647-48E1-AB50-BB99E75352D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BEE3-04EA-4AB5-834E-9036C1AA4D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e libre 7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orme libre 8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Triangle rect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angle rect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Connecteur droit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74B5-FABB-41EC-933E-86873027B4A9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F482-E39F-4634-B6BD-AA8FCE5D5D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r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faecd"/>
                </a:solidFill>
                <a:latin typeface="Lucida Sans Unicode"/>
              </a:rPr>
              <a:t>Pharmacies de PAR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468360" y="476280"/>
            <a:ext cx="457200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05766"/>
                </a:solidFill>
                <a:latin typeface="Lucida Sans Unicode"/>
              </a:rPr>
              <a:t>«Je jure, en présence des maîtres de la faculté, d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05766"/>
                </a:solidFill>
                <a:latin typeface="Lucida Sans Unicode"/>
              </a:rPr>
              <a:t>conseillers de l’ordre des pharmaciens et de m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05766"/>
                </a:solidFill>
                <a:latin typeface="Lucida Sans Unicode"/>
              </a:rPr>
              <a:t>condisciples…de ne jamais oublier ma responsabilité et mes devoir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05766"/>
                </a:solidFill>
                <a:latin typeface="Lucida Sans Unicode"/>
              </a:rPr>
              <a:t>envers le malade et sa dignité humaine.»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faecd"/>
                </a:solidFill>
                <a:latin typeface="Lucida Sans Unicode"/>
              </a:rPr>
              <a:t>-Extrait du Serment de Galien-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5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6836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Répartition des officines dans les secteurs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Homogénéité des tours de garde entre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les pharmacies du secteu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Couverture cohérente sur l’ensemble de Pari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Un atout Santé pour Pari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65160"/>
                </a:solidFill>
                <a:latin typeface="Lucida Sans Unicode"/>
              </a:rPr>
              <a:t>En application du CODE de la SANTE PUBLIQUE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65160"/>
                </a:solidFill>
                <a:latin typeface="Lucida Sans Unicode"/>
              </a:rPr>
              <a:t>et du CODE DU TRAVAIL, un système de garde pour en finir avec un système anarchique où chacun ouvrait quand il voulait…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6"/>
          <p:cNvSpPr/>
          <p:nvPr/>
        </p:nvSpPr>
        <p:spPr>
          <a:xfrm>
            <a:off x="0" y="339120"/>
            <a:ext cx="914400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5766"/>
                </a:solidFill>
                <a:latin typeface="Arial"/>
                <a:ea typeface="Arial Unicode MS"/>
              </a:rPr>
              <a:t>10 pharmacies de garde d’urgence seront en service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5766"/>
                </a:solidFill>
                <a:latin typeface="Arial"/>
                <a:ea typeface="Arial Unicode MS"/>
              </a:rPr>
              <a:t>depuis1</a:t>
            </a:r>
            <a:r>
              <a:rPr b="1" lang="en-US" sz="1400" spc="-1" strike="noStrike" baseline="30000">
                <a:solidFill>
                  <a:srgbClr val="105766"/>
                </a:solidFill>
                <a:latin typeface="Arial"/>
                <a:ea typeface="Arial Unicode MS"/>
              </a:rPr>
              <a:t>er</a:t>
            </a:r>
            <a:r>
              <a:rPr b="1" lang="en-US" sz="1400" spc="-1" strike="noStrike">
                <a:solidFill>
                  <a:srgbClr val="105766"/>
                </a:solidFill>
                <a:latin typeface="Arial"/>
                <a:ea typeface="Arial Unicode MS"/>
              </a:rPr>
              <a:t> octobre 2011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5766"/>
                </a:solidFill>
                <a:latin typeface="Arial"/>
                <a:ea typeface="Arial Unicode MS"/>
              </a:rPr>
              <a:t>pour répondre da façon optimale aux soins d’urgence sur Paris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0" y="1671840"/>
            <a:ext cx="9144000" cy="17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Titre 3"/>
          <p:cNvSpPr/>
          <p:nvPr/>
        </p:nvSpPr>
        <p:spPr>
          <a:xfrm>
            <a:off x="250920" y="162864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Les pharmacies assurant le service de nuit, de 21H à 8H du matin sont en accès libre,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 u="sng">
                <a:solidFill>
                  <a:srgbClr val="464646"/>
                </a:solidFill>
                <a:uFillTx/>
                <a:latin typeface="Lucida Sans Unicode"/>
              </a:rPr>
              <a:t>sans passage par le commissariat d’arrondissement.</a:t>
            </a: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  Ces pharmacies ont la possibilité d’effectuer leur garde à volets ouverts ou volets fermés. Dans ce dernier cas, le pharmacien mentionne son numéro de téléphone sur son officine pour répondre à toute urgence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Quelle que soit la solution choisie, ces pharmacies sont </a:t>
            </a:r>
            <a:r>
              <a:rPr b="1" lang="fr-FR" sz="1400" spc="-1" strike="noStrike" u="sng">
                <a:solidFill>
                  <a:srgbClr val="464646"/>
                </a:solidFill>
                <a:uFillTx/>
                <a:latin typeface="Lucida Sans Unicode"/>
              </a:rPr>
              <a:t>clairement identifiables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(croix allumée, éclairage extérieur, …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da1f28"/>
                </a:solidFill>
                <a:latin typeface="Lucida Sans Unicode"/>
              </a:rPr>
              <a:t>Pour les patients un accès simple à l’information concernant les pharmacies de gardes :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Affichage sur les vitrines de toutes les pharmacies de Pari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Resogarde : 3237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Application smartphone : Mon Pharmacie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3"/>
          <p:cNvSpPr/>
          <p:nvPr/>
        </p:nvSpPr>
        <p:spPr>
          <a:xfrm>
            <a:off x="468360" y="692280"/>
            <a:ext cx="835164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« Les syndicats se sont engagés à maintenir la permanence d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'accès aux soins su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'ensemble du territoire de santé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n  assurant  ce service,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es pharmaciens parisiens , professionnels de la  Santé,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ont  tenu à réaffirmer leur implication  pleine  et entièr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ans la chaîne de Santé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re 1" descr=""/>
          <p:cNvPicPr/>
          <p:nvPr/>
        </p:nvPicPr>
        <p:blipFill>
          <a:blip r:embed="rId1"/>
          <a:stretch/>
        </p:blipFill>
        <p:spPr>
          <a:xfrm>
            <a:off x="208080" y="755640"/>
            <a:ext cx="8497800" cy="11588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914400" y="177300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ada47"/>
                </a:solidFill>
                <a:latin typeface="Lucida Sans Unicode"/>
              </a:rPr>
              <a:t>1001 pharmacies 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ada47"/>
                </a:solidFill>
                <a:latin typeface="Lucida Sans Unicode"/>
              </a:rPr>
              <a:t>à votre service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re 1" descr=""/>
          <p:cNvPicPr/>
          <p:nvPr/>
        </p:nvPicPr>
        <p:blipFill>
          <a:blip r:embed="rId2"/>
          <a:stretch/>
        </p:blipFill>
        <p:spPr>
          <a:xfrm>
            <a:off x="390600" y="4718160"/>
            <a:ext cx="8240760" cy="1158840"/>
          </a:xfrm>
          <a:prstGeom prst="rect">
            <a:avLst/>
          </a:prstGeom>
          <a:ln w="0">
            <a:noFill/>
          </a:ln>
        </p:spPr>
      </p:pic>
      <p:pic>
        <p:nvPicPr>
          <p:cNvPr id="383" name="Image 4" descr="pharm.jpg"/>
          <p:cNvPicPr/>
          <p:nvPr/>
        </p:nvPicPr>
        <p:blipFill>
          <a:blip r:embed="rId3"/>
          <a:stretch/>
        </p:blipFill>
        <p:spPr>
          <a:xfrm>
            <a:off x="250920" y="2492280"/>
            <a:ext cx="1584360" cy="2051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re 1" descr=""/>
          <p:cNvPicPr/>
          <p:nvPr/>
        </p:nvPicPr>
        <p:blipFill>
          <a:blip r:embed="rId1"/>
          <a:stretch/>
        </p:blipFill>
        <p:spPr>
          <a:xfrm>
            <a:off x="463680" y="542880"/>
            <a:ext cx="8242200" cy="1157400"/>
          </a:xfrm>
          <a:prstGeom prst="rect">
            <a:avLst/>
          </a:prstGeom>
          <a:ln w="0">
            <a:noFill/>
          </a:ln>
        </p:spPr>
      </p:pic>
      <p:sp>
        <p:nvSpPr>
          <p:cNvPr id="386" name="Sous-titre 2"/>
          <p:cNvSpPr/>
          <p:nvPr/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ada47"/>
                </a:solidFill>
                <a:latin typeface="Lucida Sans Unicode"/>
              </a:rPr>
              <a:t>10 Pharmacies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re 1" descr=""/>
          <p:cNvPicPr/>
          <p:nvPr/>
        </p:nvPicPr>
        <p:blipFill>
          <a:blip r:embed="rId2"/>
          <a:stretch/>
        </p:blipFill>
        <p:spPr>
          <a:xfrm>
            <a:off x="463680" y="3713040"/>
            <a:ext cx="8242200" cy="1150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Espace réservé du contenu 7" descr="paris cycle 1.jpg"/>
          <p:cNvPicPr/>
          <p:nvPr/>
        </p:nvPicPr>
        <p:blipFill>
          <a:blip r:embed="rId2"/>
          <a:stretch/>
        </p:blipFill>
        <p:spPr>
          <a:xfrm>
            <a:off x="3132000" y="2637000"/>
            <a:ext cx="3187800" cy="25524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610920" y="1341000"/>
            <a:ext cx="784836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766"/>
                </a:solidFill>
                <a:latin typeface="Lucida Sans Unicode"/>
              </a:rPr>
              <a:t>De 21 H à 8 H du mati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0" name="Titr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5"/>
          <p:cNvSpPr/>
          <p:nvPr/>
        </p:nvSpPr>
        <p:spPr>
          <a:xfrm>
            <a:off x="2017080" y="5589720"/>
            <a:ext cx="55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lternance dans chaque secteu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Espace réservé du contenu 7" descr="paris cycle 2.jpg"/>
          <p:cNvPicPr/>
          <p:nvPr/>
        </p:nvPicPr>
        <p:blipFill>
          <a:blip r:embed="rId2"/>
          <a:stretch/>
        </p:blipFill>
        <p:spPr>
          <a:xfrm>
            <a:off x="3132000" y="2565360"/>
            <a:ext cx="3187800" cy="25527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684360" y="1268280"/>
            <a:ext cx="77040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766"/>
                </a:solidFill>
                <a:latin typeface="Lucida Sans Unicode"/>
              </a:rPr>
              <a:t>De 21 H à 8 H du mati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4" name="Titr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5"/>
          <p:cNvSpPr/>
          <p:nvPr/>
        </p:nvSpPr>
        <p:spPr>
          <a:xfrm>
            <a:off x="1476360" y="551664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épartition homogè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Espace réservé du contenu 10" descr="paris cycle3.jpg"/>
          <p:cNvPicPr/>
          <p:nvPr/>
        </p:nvPicPr>
        <p:blipFill>
          <a:blip r:embed="rId2"/>
          <a:stretch/>
        </p:blipFill>
        <p:spPr>
          <a:xfrm>
            <a:off x="2987640" y="2565360"/>
            <a:ext cx="3187800" cy="25527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755640" y="1341000"/>
            <a:ext cx="756144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766"/>
                </a:solidFill>
                <a:latin typeface="Lucida Sans Unicode"/>
              </a:rPr>
              <a:t>De 21 H à 8 H du mati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8" name="Titr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5"/>
          <p:cNvSpPr/>
          <p:nvPr/>
        </p:nvSpPr>
        <p:spPr>
          <a:xfrm>
            <a:off x="1872720" y="5516640"/>
            <a:ext cx="55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lternance dans chaque secteu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Espace réservé du contenu 5" descr="paris cycle 4.jpg"/>
          <p:cNvPicPr/>
          <p:nvPr/>
        </p:nvPicPr>
        <p:blipFill>
          <a:blip r:embed="rId2"/>
          <a:stretch/>
        </p:blipFill>
        <p:spPr>
          <a:xfrm>
            <a:off x="3059280" y="2276640"/>
            <a:ext cx="3187440" cy="25524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684360" y="141300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766"/>
                </a:solidFill>
                <a:latin typeface="Lucida Sans Unicode"/>
              </a:rPr>
              <a:t>De 21 H à 8 H du mati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2" name="Titr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6"/>
          <p:cNvSpPr/>
          <p:nvPr/>
        </p:nvSpPr>
        <p:spPr>
          <a:xfrm>
            <a:off x="1856880" y="5373720"/>
            <a:ext cx="55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ous les secteurs sont desservi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re 1" descr=""/>
          <p:cNvPicPr/>
          <p:nvPr/>
        </p:nvPicPr>
        <p:blipFill>
          <a:blip r:embed="rId1"/>
          <a:stretch/>
        </p:blipFill>
        <p:spPr>
          <a:xfrm>
            <a:off x="-23760" y="396720"/>
            <a:ext cx="9186840" cy="18464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ada47"/>
                </a:solidFill>
                <a:latin typeface="Lucida Sans Unicode"/>
              </a:rPr>
              <a:t>100 Pharmacies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Sous-titre 2"/>
          <p:cNvSpPr/>
          <p:nvPr/>
        </p:nvSpPr>
        <p:spPr>
          <a:xfrm>
            <a:off x="1403280" y="4076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65160"/>
                </a:solidFill>
                <a:latin typeface="Lucida Sans Unicode"/>
              </a:rPr>
              <a:t>De 8H00 à 21H00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Image 4" descr="Pharmacies_garde.jpg"/>
          <p:cNvPicPr/>
          <p:nvPr/>
        </p:nvPicPr>
        <p:blipFill>
          <a:blip r:embed="rId2"/>
          <a:stretch/>
        </p:blipFill>
        <p:spPr>
          <a:xfrm>
            <a:off x="3692520" y="5300640"/>
            <a:ext cx="1890720" cy="1052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re 1" descr=""/>
          <p:cNvPicPr/>
          <p:nvPr/>
        </p:nvPicPr>
        <p:blipFill>
          <a:blip r:embed="rId1"/>
          <a:stretch/>
        </p:blipFill>
        <p:spPr>
          <a:xfrm>
            <a:off x="225360" y="79200"/>
            <a:ext cx="8467920" cy="779760"/>
          </a:xfrm>
          <a:prstGeom prst="rect">
            <a:avLst/>
          </a:prstGeom>
          <a:ln w="0">
            <a:noFill/>
          </a:ln>
        </p:spPr>
      </p:pic>
      <p:pic>
        <p:nvPicPr>
          <p:cNvPr id="409" name="Espace réservé du contenu 3" descr="paris djf.jpg"/>
          <p:cNvPicPr/>
          <p:nvPr/>
        </p:nvPicPr>
        <p:blipFill>
          <a:blip r:embed="rId2"/>
          <a:stretch/>
        </p:blipFill>
        <p:spPr>
          <a:xfrm>
            <a:off x="2411280" y="1052640"/>
            <a:ext cx="4294440" cy="3435120"/>
          </a:xfrm>
          <a:prstGeom prst="rect">
            <a:avLst/>
          </a:prstGeom>
          <a:ln w="0">
            <a:noFill/>
          </a:ln>
        </p:spPr>
      </p:pic>
      <p:sp>
        <p:nvSpPr>
          <p:cNvPr id="410" name="Espace réservé du pied de page 8"/>
          <p:cNvSpPr/>
          <p:nvPr/>
        </p:nvSpPr>
        <p:spPr>
          <a:xfrm>
            <a:off x="62485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ZoneTexte 6"/>
          <p:cNvSpPr/>
          <p:nvPr/>
        </p:nvSpPr>
        <p:spPr>
          <a:xfrm>
            <a:off x="1979640" y="5300640"/>
            <a:ext cx="54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E PHARMACIE POU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7 000 PARISIEN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ZoneTexte 7"/>
          <p:cNvSpPr/>
          <p:nvPr/>
        </p:nvSpPr>
        <p:spPr>
          <a:xfrm>
            <a:off x="1835280" y="4653000"/>
            <a:ext cx="54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E PHARMACIE POU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5 000 RESIDENTS  AU NIVEAU  NATIONA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ZoneTexte 10"/>
          <p:cNvSpPr/>
          <p:nvPr/>
        </p:nvSpPr>
        <p:spPr>
          <a:xfrm>
            <a:off x="468360" y="59500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E REPARTITION HOMOGENE SUR TOUS LES SECTEUR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 PARIS, ASSUREE PAR  DES  PHARMACIENS  VOLONTAIR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8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7:27:35Z</dcterms:created>
  <dc:creator>ivaldi</dc:creator>
  <dc:description/>
  <dc:language>en-US</dc:language>
  <cp:lastModifiedBy>p3</cp:lastModifiedBy>
  <dcterms:modified xsi:type="dcterms:W3CDTF">2013-05-17T17:41:19Z</dcterms:modified>
  <cp:revision>75</cp:revision>
  <dc:subject/>
  <dc:title>GARDES D’URGENCE</dc:title>
</cp:coreProperties>
</file>