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EB64-4231-4A9B-A691-C4574A0315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A150-6A61-413E-AD6C-22B3A6234E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054E-363E-40CE-8A9E-7BD9F198D1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AF94-CC99-4A10-BCBD-0302C9CB53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068F-8807-4739-9327-341472485F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93E5-56DB-4A3F-803B-8D049B362B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BEEB-C8EC-42F1-A1B9-8B04AF8B59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29F2-BE4B-4B5E-89DD-BC5C58ABFD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87EB-C2C3-4B18-924B-0C9B8BD9DE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2657-089D-49D6-B671-1F57D26A8F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05E7-FA38-4310-99DD-00004DBE8B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B49F-A73F-428B-80CC-3F12A8A294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8CCE-F2A4-4052-950F-F2437EC87F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C5F6-B6C5-481B-ACB9-286B47C00E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4DF7-2DC7-429F-A036-715BE776F3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D37E-BA79-4A95-BA10-BF4516D748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28E5-5FA9-462F-A912-1116744FE5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3F5D-EECA-41B7-A91A-D2307EDC60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0F6F-A013-414B-9298-3B1CD32DCA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716800" cy="47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8CF3-560A-4407-A761-4A0758483D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E8D7-3C76-4A17-8F46-A2A87FFFF8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2BA3-2814-4E8C-8A05-566A283D93BA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5960" y="637524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aris, le 24 mai 20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81916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917640">
              <a:buSzPct val="100000"/>
              <a:buBlip>
                <a:blip r:embed="rId1"/>
              </a:buBlip>
              <a:tabLst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Le Schéma de la Démocratie Sanitair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4572000"/>
            <a:ext cx="601956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25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7ab800"/>
                </a:solidFill>
                <a:latin typeface="Arial"/>
              </a:rPr>
              <a:t>Conférence de territoire de 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3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et utiliser les outils de contractualisation, de formation et de médiation comme levier d’amélioration du respect des droits des usager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démocratie sanitaire du CPOM Etat - 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« aucune réclamation d’usager liée à la difficult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accès du dossier médical » dans les CPOM Etablisse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Objectif de respect des droits des usagers et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anitaire dans les cahiers des charges des AAP 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évaluations des ES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la formation et améliorer l’information des 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médiation sous ses différentes formes (médiate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édicaux, sociaux, en san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4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2/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es droits des usag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médico-social (dispositif des PQ, bilans CVS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santé mentale (CLS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sanitaire (indicateurs qualité, information sur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rôle des RU des 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précarité et des personnes vulnérab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a gestion des réclamations et application de la réglementation (bilans annuels des réclamations,…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’accès à une pratique artistique et culturelle de qualité dans les établiss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éer et animer des réseaux d’acteurs pour améliorer les pratiques professionnelles et le respect des droits (chargés de relations avec les usagers, médiateurs médicaux, conciliateurs, « groupes de pairs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841400" algn="just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5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160" y="19047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’exploitation des rapports des Commissions des Relation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les Usagers pour la qualité de la Prise en Charge (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alyse croisée des bilans des réclamations et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dapter et stabiliser le formulaire type de saisi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d’activité de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des études d’opinion pour mieux comprendre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rtement des acteur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1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440" y="1599840"/>
            <a:ext cx="80773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et favoriser la participation des acteurs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369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a concertation et l’affirmation des droits coll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lèche droite 3"/>
          <p:cNvSpPr/>
          <p:nvPr/>
        </p:nvSpPr>
        <p:spPr>
          <a:xfrm>
            <a:off x="1981080" y="548640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2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547280"/>
            <a:ext cx="85341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ompagner la CRSA dans l’organisation de ses activ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nctionnement, communication et débats publ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nforcer le rôle des Conférences de territoire dans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 territoriale et infra territo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pour en faire de véritable forces d’incitation et de pro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a phase de diagnostic des C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e cadre des projets de coopérations hospital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ordonner et animer les autres instances spécialisées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urer leur articulation avec les instances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nitaire (CLSM,CC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ser la participation au sei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3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371600"/>
            <a:ext cx="8458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méliorer et favoriser la participation des ac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la démocratie sani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a participation des représentants des usagers dan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ecteur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ppel à candidature en ligne de désignation d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campagne d’information grand public sur l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nuaire des représentants des us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et promouvoir la formation des acteurs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séminaires d’information à destination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membres des instances régionales et départementale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démocratie sani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’implication des élus dans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information sur les enjeux de la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0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4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1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d’autres formes de concertation et de dé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um thématiques complémentaires aux débats public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méthodologie de forum participa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publics territori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érimenter d’autres formes d’é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en li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ynamiser la concertation dans le cadre des CLS pour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un levier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tographie des partenari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te du parten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12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modalités de mise en œuvre, de gouvernance et de déploiement du schéma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ouvernance interne :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 comité démocratie sanitaire inter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sé des référents démocratie sanitaire des délégations territoriales  et des directions méti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ment du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seau de partenair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 la démocratie sanitaire : instances de démocratie sanitaire, associations d’usagers, CODERPA, CDCPH, CORERPA, Comité d’Entente, collectivités territoriales, établissements de santé et médico-sociaux et leurs fédérations, réseau AM, URP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ructuration 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utils de mise en œuv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existants : CPOM, CLS, A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spécifiques à développer : outils de communication, actions de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Modalités de suivi et d’évaluat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définition, avec les partenaires, d’indicateurs de suivi et d’évaluation de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informelle : quelle méthode et quel calendrier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24400" indent="-82440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9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à la commission permanente de la CRS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en Séance plénière de la CR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ériode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certation informelle de 2 mois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proposi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inscription à l’ODJ des Conférences de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i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s d’étape sur l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ch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remière synthèse des présidents de conférence d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2 juillet 201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amen et validation du projet d’avis sur le sch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15364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: quelle attentes 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ercice nouveau et partenarial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lexe :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méthode de travail fondée sur la conce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ématique avec les parties prenantes du syst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ttentes de la concert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véritable co-construction avec l’ensemble 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te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éclairage des acteurs du système de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ontributions de la CRSA et des CT pour finalise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uille de ro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finalisation du document pour septembr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ourquoi un schéma de démocratie sanitaire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staller la démocratie sanitaire dans 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ynamique métier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’ag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larifier et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finir le périmèt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action de la démocratie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isposer d’un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ocument de référe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i guide no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endant toute la durée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rticuler et rassembler les action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diées à la démocrat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 contenues dans les sché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…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..en conclus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8960" y="1547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7120" indent="-80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chéma de la démocratie sanitai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schéma de promotion de la démocratie sanita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schéma  de promotion de la démocratie en santé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un document construit avec tous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les acteurs qui devra être une feuille de ro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commune et partag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07120" indent="-8071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èche droite 3"/>
          <p:cNvSpPr/>
          <p:nvPr/>
        </p:nvSpPr>
        <p:spPr>
          <a:xfrm>
            <a:off x="914400" y="4975200"/>
            <a:ext cx="838080" cy="358920"/>
          </a:xfrm>
          <a:prstGeom prst="rightArrow">
            <a:avLst>
              <a:gd name="adj1" fmla="val 39009"/>
              <a:gd name="adj2" fmla="val 49975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MERCI POUR VOTRE ATTEN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080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xte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Evolution de la place du citoyen dans les politiques publiques de santé depuis 15 ans, émergence et renforcement de la mobilisation associativ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du 4 mars 2002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ve aux droits des malades et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à la qualité du système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ant la mise en place des ARS : une organisation régionale peu intégré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pplication de la réglementation (désignation des représentants des usagers dans les instances, agréments des associations, conférences sanitair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4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le renforcement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rganisation affirmée à l’ARS Île-de-Fra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pôle « démocratie sanitaire 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réseau de délégations territoriales en charge de l’animation de la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 sur leur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instances actives (CRSA et C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partenariats avec les associations et les fédér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lèche droite 1"/>
          <p:cNvSpPr/>
          <p:nvPr/>
        </p:nvSpPr>
        <p:spPr>
          <a:xfrm>
            <a:off x="1523880" y="1662120"/>
            <a:ext cx="685800" cy="243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1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1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 un cadre restreint à l’action de la démocratie sanitaire (limité aux instances CRSA et Conférences de territoir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cret n° 2010-514 du 18 mai 2010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f au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rt. R. 1434-2 :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e Plan stratégique régional de santé compor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3° Les objectifs fixés en matièr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) de prévention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b) d’amélioration de l’accès aux établissements, aux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professionnels et aux services de santé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) de réduction des inégalités sociales et territoriales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n santé,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otamment en matière de soin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d) de qualité et d’efficience des prises en charge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3333cc"/>
                </a:solidFill>
                <a:latin typeface="Arial"/>
              </a:rPr>
              <a:t>e) </a:t>
            </a:r>
            <a:r>
              <a:rPr b="1" i="1" lang="fr-FR" sz="1400" spc="-1" strike="noStrike">
                <a:solidFill>
                  <a:srgbClr val="3333cc"/>
                </a:solidFill>
                <a:latin typeface="Arial"/>
              </a:rPr>
              <a:t>de respect des droits des usagers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es 3 axes du Plan stratégique régional de santé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ssurer à chaque francilien un parcours lisible, accessible et sécuris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méliorer la qualité et l’efficience du système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Conduire une politique de santé partagée au plus près de la réalité de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2/2)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9907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 algn="just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nformation des patients et le respect des droits des usagers présents dans tou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schéma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e prévention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coordination avec l’ensem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acteurs publics (CLS), processus participatifs, co-construction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s usagers et citoy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’organisation médico-social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évaluation d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qualité des activités et des prestations  des établissemen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ment d’une culture de la bientraitance,  rôle des aidants, l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idants – 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ambulatoire du SRO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accessibilité et disponibilité de l’offr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ns ambulatoires, information sur l’organisation de l’offre de soin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mier recours, coopération et coordination des PS, information 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mation des 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sanitaire du SROS :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accessibilité aux soins, cohérenc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cours de santé des usagers, amélioration de l’efficience et la garan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la qualité, accessibilité et répartition de l’offre sur les territoires, re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 premier recours  et le secteur médico-so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méthode de construction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1760" y="14475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bilatéral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échanges internes à l’Agence 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irections métiers de l’Agence (DOSMS et DSP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référents thématiques (PRAPS, CL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élégations territoria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de trav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membres de la CRS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 la CSDU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u CISS Île-de-Fr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sollicitation par m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associations, professionnels de santé,  fédérations </a:t>
            </a: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(« Ecrivez avec nous la feuille de route de la démocratie sanitaire en région Île-de-France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prise en compte des contributions reçues (dont le CISS Île-de-Fran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contribution ouverte en lig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ia le blog P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nu et les axes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artie introductiv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éments de contex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pilotage et d’organisation de la démocratie sanitaire en Île-de-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appel des évolutions réglementaires et de la place du citoyen dans 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olitiques publiques de santé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ésentation des instances de concertation et de gouvernance de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 axes stratég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= 2 dimensions de la démocratie sanitai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omouvoir l’information des franciliens, les droits des usagers et contribu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à la qualité des parcours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méliorer la participation des acteurs du système de santé, développer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oncertation et le débat public, promouvoir la démocratie sanitair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dernière partie sur les modalité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ouvernance et de déplo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u schéma de la démocratie sani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1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582200"/>
            <a:ext cx="723888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’affirmation des droits individ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èche droite 3"/>
          <p:cNvSpPr/>
          <p:nvPr/>
        </p:nvSpPr>
        <p:spPr>
          <a:xfrm>
            <a:off x="1981080" y="535608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2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velopper une plateforme d’information en santé (PFIS)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=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socle du disposit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donner aux franciliens les moyens de devenir acteurs d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 leur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encourager les contributions des citoyens et la co-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construction de l’information en valorisant le savoir issu du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vécu du pati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faciliter l’identification des acteurs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a mise en œuvre des maisons  d’information en santé ou des points d’information usag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ganiser des campagnes d’information sur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TTAUER, Vincent</dc:creator>
  <dc:description/>
  <dc:language>en-US</dc:language>
  <cp:lastModifiedBy>METTAUER, Vincent</cp:lastModifiedBy>
  <cp:lastPrinted>2013-04-12T07:53:40Z</cp:lastPrinted>
  <dcterms:modified xsi:type="dcterms:W3CDTF">2013-05-22T07:27:09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