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13.jpeg" ContentType="image/jpe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BAD7-DFDC-4FA0-B095-B0088F2AA3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4F3C-FEEE-4457-B09A-E613D83632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1FED-39B5-4AE6-8639-45331739F4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633C-4F05-4ADD-960F-3FFA438B8C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5BDC-137C-4E62-B762-31F9DF1A4A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184F-DC43-4093-A643-967F30C03B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9785-F964-4458-9949-350E3494E0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A6F6-D729-4CCD-B9A5-3107747AA9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4964-C182-4F6D-B834-8D32C36F10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64BC-4423-4FB1-8197-7EB5F232EC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991E-F087-4744-A123-055EF7D438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F13D-8402-411F-AC2B-92887347F1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6E5E-46AC-433D-8BC0-63B39714F4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67B-8CB1-416D-8196-F177CA99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0A9-6164-478A-9EB2-FD6D17B2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A8E-0D49-4583-B7A5-66DB1F09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99C-0900-4939-80FF-B39DE9C8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1BCA-C4A6-49BB-AADD-26CA3461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395C-D126-4ACF-AF26-6C26ADB3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9FCE-6D30-47D8-9273-D509EF45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A133-2C3B-4C22-8D16-D5A26CC8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0B2D-15D2-4D5B-ADED-FD28788A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2370-4883-4BF4-B409-2822F73E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948D-5A3B-4227-B7D2-FDF7ED26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DF6-DCDD-4B45-8EA9-913B2E1F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5448-84B9-450B-8C57-172EB505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FD29-13A9-4CB6-94C8-58744DF8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A2D6-0240-4464-A219-BB958D03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DE23-4F5E-4E6C-8099-B7AC2F46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1CB0-448D-401F-B8F8-9E6DC9DB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D7016-3E0A-4961-8DDF-EBF2C997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C64FF-5A4B-4B4A-8C29-3A2505E9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2D88C-6092-468E-9AB6-9269AFFF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48683-1F7D-4B36-B9C6-37996E40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96FC3-3160-4885-804B-A47C1C3C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F96-BE0A-46D3-8E22-6FDDE0AC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C4BE2-B69F-4B22-973B-E0218AAB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1E581-65B7-465D-8F20-36692E26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14C54-6B6F-4497-BE10-E06350E0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7C07-5D8D-486C-AE0D-5F9837FE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57FF8-9DA2-42FF-A5CB-691DB111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6588E-B392-44D3-B94F-6E4CE442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9E0C0-ADE5-4C6C-934F-A9C2AE07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7AB73-58BC-45CB-BCE6-A6952323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E3027-DCEF-4B9D-B4A4-8D5AA13A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19357-D0F9-4B9C-A8EB-7D195CC2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7BB-2C82-4654-A475-595F021A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CB0E5-F613-4E05-8B06-0834E14E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3475D-3669-41CF-AF1F-AD160183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39043-E116-4AEE-BF72-9965D94C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2334D-17E9-4086-B686-BF689B98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6AA0-563D-4104-919C-F4B417A1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A3C1A-7D50-4094-963E-A788FE89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7C247-C788-4227-AF22-5DF55EC1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CC91B-B6AA-42B6-BC8E-F8DF4D6F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A0F58-D8C2-4781-82DA-BA48B671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43DC7-6ECE-4BF0-8930-BAF796F6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CD9-175A-40A9-83C8-789000D5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81CC8-5A33-48DE-B1BE-B7938B0D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A205F-382F-496E-870E-505656B5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07353-5385-496E-BC30-8E89ED88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DF801-D860-4945-B14B-A6AB05A9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61EF7-95E1-45AC-91C3-931E4E85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E47AF-623B-4721-8C67-ADCE095F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CC29E-6BFB-4847-AC01-3682EF6F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4B5AA-366F-4410-BF09-8274C706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DC5BE-D538-4F55-9B70-B96E17AA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99819-E980-4DDF-A516-1A7AD81F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FEC-6BDC-4AFB-A895-B482D5CD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16B89-3D4E-4615-8959-DA87459E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1CB02-2C9A-42AD-AA0E-9DF055FD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55243-7708-4334-AF8F-17F6EC03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A3246-C8B3-46CC-9583-F029CAEA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62910-0829-4468-9726-91061B46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D3AA1-B99F-48E1-8E3E-BEABE277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B395F-288F-4D20-BCC7-E6765EB2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E0B5F-11DC-475D-98EE-13A057DB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C93EF-A72C-4708-862D-89A5CAB6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E0ED4-7FB4-4C87-A2F7-F3A67F73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D8D-C1FB-4BE2-82D3-8979384D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11A2F-0D98-4AB7-A1B7-35812F6B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EADD1-3D55-4929-BD87-A765FCB8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6D36B-3221-42B7-8366-F64A8515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CCB08-2CEB-4A1C-B2FE-450479A0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CEF6A-24FD-4A90-B4E5-049DA540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2EFBA-464E-420F-AFC0-A172E540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26F34-6E9D-4C60-9366-D515A54C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D9A51-FA52-4A67-9774-D1EC774E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22D40-0D28-4443-AEAB-6906C9BC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117EF-9206-4421-95BD-EEEB0CE3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BE2-B4D5-4AC9-A657-354E56E6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5FC48-7830-447C-BCFE-B93492B7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F3D74-F1B9-4F2E-AFE7-066E156E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1F478-DD22-4E95-89F9-E2FE47C8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29472-02EC-46D2-BAFF-37223158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4D205-B201-42D3-BD12-D6BECCE5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2599C-327F-4DB1-BB95-1981D21E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CAF5D-B834-474D-92B7-CA219C28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DD787-FA23-467A-982F-8F126E8B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8D5EE-71A2-4BA7-94D2-27751E63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ED145-E97F-48DC-94E5-C7BDEE66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E66-A68E-4FB4-BB3B-DF228A89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5E1AE-7E9A-4DF2-B50E-A4ED92A6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BA68C-7354-4CCA-8F2F-25A5B322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39F10-6A54-49E2-8DDF-45822638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C207B-8B3C-41FA-9EA8-A19767E2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3D47D-15F8-48E6-ACCB-30173772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B96A8-46B2-42D2-8DB1-ED322ACE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067BA-B8C1-4FFF-A52E-2BBC09B1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3A4E-1956-48B6-A154-2A7E0664120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AA99-8BF8-409D-B572-BE5FDE7884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angle rect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e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e libre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orme libre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orme libre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e lib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Connecteur droit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5140-BD4D-4BE6-BBB2-D371B1B4943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E3B9-1B1E-40CB-8863-6C445F3F85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2BAD-291E-444B-804B-DF8B6ADA27E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EFCF-01AB-486E-8FB0-0FE5845D66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264B-F339-4C32-A63A-CC20BD1F9EE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C9BC-3AB5-4629-BF18-72B82C807E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F4E1-EE29-4274-BA94-128B3B98C0F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CB94-9120-4256-9BC6-95864FC7CC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076E-8467-4A9D-8D11-0234181F037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56EA-6D96-46FA-BA68-74D8103844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73EC-006C-4F49-94BE-609228D8A94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6402-2586-44FA-8087-A6DCCCAE5D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e libre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orme libre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iangle rect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angle rect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Connecteur droit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B2DC-8CFF-4BB2-8475-EA8134B327F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6928-10E7-481E-AA06-E710C8D096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r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aecd"/>
                </a:solidFill>
                <a:latin typeface="Lucida Sans Unicode"/>
              </a:rPr>
              <a:t>Pharmacies de PAR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468360" y="476280"/>
            <a:ext cx="457200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«Je jure, en présence des maîtres de la faculté, d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conseillers de l’ordre des pharmaciens et de m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condisciples…de ne jamais oublier ma responsabilité et mes devoir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envers le malade et sa dignité humaine.»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faecd"/>
                </a:solidFill>
                <a:latin typeface="Lucida Sans Unicode"/>
              </a:rPr>
              <a:t>-Extrait du Serment de Galien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Répartition des officines dans les secteur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Homogénéité des tours de garde entr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les pharmacies du secteu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Couverture cohérente sur l’ensemble de Par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Un atout Santé pour Par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65160"/>
                </a:solidFill>
                <a:latin typeface="Lucida Sans Unicode"/>
              </a:rPr>
              <a:t>En application du CODE de la SANTE PUBLIQU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65160"/>
                </a:solidFill>
                <a:latin typeface="Lucida Sans Unicode"/>
              </a:rPr>
              <a:t>et du CODE DU TRAVAIL, un système de garde pour en finir avec un système anarchique où chacun ouvrait quand il voulait…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0" y="339120"/>
            <a:ext cx="91440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10 pharmacies de garde d’urgence seront en servic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depuis1</a:t>
            </a:r>
            <a:r>
              <a:rPr b="1" lang="en-US" sz="1400" spc="-1" strike="noStrike" baseline="30000">
                <a:solidFill>
                  <a:srgbClr val="105766"/>
                </a:solidFill>
                <a:latin typeface="Arial"/>
                <a:ea typeface="Arial Unicode MS"/>
              </a:rPr>
              <a:t>er</a:t>
            </a: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 octobre 2011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pour répondre da façon optimale aux soins d’urgence sur Pari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0" y="1671840"/>
            <a:ext cx="914400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Titre 3"/>
          <p:cNvSpPr/>
          <p:nvPr/>
        </p:nvSpPr>
        <p:spPr>
          <a:xfrm>
            <a:off x="250920" y="162864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Les pharmacies assurant le service de nuit, de 21H à 8H du matin sont en accès libre,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464646"/>
                </a:solidFill>
                <a:uFillTx/>
                <a:latin typeface="Lucida Sans Unicode"/>
              </a:rPr>
              <a:t>sans passage par le commissariat d’arrondissement.</a:t>
            </a: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  Ces pharmacies ont la possibilité d’effectuer leur garde à volets ouverts ou volets fermés. Dans ce dernier cas, le pharmacien mentionne son numéro de téléphone sur son officine pour répondre à toute urgence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Quelle que soit la solution choisie, ces pharmacies sont </a:t>
            </a:r>
            <a:r>
              <a:rPr b="1" lang="fr-FR" sz="1400" spc="-1" strike="noStrike" u="sng">
                <a:solidFill>
                  <a:srgbClr val="464646"/>
                </a:solidFill>
                <a:uFillTx/>
                <a:latin typeface="Lucida Sans Unicode"/>
              </a:rPr>
              <a:t>clairement identifiables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(croix allumée, éclairage extérieur, …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da1f28"/>
                </a:solidFill>
                <a:latin typeface="Lucida Sans Unicode"/>
              </a:rPr>
              <a:t>Pour les patients un accès simple à l’information concernant les pharmacies de gardes :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Affichage sur les vitrines de toutes les pharmacies de Par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Resogarde : 3237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Application smartphone : Mon Pharmacie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468360" y="692280"/>
            <a:ext cx="835164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« Les syndicats se sont engagés à maintenir la permanence d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'accès aux soins su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'ensemble du territoire de santé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n  assurant  ce service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es pharmaciens parisiens , professionnels de la  Santé,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nt  tenu à réaffirmer leur implication  pleine  et entiè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ans la chaîne de Santé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re 1" descr=""/>
          <p:cNvPicPr/>
          <p:nvPr/>
        </p:nvPicPr>
        <p:blipFill>
          <a:blip r:embed="rId1"/>
          <a:stretch/>
        </p:blipFill>
        <p:spPr>
          <a:xfrm>
            <a:off x="208080" y="75564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914400" y="17730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da47"/>
                </a:solidFill>
                <a:latin typeface="Lucida Sans Unicode"/>
              </a:rPr>
              <a:t>1001 pharmacies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da47"/>
                </a:solidFill>
                <a:latin typeface="Lucida Sans Unicode"/>
              </a:rPr>
              <a:t>à votre servic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re 1" descr=""/>
          <p:cNvPicPr/>
          <p:nvPr/>
        </p:nvPicPr>
        <p:blipFill>
          <a:blip r:embed="rId2"/>
          <a:stretch/>
        </p:blipFill>
        <p:spPr>
          <a:xfrm>
            <a:off x="390600" y="471816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Image 4" descr="pharm.jpg"/>
          <p:cNvPicPr/>
          <p:nvPr/>
        </p:nvPicPr>
        <p:blipFill>
          <a:blip r:embed="rId3"/>
          <a:stretch/>
        </p:blipFill>
        <p:spPr>
          <a:xfrm>
            <a:off x="250920" y="2492280"/>
            <a:ext cx="1584360" cy="2051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re 1" descr=""/>
          <p:cNvPicPr/>
          <p:nvPr/>
        </p:nvPicPr>
        <p:blipFill>
          <a:blip r:embed="rId1"/>
          <a:stretch/>
        </p:blipFill>
        <p:spPr>
          <a:xfrm>
            <a:off x="463680" y="542880"/>
            <a:ext cx="8242200" cy="1157400"/>
          </a:xfrm>
          <a:prstGeom prst="rect">
            <a:avLst/>
          </a:prstGeom>
          <a:ln w="0">
            <a:noFill/>
          </a:ln>
        </p:spPr>
      </p:pic>
      <p:sp>
        <p:nvSpPr>
          <p:cNvPr id="386" name="Sous-titre 2"/>
          <p:cNvSpPr/>
          <p:nvPr/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da47"/>
                </a:solidFill>
                <a:latin typeface="Lucida Sans Unicode"/>
              </a:rPr>
              <a:t>10 Pharmacies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re 1" descr=""/>
          <p:cNvPicPr/>
          <p:nvPr/>
        </p:nvPicPr>
        <p:blipFill>
          <a:blip r:embed="rId2"/>
          <a:stretch/>
        </p:blipFill>
        <p:spPr>
          <a:xfrm>
            <a:off x="463680" y="3713040"/>
            <a:ext cx="8242200" cy="1150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Espace réservé du contenu 7" descr="paris cycle 1.jpg"/>
          <p:cNvPicPr/>
          <p:nvPr/>
        </p:nvPicPr>
        <p:blipFill>
          <a:blip r:embed="rId2"/>
          <a:stretch/>
        </p:blipFill>
        <p:spPr>
          <a:xfrm>
            <a:off x="3132000" y="2637000"/>
            <a:ext cx="3187800" cy="25524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610920" y="1341000"/>
            <a:ext cx="784836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0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5"/>
          <p:cNvSpPr/>
          <p:nvPr/>
        </p:nvSpPr>
        <p:spPr>
          <a:xfrm>
            <a:off x="2017080" y="558972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ernance dans chaque secteu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Espace réservé du contenu 7" descr="paris cycle 2.jpg"/>
          <p:cNvPicPr/>
          <p:nvPr/>
        </p:nvPicPr>
        <p:blipFill>
          <a:blip r:embed="rId2"/>
          <a:stretch/>
        </p:blipFill>
        <p:spPr>
          <a:xfrm>
            <a:off x="3132000" y="2565360"/>
            <a:ext cx="3187800" cy="25527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684360" y="1268280"/>
            <a:ext cx="77040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4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1476360" y="5516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épartition homogè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Espace réservé du contenu 10" descr="paris cycle3.jpg"/>
          <p:cNvPicPr/>
          <p:nvPr/>
        </p:nvPicPr>
        <p:blipFill>
          <a:blip r:embed="rId2"/>
          <a:stretch/>
        </p:blipFill>
        <p:spPr>
          <a:xfrm>
            <a:off x="2987640" y="2565360"/>
            <a:ext cx="3187800" cy="2552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755640" y="1341000"/>
            <a:ext cx="75614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8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5"/>
          <p:cNvSpPr/>
          <p:nvPr/>
        </p:nvSpPr>
        <p:spPr>
          <a:xfrm>
            <a:off x="1872720" y="551664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ernance dans chaque secteu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Espace réservé du contenu 5" descr="paris cycle 4.jpg"/>
          <p:cNvPicPr/>
          <p:nvPr/>
        </p:nvPicPr>
        <p:blipFill>
          <a:blip r:embed="rId2"/>
          <a:stretch/>
        </p:blipFill>
        <p:spPr>
          <a:xfrm>
            <a:off x="3059280" y="2276640"/>
            <a:ext cx="3187440" cy="2552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684360" y="14130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2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1856880" y="5373720"/>
            <a:ext cx="55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us les secteurs sont desservi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re 1" descr=""/>
          <p:cNvPicPr/>
          <p:nvPr/>
        </p:nvPicPr>
        <p:blipFill>
          <a:blip r:embed="rId1"/>
          <a:stretch/>
        </p:blipFill>
        <p:spPr>
          <a:xfrm>
            <a:off x="-23760" y="396720"/>
            <a:ext cx="9186840" cy="18464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da47"/>
                </a:solidFill>
                <a:latin typeface="Lucida Sans Unicode"/>
              </a:rPr>
              <a:t>100 Pharmacies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Sous-titre 2"/>
          <p:cNvSpPr/>
          <p:nvPr/>
        </p:nvSpPr>
        <p:spPr>
          <a:xfrm>
            <a:off x="1403280" y="4076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65160"/>
                </a:solidFill>
                <a:latin typeface="Lucida Sans Unicode"/>
              </a:rPr>
              <a:t>De 8H00 à 21H00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Image 4" descr="Pharmacies_garde.jpg"/>
          <p:cNvPicPr/>
          <p:nvPr/>
        </p:nvPicPr>
        <p:blipFill>
          <a:blip r:embed="rId2"/>
          <a:stretch/>
        </p:blipFill>
        <p:spPr>
          <a:xfrm>
            <a:off x="3692520" y="5300640"/>
            <a:ext cx="1890720" cy="1052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re 1" descr=""/>
          <p:cNvPicPr/>
          <p:nvPr/>
        </p:nvPicPr>
        <p:blipFill>
          <a:blip r:embed="rId1"/>
          <a:stretch/>
        </p:blipFill>
        <p:spPr>
          <a:xfrm>
            <a:off x="225360" y="79200"/>
            <a:ext cx="8467920" cy="779760"/>
          </a:xfrm>
          <a:prstGeom prst="rect">
            <a:avLst/>
          </a:prstGeom>
          <a:ln w="0">
            <a:noFill/>
          </a:ln>
        </p:spPr>
      </p:pic>
      <p:pic>
        <p:nvPicPr>
          <p:cNvPr id="409" name="Espace réservé du contenu 3" descr="paris djf.jpg"/>
          <p:cNvPicPr/>
          <p:nvPr/>
        </p:nvPicPr>
        <p:blipFill>
          <a:blip r:embed="rId2"/>
          <a:stretch/>
        </p:blipFill>
        <p:spPr>
          <a:xfrm>
            <a:off x="2411280" y="1052640"/>
            <a:ext cx="4294440" cy="3435120"/>
          </a:xfrm>
          <a:prstGeom prst="rect">
            <a:avLst/>
          </a:prstGeom>
          <a:ln w="0">
            <a:noFill/>
          </a:ln>
        </p:spPr>
      </p:pic>
      <p:sp>
        <p:nvSpPr>
          <p:cNvPr id="410" name="Espace réservé du pied de page 8"/>
          <p:cNvSpPr/>
          <p:nvPr/>
        </p:nvSpPr>
        <p:spPr>
          <a:xfrm>
            <a:off x="62485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ZoneTexte 6"/>
          <p:cNvSpPr/>
          <p:nvPr/>
        </p:nvSpPr>
        <p:spPr>
          <a:xfrm>
            <a:off x="1979640" y="530064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E PHARMACIE POU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 000 PARISIEN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ZoneTexte 7"/>
          <p:cNvSpPr/>
          <p:nvPr/>
        </p:nvSpPr>
        <p:spPr>
          <a:xfrm>
            <a:off x="1835280" y="465300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E PHARMACIE POU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5 000 RESIDENTS  AU NIVEAU  NATIONA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ZoneTexte 10"/>
          <p:cNvSpPr/>
          <p:nvPr/>
        </p:nvSpPr>
        <p:spPr>
          <a:xfrm>
            <a:off x="468360" y="59500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E REPARTITION HOMOGENE SUR TOUS LES SECTEUR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PARIS, ASSUREE PAR  DES  PHARMACIENS  VOLONTAI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8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7:27:35Z</dcterms:created>
  <dc:creator>ivaldi</dc:creator>
  <dc:description/>
  <dc:language>en-US</dc:language>
  <cp:lastModifiedBy>p3</cp:lastModifiedBy>
  <dcterms:modified xsi:type="dcterms:W3CDTF">2013-05-17T17:41:19Z</dcterms:modified>
  <cp:revision>75</cp:revision>
  <dc:subject/>
  <dc:title>GARDES D’URGENCE</dc:title>
</cp:coreProperties>
</file>