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1960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04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1960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E4D7-E014-48D1-9D20-603E4EE7E5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6BBE-D112-4D8F-B1E0-71F67E4A9FE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B75F-AA8D-4899-A1EE-67DEC6D3510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2A4B-DBD9-4AC7-9504-73C3EE32C58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1E87-5E6B-49AB-AD96-05D0DE4A11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543A-261B-4FFB-A721-DEB04075AC3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F999-6250-4440-AD7A-7284E6DCF71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6B1E-5CA2-411C-BBEF-A44AD7C8090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C6AD-EA2E-4A62-99B4-CCC920B75E9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2393-458A-406A-BA1A-7FD0FD16A95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BB35-92B3-4500-B9B0-E4E4A8123F8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F0D9-00D1-4C9F-A8D7-1AE8F96D49A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821D-D77F-43D0-9916-4FF05D380F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D909-9C86-4E82-A225-EA32F7E4DBC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6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E090-FFDD-4BA0-A996-28782E39D6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F283-EAFF-4630-8796-0AD9D4285F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EE7B-AE59-428A-8B27-642C80ED42D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609F-E3C8-4B50-88FD-9433C180693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40D8-1128-4971-B072-85CFBD29470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4640" y="4691160"/>
            <a:ext cx="5716800" cy="47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C9EE-3A67-4903-A5F9-78BD5EE5F09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5FF9-CCEE-4176-85E1-2573DCBD188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DBB7-E55B-4580-B351-758463BBE818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5960" y="637524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Paris, le 24 mai 20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5" descr="LOGO_ARS_IDF_territoire graphique_2"/>
          <p:cNvPicPr/>
          <p:nvPr/>
        </p:nvPicPr>
        <p:blipFill>
          <a:blip r:embed="rId2"/>
          <a:stretch/>
        </p:blipFill>
        <p:spPr>
          <a:xfrm>
            <a:off x="0" y="127080"/>
            <a:ext cx="9144000" cy="1573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2819160"/>
            <a:ext cx="79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917640">
              <a:buSzPct val="100000"/>
              <a:buBlip>
                <a:blip r:embed="rId1"/>
              </a:buBlip>
              <a:tabLst>
                <a:tab algn="l" pos="806400"/>
                <a:tab algn="l" pos="95256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002395"/>
                </a:solidFill>
                <a:latin typeface="Arial"/>
              </a:rPr>
              <a:t>Le Schéma de la Démocratie Sanitair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361960" y="4572000"/>
            <a:ext cx="601956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927000">
              <a:spcBef>
                <a:spcPts val="425"/>
              </a:spcBef>
              <a:buClr>
                <a:srgbClr val="7ab8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7ab800"/>
                </a:solidFill>
                <a:latin typeface="Arial"/>
              </a:rPr>
              <a:t>Conférence de territoire de Par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220680"/>
            <a:ext cx="84582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Promouvoir l’information des franciliens, les droits des usagers et contribuer à la qualité des parcours de santé (3/5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5235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mouvoir et contrôler le respect des droits des usagers (1/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mouvoir et utiliser les outils de contractualisation, de formation et de médiation comme levier d’amélioration du respect des droits des usager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o Indicateur démocratie sanitaire du CPOM Etat - A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o Indicateur « aucune réclamation d’usager liée à la difficulté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’accès du dossier médical » dans les CPOM Etablissemen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o Objectif de respect des droits des usagers et de démocrat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sanitaire dans les cahiers des charges des AAP 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’évaluations des ES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mouvoir la formation et améliorer l’information des 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mouvoir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a médiation sous ses différentes formes (médiateu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médicaux, sociaux, en sant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220680"/>
            <a:ext cx="84582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Promouvoir l’information des franciliens, les droits des usagers et contribuer à la qualité des parcours de santé (4/5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8240" y="15998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Promouvoir et contrôler le respect des droits des usagers (2/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nforcer et développer les droits des usag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o dans le secteur médico-social (dispositif des PQ, bilans CVS, etc.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o dans le domaine de la santé mentale (CLSM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o dans le secteur sanitaire (indicateurs qualité, information sur l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rôle des RU des CRUQPC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o dans le domaine de la précarité et des personnes vulnérab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ptimiser la gestion des réclamations et application de la réglementation (bilans annuels des réclamations,…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nforcer et développer l’accès à une pratique artistique et culturelle de qualité dans les établiss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réer et animer des réseaux d’acteurs pour améliorer les pratiques professionnelles et le respect des droits (chargés de relations avec les usagers, médiateurs médicaux, conciliateurs, « groupes de pairs »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841400" algn="just">
              <a:spcBef>
                <a:spcPts val="4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220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Promouvoir l’information des franciliens, les droits des usagers et contribuer à la qualité des parcours de santé (5/5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160" y="190476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er la demande en santé et la qualité des parcours de santé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ptimiser l’exploitation des rapports des Commissions des Relation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vec les Usagers pour la qualité de la Prise en Charge (CRUQPC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analyse croisée des bilans des réclamations et de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apports CRUQ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adapter et stabiliser le formulaire type de saisie 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apports d’activité des CRUQ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évelopper des études d’opinion pour mieux comprendre l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portement des acteurs de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960" y="220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 algn="just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2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Améliorer le participation des acteurs du système de santé, développer la concertation et le débat public, promouvoir la démocratie sanitaire (1/4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440" y="1599840"/>
            <a:ext cx="80773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ptimiser l’animation et la coordination des instances 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démocratie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méliorer et favoriser la participation des acteurs de la démocratie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velopper et articuler le débat public et la concer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369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velopper et entretenir les partenariats avec tous les acteurs du système de santé rég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30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La concertation et l’affirmation des droits collec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230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lèche droite 3"/>
          <p:cNvSpPr/>
          <p:nvPr/>
        </p:nvSpPr>
        <p:spPr>
          <a:xfrm>
            <a:off x="1981080" y="5486400"/>
            <a:ext cx="838440" cy="358920"/>
          </a:xfrm>
          <a:prstGeom prst="rightArrow">
            <a:avLst>
              <a:gd name="adj1" fmla="val 39009"/>
              <a:gd name="adj2" fmla="val 49997"/>
            </a:avLst>
          </a:prstGeom>
          <a:solidFill>
            <a:srgbClr val="92d05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960" y="220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 algn="just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2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Améliorer le participation des acteurs du système de santé, développer la concertation et le débat public, promouvoir la démocratie sanitaire (2/4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547280"/>
            <a:ext cx="853416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ptimiser l’animation et la coordination des instances 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démocratie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ccompagner la CRSA dans l’organisation de ses activit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fonctionnement, communication et débats publi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nforcer le rôle des Conférences de territoire dans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mocratie sanitaire territoriale et infra territor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 pour en faire de véritable forces d’incitation et de pro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 dans la phase de diagnostic des C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 dans le cadre des projets de coopérations hospital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ordonner et animer les autres instances spécialisées 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surer leur articulation avec les instances de démocrat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anitaire (CLSM,CC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ptimiser la participation au sein des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2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Améliorer le participation des acteurs du système de santé, développer la concertation et le débat public, promouvoir la démocratie sanitaire (3/4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371600"/>
            <a:ext cx="84582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50320" indent="-85032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méliorer et favoriser la participation des acte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0320" indent="-850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 la démocratie sani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méliorer la participation des représentants des usagers dan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secteur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appel à candidature en ligne de désignation des 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campagne d’information grand public sur les 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annuaire des représentants des usag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r et promouvoir la formation des acteurs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mocratie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actions de formation / séminaires d’information à destination de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membres des instances régionales et départementales de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démocratie sanit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méliorer l’implication des élus dans la démocratie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actions de formation / information sur les enjeux de la san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0320" indent="-85032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0320" indent="-85032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220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2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Améliorer le participation des acteurs du système de santé, développer la concertation et le débat public, promouvoir la démocratie sanitaire (4/4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12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velopper et articuler le débat public et la concer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r d’autres formes de concertation et de dé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orum thématiques complémentaires aux débats publics de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la CR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méthodologie de forum participati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débats publics territori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périmenter d’autres formes d’échan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débats en li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ynamiser la concertation dans le cadre des CLS pour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ire un levier de la démocratie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velopper et entretenir les partenariats avec tous les acteurs du système de santé rég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rtographie des partenari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rte du parten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12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Les modalités de mise en œuvre, de gouvernance et de déploiement du schéma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41680" indent="-841680" algn="just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Gouvernance interne :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 comité démocratie sanitaire intern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posé des référents démocratie sanitaire des délégations territoriales  et des directions méti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nforcement du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réseau de partenaires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e la démocratie sanitaire : instances de démocratie sanitaire, associations d’usagers, CODERPA, CDCPH, CORERPA, Comité d’Entente, collectivités territoriales, établissements de santé et médico-sociaux et leurs fédérations, réseau AM, URP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tructuration des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outils de mise en œuvr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u schéma 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s outils existants : CPOM, CLS, A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s outils spécifiques à développer : outils de communication, actions de 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Modalités de suivi et d’évaluation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u schéma : définition, avec les partenaires, d’indicateurs de suivi et d’évaluation des ac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a concertation informelle : quelle méthode et quel calendrier?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824400" indent="-82440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9 mars 2013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présentation à la commission permanente de la CRS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-82440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1 mars 2013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présentation en Séance plénière de la CR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-82440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ériode 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certation informelle de 2 mois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proposit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’inscription à l’ODJ des Conférences de territo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-8244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1 mai 2013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Séance plénière de la CRSA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24880" indent="-147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vis d’étape sur le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sché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24880" indent="-14760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première synthèse des présidents de conférence de territo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248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-8244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2 juillet 201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éance plénière de la CRSA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24880" indent="-14760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amen et validation du projet d’avis sur le sché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15364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a concertation : quelle attentes ?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xercice nouveau et partenarial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mplexe :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méthode de travail fondée sur la concer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ystématique avec les parties prenantes du syst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ttentes de la concertation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véritable co-construction avec l’ensemble 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ten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éclairage des acteurs du système de san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contributions de la CRSA et des CT pour finaliser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euille de ro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finalisation du document pour septembre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81532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Pourquoi un schéma de démocratie sanitaire?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staller la démocratie sanitaire dans la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dynamique métier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’age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larifier et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définir le périmètr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’action de la démocratie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anitai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isposer d’un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document de référenc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qui guide nos ac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pendant toute la durée Projet Régional de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Articuler et rassembler les actions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édiées à la démocrati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anitaire contenues dans les schém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…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..en conclusion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218960" y="15476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807120" indent="-80712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schéma de la démocratie sanitai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schéma de promotion de la démocratie sanitai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schéma  de promotion de la démocratie en santé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…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un document construit avec tous 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les acteurs qui devra être une feuille de rou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commune et partagé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07120" indent="-80712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èche droite 3"/>
          <p:cNvSpPr/>
          <p:nvPr/>
        </p:nvSpPr>
        <p:spPr>
          <a:xfrm>
            <a:off x="914400" y="4975200"/>
            <a:ext cx="838080" cy="358920"/>
          </a:xfrm>
          <a:prstGeom prst="rightArrow">
            <a:avLst>
              <a:gd name="adj1" fmla="val 39009"/>
              <a:gd name="adj2" fmla="val 49975"/>
            </a:avLst>
          </a:prstGeom>
          <a:solidFill>
            <a:srgbClr val="92d05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MERCI POUR VOTRE ATTENTION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0800"/>
            <a:ext cx="77724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e contexte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Evolution de la place du citoyen dans les politiques publiques de santé depuis 15 ans, émergence et renforcement de la mobilisation associative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Loi du 4 mars 2002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lative aux droits des malades et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à la qualité du système de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vant la mise en place des ARS : une organisation régionale peu intégrée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application de la réglementation (désignation des représentants des usagers dans les instances, agréments des associations, conférences sanitaire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loi HPST du 24 juillet 2009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: le renforcement de la démocratie sanitai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ne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organisation affirmée à l’ARS Île-de-Franc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un pôle « démocratie sanitaire 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un réseau de délégations territoriales en charge de l’animation de la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émocratie sanitaire sur leurs territoi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es instances actives (CRSA et CT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es partenariats avec les associations et les fédér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lèche droite 1"/>
          <p:cNvSpPr/>
          <p:nvPr/>
        </p:nvSpPr>
        <p:spPr>
          <a:xfrm>
            <a:off x="1523880" y="1662120"/>
            <a:ext cx="685800" cy="24300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a démocratie sanitaire dans le PRS (1/2)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41680" indent="-841680" algn="just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Loi HPST du 21 juillet 2009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:  un cadre restreint à l’action de la démocratie sanitaire (limité aux instances CRSA et Conférences de territoir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Décret n° 2010-514 du 18 mai 2010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latif au projet régional de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rt. R. 1434-2 :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le Plan stratégique régional de santé comport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3° Les objectifs fixés en matièr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a) de prévention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b) d’amélioration de l’accès aux établissements, aux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professionnels et aux services de santé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) de réduction des inégalités sociales et territoriales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en santé,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notamment en matière de soins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d) de qualité et d’efficience des prises en charge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3333cc"/>
                </a:solidFill>
                <a:latin typeface="Arial"/>
              </a:rPr>
              <a:t>e) </a:t>
            </a:r>
            <a:r>
              <a:rPr b="1" i="1" lang="fr-FR" sz="1400" spc="-1" strike="noStrike">
                <a:solidFill>
                  <a:srgbClr val="3333cc"/>
                </a:solidFill>
                <a:latin typeface="Arial"/>
              </a:rPr>
              <a:t>de respect des droits des usagers </a:t>
            </a: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Les 3 axes du Plan stratégique régional de santé 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Assurer à chaque francilien un parcours lisible, accessible et sécuris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Améliorer la qualité et l’efficience du système de sant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Conduire une politique de santé partagée au plus près de la réalité des territoi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416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a démocratie sanitaire dans le PRS (2/2)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9907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50320" indent="-850320" algn="just"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’information des patients et le respect des droits des usagers présents dans tous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s schéma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chéma régional de prévention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: coordination avec l’ensem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s acteurs publics (CLS), processus participatifs, co-construction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vec les usagers et citoyen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chéma régional d’organisation médico-sociale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: évaluation de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qualité des activités et des prestations  des établissement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éveloppement d’une culture de la bientraitance,  rôle des aidants, l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idants – P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olet ambulatoire du SRO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: accessibilité et disponibilité de l’offre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oins ambulatoires, information sur l’organisation de l’offre de soin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emier recours, coopération et coordination des PS, information 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ormation des P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olet sanitaire du SROS :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’accessibilité aux soins, cohérence 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rcours de santé des usagers, amélioration de l’efficience et la garan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 la qualité, accessibilité et répartition de l’offre sur les territoires, rel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vec le premier recours  et le secteur médico-soc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815328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a méthode de construction du schéma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61760" y="14475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réunions bilatérales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’échanges internes à l’Agence avec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les directions métiers de l’Agence (DOSMS et DSP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es référents thématiques (PRAPS, CL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les délégations territorial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réunions de travail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vec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es membres de la CRSA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e la CSDU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u CISS Île-de-Fra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ne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sollicitation par mail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es associations, professionnels de santé,  fédérations </a:t>
            </a:r>
            <a:r>
              <a:rPr b="0" lang="fr-FR" sz="1700" spc="-1" strike="noStrike">
                <a:solidFill>
                  <a:srgbClr val="262699"/>
                </a:solidFill>
                <a:latin typeface="Arial"/>
              </a:rPr>
              <a:t>(« Ecrivez avec nous la feuille de route de la démocratie sanitaire en région Île-de-France »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a prise en compte des contributions reçues (dont le CISS Île-de-Franc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ne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contribution ouverte en lign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via le blog P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81532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e contenu et les axes du schéma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partie introductive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de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léments de context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de pilotage et d’organisation de la démocratie sanitaire en Île-de-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rappel des évolutions réglementaires et de la place du citoyen dans l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politiques publiques de santé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présentation des instances de concertation et de gouvernance de l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émocratie sanitai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 axes stratég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= 2 dimensions de la démocratie sanitai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Promouvoir l’information des franciliens, les droits des usagers et contribue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à la qualité des parcours de sant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Améliorer la participation des acteurs du système de santé, développer l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concertation et le débat public, promouvoir la démocratie sanitair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e dernière partie sur les modalités 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ise en œuvr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ouvernance et de déploieme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du schéma de la démocratie sani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220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Promouvoir l’information des franciliens, les droits des usagers et contribuer à la qualité des parcours de santé (1/5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720" y="1582200"/>
            <a:ext cx="7238880" cy="42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mouvoir l’information des franciliens par un dispositif global d’accompagnement de l’information en san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mouvoir et contrôler le respect des droits des us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er la demande en santé et la qualité des parcours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l’affirmation des droits individu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lèche droite 3"/>
          <p:cNvSpPr/>
          <p:nvPr/>
        </p:nvSpPr>
        <p:spPr>
          <a:xfrm>
            <a:off x="1981080" y="5356080"/>
            <a:ext cx="838440" cy="358920"/>
          </a:xfrm>
          <a:prstGeom prst="rightArrow">
            <a:avLst>
              <a:gd name="adj1" fmla="val 39009"/>
              <a:gd name="adj2" fmla="val 49997"/>
            </a:avLst>
          </a:prstGeom>
          <a:solidFill>
            <a:srgbClr val="92d05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220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Promouvoir l’information des franciliens, les droits des usagers et contribuer à la qualité des parcours de santé (2/5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41680" indent="-8416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omouvoir l’information des franciliens par un dispositif global d’accompagnement de l’information en san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velopper une plateforme d’information en santé (PFIS) </a:t>
            </a: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= 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socle du disposit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604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 donner aux franciliens les moyens de devenir acteurs d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  leur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9604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 encourager les contributions des citoyens et la co-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 construction de l’information en valorisant le savoir issu du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 vécu du pati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9604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 faciliter l’identification des acteurs de la démocratie sanitai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compagner la mise en œuvre des maisons  d’information en santé ou des points d’information usager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rganiser des campagnes d’information sur la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ETTAUER, Vincent</dc:creator>
  <dc:description/>
  <dc:language>en-US</dc:language>
  <cp:lastModifiedBy>METTAUER, Vincent</cp:lastModifiedBy>
  <cp:lastPrinted>2013-04-12T07:53:40Z</cp:lastPrinted>
  <dcterms:modified xsi:type="dcterms:W3CDTF">2013-05-22T07:27:09Z</dcterms:modified>
  <cp:revision>3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