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742113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42800" cy="987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1"/>
          </p:nvPr>
        </p:nvSpPr>
        <p:spPr>
          <a:xfrm>
            <a:off x="3819600" y="-3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04680" y="741240"/>
            <a:ext cx="4933800" cy="370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move the slid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2"/>
          </p:nvPr>
        </p:nvSpPr>
        <p:spPr>
          <a:xfrm>
            <a:off x="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3"/>
          </p:nvPr>
        </p:nvSpPr>
        <p:spPr>
          <a:xfrm>
            <a:off x="3819600" y="9380160"/>
            <a:ext cx="292248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2551-A89C-4531-AD45-7709C634B3C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528C3-D467-4503-A111-AF4B0061469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DC87-637B-4ECC-BA38-CCC76A7C847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42413-7994-4316-8240-202F03C6A78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7C8D-E4FB-4740-BA2A-72FED174BF8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8ED86-85B4-4F99-AA8D-FC8EF6679266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A7238-F8A7-4C5D-9428-6B29D1CDD42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DDC6B-F8C3-4CA8-B84C-4AA1501884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79066-19D2-45B2-B76F-32861BFF82F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921CB-4242-4415-AD09-8438C45FA1CF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99216-75B3-4299-BAD8-3A032C209E3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06425-C89F-428A-AA9F-F4148A4FF8E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6BA44-8F88-4E3F-9A41-E9345EEDF9C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B0FB-CE8A-406A-ACC6-2491FE34690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6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40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BCBE2-2C63-47BC-8535-2F697C8A666E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1AE6A-98CD-4F20-B8EF-8F9287FFA3F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36C41-A4B5-4366-AE66-697BE5DF6867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C8DE6-A39C-49BE-B7A7-38A98349D422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819F5-691E-4C17-B117-EB0F20F5330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4640" y="4691160"/>
            <a:ext cx="5716800" cy="472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0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55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F5738-5F7F-4D94-85A8-85E36A94AD10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05040" y="741240"/>
            <a:ext cx="4933800" cy="3702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4640" y="4690800"/>
            <a:ext cx="539424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space réservé du numéro de diapositive 3"/>
          <p:cNvSpPr/>
          <p:nvPr/>
        </p:nvSpPr>
        <p:spPr>
          <a:xfrm>
            <a:off x="3819600" y="9380520"/>
            <a:ext cx="29224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C795D-A35E-4982-ACAF-F0A7F116ABAA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73FFB-0324-43B0-85E4-84B40F851286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Text Box 4"/>
          <p:cNvSpPr/>
          <p:nvPr/>
        </p:nvSpPr>
        <p:spPr>
          <a:xfrm>
            <a:off x="345960" y="6375240"/>
            <a:ext cx="19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2395"/>
                </a:solidFill>
                <a:latin typeface="Arial"/>
              </a:rPr>
              <a:t>Paris, le 24 mai 2013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5" descr="LOGO_ARS_IDF_territoire graphique_2"/>
          <p:cNvPicPr/>
          <p:nvPr/>
        </p:nvPicPr>
        <p:blipFill>
          <a:blip r:embed="rId2"/>
          <a:stretch/>
        </p:blipFill>
        <p:spPr>
          <a:xfrm>
            <a:off x="0" y="127080"/>
            <a:ext cx="9144000" cy="1573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 indent="-99072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160" y="2819160"/>
            <a:ext cx="79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917640">
              <a:buSzPct val="100000"/>
              <a:buBlip>
                <a:blip r:embed="rId1"/>
              </a:buBlip>
              <a:tabLst>
                <a:tab algn="l" pos="806400"/>
                <a:tab algn="l" pos="95256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002395"/>
                </a:solidFill>
                <a:latin typeface="Arial"/>
              </a:rPr>
              <a:t>Le Schéma de la Démocratie Sanitaire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361960" y="4572000"/>
            <a:ext cx="601956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927000">
              <a:spcBef>
                <a:spcPts val="425"/>
              </a:spcBef>
              <a:buClr>
                <a:srgbClr val="7ab8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7ab800"/>
                </a:solidFill>
                <a:latin typeface="Arial"/>
              </a:rPr>
              <a:t>Conférence de territoire de Par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04560" y="220680"/>
            <a:ext cx="84582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3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04920" y="1523520"/>
            <a:ext cx="853416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 (1/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et utiliser les outils de contractualisation, de formation et de médiation comme levier d’amélioration du respect des droits des usagers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Indicateur démocratie sanitaire du CPOM Etat - AR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Indicateur « aucune réclamation d’usager liée à la difficulté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  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’accès du dossier médical » dans les CPOM Etablissements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o Objectif de respect des droits des usagers et de démoc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anitaire dans les cahiers des charges des AAP o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d’évaluations des ESM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la formation et améliorer l’information des P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mouvoir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la médiation sous ses différentes formes (médiateu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médicaux, sociaux, en sant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560" y="220680"/>
            <a:ext cx="84582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4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228240" y="1599840"/>
            <a:ext cx="8534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 (2/2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r et développer les droits des usag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secteur médico-social (dispositif des PQ, bilans CVS, etc.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domaine de la santé mentale (CLSM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secteur sanitaire (indicateurs qualité, information sur 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rôle des RU des CRUQP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o dans le domaine de la précarité et des personnes vulnérabl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ptimiser la gestion des réclamations et application de la réglementation (bilans annuels des réclamations,…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r et développer l’accès à une pratique artistique et culturelle de qualité dans les établissem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réer et animer des réseaux d’acteurs pour améliorer les pratiques professionnelles et le respect des droits (chargés de relations avec les usagers, médiateurs médicaux, conciliateurs, « groupes de pairs 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841400" algn="just">
              <a:spcBef>
                <a:spcPts val="425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5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160" y="1904760"/>
            <a:ext cx="83055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er la demande en santé et la qualité des parcours de san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ptimiser l’exploitation des rapports des Commissions des Relation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ec les Usagers pour la qualité de la Prise en Charge (CRUQPC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nalyse croisée des bilans des réclamations et d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pports CRUQ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dapter et stabiliser le formulaire type de saisie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apports d’activité des CRUQP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velopper des études d’opinion pour mieux comprendre le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portement des acteurs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960" y="220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just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1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685440" y="1599840"/>
            <a:ext cx="807732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er l’animation et la coordination des instance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méliorer et favoriser la participation des acteurs de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articuler le débat public et la conce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3696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entretenir les partenariats avec tous les acteurs du système de santé ré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30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a concertation et l’affirmation des droits collecti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230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Flèche droite 3"/>
          <p:cNvSpPr/>
          <p:nvPr/>
        </p:nvSpPr>
        <p:spPr>
          <a:xfrm>
            <a:off x="1981080" y="5486400"/>
            <a:ext cx="838440" cy="358920"/>
          </a:xfrm>
          <a:prstGeom prst="rightArrow">
            <a:avLst>
              <a:gd name="adj1" fmla="val 39009"/>
              <a:gd name="adj2" fmla="val 49997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960" y="220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 algn="just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2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04920" y="1547280"/>
            <a:ext cx="853416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ptimiser l’animation et la coordination des instance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  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ccompagner la CRSA dans l’organisation de ses activit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(fonctionnement, communication et débats public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renforcer le rôle des Conférences de territoire dans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cratie sanitaire territoriale et infra territo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pour en faire de véritable forces d’incitation et de propos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dans la phase de diagnostic des C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dans le cadre des projets de coopérations hospitaliè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ordonner et animer les autres instances spécialisées 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ssurer leur articulation avec les instances de démocrat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anitaire (CLSM,CCP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ptimiser la participation au sein des inst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3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6840" y="1371600"/>
            <a:ext cx="8458200" cy="454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50320" indent="-8503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méliorer et favoriser la participation des acteu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de la démocratie sanit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méliorer la participation des représentants des usagers dan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e secteur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ppel à candidature en ligne de désignation des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campagne d’information grand public sur les R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nnuaire des représentants des usager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et promouvoir la formation des acteurs de 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ctions de formation / séminaires d’information à destination de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membres des instances régionales et départementales d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démocratie sanita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méliorer l’implication des élus dans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0504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actions de formation / information sur les enjeux de la sant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0320" indent="-8503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220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2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Améliorer le participation des acteurs du système de santé, développer la concertation et le débat public, promouvoir la démocratie sanitaire (4/4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09120" y="16002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articuler le débat public et la concer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évelopper d’autres formes de concertation et de déb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um thématiques complémentaires aux débats publics d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la CR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méthodologie de forum participatif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débats publics territori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xpérimenter d’autres formes d’échang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o débats en lig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ynamiser la concertation dans le cadre des CLS pour 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ire un levier de la démocratie sanita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évelopper et entretenir les partenariats avec tous les acteurs du système de santé ré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artographie des partenari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harte du parten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560" y="12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Les modalités de mise en œuvre, de gouvernance et de déploiement du schéma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6840" y="1218960"/>
            <a:ext cx="8534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Gouvernance interne :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1 comité démocratie sanitaire intern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omposé des référents démocratie sanitaire des délégations territoriales  et des directions métie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nforcement du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seau de partenaire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 la démocratie sanitaire : instances de démocratie sanitaire, associations d’usagers, CODERPA, CDCPH, CORERPA, Comité d’Entente, collectivités territoriales, établissements de santé et médico-sociaux et leurs fédérations, réseau AM, URPS,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tructuration 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utils de mise en œuvr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u schéma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outils existants : CPOM, CLS, A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outils spécifiques à développer : outils de communication, actions de 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Modalités de suivi et d’évaluation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u schéma : définition, avec les partenaires, d’indicateurs de suivi et d’évaluation des a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concertation informelle : quelle méthode et quel calendrier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824400" indent="-82440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19 mars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présentation à la commission permanente de la CRS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1 mars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présentation en Séance plénière de la CRS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ériode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oncertation informelle de 2 mois 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proposition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’inscription à l’ODJ des Conférences de territo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1 mai 2013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Séance plénière de la CRS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51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vis d’étape sur l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sché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première synthèse des présidents de conférence de territoi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-824400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2 juillet 2013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"/>
              </a:rPr>
              <a:t> :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Séance plénière de la CRSA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24880" indent="-147600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amen et validation du projet d’avis sur le sché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244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15364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concertation : quelle attentes 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exercice nouveau et partenarial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i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complexe :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méthode de travail fondée sur la concer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ystématique avec les parties prenantes du systè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attentes de la concertation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véritable co-construction avec l’ensemble 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tena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éclairage des acteurs du système de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s contributions de la CRSA et des CT pour finaliser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feuille de rou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finalisation du document pour septembre 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Pourquoi un schéma de démocratie sanitaire?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2388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Installer la démocratie sanitaire dans la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ynamique métier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’age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Clarifier et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éfinir le périmètr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’action de la démocratie 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isposer d’un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ocument de référenc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qui guide nos actio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pendant toute la durée Projet Régional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Articuler et rassembler les action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édiées à la démocrati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sanitaire contenues dans les schéma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…</a:t>
            </a: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..en conclus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218960" y="15476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807120" indent="-80712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 schéma de la démocratie sanitai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Un schéma de promotion de la démocratie sanita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Une schéma  de promotion de la démocratie en santé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07120" indent="-807120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…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un document construit avec tous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les acteurs qui devra être une feuille de rout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	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  <a:ea typeface="Arial"/>
              </a:rPr>
              <a:t>commune et partagé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07120" indent="-80712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Flèche droite 3"/>
          <p:cNvSpPr/>
          <p:nvPr/>
        </p:nvSpPr>
        <p:spPr>
          <a:xfrm>
            <a:off x="914400" y="4975200"/>
            <a:ext cx="838080" cy="358920"/>
          </a:xfrm>
          <a:prstGeom prst="rightArrow">
            <a:avLst>
              <a:gd name="adj1" fmla="val 39009"/>
              <a:gd name="adj2" fmla="val 49975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22856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MERCI POUR VOTRE ATTENTION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10800"/>
            <a:ext cx="777240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contexte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9140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Evolution de la place du citoyen dans les politiques publiques de santé depuis 15 ans, émergence et renforcement de la mobilisation associative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du 4 mars 2002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lative aux droits des malades et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à la qualité du système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ant la mise en place des ARS : une organisation régionale peu intégrée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pplication de la réglementation (désignation des représentants des usagers dans les instances, agréments des associations, conférences sanitaire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HPST du 24 juillet 2009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le renforcement de la démocratie 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organisation affirmée à l’ARS Île-de-Franc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n pôle « démocratie sanitaire »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un réseau de délégations territoriales en charge de l’animation de la 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émocratie sanitaire sur leurs territo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instances actives (CRSA et C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partenariats avec les associations et les fédération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lèche droite 1"/>
          <p:cNvSpPr/>
          <p:nvPr/>
        </p:nvSpPr>
        <p:spPr>
          <a:xfrm>
            <a:off x="1523880" y="1662120"/>
            <a:ext cx="685800" cy="243000"/>
          </a:xfrm>
          <a:prstGeom prst="rightArrow">
            <a:avLst>
              <a:gd name="adj1" fmla="val 50000"/>
              <a:gd name="adj2" fmla="val 49977"/>
            </a:avLst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démocratie sanitaire dans le PRS (1/2)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99072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oi HPST du 21 juillet 2009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:  un cadre restreint à l’action de la démocratie sanitaire (limité aux instances CRSA et Conférences de territoir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Décret n° 2010-514 du 18 mai 2010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relatif au projet régional de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Art. R. 1434-2 :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le Plan stratégique régional de santé comport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3° Les objectifs fixés en matière 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a) de prévention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b) d’amélioration de l’accès aux établissements, aux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professionnels et aux services de santé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c) de réduction des inégalités sociales et territoriales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en santé,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notamment en matière de soins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d) de qualité et d’efficience des prises en charge 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fr-FR" sz="1400" spc="-1" strike="noStrike">
                <a:solidFill>
                  <a:srgbClr val="3333cc"/>
                </a:solidFill>
                <a:latin typeface="Arial"/>
              </a:rPr>
              <a:t>e) </a:t>
            </a:r>
            <a:r>
              <a:rPr b="1" i="1" lang="fr-FR" sz="1400" spc="-1" strike="noStrike">
                <a:solidFill>
                  <a:srgbClr val="3333cc"/>
                </a:solidFill>
                <a:latin typeface="Arial"/>
              </a:rPr>
              <a:t>de respect des droits des usagers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41680" indent="-84168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Les 3 axes du Plan stratégique régional de santé :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Assurer à chaque francilien un parcours lisible, accessible et sécuris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Améliorer la qualité et l’efficience du système de san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500" spc="-1" strike="noStrike">
                <a:solidFill>
                  <a:srgbClr val="000000"/>
                </a:solidFill>
                <a:latin typeface="Arial"/>
              </a:rPr>
              <a:t>Conduire une politique de santé partagée au plus près de la réalité des territoir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41680" indent="0" algn="just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76320"/>
            <a:ext cx="8534160" cy="76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démocratie sanitaire dans le PRS (2/2) 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80880" y="9907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850320" indent="-850320" algn="just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information des patients et le respect des droits des usagers présents dans tous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les schémas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chéma régional de prévention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coordination avec l’ensem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s acteurs publics (CLS), processus participatifs, co-construction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les usagers et citoyen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schéma régional d’organisation médico-sociale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évaluation de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a qualité des activités et des prestations  des établissement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éveloppement d’une culture de la bientraitance,  rôle des aidants, li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idants – P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et ambulatoire du SROS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: accessibilité et disponibilité de l’offre d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soins ambulatoires, information sur l’organisation de l’offre de soins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remier recours, coopération et coordination des PS, information e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formation des PS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volet sanitaire du SROS :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l’accessibilité aux soins, cohérence d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parcours de santé des usagers, amélioration de l’efficience et la garant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e la qualité, accessibilité et répartition de l’offre sur les territoires, rela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avec le premier recours  et le secteur médico-soci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469160" indent="-152280" algn="just">
              <a:spcBef>
                <a:spcPts val="400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a méthode de construction du schéma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761760" y="14475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unions bilatérales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’échanges internes à l’Agence avec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s directions métiers de l’Agence (DOSMS et DSP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référents thématiques (PRAPS, CLS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les délégations territoria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réunions de travail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avec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s membres de la CRSA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e la CSDU,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u CISS Île-de-Franc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sollicitation par mail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des associations, professionnels de santé,  fédérations </a:t>
            </a:r>
            <a:r>
              <a:rPr b="0" lang="fr-FR" sz="1700" spc="-1" strike="noStrike">
                <a:solidFill>
                  <a:srgbClr val="262699"/>
                </a:solidFill>
                <a:latin typeface="Arial"/>
              </a:rPr>
              <a:t>(« Ecrivez avec nous la feuille de route de la démocratie sanitaire en région Île-de-France »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La prise en compte des contributions reçues (dont le CISS Île-de-France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Une </a:t>
            </a:r>
            <a:r>
              <a:rPr b="1" lang="fr-FR" sz="1700" spc="-1" strike="noStrike">
                <a:solidFill>
                  <a:srgbClr val="000000"/>
                </a:solidFill>
                <a:latin typeface="Arial"/>
              </a:rPr>
              <a:t>contribution ouverte en lign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via le blog PR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220680"/>
            <a:ext cx="81532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900" spc="-1" strike="noStrike">
                <a:solidFill>
                  <a:srgbClr val="7ab800"/>
                </a:solidFill>
                <a:latin typeface="Arial"/>
              </a:rPr>
              <a:t>Le contenu et les axes du schéma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8229600" cy="46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partie introductive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t des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éléments de context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de pilotage et d’organisation de la démocratie sanitaire en Île-de-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rappel des évolutions réglementaires et de la place du citoyen dans les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olitiques publiques de santé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ésentation des instances de concertation et de gouvernance de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démocratie sanitai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 axes stratégiques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 = 2 dimensions de la démocratie sanitair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Promouvoir l’information des franciliens, les droits des usagers et contribue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à la qualité des parcours de santé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 algn="just">
              <a:spcBef>
                <a:spcPts val="374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Améliorer la participation des acteurs du système de santé, développer la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r-FR" sz="1500" spc="-1" strike="noStrike">
                <a:solidFill>
                  <a:srgbClr val="000000"/>
                </a:solidFill>
                <a:latin typeface="Arial"/>
              </a:rPr>
              <a:t>concertation et le débat public, promouvoir la démocratie sanitair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0" algn="just">
              <a:spcBef>
                <a:spcPts val="37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Une dernière partie sur les modalités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mise en œuvr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 de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gouvernance et de déploiement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du schéma de la démocratie sani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1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990720" y="1582200"/>
            <a:ext cx="7238880" cy="42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l’information des franciliens par un dispositif global d’accompagnement de l’information en san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omouvoir et contrôler le respect des droits des usa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5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Evaluer la demande en santé et la qualité des parcours d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2400" spc="-1" strike="noStrike">
                <a:solidFill>
                  <a:srgbClr val="3333cc"/>
                </a:solidFill>
                <a:latin typeface="Arial"/>
              </a:rPr>
              <a:t>l’affirmation des droits individu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Flèche droite 3"/>
          <p:cNvSpPr/>
          <p:nvPr/>
        </p:nvSpPr>
        <p:spPr>
          <a:xfrm>
            <a:off x="1981080" y="5356080"/>
            <a:ext cx="838440" cy="358920"/>
          </a:xfrm>
          <a:prstGeom prst="rightArrow">
            <a:avLst>
              <a:gd name="adj1" fmla="val 39009"/>
              <a:gd name="adj2" fmla="val 49997"/>
            </a:avLst>
          </a:prstGeom>
          <a:solidFill>
            <a:srgbClr val="92d050"/>
          </a:solidFill>
          <a:ln w="25560">
            <a:solidFill>
              <a:srgbClr val="0095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560" y="2203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-816120">
              <a:buSzPct val="100000"/>
              <a:buBlip>
                <a:blip r:embed="rId1"/>
              </a:buBlip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fr-FR" sz="2400" spc="-1" strike="noStrike" u="sng">
                <a:solidFill>
                  <a:srgbClr val="7ab800"/>
                </a:solidFill>
                <a:uFillTx/>
                <a:latin typeface="Arial"/>
              </a:rPr>
              <a:t>Axe 1 </a:t>
            </a:r>
            <a:r>
              <a:rPr b="1" lang="fr-FR" sz="2400" spc="-1" strike="noStrike">
                <a:solidFill>
                  <a:srgbClr val="7ab800"/>
                </a:solidFill>
                <a:latin typeface="Arial"/>
              </a:rPr>
              <a:t>: Promouvoir l’information des franciliens, les droits des usagers et contribuer à la qualité des parcours de santé (2/5)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44792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841680" indent="-841680"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omouvoir l’information des franciliens par un dispositif global d’accompagnement de l’information en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évelopper une plateforme d’information en santé (PFIS) </a:t>
            </a:r>
            <a:r>
              <a:rPr b="0" lang="fr-FR" sz="2000" spc="-1" strike="noStrike">
                <a:solidFill>
                  <a:srgbClr val="3333cc"/>
                </a:solidFill>
                <a:latin typeface="Arial"/>
              </a:rPr>
              <a:t>= </a:t>
            </a: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socle du disposit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donner aux franciliens les moyens de devenir acteurs de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 leur san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encourager les contributions des citoyens et la co-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construction de l’information en valorisant le savoir issu du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  vécu du pati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896040">
              <a:spcBef>
                <a:spcPts val="4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o faciliter l’identification des acteurs de la démocratie sanitai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accompagner la mise en œuvre des maisons  d’information en santé ou des points d’information usag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454400" indent="-150840">
              <a:spcBef>
                <a:spcPts val="499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rganiser des campagnes d’information sur la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ETTAUER, Vincent</dc:creator>
  <dc:description/>
  <dc:language>en-US</dc:language>
  <cp:lastModifiedBy>METTAUER, Vincent</cp:lastModifiedBy>
  <cp:lastPrinted>2013-04-12T07:53:40Z</cp:lastPrinted>
  <dcterms:modified xsi:type="dcterms:W3CDTF">2013-05-22T07:27:09Z</dcterms:modified>
  <cp:revision>30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