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4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13.jpeg" ContentType="image/jpeg"/>
  <Override PartName="/ppt/media/image2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28AB-AE8B-46F6-8C27-483722B5D75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86EC-26DD-4518-931B-73F301E752D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E8C3-9C4E-40D1-A2F8-CF3D521694E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9EFB-F801-41FC-9071-1415C1FFB1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4406-2030-43F2-B868-D66D4F985DF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0CAD-4323-4D35-B66D-1550AD3C360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CC7D-4F00-45B2-BFDB-B8CE28EF054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3816-D60B-4FD4-B2EE-6F33B917B4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853E-9B98-497F-98AC-866BDA69109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EC99-0596-4C07-8751-310ACD0A041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7932-F2ED-49E1-A87F-63E70832D08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12F3-C1E6-4AFC-A232-41AFA78AE27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9EAC-34EE-4433-B9A2-0B5AED4107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BD47-F61B-4DBB-9928-E306DAF7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E79F-5837-4CD1-82A6-0214D9AA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0C93-C9B1-4F8D-80DC-AAA84A1E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15B3-4E1F-4724-9FF2-EDF406CE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E96E-3E46-4255-A5C1-D585B3FB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0917-9775-4C43-ABC1-402069A1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6292-7343-4E45-AD40-3B91B648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4FB7-DD15-417D-95BF-185F0601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FBCE-DCE9-49BD-9F8B-739E8C71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9960-A628-4003-9B4E-E2DBD906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B659-9214-43DF-B38B-DAE7840E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DAD-558E-4AC2-B9E2-B1E893DA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B17F-403D-4396-87E2-4F5EBE78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BD21-AD5B-415B-815E-DA137983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7705-04BE-4770-AC2D-B7989020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4850-9930-4DEC-9109-5F97605B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0BC1-2D62-426B-8BCE-4A1F8385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2D518-1266-4608-8133-9BB72215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70804-ADED-4644-9463-D33EF5F4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9EB3A-063A-42ED-BFC5-40CF1EA7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72AB3-0CB1-4572-9B16-98DE7BB4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F4F86-8F6C-42DE-8039-CB20C214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D2DD-422A-4D01-9700-23832A4A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B35CA-A819-4053-8D92-95D77227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986E5-3A0E-4628-9DB1-0AB5DC48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F2C4B-3331-4C96-B5EF-825BC707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11F23-890E-44B2-9A41-8A15490A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4F4F6-07B1-43B5-B2E2-5D92896E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9B8D0-62D5-4623-84E4-78FCD193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2C490-E9F9-48EC-8D29-768EE19B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10005-0981-45A1-9CBC-0CE0FFBF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2D55B-57CA-450A-9FB1-27D80A6A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2A591-04EB-4FE9-A760-9C1317A6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B1C0-5C8C-43E3-8322-DB586580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CE946-7092-4E1F-8B44-366F1A6B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BA43D-A403-4D56-AF63-D73E9793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D6F7A-550E-4B87-8E9C-F49D9DA5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71411-2F65-4888-BDC8-ECD99630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46B06-33F4-44AF-8121-D92CAF3E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5CFDB-42A4-4CD2-AEB5-D3426ED3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2882A-399E-439F-8F6D-8AA9FF79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DA080-43A2-496E-A1D0-81C05644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E9B61-02B3-40B7-B425-F5FDD2B2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806DD-078F-4606-A223-046204E5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1814-99ED-4923-A87F-114D340A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C9082-66E3-4F7E-A509-1C20B696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0E7EB-32E5-45FD-9A07-B2869F00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FF85B-AECA-4BB3-83C9-0A70AA99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F8FBE-B167-43BC-AB1B-A023C23B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36879-1E78-4397-BD9F-1D4F01BD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6A713-F7A2-456A-9597-793C4318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372A9-D8B1-431B-BD1B-43CA0B40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26505-E27B-4672-A365-5B0B5FB3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8ADA4-37F9-410B-ADEB-621E0318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779C1-6BF7-44A7-A402-98F56788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544A-1DA9-41A9-8409-A353E4AA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12801-4D2F-4886-A248-44070A7F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770AD-4388-476B-A973-E40059DF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C3B1A-BFEA-42DA-8A3E-AE6C5C82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A4519-A35C-4E9E-AF80-83E36ABE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A444F-2A4E-4837-BA29-BF56529D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4983A-602D-4118-96B7-17137048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E32A0-7E43-40CC-AAD5-3BEF5EF0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AF172-EF0A-4D62-B825-D4E104D2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0208D-D91E-4F6A-90F2-DB504C25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F2006-097C-4BBE-9307-9B174BED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0956-3768-4462-A960-00174F55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98178-4185-4B90-A511-DED701D7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BF8AB-ADB5-40A5-9397-FEFC4E5E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CF0E9-F5D9-4EB1-9B90-7D86CAFB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CBD80-4394-4C8F-935A-D5E5BF75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BEC79-24EC-4412-B487-B3071FEF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6C8E3-CB66-4478-8944-599F3B23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59DAF-39C9-4303-AAB4-1AA6E9C1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84DF0-5CD8-4BAC-BFBF-66A069F9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8DF17-D74D-4F23-825D-BE43F867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EB03D-DFAD-459E-872C-B4AB1D67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E439-532A-43F1-8789-57F0E702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7C8E8-47CE-46A5-A514-E51BF554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23872-F9C7-4E2D-902B-F840843B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A71AC-F775-4881-8176-29B4E316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DAAED-3C17-404D-8266-0AEAE6A4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71449-67D6-40D9-920C-66D7B63B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26C0C-6983-469D-8692-27D9F45C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E2730-0920-4F7E-8ECD-B7E8ECE2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0F306-0971-4252-838A-094545C3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4846B-D1B7-4635-BE0E-E002BF52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53F03-3DC4-4E52-B866-B86CCF8B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830A-3337-451E-A4FA-EA787A42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53AD9-2D00-4109-A7F7-8164B1EF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6DEBF-8195-46AA-92FF-D2D89AEA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CF42F-2AB2-417E-ADAA-F3082C35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30C1B-BB13-4BF9-8C28-BC079EA3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66001-EE7F-4823-8FE5-39936CD0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5DB8C-7B82-4A70-B1E1-BDE7F019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EA091-1930-492C-82E1-0D4FB0D6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orme libre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9E9F-E446-4F79-B44C-B12ADB1123C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A73B-9CFF-4798-BCD1-963F20B674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angle rect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e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e libre 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orme libre 7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orme libre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e libr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Connecteur droit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626B-4C45-4875-A2A1-FD4273D82315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9C0C-5BD6-43F9-B195-9C4756ADB1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e libre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orme libre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4B82-1AF5-46AE-8EA5-067660D9DF8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0727-787E-4276-B9B6-F68CD1B014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e libre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orme libre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03BE-1303-4A78-B725-14CFF85567C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D69F-A4CA-43D4-8615-9A4778355F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FF50-7217-4B02-939B-05160A38BEA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A5CC-C541-49E9-9304-D4A7FC1938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e libre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orme libre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05A5-E55D-42A2-8E1E-8DF1723B2F5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9929-5513-4050-93C6-B358AC4275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59F2-8FDF-4129-BD19-62ACE1E50FA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EA10-E564-4836-BC6B-322C2DDBD5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e libre 7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orme libre 8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Triangle rect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angle rect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Connecteur droit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A287-24BB-4E53-98EE-35C4B2ABB363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A4CF-2DD8-4668-89C6-85BC42F02B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r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faecd"/>
                </a:solidFill>
                <a:latin typeface="Lucida Sans Unicode"/>
              </a:rPr>
              <a:t>Pharmacies de PAR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468360" y="476280"/>
            <a:ext cx="457200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05766"/>
                </a:solidFill>
                <a:latin typeface="Lucida Sans Unicode"/>
              </a:rPr>
              <a:t>«Je jure, en présence des maîtres de la faculté, d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05766"/>
                </a:solidFill>
                <a:latin typeface="Lucida Sans Unicode"/>
              </a:rPr>
              <a:t>conseillers de l’ordre des pharmaciens et de m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05766"/>
                </a:solidFill>
                <a:latin typeface="Lucida Sans Unicode"/>
              </a:rPr>
              <a:t>condisciples…de ne jamais oublier ma responsabilité et mes devoir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05766"/>
                </a:solidFill>
                <a:latin typeface="Lucida Sans Unicode"/>
              </a:rPr>
              <a:t>envers le malade et sa dignité humaine.»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faecd"/>
                </a:solidFill>
                <a:latin typeface="Lucida Sans Unicode"/>
              </a:rPr>
              <a:t>-Extrait du Serment de Galien-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5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6836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Répartition des officines dans les secteurs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Homogénéité des tours de garde entre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les pharmacies du secteu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Couverture cohérente sur l’ensemble de Pari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Un atout Santé pour Pari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65160"/>
                </a:solidFill>
                <a:latin typeface="Lucida Sans Unicode"/>
              </a:rPr>
              <a:t>En application du CODE de la SANTE PUBLIQUE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65160"/>
                </a:solidFill>
                <a:latin typeface="Lucida Sans Unicode"/>
              </a:rPr>
              <a:t>et du CODE DU TRAVAIL, un système de garde pour en finir avec un système anarchique où chacun ouvrait quand il voulait…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6"/>
          <p:cNvSpPr/>
          <p:nvPr/>
        </p:nvSpPr>
        <p:spPr>
          <a:xfrm>
            <a:off x="0" y="339120"/>
            <a:ext cx="914400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5766"/>
                </a:solidFill>
                <a:latin typeface="Arial"/>
                <a:ea typeface="Arial Unicode MS"/>
              </a:rPr>
              <a:t>10 pharmacies de garde d’urgence seront en service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5766"/>
                </a:solidFill>
                <a:latin typeface="Arial"/>
                <a:ea typeface="Arial Unicode MS"/>
              </a:rPr>
              <a:t>depuis1</a:t>
            </a:r>
            <a:r>
              <a:rPr b="1" lang="en-US" sz="1400" spc="-1" strike="noStrike" baseline="30000">
                <a:solidFill>
                  <a:srgbClr val="105766"/>
                </a:solidFill>
                <a:latin typeface="Arial"/>
                <a:ea typeface="Arial Unicode MS"/>
              </a:rPr>
              <a:t>er</a:t>
            </a:r>
            <a:r>
              <a:rPr b="1" lang="en-US" sz="1400" spc="-1" strike="noStrike">
                <a:solidFill>
                  <a:srgbClr val="105766"/>
                </a:solidFill>
                <a:latin typeface="Arial"/>
                <a:ea typeface="Arial Unicode MS"/>
              </a:rPr>
              <a:t> octobre 2011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5766"/>
                </a:solidFill>
                <a:latin typeface="Arial"/>
                <a:ea typeface="Arial Unicode MS"/>
              </a:rPr>
              <a:t>pour répondre da façon optimale aux soins d’urgence sur Paris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0" y="1671840"/>
            <a:ext cx="9144000" cy="17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Titre 3"/>
          <p:cNvSpPr/>
          <p:nvPr/>
        </p:nvSpPr>
        <p:spPr>
          <a:xfrm>
            <a:off x="250920" y="162864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Les pharmacies assurant le service de nuit, de 21H à 8H du matin sont en accès libre,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 u="sng">
                <a:solidFill>
                  <a:srgbClr val="464646"/>
                </a:solidFill>
                <a:uFillTx/>
                <a:latin typeface="Lucida Sans Unicode"/>
              </a:rPr>
              <a:t>sans passage par le commissariat d’arrondissement.</a:t>
            </a: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  Ces pharmacies ont la possibilité d’effectuer leur garde à volets ouverts ou volets fermés. Dans ce dernier cas, le pharmacien mentionne son numéro de téléphone sur son officine pour répondre à toute urgence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Quelle que soit la solution choisie, ces pharmacies sont </a:t>
            </a:r>
            <a:r>
              <a:rPr b="1" lang="fr-FR" sz="1400" spc="-1" strike="noStrike" u="sng">
                <a:solidFill>
                  <a:srgbClr val="464646"/>
                </a:solidFill>
                <a:uFillTx/>
                <a:latin typeface="Lucida Sans Unicode"/>
              </a:rPr>
              <a:t>clairement identifiables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(croix allumée, éclairage extérieur, …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da1f28"/>
                </a:solidFill>
                <a:latin typeface="Lucida Sans Unicode"/>
              </a:rPr>
              <a:t>Pour les patients un accès simple à l’information concernant les pharmacies de gardes :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Affichage sur les vitrines de toutes les pharmacies de Pari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Resogarde : 3237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Application smartphone : Mon Pharmacie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3"/>
          <p:cNvSpPr/>
          <p:nvPr/>
        </p:nvSpPr>
        <p:spPr>
          <a:xfrm>
            <a:off x="468360" y="692280"/>
            <a:ext cx="835164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« Les syndicats se sont engagés à maintenir la permanence d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'accès aux soins su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'ensemble du territoire de santé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n  assurant  ce service,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es pharmaciens parisiens , professionnels de la  Santé,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ont  tenu à réaffirmer leur implication  pleine  et entièr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ans la chaîne de Santé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re 1" descr=""/>
          <p:cNvPicPr/>
          <p:nvPr/>
        </p:nvPicPr>
        <p:blipFill>
          <a:blip r:embed="rId1"/>
          <a:stretch/>
        </p:blipFill>
        <p:spPr>
          <a:xfrm>
            <a:off x="208080" y="755640"/>
            <a:ext cx="8497800" cy="11588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914400" y="177300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ada47"/>
                </a:solidFill>
                <a:latin typeface="Lucida Sans Unicode"/>
              </a:rPr>
              <a:t>1001 pharmacies 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ada47"/>
                </a:solidFill>
                <a:latin typeface="Lucida Sans Unicode"/>
              </a:rPr>
              <a:t>à votre service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re 1" descr=""/>
          <p:cNvPicPr/>
          <p:nvPr/>
        </p:nvPicPr>
        <p:blipFill>
          <a:blip r:embed="rId2"/>
          <a:stretch/>
        </p:blipFill>
        <p:spPr>
          <a:xfrm>
            <a:off x="390600" y="4718160"/>
            <a:ext cx="8240760" cy="1158840"/>
          </a:xfrm>
          <a:prstGeom prst="rect">
            <a:avLst/>
          </a:prstGeom>
          <a:ln w="0">
            <a:noFill/>
          </a:ln>
        </p:spPr>
      </p:pic>
      <p:pic>
        <p:nvPicPr>
          <p:cNvPr id="383" name="Image 4" descr="pharm.jpg"/>
          <p:cNvPicPr/>
          <p:nvPr/>
        </p:nvPicPr>
        <p:blipFill>
          <a:blip r:embed="rId3"/>
          <a:stretch/>
        </p:blipFill>
        <p:spPr>
          <a:xfrm>
            <a:off x="250920" y="2492280"/>
            <a:ext cx="1584360" cy="2051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re 1" descr=""/>
          <p:cNvPicPr/>
          <p:nvPr/>
        </p:nvPicPr>
        <p:blipFill>
          <a:blip r:embed="rId1"/>
          <a:stretch/>
        </p:blipFill>
        <p:spPr>
          <a:xfrm>
            <a:off x="463680" y="542880"/>
            <a:ext cx="8242200" cy="1157400"/>
          </a:xfrm>
          <a:prstGeom prst="rect">
            <a:avLst/>
          </a:prstGeom>
          <a:ln w="0">
            <a:noFill/>
          </a:ln>
        </p:spPr>
      </p:pic>
      <p:sp>
        <p:nvSpPr>
          <p:cNvPr id="386" name="Sous-titre 2"/>
          <p:cNvSpPr/>
          <p:nvPr/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ada47"/>
                </a:solidFill>
                <a:latin typeface="Lucida Sans Unicode"/>
              </a:rPr>
              <a:t>10 Pharmacies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re 1" descr=""/>
          <p:cNvPicPr/>
          <p:nvPr/>
        </p:nvPicPr>
        <p:blipFill>
          <a:blip r:embed="rId2"/>
          <a:stretch/>
        </p:blipFill>
        <p:spPr>
          <a:xfrm>
            <a:off x="463680" y="3713040"/>
            <a:ext cx="8242200" cy="1150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Espace réservé du contenu 7" descr="paris cycle 1.jpg"/>
          <p:cNvPicPr/>
          <p:nvPr/>
        </p:nvPicPr>
        <p:blipFill>
          <a:blip r:embed="rId2"/>
          <a:stretch/>
        </p:blipFill>
        <p:spPr>
          <a:xfrm>
            <a:off x="3132000" y="2637000"/>
            <a:ext cx="3187800" cy="25524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610920" y="1341000"/>
            <a:ext cx="784836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766"/>
                </a:solidFill>
                <a:latin typeface="Lucida Sans Unicode"/>
              </a:rPr>
              <a:t>De 21 H à 8 H du mati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0" name="Titr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5"/>
          <p:cNvSpPr/>
          <p:nvPr/>
        </p:nvSpPr>
        <p:spPr>
          <a:xfrm>
            <a:off x="2017080" y="5589720"/>
            <a:ext cx="55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lternance dans chaque secteu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Espace réservé du contenu 7" descr="paris cycle 2.jpg"/>
          <p:cNvPicPr/>
          <p:nvPr/>
        </p:nvPicPr>
        <p:blipFill>
          <a:blip r:embed="rId2"/>
          <a:stretch/>
        </p:blipFill>
        <p:spPr>
          <a:xfrm>
            <a:off x="3132000" y="2565360"/>
            <a:ext cx="3187800" cy="25527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684360" y="1268280"/>
            <a:ext cx="77040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766"/>
                </a:solidFill>
                <a:latin typeface="Lucida Sans Unicode"/>
              </a:rPr>
              <a:t>De 21 H à 8 H du mati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4" name="Titr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5"/>
          <p:cNvSpPr/>
          <p:nvPr/>
        </p:nvSpPr>
        <p:spPr>
          <a:xfrm>
            <a:off x="1476360" y="551664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épartition homogè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Espace réservé du contenu 10" descr="paris cycle3.jpg"/>
          <p:cNvPicPr/>
          <p:nvPr/>
        </p:nvPicPr>
        <p:blipFill>
          <a:blip r:embed="rId2"/>
          <a:stretch/>
        </p:blipFill>
        <p:spPr>
          <a:xfrm>
            <a:off x="2987640" y="2565360"/>
            <a:ext cx="3187800" cy="25527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755640" y="1341000"/>
            <a:ext cx="756144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766"/>
                </a:solidFill>
                <a:latin typeface="Lucida Sans Unicode"/>
              </a:rPr>
              <a:t>De 21 H à 8 H du mati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8" name="Titr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5"/>
          <p:cNvSpPr/>
          <p:nvPr/>
        </p:nvSpPr>
        <p:spPr>
          <a:xfrm>
            <a:off x="1872720" y="5516640"/>
            <a:ext cx="55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lternance dans chaque secteu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Espace réservé du contenu 5" descr="paris cycle 4.jpg"/>
          <p:cNvPicPr/>
          <p:nvPr/>
        </p:nvPicPr>
        <p:blipFill>
          <a:blip r:embed="rId2"/>
          <a:stretch/>
        </p:blipFill>
        <p:spPr>
          <a:xfrm>
            <a:off x="3059280" y="2276640"/>
            <a:ext cx="3187440" cy="25524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684360" y="141300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766"/>
                </a:solidFill>
                <a:latin typeface="Lucida Sans Unicode"/>
              </a:rPr>
              <a:t>De 21 H à 8 H du mati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2" name="Titr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6"/>
          <p:cNvSpPr/>
          <p:nvPr/>
        </p:nvSpPr>
        <p:spPr>
          <a:xfrm>
            <a:off x="1856880" y="5373720"/>
            <a:ext cx="55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ous les secteurs sont desservi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re 1" descr=""/>
          <p:cNvPicPr/>
          <p:nvPr/>
        </p:nvPicPr>
        <p:blipFill>
          <a:blip r:embed="rId1"/>
          <a:stretch/>
        </p:blipFill>
        <p:spPr>
          <a:xfrm>
            <a:off x="-23760" y="396720"/>
            <a:ext cx="9186840" cy="18464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ada47"/>
                </a:solidFill>
                <a:latin typeface="Lucida Sans Unicode"/>
              </a:rPr>
              <a:t>100 Pharmacies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Sous-titre 2"/>
          <p:cNvSpPr/>
          <p:nvPr/>
        </p:nvSpPr>
        <p:spPr>
          <a:xfrm>
            <a:off x="1403280" y="4076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65160"/>
                </a:solidFill>
                <a:latin typeface="Lucida Sans Unicode"/>
              </a:rPr>
              <a:t>De 8H00 à 21H00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Image 4" descr="Pharmacies_garde.jpg"/>
          <p:cNvPicPr/>
          <p:nvPr/>
        </p:nvPicPr>
        <p:blipFill>
          <a:blip r:embed="rId2"/>
          <a:stretch/>
        </p:blipFill>
        <p:spPr>
          <a:xfrm>
            <a:off x="3692520" y="5300640"/>
            <a:ext cx="1890720" cy="1052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re 1" descr=""/>
          <p:cNvPicPr/>
          <p:nvPr/>
        </p:nvPicPr>
        <p:blipFill>
          <a:blip r:embed="rId1"/>
          <a:stretch/>
        </p:blipFill>
        <p:spPr>
          <a:xfrm>
            <a:off x="225360" y="79200"/>
            <a:ext cx="8467920" cy="779760"/>
          </a:xfrm>
          <a:prstGeom prst="rect">
            <a:avLst/>
          </a:prstGeom>
          <a:ln w="0">
            <a:noFill/>
          </a:ln>
        </p:spPr>
      </p:pic>
      <p:pic>
        <p:nvPicPr>
          <p:cNvPr id="409" name="Espace réservé du contenu 3" descr="paris djf.jpg"/>
          <p:cNvPicPr/>
          <p:nvPr/>
        </p:nvPicPr>
        <p:blipFill>
          <a:blip r:embed="rId2"/>
          <a:stretch/>
        </p:blipFill>
        <p:spPr>
          <a:xfrm>
            <a:off x="2411280" y="1052640"/>
            <a:ext cx="4294440" cy="3435120"/>
          </a:xfrm>
          <a:prstGeom prst="rect">
            <a:avLst/>
          </a:prstGeom>
          <a:ln w="0">
            <a:noFill/>
          </a:ln>
        </p:spPr>
      </p:pic>
      <p:sp>
        <p:nvSpPr>
          <p:cNvPr id="410" name="Espace réservé du pied de page 8"/>
          <p:cNvSpPr/>
          <p:nvPr/>
        </p:nvSpPr>
        <p:spPr>
          <a:xfrm>
            <a:off x="62485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ZoneTexte 6"/>
          <p:cNvSpPr/>
          <p:nvPr/>
        </p:nvSpPr>
        <p:spPr>
          <a:xfrm>
            <a:off x="1979640" y="5300640"/>
            <a:ext cx="54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E PHARMACIE POU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7 000 PARISIEN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ZoneTexte 7"/>
          <p:cNvSpPr/>
          <p:nvPr/>
        </p:nvSpPr>
        <p:spPr>
          <a:xfrm>
            <a:off x="1835280" y="4653000"/>
            <a:ext cx="54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E PHARMACIE POU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5 000 RESIDENTS  AU NIVEAU  NATIONA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ZoneTexte 10"/>
          <p:cNvSpPr/>
          <p:nvPr/>
        </p:nvSpPr>
        <p:spPr>
          <a:xfrm>
            <a:off x="468360" y="59500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E REPARTITION HOMOGENE SUR TOUS LES SECTEUR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 PARIS, ASSUREE PAR  DES  PHARMACIENS  VOLONTAIR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8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7:27:35Z</dcterms:created>
  <dc:creator>ivaldi</dc:creator>
  <dc:description/>
  <dc:language>en-US</dc:language>
  <cp:lastModifiedBy>p3</cp:lastModifiedBy>
  <dcterms:modified xsi:type="dcterms:W3CDTF">2013-05-17T17:41:19Z</dcterms:modified>
  <cp:revision>75</cp:revision>
  <dc:subject/>
  <dc:title>GARDES D’URGENCE</dc:title>
</cp:coreProperties>
</file>