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9.jpeg" ContentType="image/jpeg"/>
  <Override PartName="/ppt/media/image9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6.jpeg" ContentType="image/jpeg"/>
  <Override PartName="/ppt/media/image10.jpeg" ContentType="image/jpeg"/>
  <Override PartName="/ppt/media/image5.jpeg" ContentType="image/jpeg"/>
  <Override PartName="/ppt/media/image24.jpeg" ContentType="image/jpeg"/>
  <Override PartName="/ppt/media/image21.png" ContentType="image/png"/>
  <Override PartName="/ppt/media/image4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2.png" ContentType="image/png"/>
  <Override PartName="/ppt/media/image13.jpeg" ContentType="image/jpeg"/>
  <Override PartName="/ppt/media/image23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move the slide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D5EB-AA2F-4A88-B9D4-831880ADF705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1F1DB-7185-444E-A833-B949ED97BB56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7E04E-574D-4D13-B946-1EA5B497BC3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FF23-947B-4C6F-B84F-2C7E0169CF3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CA9C-BAF3-4110-86CA-E09DC008AA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9FF76-B977-4B06-B5C7-33372554334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31F46-CC9B-47B7-88C1-E9330BB920B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E741D-DA2B-4AD2-8F8C-6061B4A42CA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9DF51-DC0D-45C5-A1A5-9E666B77C77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D463A-246B-4342-9538-FE51F84F8D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F1436-5CB1-4DE4-BBA8-76E75BF0FAE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72899-57FB-40D0-9E5E-876C32CF24D8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E240-2CD8-475C-A3D3-A4244FF03DF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AA3E-A7C2-44EB-8F50-7B3A114C9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5D85B-F171-43F4-8415-18404F347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12F10-3761-4D94-97E7-73F3CC77B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B87D-7980-4971-BA62-643C2FC82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2E653-2648-4EA4-B73A-59AB7D2E6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CDE49-32DD-4705-A053-9F334A6B6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86AA8-DD5F-4985-A491-8174CA85B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EE9C-540A-4DC7-80F3-5479AE6E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9FC86-86D2-4173-A3ED-A004D040B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B5A8-9F97-4D44-BF54-82921ADFA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3C75B-51BA-4B82-9E2B-194DEDE52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50FE-E5EF-42CF-A23A-8062188E8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A7C65-A221-49F6-9F1D-6010E6DD3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ED0FF-21D2-42B1-ACC6-81E6972D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B1E46-2F31-42CF-BACE-802F1BF4A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7621E-370F-432F-AFDC-34E2AA2F2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B54AE-373F-43BA-B996-4EC7974A1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5C411-006B-410E-8869-9D1863167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F11EE-0EA3-4C45-AFEA-433455253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AB78C-3783-4C0A-9766-FDBABAC7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BB4931-49B8-467F-99C0-9CA75F17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D6D705-4DE2-461F-9F09-9E0F19C70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5F77-EFFD-44F1-B5CD-F84AC7AD5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E2F703-E22E-4C73-B4E2-0D25ACBD8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1E7FA3-316B-480B-B16E-4B27C27F2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600167-8629-4D3B-B5F5-D9D5AE177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E127F4-4015-4FCE-9592-87C4D90FE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44486E-181A-4E55-B00D-9F8AF218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8C1D9-106F-4041-96E0-B6EA31BCE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FE5BAD-99E8-4222-8FDD-3A86BC347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686DC-1B70-43BD-9681-A7700F0D7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A064D-C811-44B8-BA0D-0E3CB834D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A052BD-78AD-4154-98EA-D1523721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729CC-18DA-4593-AD82-82EE3C04D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8C9FC-8576-4E2B-AEEF-14CC786D2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A50A40-B97B-4011-B1EA-832866ABC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784C17-418B-468F-9370-A1B8FD1A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D92433-F7A5-4CF8-B653-B35FDD3D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EE83B-EF47-47BB-A7B5-C45D081B3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BEF32-45C8-4344-964F-700C85291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F6A16-ECD0-4FF1-8FFA-129ACD0E1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EEF78-478F-4F44-9A32-2552975C8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08113-F66A-493E-8398-D9B0A1CC9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7CE2BF-286B-4825-A6C3-55D06811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0D97-3762-4AD3-B567-C6B2F8CA0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3A6F9-14E3-43C1-A083-C3777074C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8FB9C-EE65-4040-B21A-6975A83B7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91556-3B68-44A8-877A-95937163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2B2737-F69A-4840-AA47-A17BFFB40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57B21-31B5-487F-B5D4-DCA58FAD4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4F4365-7E49-4BC5-B06E-9A8AFFB27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98F6BD-DEFD-42F5-8BC1-E1AEB03D0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2493D7-67D9-4C2D-AA17-D2C5C4C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CB763C-08EB-4B29-95E7-25DE2069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82CE9-7849-4230-8B95-89443FEBA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17D2-F677-4C71-B3F7-6F8B2AE99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56966-55C1-4EDB-8BA7-708B4B10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200F71-13CE-457B-A861-70B9DA7E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02D63-59BD-4B58-B47A-901ECC3DE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457248-D9FE-412A-8C16-85DA3E81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CE7019-C499-4EA0-81E8-C5645BF9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AF05A-7A50-41A9-A614-95FD52F62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E0F61-6870-43CB-9BD1-9A995C9D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5AA5D6-D6F3-433A-AD9B-91641477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320965-1B5A-41E3-9DF0-82B459E03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1676F3-7D9C-4743-BCA1-E2AB41A9A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F58E-C19C-4E50-981C-4A1EBB78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093B51-BE5A-4990-B5C5-6A6A3915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861FFE-C508-404A-BFEB-026935B6E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2916F4-06BE-4D23-B1EA-979CC6F87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55DE2-1A01-4D3A-B423-3C51049A3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A30F51-6430-4935-BA50-0BC400013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4F982-3557-4EDF-A0D9-1A3806BD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05176C-0A16-48B9-BA24-820591809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09981-0502-4DBB-BDC0-D518150FF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965E56-D401-44EB-937B-A835ABED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14B226-D980-4B7C-88C3-54A0023DF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242C-AF52-4C83-8B89-9F875A524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AD29A-C91F-4E0A-951A-7DF036579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CA08BE-4F39-40C2-8CA0-03B12DD14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626BC0-F743-45A1-8A1F-E0D2FD518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2F6799-4679-42F8-A1F7-EEDB27756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29E32-B85F-4075-941A-BCD7EA073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3CC95D-9665-4B07-A706-D003409F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7587B4-2B14-4C13-B293-88FBE6195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9BAE78-87FE-4521-ABC7-D23B1F8AA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03F25-865E-4826-9BBD-6FA8E6E62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907834-5A7E-4E07-851B-D91515F0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DB79-2DBC-4B74-B4E8-66B195D1E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D67DDC-3AC3-4C74-A6B8-F373C67CE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51E89-2B0A-4249-9B6B-239D4F4CB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984B4D-FA43-4D51-B31E-8EE744063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D201CD-96C5-4243-B9C0-A59E9EE6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7488AC-7C8B-47A9-961D-D20AF34C3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C2F47-D87D-40AC-BCED-A2A4ECCCF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4F921-94AD-4531-9B41-4EB654E41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Triangle rect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Connecteur droit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70CDA-5DBA-4721-8B1B-5AEF7FF5BDE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5788-189C-4729-ADAF-82C6FB311D4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riangle rectangle 9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e 1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orme libre 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orme libre 7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orme libre 10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orme libre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Connecteur droit 11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F144-91D0-4CAA-8EE4-E483CBDEE156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AB3AD-38AA-46C5-8094-D599514F7FC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Chevron 6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3" name="Chevron 7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D632B-D4EA-4144-BB9E-D6DAAE30872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82A5B-77F3-43BE-9F4F-A9814CDCFE9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6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7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8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50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E7D37-8496-4BB0-B11F-8E4B8EA2CF65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55E66-01ED-4D4B-8205-B5F29013026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02F92-7F07-4DAD-AE70-A28EBCB01BB1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4D0FC-D69B-42B8-834E-D8F2C7F5383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orme libre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Forme libre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35" name="Triangle rect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36" name="Triangle rect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38" name="Connecteur droit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95AE-27B7-45EE-B9FE-D7C7352DEAEF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0F3BF-B218-461C-A8C0-94AB6C07226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D8558-F805-40A5-8F93-B28FDF6FE68E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3452-E12B-4BFF-96A0-0D41F665B1E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Forme libre 7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Forme libre 8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3" name="Triangle rectangle 9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24" name="Triangle rectangle 9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26" name="Connecteur droit 10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27" name="Chevron 11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Chevron 12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8ED75-4BE4-4A40-AAD3-0D8CDAE73779}" type="datetime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UNPF - CSPP 75- US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83C7-04B6-421B-8041-93AF70175F4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re 1" descr=""/>
          <p:cNvPicPr/>
          <p:nvPr/>
        </p:nvPicPr>
        <p:blipFill>
          <a:blip r:embed="rId1"/>
          <a:stretch/>
        </p:blipFill>
        <p:spPr>
          <a:xfrm>
            <a:off x="682560" y="1749600"/>
            <a:ext cx="8089920" cy="184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685800" y="3611520"/>
            <a:ext cx="7772400" cy="1200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1faecd"/>
                </a:solidFill>
                <a:latin typeface="Lucida Sans Unicode"/>
              </a:rPr>
              <a:t>Pharmacies de PARI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9" name="Rectangle 6"/>
          <p:cNvSpPr/>
          <p:nvPr/>
        </p:nvSpPr>
        <p:spPr>
          <a:xfrm>
            <a:off x="468360" y="476280"/>
            <a:ext cx="4572000" cy="13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«Je jure, en présence des maîtres de la faculté, d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seillers de l’ordre des pharmaciens et de me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condisciples…de ne jamais oublier ma responsabilité et mes devoir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105766"/>
                </a:solidFill>
                <a:latin typeface="Lucida Sans Unicode"/>
              </a:rPr>
              <a:t>envers le malade et sa dignité humaine.»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1faecd"/>
                </a:solidFill>
                <a:latin typeface="Lucida Sans Unicode"/>
              </a:rPr>
              <a:t>-Extrait du Serment de Galien-</a:t>
            </a: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5000">
    <p:plus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468360" y="476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Répartition des officines dans les secteurs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Homogénéité des tours de garde entr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les pharmacies du secteur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Couverture cohérente sur l’ensemble de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105766"/>
                </a:solidFill>
                <a:latin typeface="Lucida Sans Unicode"/>
              </a:rPr>
              <a:t>Un atout Santé pour Paris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n application du CODE de la SANTE PUBLIQUE 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165160"/>
                </a:solidFill>
                <a:latin typeface="Lucida Sans Unicode"/>
              </a:rPr>
              <a:t>et du CODE DU TRAVAIL, un système de garde pour en finir avec un système anarchique où chacun ouvrait quand il voulait…</a:t>
            </a:r>
            <a:endParaRPr b="0" lang="en-US" sz="25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6"/>
          <p:cNvSpPr/>
          <p:nvPr/>
        </p:nvSpPr>
        <p:spPr>
          <a:xfrm>
            <a:off x="0" y="339120"/>
            <a:ext cx="914400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10 pharmacies de garde d’urgence seront en service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depuis1</a:t>
            </a:r>
            <a:r>
              <a:rPr b="1" lang="en-US" sz="1400" spc="-1" strike="noStrike" baseline="30000">
                <a:solidFill>
                  <a:srgbClr val="105766"/>
                </a:solidFill>
                <a:latin typeface="Arial"/>
                <a:ea typeface="Arial Unicode MS"/>
              </a:rPr>
              <a:t>er</a:t>
            </a: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 octobre 2011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05766"/>
                </a:solidFill>
                <a:latin typeface="Arial"/>
                <a:ea typeface="Arial Unicode MS"/>
              </a:rPr>
              <a:t>pour répondre da façon optimale aux soins d’urgence sur Paris.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Rectangle 6"/>
          <p:cNvSpPr/>
          <p:nvPr/>
        </p:nvSpPr>
        <p:spPr>
          <a:xfrm>
            <a:off x="0" y="1671840"/>
            <a:ext cx="9144000" cy="17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7" name="Titre 3"/>
          <p:cNvSpPr/>
          <p:nvPr/>
        </p:nvSpPr>
        <p:spPr>
          <a:xfrm>
            <a:off x="250920" y="1628640"/>
            <a:ext cx="82296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Les pharmacies assurant le service de nuit, de 21H à 8H du matin sont en accès libre,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sans passage par le commissariat d’arrondissement.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 Ces pharmacies ont la possibilité d’effectuer leur garde à volets ouverts ou volets fermés. Dans ce dernier cas, le pharmacien mentionne son numéro de téléphone sur son officine pour répondre à toute urgence.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Quelle que soit la solution choisie, ces pharmacies sont </a:t>
            </a:r>
            <a:r>
              <a:rPr b="1" lang="fr-FR" sz="1400" spc="-1" strike="noStrike" u="sng">
                <a:solidFill>
                  <a:srgbClr val="464646"/>
                </a:solidFill>
                <a:uFillTx/>
                <a:latin typeface="Lucida Sans Unicode"/>
              </a:rPr>
              <a:t>clairement identifiables 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(croix allumée, éclairage extérieur, …)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da1f28"/>
                </a:solidFill>
                <a:latin typeface="Lucida Sans Unicode"/>
              </a:rPr>
              <a:t>Pour les patients un accès simple à l’information concernant les pharmacies de gardes :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ffichage sur les vitrines de toutes les pharmacies de Paris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 </a:t>
            </a: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Resogarde : 3237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buClr>
                <a:srgbClr val="464646"/>
              </a:buClr>
              <a:buFont typeface="Lucida Sans Unico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464646"/>
                </a:solidFill>
                <a:latin typeface="Lucida Sans Unicode"/>
              </a:rPr>
              <a:t>Application smartphone : Mon Pharmacien</a:t>
            </a: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Rectangle 3"/>
          <p:cNvSpPr/>
          <p:nvPr/>
        </p:nvSpPr>
        <p:spPr>
          <a:xfrm>
            <a:off x="468360" y="692280"/>
            <a:ext cx="8351640" cy="31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« Les syndicats se sont engagés à maintenir la permanence d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accès aux soins sur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'ensemble du territoire de santé.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n  assurant  ce service,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les pharmaciens parisiens , professionnels de la  Santé, 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ont  tenu à réaffirmer leur implication  pleine  et entière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dans la chaîne de Santé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re 1" descr=""/>
          <p:cNvPicPr/>
          <p:nvPr/>
        </p:nvPicPr>
        <p:blipFill>
          <a:blip r:embed="rId1"/>
          <a:stretch/>
        </p:blipFill>
        <p:spPr>
          <a:xfrm>
            <a:off x="208080" y="755640"/>
            <a:ext cx="8497800" cy="115884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914400" y="177300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1001 pharmacies 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2ada47"/>
                </a:solidFill>
                <a:latin typeface="Lucida Sans Unicode"/>
              </a:rPr>
              <a:t>à votre service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2" name="Titre 1" descr=""/>
          <p:cNvPicPr/>
          <p:nvPr/>
        </p:nvPicPr>
        <p:blipFill>
          <a:blip r:embed="rId2"/>
          <a:stretch/>
        </p:blipFill>
        <p:spPr>
          <a:xfrm>
            <a:off x="390600" y="4718160"/>
            <a:ext cx="8240760" cy="1158840"/>
          </a:xfrm>
          <a:prstGeom prst="rect">
            <a:avLst/>
          </a:prstGeom>
          <a:ln w="0">
            <a:noFill/>
          </a:ln>
        </p:spPr>
      </p:pic>
      <p:pic>
        <p:nvPicPr>
          <p:cNvPr id="383" name="Image 4" descr="pharm.jpg"/>
          <p:cNvPicPr/>
          <p:nvPr/>
        </p:nvPicPr>
        <p:blipFill>
          <a:blip r:embed="rId3"/>
          <a:stretch/>
        </p:blipFill>
        <p:spPr>
          <a:xfrm>
            <a:off x="250920" y="2492280"/>
            <a:ext cx="1584360" cy="205128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5" name="Titre 1" descr=""/>
          <p:cNvPicPr/>
          <p:nvPr/>
        </p:nvPicPr>
        <p:blipFill>
          <a:blip r:embed="rId1"/>
          <a:stretch/>
        </p:blipFill>
        <p:spPr>
          <a:xfrm>
            <a:off x="463680" y="542880"/>
            <a:ext cx="8242200" cy="1157400"/>
          </a:xfrm>
          <a:prstGeom prst="rect">
            <a:avLst/>
          </a:prstGeom>
          <a:ln w="0">
            <a:noFill/>
          </a:ln>
        </p:spPr>
      </p:pic>
      <p:sp>
        <p:nvSpPr>
          <p:cNvPr id="386" name="Sous-titre 2"/>
          <p:cNvSpPr/>
          <p:nvPr/>
        </p:nvSpPr>
        <p:spPr>
          <a:xfrm>
            <a:off x="1332000" y="227664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556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387" name="Titre 1" descr=""/>
          <p:cNvPicPr/>
          <p:nvPr/>
        </p:nvPicPr>
        <p:blipFill>
          <a:blip r:embed="rId2"/>
          <a:stretch/>
        </p:blipFill>
        <p:spPr>
          <a:xfrm>
            <a:off x="463680" y="3713040"/>
            <a:ext cx="8242200" cy="1150920"/>
          </a:xfrm>
          <a:prstGeom prst="rect">
            <a:avLst/>
          </a:prstGeom>
          <a:ln w="0">
            <a:noFill/>
          </a:ln>
        </p:spPr>
      </p:pic>
    </p:spTree>
  </p:cSld>
  <p:transition spd="med" advTm="6000">
    <p:plus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Espace réservé du contenu 7" descr="paris cycle 1.jpg"/>
          <p:cNvPicPr/>
          <p:nvPr/>
        </p:nvPicPr>
        <p:blipFill>
          <a:blip r:embed="rId2"/>
          <a:stretch/>
        </p:blipFill>
        <p:spPr>
          <a:xfrm>
            <a:off x="3132000" y="2637000"/>
            <a:ext cx="3187800" cy="25524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610920" y="1341000"/>
            <a:ext cx="784836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0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1" name="Rectangle 5"/>
          <p:cNvSpPr/>
          <p:nvPr/>
        </p:nvSpPr>
        <p:spPr>
          <a:xfrm>
            <a:off x="2017080" y="558972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Espace réservé du contenu 7" descr="paris cycle 2.jpg"/>
          <p:cNvPicPr/>
          <p:nvPr/>
        </p:nvPicPr>
        <p:blipFill>
          <a:blip r:embed="rId2"/>
          <a:stretch/>
        </p:blipFill>
        <p:spPr>
          <a:xfrm>
            <a:off x="313200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684360" y="1268280"/>
            <a:ext cx="77040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4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5" name="Rectangle 5"/>
          <p:cNvSpPr/>
          <p:nvPr/>
        </p:nvSpPr>
        <p:spPr>
          <a:xfrm>
            <a:off x="1476360" y="551664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Répartition homogène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diamond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Espace réservé du contenu 10" descr="paris cycle3.jpg"/>
          <p:cNvPicPr/>
          <p:nvPr/>
        </p:nvPicPr>
        <p:blipFill>
          <a:blip r:embed="rId2"/>
          <a:stretch/>
        </p:blipFill>
        <p:spPr>
          <a:xfrm>
            <a:off x="2987640" y="2565360"/>
            <a:ext cx="3187800" cy="255276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 txBox="1"/>
          <p:nvPr/>
        </p:nvSpPr>
        <p:spPr>
          <a:xfrm>
            <a:off x="755640" y="1341000"/>
            <a:ext cx="7561440" cy="46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398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399" name="Rectangle 5"/>
          <p:cNvSpPr/>
          <p:nvPr/>
        </p:nvSpPr>
        <p:spPr>
          <a:xfrm>
            <a:off x="1872720" y="5516640"/>
            <a:ext cx="552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Alternance dans chaque secteur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Espace réservé du contenu 5" descr="paris cycle 4.jpg"/>
          <p:cNvPicPr/>
          <p:nvPr/>
        </p:nvPicPr>
        <p:blipFill>
          <a:blip r:embed="rId2"/>
          <a:stretch/>
        </p:blipFill>
        <p:spPr>
          <a:xfrm>
            <a:off x="3059280" y="2276640"/>
            <a:ext cx="3187440" cy="25524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684360" y="141300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 algn="ctr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05766"/>
                </a:solidFill>
                <a:latin typeface="Lucida Sans Unicode"/>
              </a:rPr>
              <a:t>De 21 H à 8 H du matin</a:t>
            </a: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Lucida Sans Unicode"/>
            </a:endParaRPr>
          </a:p>
        </p:txBody>
      </p:sp>
      <p:pic>
        <p:nvPicPr>
          <p:cNvPr id="402" name="Titre 1" descr=""/>
          <p:cNvPicPr/>
          <p:nvPr/>
        </p:nvPicPr>
        <p:blipFill>
          <a:blip r:embed="rId3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  <p:sp>
        <p:nvSpPr>
          <p:cNvPr id="403" name="Rectangle 6"/>
          <p:cNvSpPr/>
          <p:nvPr/>
        </p:nvSpPr>
        <p:spPr>
          <a:xfrm>
            <a:off x="1856880" y="5373720"/>
            <a:ext cx="55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 Unicode"/>
              </a:rPr>
              <a:t>Tous les secteurs sont desservis </a:t>
            </a:r>
            <a:endParaRPr b="0" lang="en-US" sz="28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6000">
    <p:plus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Titre 1" descr=""/>
          <p:cNvPicPr/>
          <p:nvPr/>
        </p:nvPicPr>
        <p:blipFill>
          <a:blip r:embed="rId1"/>
          <a:stretch/>
        </p:blipFill>
        <p:spPr>
          <a:xfrm>
            <a:off x="-23760" y="396720"/>
            <a:ext cx="9186840" cy="18464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1476360" y="2565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2ada47"/>
                </a:solidFill>
                <a:latin typeface="Lucida Sans Unicode"/>
              </a:rPr>
              <a:t>100 Pharmacies</a:t>
            </a:r>
            <a:endParaRPr b="0" lang="en-US" sz="54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Sous-titre 2"/>
          <p:cNvSpPr/>
          <p:nvPr/>
        </p:nvSpPr>
        <p:spPr>
          <a:xfrm>
            <a:off x="1403280" y="4076640"/>
            <a:ext cx="6400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65160"/>
                </a:solidFill>
                <a:latin typeface="Lucida Sans Unicode"/>
              </a:rPr>
              <a:t>De 8H00 à 21H00</a:t>
            </a:r>
            <a:endParaRPr b="0" lang="en-US" sz="48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407" name="Image 4" descr="Pharmacies_garde.jpg"/>
          <p:cNvPicPr/>
          <p:nvPr/>
        </p:nvPicPr>
        <p:blipFill>
          <a:blip r:embed="rId2"/>
          <a:stretch/>
        </p:blipFill>
        <p:spPr>
          <a:xfrm>
            <a:off x="3692520" y="5300640"/>
            <a:ext cx="1890720" cy="105264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plus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Titre 1" descr=""/>
          <p:cNvPicPr/>
          <p:nvPr/>
        </p:nvPicPr>
        <p:blipFill>
          <a:blip r:embed="rId1"/>
          <a:stretch/>
        </p:blipFill>
        <p:spPr>
          <a:xfrm>
            <a:off x="225360" y="79200"/>
            <a:ext cx="8467920" cy="779760"/>
          </a:xfrm>
          <a:prstGeom prst="rect">
            <a:avLst/>
          </a:prstGeom>
          <a:ln w="0">
            <a:noFill/>
          </a:ln>
        </p:spPr>
      </p:pic>
      <p:pic>
        <p:nvPicPr>
          <p:cNvPr id="409" name="Espace réservé du contenu 3" descr="paris djf.jpg"/>
          <p:cNvPicPr/>
          <p:nvPr/>
        </p:nvPicPr>
        <p:blipFill>
          <a:blip r:embed="rId2"/>
          <a:stretch/>
        </p:blipFill>
        <p:spPr>
          <a:xfrm>
            <a:off x="2411280" y="1052640"/>
            <a:ext cx="4294440" cy="3435120"/>
          </a:xfrm>
          <a:prstGeom prst="rect">
            <a:avLst/>
          </a:prstGeom>
          <a:ln w="0">
            <a:noFill/>
          </a:ln>
        </p:spPr>
      </p:pic>
      <p:sp>
        <p:nvSpPr>
          <p:cNvPr id="410" name="Espace réservé du pied de page 8"/>
          <p:cNvSpPr/>
          <p:nvPr/>
        </p:nvSpPr>
        <p:spPr>
          <a:xfrm>
            <a:off x="624852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ZoneTexte 6"/>
          <p:cNvSpPr/>
          <p:nvPr/>
        </p:nvSpPr>
        <p:spPr>
          <a:xfrm>
            <a:off x="1979640" y="530064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7 000 PARISIENS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ZoneTexte 7"/>
          <p:cNvSpPr/>
          <p:nvPr/>
        </p:nvSpPr>
        <p:spPr>
          <a:xfrm>
            <a:off x="1835280" y="465300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UNE PHARMACIE POUR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5 000 RESIDENTS  AU NIVEAU  NATIONAL</a:t>
            </a:r>
            <a:endParaRPr b="0" lang="en-US" sz="16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ZoneTexte 10"/>
          <p:cNvSpPr/>
          <p:nvPr/>
        </p:nvSpPr>
        <p:spPr>
          <a:xfrm>
            <a:off x="468360" y="5950080"/>
            <a:ext cx="806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E REPARTITION HOMOGENE SUR TOUS LES SECTEURS 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 PARIS, ASSUREE PAR  DES  PHARMACIENS  VOLONTAIRES</a:t>
            </a:r>
            <a:endParaRPr b="0" lang="en-US" sz="20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p:transition spd="med" advTm="8000"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7T17:27:35Z</dcterms:created>
  <dc:creator>ivaldi</dc:creator>
  <dc:description/>
  <dc:language>en-US</dc:language>
  <cp:lastModifiedBy>p3</cp:lastModifiedBy>
  <dcterms:modified xsi:type="dcterms:W3CDTF">2013-05-17T17:41:19Z</dcterms:modified>
  <cp:revision>75</cp:revision>
  <dc:subject/>
  <dc:title>GARDES D’URGENCE</dc:title>
</cp:coreProperties>
</file>