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7580-F4AC-4724-A9F6-291C09AC78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AB1F-5597-4EAE-84D4-3E1A364DFC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D9FB-26F3-4715-B386-814D559942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796E-6A4F-4148-A974-75C256F146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2C7F-1A53-4A5A-B067-45B7AD1BA4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6395-8B4B-42B2-9EC7-330B84F447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DFFD-449A-4BF4-BF4E-CEEA7D1C21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94B7-5561-4DCB-A74B-C711147F33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7AFE-897C-4FD7-B424-4C89264265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08E0-BFAF-450D-995E-6D060BD136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1C15-CBD7-40D2-933D-590DF0AE43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EAFA-154D-4D0C-88DC-9E1F1DD350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F30C-EA75-4C5C-9F8C-1A37B7B2DC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C079-C4E5-4AD3-88C3-D556F51CCC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6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596E-9467-4950-A556-BD2B63A682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1088-367F-4E91-A73C-725AC42C9E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E4C6-E1A0-49E2-9FE2-4CD4A7BA49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B965-46EC-4FCC-9BBA-435C69596E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B24C-F40C-466F-9E96-F4E4EB810B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716800" cy="47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76C1-B907-4270-B493-854305A245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8F6A-0486-46B3-A80D-5EC3A984BB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4698-3FD2-4C46-8B0E-6021AF5436BF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5960" y="637524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aris, le 24 mai 20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LOGO_ARS_IDF_territoire graphique_2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2819160"/>
            <a:ext cx="79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917640">
              <a:buSzPct val="100000"/>
              <a:buBlip>
                <a:blip r:embed="rId1"/>
              </a:buBlip>
              <a:tabLst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Le Schéma de la Démocratie Sanitair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1960" y="4572000"/>
            <a:ext cx="601956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927000">
              <a:spcBef>
                <a:spcPts val="425"/>
              </a:spcBef>
              <a:buClr>
                <a:srgbClr val="7ab8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7ab800"/>
                </a:solidFill>
                <a:latin typeface="Arial"/>
              </a:rPr>
              <a:t>Conférence de territoire de Par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20680"/>
            <a:ext cx="84582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3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 (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et utiliser les outils de contractualisation, de formation et de médiation comme levier d’amélioration du respect des droits des usager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Indicateur démocratie sanitaire du CPOM Etat - 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Indicateur « aucune réclamation d’usager liée à la difficult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’accès du dossier médical » dans les CPOM Etablisse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Objectif de respect des droits des usagers et de démoc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anitaire dans les cahiers des charges des AAP 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’évaluations des ES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la formation et améliorer l’information des 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médiation sous ses différentes formes (médiate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édicaux, sociaux, en san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0680"/>
            <a:ext cx="84582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4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240" y="15998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 (2/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r et développer les droits des usag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secteur médico-social (dispositif des PQ, bilans CVS, etc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domaine de la santé mentale (CLS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secteur sanitaire (indicateurs qualité, information sur 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rôle des RU des CRUQP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domaine de la précarité et des personnes vulnérab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ptimiser la gestion des réclamations et application de la réglementation (bilans annuels des réclamations,…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r et développer l’accès à une pratique artistique et culturelle de qualité dans les établiss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éer et animer des réseaux d’acteurs pour améliorer les pratiques professionnelles et le respect des droits (chargés de relations avec les usagers, médiateurs médicaux, conciliateurs, « groupes de pairs 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841400" algn="just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5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160" y="190476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er la demande en santé et la qualité des parcours de san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ptimiser l’exploitation des rapports des Commissions des Relation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ec les Usagers pour la qualité de la Prise en Charge (CRUQP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nalyse croisée des bilans des réclamations et d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pports CRUQ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dapter et stabiliser le formulaire type de saisie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pports d’activité des CRUQ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des études d’opinion pour mieux comprendre 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portement des acteurs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220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just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1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440" y="1599840"/>
            <a:ext cx="80773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er l’animation et la coordination des instance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méliorer et favoriser la participation des acteurs de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articuler le débat public et la conce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369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entretenir les partenariats avec tous les acteurs du système de santé ré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30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a concertation et l’affirmation des droits coll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230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lèche droite 3"/>
          <p:cNvSpPr/>
          <p:nvPr/>
        </p:nvSpPr>
        <p:spPr>
          <a:xfrm>
            <a:off x="1981080" y="5486400"/>
            <a:ext cx="838440" cy="358920"/>
          </a:xfrm>
          <a:prstGeom prst="rightArrow">
            <a:avLst>
              <a:gd name="adj1" fmla="val 39009"/>
              <a:gd name="adj2" fmla="val 49997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960" y="220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just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2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547280"/>
            <a:ext cx="85341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er l’animation et la coordination des instance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ompagner la CRSA dans l’organisation de ses activ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onctionnement, communication et débats publ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nforcer le rôle des Conférences de territoire dans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cratie sanitaire territoriale et infra territo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pour en faire de véritable forces d’incitation et de pro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dans la phase de diagnostic des C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dans le cadre des projets de coopérations hospital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ordonner et animer les autres instances spécialisées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urer leur articulation avec les instances de démoc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nitaire (CLSM,CC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ser la participation au sein de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3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371600"/>
            <a:ext cx="8458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50320" indent="-8503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méliorer et favoriser la participation des ac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 la démocratie sani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méliorer la participation des représentants des usagers dan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ecteur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ppel à candidature en ligne de désignation des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campagne d’information grand public sur les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nnuaire des représentants des us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et promouvoir la formation des acteurs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ctions de formation / séminaires d’information à destination d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membres des instances régionales et départementales d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démocratie sani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méliorer l’implication des élus dans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ctions de formation / information sur les enjeux de la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0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4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1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articuler le débat public et la conce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d’autres formes de concertation et de dé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um thématiques complémentaires aux débats publics d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méthodologie de forum participa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débats publics territori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périmenter d’autres formes d’é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débats en li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ynamiser la concertation dans le cadre des CLS pour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re un levier de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entretenir les partenariats avec tous les acteurs du système de santé ré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rtographie des partenari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rte du parten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12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Les modalités de mise en œuvre, de gouvernance et de déploiement du schéma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ouvernance interne :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 comité démocratie sanitaire intern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posé des référents démocratie sanitaire des délégations territoriales  et des directions méti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ment du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seau de partenaire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 la démocratie sanitaire : instances de démocratie sanitaire, associations d’usagers, CODERPA, CDCPH, CORERPA, Comité d’Entente, collectivités territoriales, établissements de santé et médico-sociaux et leurs fédérations, réseau AM, URP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ructuration 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utils de mise en œuvr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u schéma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outils existants : CPOM, CLS, A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outils spécifiques à développer : outils de communication, actions de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Modalités de suivi et d’évaluat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u schéma : définition, avec les partenaires, d’indicateurs de suivi et d’évaluation des a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concertation informelle : quelle méthode et quel calendrier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24400" indent="-82440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9 mars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présentation à la commission permanente de la CRS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1 mars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présentation en Séance plénière de la CR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ériode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certation informelle de 2 mois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proposi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inscription à l’ODJ des Conférences de territ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1 mai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Séance plénière de la CRS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is d’étape sur l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ch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première synthèse des présidents de conférence de terri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2 juillet 201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ance plénière de la CRS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amen et validation du projet d’avis sur le sché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15364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concertation : quelle attentes 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ercice nouveau et partenarial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lexe :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méthode de travail fondée sur la conce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ématique avec les parties prenantes du syst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ttentes de la concertatio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véritable co-construction avec l’ensemble 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te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éclairage des acteurs du système de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contributions de la CRSA et des CT pour finaliser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euille de ro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finalisation du document pour septembr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Pourquoi un schéma de démocratie sanitaire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staller la démocratie sanitaire dans la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ynamique métier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’ag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larifier et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éfinir le périmètr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’action de la démocratie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isposer d’un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ocument de référenc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i guide nos a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endant toute la durée Projet Régional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rticuler et rassembler les action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diées à la démocrat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nitaire contenues dans les sché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…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..en conclus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8960" y="1547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7120" indent="-807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chéma de la démocratie sanitai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schéma de promotion de la démocratie sanita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schéma  de promotion de la démocratie en santé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un document construit avec tous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les acteurs qui devra être une feuille de rou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commune et partag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07120" indent="-8071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èche droite 3"/>
          <p:cNvSpPr/>
          <p:nvPr/>
        </p:nvSpPr>
        <p:spPr>
          <a:xfrm>
            <a:off x="914400" y="4975200"/>
            <a:ext cx="838080" cy="358920"/>
          </a:xfrm>
          <a:prstGeom prst="rightArrow">
            <a:avLst>
              <a:gd name="adj1" fmla="val 39009"/>
              <a:gd name="adj2" fmla="val 49975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MERCI POUR VOTRE ATTENT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080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contexte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Evolution de la place du citoyen dans les politiques publiques de santé depuis 15 ans, émergence et renforcement de la mobilisation associative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du 4 mars 2002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lative aux droits des malades et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à la qualité du système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ant la mise en place des ARS : une organisation régionale peu intégrée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pplication de la réglementation (désignation des représentants des usagers dans les instances, agréments des associations, conférences sanitair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HPST du 24 juillet 2009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le renforcement de la démocratie 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rganisation affirmée à l’ARS Île-de-Franc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n pôle « démocratie sanitaire 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n réseau de délégations territoriales en charge de l’animation de la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émocratie sanitaire sur leurs territo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instances actives (CRSA et C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partenariats avec les associations et les fédér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lèche droite 1"/>
          <p:cNvSpPr/>
          <p:nvPr/>
        </p:nvSpPr>
        <p:spPr>
          <a:xfrm>
            <a:off x="1523880" y="1662120"/>
            <a:ext cx="685800" cy="243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démocratie sanitaire dans le PRS (1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HPST du 21 juillet 2009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 un cadre restreint à l’action de la démocratie sanitaire (limité aux instances CRSA et Conférences de territoir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écret n° 2010-514 du 18 mai 2010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latif au projet régional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rt. R. 1434-2 :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e Plan stratégique régional de santé compor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3° Les objectifs fixés en matièr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a) de prévention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b) d’amélioration de l’accès aux établissements, aux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professionnels et aux services de santé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) de réduction des inégalités sociales et territoriales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n santé,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notamment en matière de soin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d) de qualité et d’efficience des prises en charge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3333cc"/>
                </a:solidFill>
                <a:latin typeface="Arial"/>
              </a:rPr>
              <a:t>e) </a:t>
            </a:r>
            <a:r>
              <a:rPr b="1" i="1" lang="fr-FR" sz="1400" spc="-1" strike="noStrike">
                <a:solidFill>
                  <a:srgbClr val="3333cc"/>
                </a:solidFill>
                <a:latin typeface="Arial"/>
              </a:rPr>
              <a:t>de respect des droits des usagers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es 3 axes du Plan stratégique régional de santé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Assurer à chaque francilien un parcours lisible, accessible et sécuris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Améliorer la qualité et l’efficience du système de san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Conduire une politique de santé partagée au plus près de la réalité des territo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démocratie sanitaire dans le PRS (2/2)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9907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50320" indent="-850320" algn="just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information des patients et le respect des droits des usagers présents dans tou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schéma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chéma régional de prévention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coordination avec l’ensem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acteurs publics (CLS), processus participatifs, co-construction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les usagers et citoy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chéma régional d’organisation médico-social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évaluation d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qualité des activités et des prestations  des établissement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ment d’une culture de la bientraitance,  rôle des aidants, l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idants – 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et ambulatoire du SRO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accessibilité et disponibilité de l’offre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ns ambulatoires, information sur l’organisation de l’offre de soin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mier recours, coopération et coordination des PS, information 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mation des 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et sanitaire du SROS :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accessibilité aux soins, cohérence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cours de santé des usagers, amélioration de l’efficience et la garan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la qualité, accessibilité et répartition de l’offre sur les territoires, rel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le premier recours  et le secteur médico-so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méthode de construction du schéma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1760" y="14475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unions bilatérale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’échanges internes à l’Agence avec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s directions métiers de l’Agence (DOSMS et DSP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référents thématiques (PRAPS, CL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s délégations territoria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unions de travail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ec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membres de la CRS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 la CSDU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u CISS Île-de-Fr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sollicitation par mail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associations, professionnels de santé,  fédérations </a:t>
            </a:r>
            <a:r>
              <a:rPr b="0" lang="fr-FR" sz="1700" spc="-1" strike="noStrike">
                <a:solidFill>
                  <a:srgbClr val="262699"/>
                </a:solidFill>
                <a:latin typeface="Arial"/>
              </a:rPr>
              <a:t>(« Ecrivez avec nous la feuille de route de la démocratie sanitaire en région Île-de-France 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a prise en compte des contributions reçues (dont le CISS Île-de-Fran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contribution ouverte en lign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ia le blog P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contenu et les axes du schéma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artie introductiv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d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léments de contex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de pilotage et d’organisation de la démocratie sanitaire en Île-de-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rappel des évolutions réglementaires et de la place du citoyen dans 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olitiques publiques de santé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ésentation des instances de concertation et de gouvernance de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émocratie sanitai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 axes stratég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= 2 dimensions de la démocratie sanitai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omouvoir l’information des franciliens, les droits des usagers et contribu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à la qualité des parcours de san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méliorer la participation des acteurs du système de santé, développer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oncertation et le débat public, promouvoir la démocratie sanitair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dernière partie sur les modalité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œuvr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ouvernance et de déplo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u schéma de la démocratie sani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1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582200"/>
            <a:ext cx="723888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l’information des franciliens par un dispositif global d’accompagnement de l’information en san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er la demande en santé et la qualité des parcour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’affirmation des droits individ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èche droite 3"/>
          <p:cNvSpPr/>
          <p:nvPr/>
        </p:nvSpPr>
        <p:spPr>
          <a:xfrm>
            <a:off x="1981080" y="5356080"/>
            <a:ext cx="838440" cy="358920"/>
          </a:xfrm>
          <a:prstGeom prst="rightArrow">
            <a:avLst>
              <a:gd name="adj1" fmla="val 39009"/>
              <a:gd name="adj2" fmla="val 49997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2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mouvoir l’information des franciliens par un dispositif global d’accompagnement de l’information en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velopper une plateforme d’information en santé (PFIS)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=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socle du disposit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donner aux franciliens les moyens de devenir acteurs d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 leur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encourager les contributions des citoyens et la co-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construction de l’information en valorisant le savoir issu du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vécu du pati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faciliter l’identification des acteurs de la démocratie 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r la mise en œuvre des maisons  d’information en santé ou des points d’information usag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ganiser des campagnes d’information sur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TTAUER, Vincent</dc:creator>
  <dc:description/>
  <dc:language>en-US</dc:language>
  <cp:lastModifiedBy>METTAUER, Vincent</cp:lastModifiedBy>
  <cp:lastPrinted>2013-04-12T07:53:40Z</cp:lastPrinted>
  <dcterms:modified xsi:type="dcterms:W3CDTF">2013-05-22T07:27:09Z</dcterms:modified>
  <cp:revision>3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