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13.jpeg" ContentType="image/jpe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2ABB-654F-437E-A741-8F7941D2CD8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7EE4-86C2-46C1-B7E6-AC0B12D1A2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3EB6-A390-4E55-97B4-FFAB913B2C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B0B8-5764-4708-B121-B5395AC618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1E60-9ED1-42B2-B41B-3766D8C8B9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DF91-2E02-422B-B3BE-1954965950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0AA8-9B84-4717-9D8D-1459E890B0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5C38-DABB-4FB1-9258-7A1572E31B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24D6-6E8E-4755-A138-2B4BB0F129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E6B1-1D3C-4094-8B11-E354188019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18D1-444A-4DFC-86FC-002DEF92D2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64B0-4B6C-4B35-8BD5-5EB6A46012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529F-D94F-42F5-B651-594F1883151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6F7B-FE8E-4DC0-89CD-DF88D0FA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44BE-BE98-457E-9732-445A246F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A03-862A-4978-96FC-4FCE9854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5937-0E28-4782-8056-4B6F99F7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7D21-5784-45E9-AF38-91D38031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70F0-EDF5-456A-A64B-A8170EA0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D0B3-45DA-4603-B91A-6E984B2F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4392-6EF5-4AB1-8A32-49D802E6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F606-647C-47B0-9FD9-BB13000E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A159-A47B-4B3B-AD33-A6FEEF73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CBA8-1556-46FD-8806-95996110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8FD2-5BE7-48C2-B3CC-134096FD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F59D-3EC2-4214-8A43-64F9FA44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2A4E-6BF3-4E44-90F5-4832B13A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4CBE-AB94-42D2-8730-95EE5402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14FD-196A-4D04-A570-36C5C26A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BF9F-A0D3-4866-8693-14A9C30D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417FF-6F84-4A0F-BEE1-FC25E6F6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3D8DC-CB09-40F3-8047-DD95E192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1E35E-8DBC-459C-BDE6-3A8F4C12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50313-9BC6-47BE-97C8-907A5797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DB039-CC00-45F8-BC06-6F4E4AAF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14F-9FDE-4AB1-BABC-FDB20779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7F8A-B20F-4DA1-8E05-4B0CBBE0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F648C-27B7-4283-A82F-94666766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00AA3-149B-4C53-B3D1-F21C5A32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84ECA-A3AC-4E48-9DB9-4CC79D9A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C257C-66B7-4A0B-A0E2-557D08B7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5CCE4-5916-4A31-83B6-D4D41658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EB411-49FD-4D79-B507-1D2EB080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904F5-96D3-41F6-9395-7F65F8D0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330A9-0563-4325-9F7C-7E1AF1A5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D5348-A154-432A-AFAF-C7128305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248B-FA4F-4DC8-8020-83D7EEB3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32A0F-6113-4895-8AF7-0528D84B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38AC1-402A-4770-A0A5-1F48351A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95C1F-E222-4FC9-9B9C-DEB7C6D9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69472-BEC6-4DC0-A5E3-FD990E89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92910-45AF-447E-BCB3-6DB3F98A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46540-9D73-4E46-835B-6818C360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C1990-2016-446B-A75E-21582FAA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5D58D-04E8-462A-B1C5-E3CDD55C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64060-4AAF-4E5F-8621-5D98E01D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1B13E-BA09-4691-AC04-CB2B33C3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600E-6364-4D60-8FA3-627F48A0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FDD39-80F2-4046-A580-B9BD0A2D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54A77-14E2-4464-AA04-7AEC3281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1F163-6641-4DA8-9E62-426E42FC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FD84C-D7D9-4190-8A6A-8EA724EE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B98DA-3923-43B3-999E-57D24B2C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3ADD0-6DB9-41C0-BE27-6C0BE0B0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E0783-4038-47C6-83DF-2311F736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BABC1-C0F6-4A74-8843-534DB0E7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0A038-AB74-4AC5-91B9-FD3263D8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D8A04-013B-47E0-8B93-60B4A935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4B37-9544-45E1-8414-C2C0B11E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48E23-4D72-47DD-BF2A-9FCE17A8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8BDE6-1195-4B7B-9F8B-C0C1C74C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3CE0F-114F-4B2E-911E-990AF517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F8B05-A711-48BE-B51B-39DC4363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29E30-EA67-44DD-B4ED-FF735B34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C1F5C-FE85-413D-978C-870649D1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77116-1568-4BFE-BC4E-090874CD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C47B7-3BB8-462E-A6CE-5CF78516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5CDC5-936E-4C30-974A-68E77F23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28CAB-AE75-466A-B072-CEEC7382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45D-0CCC-4AA4-AEC3-BCE24B8D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67874-DCE1-4FCF-BD00-82314865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6B3AE-D670-4806-BEB1-A3CF59D0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E72C5-0DC1-4363-B634-B3B1DEDB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B96BB-9621-4A36-9762-B3074675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C2A5D-716F-46CD-9F7F-B1E93D3E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5FEBD-8162-43D1-B4BD-E116E11C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401BE-621D-4429-A5AA-71673CEE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48F0B-A18C-4501-B5CB-B89EED06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E227D-9574-4280-B4F4-12467076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9CC69-85ED-4F4A-9435-82B9CA6E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C2C-7C8F-492E-89D3-1B9B4503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9058B-B22E-4CFF-9A14-6A3EF287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77A2F-B040-4FE8-80E9-F1BD6C89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8090C-734B-4C60-BCA6-A6444590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659EA-136F-4C73-8CA7-DFB823C9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4E88E-A572-4FED-AB75-087755CA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DF782-60CD-46A9-A1AB-CB316D47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DB987-72DD-4006-9370-AF5D3579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0012C-BBF2-4863-AF36-585C241C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4CE75-4C12-4C97-BA20-9F21F46F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5C3FA-47C5-4021-8F9A-49EE92F5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7CD-4774-41F6-B902-A79D8CCA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482E7-69D5-40EA-901A-F3CF5386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C2878-E722-451E-8E34-59A9EF64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A6114-30CC-4174-B2DC-2E1608C7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86A80-6023-4021-956C-6994F24C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0CA64-87E1-4BBF-85FD-CF2BA9F2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C1FDE-B794-4AC5-A546-B5789AE8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56131-3FA5-4C75-9917-EE9DD0EB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85B9-2BB4-4744-B23B-F0118698967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E6B9-FF17-4A7B-9204-93D746541D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angle rect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e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e libre 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orme libre 7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orme libre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e lib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Connecteur droit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664A-99E6-4CF1-9BA7-00709416EC7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54BD-9FDC-401A-8F92-DA6CFF9962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BD49-EFA8-49DA-AE65-D50F510BB87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3BF3-397F-448C-A1C7-6A02739BB6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89D5-AEB2-4B21-9997-121BB7EB7DA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54C2-F881-4C70-AA02-8621B3D256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C9D0-7C52-4116-88E6-4A697ADBFE9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D15E-BA66-4788-B1C0-BFD646FE71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5433-2019-4990-A57F-467F70D4DDC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D7B7-8262-4B0E-90FC-948FE801F3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5C2B-F7D3-43B7-B95F-8C7192C266D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E496-6DC5-4279-B822-50D82DFE98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e libre 7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orme libre 8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iangle rect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angle rect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Connecteur droit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02F9-2D30-4163-9BA1-982A8AC693F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E478-E675-4705-9E9E-CEB33216D3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r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aecd"/>
                </a:solidFill>
                <a:latin typeface="Lucida Sans Unicode"/>
              </a:rPr>
              <a:t>Pharmacies de PAR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468360" y="476280"/>
            <a:ext cx="457200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«Je jure, en présence des maîtres de la faculté, d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conseillers de l’ordre des pharmaciens et de m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condisciples…de ne jamais oublier ma responsabilité et mes devoir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envers le malade et sa dignité humaine.»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faecd"/>
                </a:solidFill>
                <a:latin typeface="Lucida Sans Unicode"/>
              </a:rPr>
              <a:t>-Extrait du Serment de Galien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5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6836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Répartition des officines dans les secteur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Homogénéité des tours de garde entre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les pharmacies du secteu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Couverture cohérente sur l’ensemble de Par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Un atout Santé pour Par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65160"/>
                </a:solidFill>
                <a:latin typeface="Lucida Sans Unicode"/>
              </a:rPr>
              <a:t>En application du CODE de la SANTE PUBLIQUE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65160"/>
                </a:solidFill>
                <a:latin typeface="Lucida Sans Unicode"/>
              </a:rPr>
              <a:t>et du CODE DU TRAVAIL, un système de garde pour en finir avec un système anarchique où chacun ouvrait quand il voulait…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0" y="339120"/>
            <a:ext cx="91440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10 pharmacies de garde d’urgence seront en service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depuis1</a:t>
            </a:r>
            <a:r>
              <a:rPr b="1" lang="en-US" sz="1400" spc="-1" strike="noStrike" baseline="30000">
                <a:solidFill>
                  <a:srgbClr val="105766"/>
                </a:solidFill>
                <a:latin typeface="Arial"/>
                <a:ea typeface="Arial Unicode MS"/>
              </a:rPr>
              <a:t>er</a:t>
            </a: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 octobre 2011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pour répondre da façon optimale aux soins d’urgence sur Paris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0" y="1671840"/>
            <a:ext cx="914400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Titre 3"/>
          <p:cNvSpPr/>
          <p:nvPr/>
        </p:nvSpPr>
        <p:spPr>
          <a:xfrm>
            <a:off x="250920" y="162864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Les pharmacies assurant le service de nuit, de 21H à 8H du matin sont en accès libre,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464646"/>
                </a:solidFill>
                <a:uFillTx/>
                <a:latin typeface="Lucida Sans Unicode"/>
              </a:rPr>
              <a:t>sans passage par le commissariat d’arrondissement.</a:t>
            </a: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  Ces pharmacies ont la possibilité d’effectuer leur garde à volets ouverts ou volets fermés. Dans ce dernier cas, le pharmacien mentionne son numéro de téléphone sur son officine pour répondre à toute urgence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Quelle que soit la solution choisie, ces pharmacies sont </a:t>
            </a:r>
            <a:r>
              <a:rPr b="1" lang="fr-FR" sz="1400" spc="-1" strike="noStrike" u="sng">
                <a:solidFill>
                  <a:srgbClr val="464646"/>
                </a:solidFill>
                <a:uFillTx/>
                <a:latin typeface="Lucida Sans Unicode"/>
              </a:rPr>
              <a:t>clairement identifiables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(croix allumée, éclairage extérieur, …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da1f28"/>
                </a:solidFill>
                <a:latin typeface="Lucida Sans Unicode"/>
              </a:rPr>
              <a:t>Pour les patients un accès simple à l’information concernant les pharmacies de gardes :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Affichage sur les vitrines de toutes les pharmacies de Pari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Resogarde : 3237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Application smartphone : Mon Pharmacie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"/>
          <p:cNvSpPr/>
          <p:nvPr/>
        </p:nvSpPr>
        <p:spPr>
          <a:xfrm>
            <a:off x="468360" y="692280"/>
            <a:ext cx="835164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« Les syndicats se sont engagés à maintenir la permanence d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'accès aux soins su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'ensemble du territoire de santé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n  assurant  ce service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es pharmaciens parisiens , professionnels de la  Santé,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nt  tenu à réaffirmer leur implication  pleine  et entièr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ans la chaîne de Santé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re 1" descr=""/>
          <p:cNvPicPr/>
          <p:nvPr/>
        </p:nvPicPr>
        <p:blipFill>
          <a:blip r:embed="rId1"/>
          <a:stretch/>
        </p:blipFill>
        <p:spPr>
          <a:xfrm>
            <a:off x="208080" y="755640"/>
            <a:ext cx="849780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914400" y="177300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ada47"/>
                </a:solidFill>
                <a:latin typeface="Lucida Sans Unicode"/>
              </a:rPr>
              <a:t>1001 pharmacies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ada47"/>
                </a:solidFill>
                <a:latin typeface="Lucida Sans Unicode"/>
              </a:rPr>
              <a:t>à votre servic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re 1" descr=""/>
          <p:cNvPicPr/>
          <p:nvPr/>
        </p:nvPicPr>
        <p:blipFill>
          <a:blip r:embed="rId2"/>
          <a:stretch/>
        </p:blipFill>
        <p:spPr>
          <a:xfrm>
            <a:off x="390600" y="4718160"/>
            <a:ext cx="8240760" cy="1158840"/>
          </a:xfrm>
          <a:prstGeom prst="rect">
            <a:avLst/>
          </a:prstGeom>
          <a:ln w="0">
            <a:noFill/>
          </a:ln>
        </p:spPr>
      </p:pic>
      <p:pic>
        <p:nvPicPr>
          <p:cNvPr id="383" name="Image 4" descr="pharm.jpg"/>
          <p:cNvPicPr/>
          <p:nvPr/>
        </p:nvPicPr>
        <p:blipFill>
          <a:blip r:embed="rId3"/>
          <a:stretch/>
        </p:blipFill>
        <p:spPr>
          <a:xfrm>
            <a:off x="250920" y="2492280"/>
            <a:ext cx="1584360" cy="2051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re 1" descr=""/>
          <p:cNvPicPr/>
          <p:nvPr/>
        </p:nvPicPr>
        <p:blipFill>
          <a:blip r:embed="rId1"/>
          <a:stretch/>
        </p:blipFill>
        <p:spPr>
          <a:xfrm>
            <a:off x="463680" y="542880"/>
            <a:ext cx="8242200" cy="1157400"/>
          </a:xfrm>
          <a:prstGeom prst="rect">
            <a:avLst/>
          </a:prstGeom>
          <a:ln w="0">
            <a:noFill/>
          </a:ln>
        </p:spPr>
      </p:pic>
      <p:sp>
        <p:nvSpPr>
          <p:cNvPr id="386" name="Sous-titre 2"/>
          <p:cNvSpPr/>
          <p:nvPr/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da47"/>
                </a:solidFill>
                <a:latin typeface="Lucida Sans Unicode"/>
              </a:rPr>
              <a:t>10 Pharmacies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re 1" descr=""/>
          <p:cNvPicPr/>
          <p:nvPr/>
        </p:nvPicPr>
        <p:blipFill>
          <a:blip r:embed="rId2"/>
          <a:stretch/>
        </p:blipFill>
        <p:spPr>
          <a:xfrm>
            <a:off x="463680" y="3713040"/>
            <a:ext cx="8242200" cy="1150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Espace réservé du contenu 7" descr="paris cycle 1.jpg"/>
          <p:cNvPicPr/>
          <p:nvPr/>
        </p:nvPicPr>
        <p:blipFill>
          <a:blip r:embed="rId2"/>
          <a:stretch/>
        </p:blipFill>
        <p:spPr>
          <a:xfrm>
            <a:off x="3132000" y="2637000"/>
            <a:ext cx="3187800" cy="25524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610920" y="1341000"/>
            <a:ext cx="784836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0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5"/>
          <p:cNvSpPr/>
          <p:nvPr/>
        </p:nvSpPr>
        <p:spPr>
          <a:xfrm>
            <a:off x="2017080" y="5589720"/>
            <a:ext cx="55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ternance dans chaque secteu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Espace réservé du contenu 7" descr="paris cycle 2.jpg"/>
          <p:cNvPicPr/>
          <p:nvPr/>
        </p:nvPicPr>
        <p:blipFill>
          <a:blip r:embed="rId2"/>
          <a:stretch/>
        </p:blipFill>
        <p:spPr>
          <a:xfrm>
            <a:off x="3132000" y="2565360"/>
            <a:ext cx="3187800" cy="25527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684360" y="1268280"/>
            <a:ext cx="77040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4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1476360" y="5516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épartition homogè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Espace réservé du contenu 10" descr="paris cycle3.jpg"/>
          <p:cNvPicPr/>
          <p:nvPr/>
        </p:nvPicPr>
        <p:blipFill>
          <a:blip r:embed="rId2"/>
          <a:stretch/>
        </p:blipFill>
        <p:spPr>
          <a:xfrm>
            <a:off x="2987640" y="2565360"/>
            <a:ext cx="3187800" cy="2552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755640" y="1341000"/>
            <a:ext cx="75614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8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5"/>
          <p:cNvSpPr/>
          <p:nvPr/>
        </p:nvSpPr>
        <p:spPr>
          <a:xfrm>
            <a:off x="1872720" y="5516640"/>
            <a:ext cx="55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ternance dans chaque secteu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Espace réservé du contenu 5" descr="paris cycle 4.jpg"/>
          <p:cNvPicPr/>
          <p:nvPr/>
        </p:nvPicPr>
        <p:blipFill>
          <a:blip r:embed="rId2"/>
          <a:stretch/>
        </p:blipFill>
        <p:spPr>
          <a:xfrm>
            <a:off x="3059280" y="2276640"/>
            <a:ext cx="3187440" cy="25524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684360" y="141300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2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1856880" y="5373720"/>
            <a:ext cx="55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us les secteurs sont desservi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re 1" descr=""/>
          <p:cNvPicPr/>
          <p:nvPr/>
        </p:nvPicPr>
        <p:blipFill>
          <a:blip r:embed="rId1"/>
          <a:stretch/>
        </p:blipFill>
        <p:spPr>
          <a:xfrm>
            <a:off x="-23760" y="396720"/>
            <a:ext cx="9186840" cy="18464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da47"/>
                </a:solidFill>
                <a:latin typeface="Lucida Sans Unicode"/>
              </a:rPr>
              <a:t>100 Pharmacies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Sous-titre 2"/>
          <p:cNvSpPr/>
          <p:nvPr/>
        </p:nvSpPr>
        <p:spPr>
          <a:xfrm>
            <a:off x="1403280" y="4076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65160"/>
                </a:solidFill>
                <a:latin typeface="Lucida Sans Unicode"/>
              </a:rPr>
              <a:t>De 8H00 à 21H00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Image 4" descr="Pharmacies_garde.jpg"/>
          <p:cNvPicPr/>
          <p:nvPr/>
        </p:nvPicPr>
        <p:blipFill>
          <a:blip r:embed="rId2"/>
          <a:stretch/>
        </p:blipFill>
        <p:spPr>
          <a:xfrm>
            <a:off x="3692520" y="5300640"/>
            <a:ext cx="1890720" cy="1052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re 1" descr=""/>
          <p:cNvPicPr/>
          <p:nvPr/>
        </p:nvPicPr>
        <p:blipFill>
          <a:blip r:embed="rId1"/>
          <a:stretch/>
        </p:blipFill>
        <p:spPr>
          <a:xfrm>
            <a:off x="225360" y="79200"/>
            <a:ext cx="8467920" cy="779760"/>
          </a:xfrm>
          <a:prstGeom prst="rect">
            <a:avLst/>
          </a:prstGeom>
          <a:ln w="0">
            <a:noFill/>
          </a:ln>
        </p:spPr>
      </p:pic>
      <p:pic>
        <p:nvPicPr>
          <p:cNvPr id="409" name="Espace réservé du contenu 3" descr="paris djf.jpg"/>
          <p:cNvPicPr/>
          <p:nvPr/>
        </p:nvPicPr>
        <p:blipFill>
          <a:blip r:embed="rId2"/>
          <a:stretch/>
        </p:blipFill>
        <p:spPr>
          <a:xfrm>
            <a:off x="2411280" y="1052640"/>
            <a:ext cx="4294440" cy="3435120"/>
          </a:xfrm>
          <a:prstGeom prst="rect">
            <a:avLst/>
          </a:prstGeom>
          <a:ln w="0">
            <a:noFill/>
          </a:ln>
        </p:spPr>
      </p:pic>
      <p:sp>
        <p:nvSpPr>
          <p:cNvPr id="410" name="Espace réservé du pied de page 8"/>
          <p:cNvSpPr/>
          <p:nvPr/>
        </p:nvSpPr>
        <p:spPr>
          <a:xfrm>
            <a:off x="62485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ZoneTexte 6"/>
          <p:cNvSpPr/>
          <p:nvPr/>
        </p:nvSpPr>
        <p:spPr>
          <a:xfrm>
            <a:off x="1979640" y="530064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E PHARMACIE POU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7 000 PARISIEN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ZoneTexte 7"/>
          <p:cNvSpPr/>
          <p:nvPr/>
        </p:nvSpPr>
        <p:spPr>
          <a:xfrm>
            <a:off x="1835280" y="465300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E PHARMACIE POU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5 000 RESIDENTS  AU NIVEAU  NATIONA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ZoneTexte 10"/>
          <p:cNvSpPr/>
          <p:nvPr/>
        </p:nvSpPr>
        <p:spPr>
          <a:xfrm>
            <a:off x="468360" y="59500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E REPARTITION HOMOGENE SUR TOUS LES SECTEUR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 PARIS, ASSUREE PAR  DES  PHARMACIENS  VOLONTAIR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8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7:27:35Z</dcterms:created>
  <dc:creator>ivaldi</dc:creator>
  <dc:description/>
  <dc:language>en-US</dc:language>
  <cp:lastModifiedBy>p3</cp:lastModifiedBy>
  <dcterms:modified xsi:type="dcterms:W3CDTF">2013-05-17T17:41:19Z</dcterms:modified>
  <cp:revision>75</cp:revision>
  <dc:subject/>
  <dc:title>GARDES D’URGENCE</dc:title>
</cp:coreProperties>
</file>