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D2AB-965C-4F82-94B8-A3E287739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C408-0A3C-4B44-A493-E8F963311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425D-F111-4CE3-BC61-B89963A57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7657-2CB0-4350-A5B2-0BDEDBCBB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F86-5072-481C-AED0-B865E3707F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41C-80D3-4A44-857B-A4504863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E9D-D9EF-402F-A64F-5964B584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89D-742E-42E1-B7E1-BD8BE130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985-C0D4-4D8A-8E8B-9238A5AE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C39-7341-4B3C-913F-7DA7D0CA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ED7-1FB6-49B2-97D8-1C8C7B79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120B-EDE3-4354-9C19-13B7BD352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D6E-04FC-4EAA-8428-17406178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F36-AD89-4D97-8B7E-13245F06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F79-9949-457E-BB9D-2CB00703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D11-269E-4130-9BFE-2C54876F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455-EF1C-4FFB-AC1F-B3C03522E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81BE-C9D5-48B9-991D-22C13E088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5E76-B890-4842-994E-EA96A8129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5D4F-CCA7-4184-9F47-3D3CAB096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9459-7190-4E40-9F73-F56A78CFE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F5CD-8988-4526-9D52-3AF396720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4352-86C3-4424-AEC9-551DC0951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3D76-F316-4F48-B228-763A6658D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3289320" y="615960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52436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78D90F-2A36-4F22-960E-CCE2A169A43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19280" y="6246720"/>
            <a:ext cx="25574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12800" y="177840"/>
            <a:ext cx="3859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"/>
          <p:cNvPicPr/>
          <p:nvPr/>
        </p:nvPicPr>
        <p:blipFill>
          <a:blip r:embed="rId4"/>
          <a:stretch/>
        </p:blipFill>
        <p:spPr>
          <a:xfrm>
            <a:off x="0" y="6297480"/>
            <a:ext cx="576360" cy="142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7" descr=""/>
          <p:cNvPicPr/>
          <p:nvPr/>
        </p:nvPicPr>
        <p:blipFill>
          <a:blip r:embed="rId5"/>
          <a:stretch/>
        </p:blipFill>
        <p:spPr>
          <a:xfrm>
            <a:off x="8567640" y="6297480"/>
            <a:ext cx="576360" cy="1429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1"/>
          <p:cNvSpPr/>
          <p:nvPr/>
        </p:nvSpPr>
        <p:spPr>
          <a:xfrm>
            <a:off x="250920" y="6524640"/>
            <a:ext cx="3241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19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"/>
          <p:cNvPicPr/>
          <p:nvPr/>
        </p:nvPicPr>
        <p:blipFill>
          <a:blip r:embed="rId2"/>
          <a:stretch/>
        </p:blipFill>
        <p:spPr>
          <a:xfrm>
            <a:off x="3029040" y="3187800"/>
            <a:ext cx="611496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4"/>
          <a:stretch/>
        </p:blipFill>
        <p:spPr>
          <a:xfrm>
            <a:off x="3289320" y="593424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712800" y="177840"/>
            <a:ext cx="385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6372360" y="6524640"/>
            <a:ext cx="2627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997C88-2DBD-4DF6-91E8-CDC54BD1E3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719280" y="5358960"/>
            <a:ext cx="758664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25056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ésentation du projet Hôtel-Dieu février 2013 v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"/>
          <p:cNvSpPr/>
          <p:nvPr/>
        </p:nvSpPr>
        <p:spPr>
          <a:xfrm>
            <a:off x="25092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10108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ésentation du projet de transformation de l’Hôtel-Die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s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539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F40137-A252-4FF0-96DC-32FCB3E79C3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13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1413000"/>
            <a:ext cx="6480000" cy="22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soins paramédicaux prioritairement réservé aux patients des consul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ésithéra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été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ych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90800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411280" y="3716280"/>
            <a:ext cx="46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n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0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340000" y="4437000"/>
            <a:ext cx="4465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médica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gi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thérape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197964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250920" y="30351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22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D85990-DCD5-4A4C-8902-82BE1385139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900000" y="31417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4 prin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429080" y="2133720"/>
            <a:ext cx="4714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ccompagner les transformations du système de 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une synergie entre recherche, action et apprenti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l’articulation entre soin et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écliner le projet en buts popul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3492360" y="1773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572000" y="357336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pluridiscipli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7"/>
          <p:cNvSpPr/>
          <p:nvPr/>
        </p:nvSpPr>
        <p:spPr>
          <a:xfrm>
            <a:off x="4356000" y="36464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3924360" y="4365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211640" y="441972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interunivers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2"/>
          <p:cNvSpPr/>
          <p:nvPr/>
        </p:nvSpPr>
        <p:spPr>
          <a:xfrm>
            <a:off x="262728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2987640" y="5084640"/>
            <a:ext cx="604836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lieu ou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toutes les disciplines médicales ou non, aux professionnels et acteurs de santé, aux usa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des partenariats français et internatio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79280" y="189000"/>
            <a:ext cx="6624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40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47"/>
          <p:cNvSpPr/>
          <p:nvPr/>
        </p:nvSpPr>
        <p:spPr>
          <a:xfrm>
            <a:off x="3745080" y="1616040"/>
            <a:ext cx="47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de recherche et d’enseignement au service de l’innovation p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3CB3C3-2AD1-4649-9D2C-A21ED271C66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4360" y="155736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clinique, épidémiologique, bio-statis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4356000" y="3357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277164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4643280" y="3284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qualité, sécurité des soins, performances hospitaliè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060720" y="501336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promotion de la santé, optimisation des parcours santé et partenariat avec les us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684360" y="316404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rganisation en 3 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57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97A05E-E616-47AD-8308-CFDD75F3EFB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64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84360" y="314172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tribuer au développ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3059280" y="1628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4137120" y="4149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3708360" y="907920"/>
            <a:ext cx="54356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 santé au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édecine du Personnel de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tion de pathologies professionnelles et environnem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ssées à la recherche (VIFASOM) et l’expertise (Institut interuniversitai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2"/>
          <p:cNvSpPr/>
          <p:nvPr/>
        </p:nvSpPr>
        <p:spPr>
          <a:xfrm>
            <a:off x="4356000" y="29383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4535640" y="2708280"/>
            <a:ext cx="460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a médecine lé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des 10 structures de référence régionales sont à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entre inter-universitaire pour conforter l’enseignement et la   recherche en médecine lég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72" name="Oval 4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rc 4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48" descr=""/>
          <p:cNvPicPr/>
          <p:nvPr/>
        </p:nvPicPr>
        <p:blipFill>
          <a:blip r:embed="rId1"/>
          <a:stretch/>
        </p:blipFill>
        <p:spPr>
          <a:xfrm>
            <a:off x="1979640" y="5167440"/>
            <a:ext cx="225360" cy="225360"/>
          </a:xfrm>
          <a:prstGeom prst="rect">
            <a:avLst/>
          </a:prstGeom>
          <a:ln w="0">
            <a:noFill/>
          </a:ln>
        </p:spPr>
      </p:pic>
      <p:sp>
        <p:nvSpPr>
          <p:cNvPr id="278" name="ZoneTexte 1"/>
          <p:cNvSpPr/>
          <p:nvPr/>
        </p:nvSpPr>
        <p:spPr>
          <a:xfrm>
            <a:off x="4359240" y="4149720"/>
            <a:ext cx="466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a médecine géné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jeu majeur de la réforme du système de 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ns le cadre d’une transformation des soins de premier rec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 développant un lieu d’enseignement et de recher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2"/>
          <p:cNvSpPr/>
          <p:nvPr/>
        </p:nvSpPr>
        <p:spPr>
          <a:xfrm>
            <a:off x="1979640" y="5300640"/>
            <a:ext cx="6480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la recherche infir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infirmières et les autres professions para-médicales participent à la recherche clinique et en qualité hospitaliè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faut développer la recherche sur les soins, les métiers et les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3C637D-C473-4C98-A7A5-A0657B470F1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entre d’enseignement </a:t>
            </a:r>
            <a:br>
              <a:rPr sz="2400"/>
            </a:b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aux métiers de la sant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12720" y="182880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regroupement d’activités d’enseignemen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763640" y="312408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nforcé par des activités à dével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3635280" y="191628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789440" y="3090960"/>
            <a:ext cx="40305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 activités de recherche et d’enseignement innova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imaux à l’école vétérinaire Maisons Al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jets anatom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ulation médico-chirurg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s comportement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enariat avec le pôle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356000" y="321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140360" y="1700280"/>
            <a:ext cx="302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 de chirur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s d’IADE et IB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90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5"/>
          <p:cNvGrpSpPr/>
          <p:nvPr/>
        </p:nvGrpSpPr>
        <p:grpSpPr>
          <a:xfrm>
            <a:off x="4716360" y="3718080"/>
            <a:ext cx="73080" cy="1150920"/>
            <a:chOff x="4716360" y="3718080"/>
            <a:chExt cx="73080" cy="1150920"/>
          </a:xfrm>
        </p:grpSpPr>
        <p:sp>
          <p:nvSpPr>
            <p:cNvPr id="296" name="Oval 11"/>
            <p:cNvSpPr/>
            <p:nvPr/>
          </p:nvSpPr>
          <p:spPr>
            <a:xfrm>
              <a:off x="4716360" y="371808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2"/>
            <p:cNvSpPr/>
            <p:nvPr/>
          </p:nvSpPr>
          <p:spPr>
            <a:xfrm>
              <a:off x="4716360" y="400536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"/>
            <p:cNvSpPr/>
            <p:nvPr/>
          </p:nvSpPr>
          <p:spPr>
            <a:xfrm>
              <a:off x="4718160" y="4275000"/>
              <a:ext cx="7128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4"/>
            <p:cNvSpPr/>
            <p:nvPr/>
          </p:nvSpPr>
          <p:spPr>
            <a:xfrm>
              <a:off x="4716360" y="45259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4716360" y="479736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2FDBE8-0CB0-43D8-B537-5A3CFDD8A55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transfert du sièg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0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39640" y="3068640"/>
            <a:ext cx="338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ller le siè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 sein de l’Hôtel-Di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27640" y="2349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managé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356000" y="4221000"/>
            <a:ext cx="424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meilleure organisation spatiale sou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yner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10" name="Oval 3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rc 3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3447F0-9539-472C-990B-C249921DA49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Un musée transform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17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539640" y="19162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sser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2556000" y="141300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708360" y="16844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s professionnels et acteurs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6"/>
          <p:cNvSpPr/>
          <p:nvPr/>
        </p:nvSpPr>
        <p:spPr>
          <a:xfrm>
            <a:off x="4140360" y="2349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4284720" y="220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 grand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2916360" y="1341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 hier et aujourd’hu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rchives historiqu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4284720" y="3716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4572000" y="364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librairie-bo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4284720" y="420372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espace d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3851280" y="4700520"/>
            <a:ext cx="424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billetterie commun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usée de l’AP-HP, tours de Notre-Dame, conciergerie et Sainte-Chapel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9"/>
          <p:cNvSpPr/>
          <p:nvPr/>
        </p:nvSpPr>
        <p:spPr>
          <a:xfrm>
            <a:off x="349236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900000" y="3933720"/>
            <a:ext cx="29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Équilibré financièrement 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33" name="Oval 4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rc 4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4000" y="1484280"/>
            <a:ext cx="8496000" cy="4753080"/>
          </a:xfrm>
          <a:prstGeom prst="rect">
            <a:avLst/>
          </a:prstGeom>
          <a:solidFill>
            <a:srgbClr val="d2eb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30920" y="1628640"/>
            <a:ext cx="194472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1628640"/>
            <a:ext cx="583236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64087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br>
              <a:rPr sz="2400"/>
            </a:br>
            <a:r>
              <a:rPr b="0" i="1" lang="en-US" sz="2000" spc="-1" strike="noStrike">
                <a:solidFill>
                  <a:srgbClr val="00519e"/>
                </a:solidFill>
                <a:latin typeface="Arial"/>
              </a:rPr>
              <a:t>La gouvernance cible</a:t>
            </a:r>
            <a:endParaRPr b="0" lang="en-US" sz="2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765000"/>
            <a:ext cx="48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ite de l’Hôtel-Die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55640" y="2254320"/>
            <a:ext cx="3465000" cy="3695400"/>
            <a:chOff x="755640" y="2254320"/>
            <a:chExt cx="3465000" cy="3695400"/>
          </a:xfrm>
        </p:grpSpPr>
        <p:sp>
          <p:nvSpPr>
            <p:cNvPr id="344" name=""/>
            <p:cNvSpPr/>
            <p:nvPr/>
          </p:nvSpPr>
          <p:spPr>
            <a:xfrm>
              <a:off x="755640" y="2254320"/>
              <a:ext cx="3465000" cy="3695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 groupement de coopération sanitai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r les activités de so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8160" y="3009600"/>
              <a:ext cx="145728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ôle d’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-H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87960" y="3009600"/>
              <a:ext cx="154980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utres 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983280" y="2206800"/>
            <a:ext cx="154944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80400" y="313056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u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80400" y="405432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c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00720" y="3022560"/>
            <a:ext cx="1550880" cy="266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seign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t recherc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 santé publ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1773360"/>
            <a:ext cx="33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ôtel-Dieu érigé en 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81840" y="497844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sidence étudi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773360"/>
            <a:ext cx="165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utres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77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55" name="Arc 71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7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975DF4-0929-4DF4-A270-2AAC48D6B4A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s aspects économiques et financiers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6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00000" y="19890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financement d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70036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643280" y="3573360"/>
            <a:ext cx="432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it la nécessité de trouver un portage financier  proportionnel à la déc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4356000" y="357336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419640" y="1125360"/>
            <a:ext cx="42494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’apport financier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oriser Victoria et St Martin pour financer les travaux de l’Hôtel-D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4572000" y="1989000"/>
            <a:ext cx="4464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 règle des cessions en zone déficitaire en logements soci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% des surfaces de Victoria et St Martin sont affectés à des logements soci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montant de la cession ne sera évaluable qu’à l’issue des négociations relatives à la décote Duf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3851280" y="2060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1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71" name="Arc 12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17"/>
          <p:cNvSpPr/>
          <p:nvPr/>
        </p:nvSpPr>
        <p:spPr>
          <a:xfrm>
            <a:off x="395280" y="436572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te de résultat au minimum neutre pour l’AP-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3633840" y="4724280"/>
            <a:ext cx="504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recherche d’équilibre pour les activités nouvelles avec la participation de partenaires exter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268360" y="5356080"/>
            <a:ext cx="55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 activités existantes au minimum neutres pour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3419640" y="4797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2"/>
          <p:cNvSpPr/>
          <p:nvPr/>
        </p:nvSpPr>
        <p:spPr>
          <a:xfrm>
            <a:off x="2050920" y="5157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795A79-7F8E-4B38-99E1-C87F8CF632D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alendrier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8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2236680" y="429264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427640" y="4149720"/>
            <a:ext cx="35179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ctivités de 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s travaux fin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419640" y="4937040"/>
            <a:ext cx="44654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utres e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 l’ensemble du projet fin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780000" y="2060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298764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579600" y="2013120"/>
            <a:ext cx="2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plan local d’urb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4284720" y="206064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ication du PLU f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5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93" name="Arc 46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7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8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9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0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0DF44E-A384-4F86-BA45-DCB1C894831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Sommaire 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635280" y="2506680"/>
            <a:ext cx="230508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rc 8"/>
          <p:cNvSpPr/>
          <p:nvPr/>
        </p:nvSpPr>
        <p:spPr>
          <a:xfrm rot="21391200">
            <a:off x="1763280" y="2428920"/>
            <a:ext cx="2195640" cy="22464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3564000" y="2708280"/>
            <a:ext cx="164880" cy="1857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3708360" y="3933720"/>
            <a:ext cx="165240" cy="1875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3448080" y="3803760"/>
            <a:ext cx="299556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AD00C3-7071-4D6A-AAB2-2182A665279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89080" y="1341360"/>
          <a:ext cx="8675640" cy="45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341360"/>
                    <a:ext cx="867564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0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05" name="Oval 26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rc 28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C32735-391C-408C-80DD-B2A76F8C5B1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1"/>
          <p:cNvGraphicFramePr/>
          <p:nvPr/>
        </p:nvGraphicFramePr>
        <p:xfrm>
          <a:off x="620640" y="1382760"/>
          <a:ext cx="7767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382760"/>
                    <a:ext cx="7767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23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15" name="Oval 24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25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6916F1-1786-40CA-B743-F920373D58A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5975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971640" y="2852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innovante dans ses objectifs et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132000" y="14130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er l’accès aux populations frag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277164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4356000" y="220500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épondre aux besoins sanitaires qui ont besoin d’être renforc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4356000" y="364500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535640" y="350028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 la médecine de ville et  des médecins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924360" y="4581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niversi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484360" y="5229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s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363528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2195640" y="5157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6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35" name="Oval 6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rc 6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E6284C-BAFF-4875-BD68-49DA0E0FB0E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4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4000" y="2924280"/>
            <a:ext cx="36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structure interuniversitaire de soins, d’enseignement et de recherche en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995640" y="162864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és de soins ambulatoires ouvertes sur la 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13200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3492360" y="494172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seignement et recherche en santé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4211640" y="4005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5"/>
          <p:cNvSpPr/>
          <p:nvPr/>
        </p:nvSpPr>
        <p:spPr>
          <a:xfrm>
            <a:off x="4356000" y="2852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643280" y="278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J Cusco adossées à un SMUR 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27640" y="4005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anté étud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53" name="Oval 3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FC6979-7CB8-493C-A844-F286541F16A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6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50920" y="286380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ueil et orientation des activités ambulato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68360" y="170028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médicales sans rendez-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268360" y="2444760"/>
            <a:ext cx="360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spécialis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 très spécialis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341440" y="4492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oins paramédic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2341440" y="5068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médic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5869080" y="1486080"/>
            <a:ext cx="3022560" cy="57456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magerie et télémédec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RM, scanner, salles conventionnelles, ostéodensitométrie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5867280" y="2249640"/>
            <a:ext cx="3024360" cy="50292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hographie multidisciplinai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5867280" y="443700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preuves fonctionn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spiratoires, urodynamique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5867280" y="371628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ge ambula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ppler, sommeil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5867280" y="2997360"/>
            <a:ext cx="3024360" cy="47124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s anesthésie géné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3"/>
          <p:cNvSpPr/>
          <p:nvPr/>
        </p:nvSpPr>
        <p:spPr>
          <a:xfrm>
            <a:off x="2124000" y="3429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5651640" y="981000"/>
            <a:ext cx="360360" cy="5184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216000 h 5184720"/>
              <a:gd name="textAreaBottom" fmla="*/ 4968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1908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1908000" y="189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1908000" y="4637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>
            <a:off x="1908000" y="523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2"/>
          <p:cNvSpPr/>
          <p:nvPr/>
        </p:nvSpPr>
        <p:spPr>
          <a:xfrm>
            <a:off x="5867280" y="515772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 de prélè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79" name="Oval 7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rc 7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7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48"/>
          <p:cNvSpPr/>
          <p:nvPr/>
        </p:nvSpPr>
        <p:spPr>
          <a:xfrm>
            <a:off x="1979640" y="3989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340000" y="38289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évention et dépi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B46893-9E9B-4F29-8CF8-E67CEF75AB3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88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50920" y="286380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268360" y="2187720"/>
            <a:ext cx="62643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ultations médicales sans rendez-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formation du SAU en un accueil  de médecine générale ouvert H24 adossée à un SMUR H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 jour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ynéc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ntaire et odont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ermanence d’Accès aux So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>
            <a:off x="1908000" y="23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93" name="Oval 5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rc 5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90D5B7-2023-4C07-A82E-C777640A580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771640" y="1628640"/>
            <a:ext cx="5977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s de médecine spécialisée et très spécialis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itairement sur rendez-vous mais en préservant un accès possible sans rendez-vous de l’ordre de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ant un nombre important de spécialités méd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vention - dépi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 préventi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éparation au voy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à la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e dépistag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e gamme étendue d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219564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50920" y="296388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4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05" name="Oval 35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rc 36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8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15"/>
          <p:cNvSpPr/>
          <p:nvPr/>
        </p:nvSpPr>
        <p:spPr>
          <a:xfrm>
            <a:off x="21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4:10:09Z</dcterms:created>
  <dc:creator>direction de projet HDT</dc:creator>
  <dc:description/>
  <dc:language>en-US</dc:language>
  <cp:lastModifiedBy>111220</cp:lastModifiedBy>
  <dcterms:modified xsi:type="dcterms:W3CDTF">2013-03-20T18:18:12Z</dcterms:modified>
  <cp:revision>329</cp:revision>
  <dc:subject/>
  <dc:title>Diapositive 1</dc:title>
</cp:coreProperties>
</file>