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4CEE-26D0-4F3B-8D51-2C34793F8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F170-F24D-49DA-83E0-4FF548831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B2CB-272E-43DD-B625-E882CAD0C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9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7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492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7B13-997F-4272-A56B-704B74A8E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4A8-12C2-4FA9-8FE1-7ECAFD50A2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3AD-39CC-4BDD-BE2E-7AA2E721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19B-BFEF-4C76-B4F2-3BD8925B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430-23E0-49CA-BCEE-F4A1D3CF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208-57C5-420B-97D7-1401C175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BF1-9369-4041-BB4E-47E9DB06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F93-1996-47C8-950C-3BF47A37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6A91-D389-4AF1-A00F-26DEB6BA6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340-F7CE-4A0C-99DF-20B07C7C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51E-6F40-4D82-BB98-C0DAC7CA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28F-4F67-4FE4-883B-2075AA25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E8D-657C-412C-9943-EF264DEA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19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47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492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0FE-8FCB-4FA6-9660-56F72FD83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CEAA-CB9B-4BEB-9AE7-2E9E8FC96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2272-4E66-478D-AC37-C5AB1C2E7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5AE7-DDF0-48F1-B152-7CF10A051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D4DE-1675-4176-AD0E-9D028D87B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2574-3F8E-4AC8-9346-C5D08A2D4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A4C8-6232-465D-8877-E43B8ADB2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0D3B-A80B-4DFC-AC8C-6F0E2E96D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3289320" y="6159600"/>
            <a:ext cx="2565360" cy="68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19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499"/>
              </a:spcBef>
              <a:buClr>
                <a:srgbClr val="00519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303120">
              <a:spcBef>
                <a:spcPts val="499"/>
              </a:spcBef>
              <a:buClr>
                <a:srgbClr val="00519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5600" indent="-226800">
              <a:spcBef>
                <a:spcPts val="499"/>
              </a:spcBef>
              <a:buClr>
                <a:srgbClr val="00519e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39760">
              <a:spcBef>
                <a:spcPts val="499"/>
              </a:spcBef>
              <a:buClr>
                <a:srgbClr val="00519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52436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E4A461-AD2A-4A65-8896-7AC2C8019C2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719280" y="6246720"/>
            <a:ext cx="25574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12800" y="177840"/>
            <a:ext cx="3859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5" descr=""/>
          <p:cNvPicPr/>
          <p:nvPr/>
        </p:nvPicPr>
        <p:blipFill>
          <a:blip r:embed="rId3"/>
          <a:stretch/>
        </p:blipFill>
        <p:spPr>
          <a:xfrm>
            <a:off x="719280" y="0"/>
            <a:ext cx="2195280" cy="106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"/>
          <p:cNvPicPr/>
          <p:nvPr/>
        </p:nvPicPr>
        <p:blipFill>
          <a:blip r:embed="rId4"/>
          <a:stretch/>
        </p:blipFill>
        <p:spPr>
          <a:xfrm>
            <a:off x="0" y="6297480"/>
            <a:ext cx="576360" cy="1429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7" descr=""/>
          <p:cNvPicPr/>
          <p:nvPr/>
        </p:nvPicPr>
        <p:blipFill>
          <a:blip r:embed="rId5"/>
          <a:stretch/>
        </p:blipFill>
        <p:spPr>
          <a:xfrm>
            <a:off x="8567640" y="6297480"/>
            <a:ext cx="576360" cy="1429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1"/>
          <p:cNvSpPr/>
          <p:nvPr/>
        </p:nvSpPr>
        <p:spPr>
          <a:xfrm>
            <a:off x="250920" y="6524640"/>
            <a:ext cx="3241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sentation du projet Hôtel-Dieu conférence de territoire mars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19e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"/>
          <p:cNvPicPr/>
          <p:nvPr/>
        </p:nvPicPr>
        <p:blipFill>
          <a:blip r:embed="rId2"/>
          <a:stretch/>
        </p:blipFill>
        <p:spPr>
          <a:xfrm>
            <a:off x="3029040" y="3187800"/>
            <a:ext cx="611496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"/>
          <p:cNvPicPr/>
          <p:nvPr/>
        </p:nvPicPr>
        <p:blipFill>
          <a:blip r:embed="rId3"/>
          <a:stretch/>
        </p:blipFill>
        <p:spPr>
          <a:xfrm>
            <a:off x="719280" y="0"/>
            <a:ext cx="2195280" cy="106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4"/>
          <a:stretch/>
        </p:blipFill>
        <p:spPr>
          <a:xfrm>
            <a:off x="3289320" y="5934240"/>
            <a:ext cx="2565360" cy="682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712800" y="177840"/>
            <a:ext cx="3859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6372360" y="6524640"/>
            <a:ext cx="2627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80D052-58DF-42D4-B7B7-7571D8319BD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19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499"/>
              </a:spcBef>
              <a:buClr>
                <a:srgbClr val="00519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303120">
              <a:spcBef>
                <a:spcPts val="499"/>
              </a:spcBef>
              <a:buClr>
                <a:srgbClr val="00519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5600" indent="-226800">
              <a:spcBef>
                <a:spcPts val="499"/>
              </a:spcBef>
              <a:buClr>
                <a:srgbClr val="00519e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39760">
              <a:spcBef>
                <a:spcPts val="499"/>
              </a:spcBef>
              <a:buClr>
                <a:srgbClr val="00519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719280" y="5358960"/>
            <a:ext cx="758664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250560" y="6524640"/>
            <a:ext cx="331308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ésentation du projet Hôtel-Dieu février 2013 v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"/>
          <p:cNvSpPr/>
          <p:nvPr/>
        </p:nvSpPr>
        <p:spPr>
          <a:xfrm>
            <a:off x="250920" y="6524640"/>
            <a:ext cx="3313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sentation du projet Hôtel-Dieu conférence de territoire mars 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10108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ésentation du projet de transformation de l’Hôtel-Die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s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539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70876C-C4F7-44E8-9F04-1FE86DC4C4C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13" name="Arc 11"/>
          <p:cNvSpPr/>
          <p:nvPr/>
        </p:nvSpPr>
        <p:spPr>
          <a:xfrm rot="21391200">
            <a:off x="107640" y="256536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1413000"/>
            <a:ext cx="6480000" cy="22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 soins paramédicaux prioritairement réservé aux patients des consul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rm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ésithéra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été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ych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190800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411280" y="3716280"/>
            <a:ext cx="46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n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0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340000" y="4437000"/>
            <a:ext cx="44654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 médica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gi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 thérapeu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1979640" y="45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250920" y="30351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8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22" name="Oval 39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rc 40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41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2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43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8B6C2D-687F-4C32-8A2F-9D2EDBB0F2D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900000" y="31417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s 4 prin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4429080" y="2133720"/>
            <a:ext cx="4714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ccompagner les transformations du système de s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voriser une synergie entre recherche, action et apprenti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voriser l’articulation entre soin et santé pu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écliner le projet en buts popul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5"/>
          <p:cNvSpPr/>
          <p:nvPr/>
        </p:nvSpPr>
        <p:spPr>
          <a:xfrm>
            <a:off x="3492360" y="177336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572000" y="357336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pluridisciplin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7"/>
          <p:cNvSpPr/>
          <p:nvPr/>
        </p:nvSpPr>
        <p:spPr>
          <a:xfrm>
            <a:off x="4356000" y="36464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3924360" y="436572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4211640" y="441972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interuniversi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2"/>
          <p:cNvSpPr/>
          <p:nvPr/>
        </p:nvSpPr>
        <p:spPr>
          <a:xfrm>
            <a:off x="2627280" y="5084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2987640" y="5084640"/>
            <a:ext cx="6048360" cy="10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lieu ou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À toutes les disciplines médicales ou non, aux professionnels et acteurs de santé, aux usa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À des partenariats français et internation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79280" y="189000"/>
            <a:ext cx="6624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4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40" name="Oval 4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4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47"/>
          <p:cNvSpPr/>
          <p:nvPr/>
        </p:nvSpPr>
        <p:spPr>
          <a:xfrm>
            <a:off x="3745080" y="1616040"/>
            <a:ext cx="471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de recherche et d’enseignement au service de l’innovation p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4E6DAC-676D-4584-B1A2-1FA0A3D5C3F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48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4360" y="1557360"/>
            <a:ext cx="33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clinique, épidémiologique, bio-statis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7"/>
          <p:cNvSpPr/>
          <p:nvPr/>
        </p:nvSpPr>
        <p:spPr>
          <a:xfrm>
            <a:off x="4356000" y="335772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2771640" y="5084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4643280" y="32846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en qualité, sécurité des soins, performances hospitaliè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3060720" y="501336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en promotion de la santé, optimisation des parcours santé et partenariat avec les us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684360" y="316404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rganisation en 3 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57" name="Oval 4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rc 4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4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4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F12E91-5C95-42B8-98A0-E7F1AB4643F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64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84360" y="314172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tribuer au développ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5"/>
          <p:cNvSpPr/>
          <p:nvPr/>
        </p:nvSpPr>
        <p:spPr>
          <a:xfrm>
            <a:off x="3059280" y="162864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"/>
          <p:cNvSpPr/>
          <p:nvPr/>
        </p:nvSpPr>
        <p:spPr>
          <a:xfrm>
            <a:off x="4137120" y="414972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3708360" y="907920"/>
            <a:ext cx="54356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la santé au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édecine du Personnel de l’AP-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ation de pathologies professionnelles et environnem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ssées à la recherche (VIFASOM) et l’expertise (Institut interuniversitai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2"/>
          <p:cNvSpPr/>
          <p:nvPr/>
        </p:nvSpPr>
        <p:spPr>
          <a:xfrm>
            <a:off x="4356000" y="29383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4535640" y="2708280"/>
            <a:ext cx="460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 la médecine lé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 des 10 structures de référence régionales sont à l’AP-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entre inter-universitaire pour conforter l’enseignement et la   recherche en médecine lég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72" name="Oval 4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rc 4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4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48" descr=""/>
          <p:cNvPicPr/>
          <p:nvPr/>
        </p:nvPicPr>
        <p:blipFill>
          <a:blip r:embed="rId1"/>
          <a:stretch/>
        </p:blipFill>
        <p:spPr>
          <a:xfrm>
            <a:off x="1979640" y="5167440"/>
            <a:ext cx="225360" cy="225360"/>
          </a:xfrm>
          <a:prstGeom prst="rect">
            <a:avLst/>
          </a:prstGeom>
          <a:ln w="0">
            <a:noFill/>
          </a:ln>
        </p:spPr>
      </p:pic>
      <p:sp>
        <p:nvSpPr>
          <p:cNvPr id="278" name="ZoneTexte 1"/>
          <p:cNvSpPr/>
          <p:nvPr/>
        </p:nvSpPr>
        <p:spPr>
          <a:xfrm>
            <a:off x="4359240" y="4149720"/>
            <a:ext cx="4667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la médecine géné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jeu majeur de la réforme du système de s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ns le cadre d’une transformation des soins de premier rec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 développant un lieu d’enseignement et de recher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2"/>
          <p:cNvSpPr/>
          <p:nvPr/>
        </p:nvSpPr>
        <p:spPr>
          <a:xfrm>
            <a:off x="1979640" y="5300640"/>
            <a:ext cx="6480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la recherche infirm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infirmières et les autres professions para-médicales participent à la recherche clinique et en qualité hospitaliè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faut développer la recherche sur les soins, les métiers et les organ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61EE66-75A8-4E82-A341-63699D0C8A5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centre d’enseignement </a:t>
            </a:r>
            <a:br>
              <a:rPr sz="2400"/>
            </a:b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aux métiers de la santé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82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12720" y="182880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regroupement d’activités d’enseignemen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763640" y="312408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nforcé par des activités à dével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3635280" y="191628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4789440" y="3090960"/>
            <a:ext cx="40305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s activités de recherche et d’enseignement innova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imaux à l’école vétérinaire Maisons Al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jets anatom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mulation médico-chirurgi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eliers comportement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tenariat avec le pôle santé pu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356000" y="321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140360" y="1700280"/>
            <a:ext cx="302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le de chirur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les d’IADE et IB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8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90" name="Oval 39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rc 40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41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42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5"/>
          <p:cNvGrpSpPr/>
          <p:nvPr/>
        </p:nvGrpSpPr>
        <p:grpSpPr>
          <a:xfrm>
            <a:off x="4716360" y="3718080"/>
            <a:ext cx="73080" cy="1150920"/>
            <a:chOff x="4716360" y="3718080"/>
            <a:chExt cx="73080" cy="1150920"/>
          </a:xfrm>
        </p:grpSpPr>
        <p:sp>
          <p:nvSpPr>
            <p:cNvPr id="296" name="Oval 11"/>
            <p:cNvSpPr/>
            <p:nvPr/>
          </p:nvSpPr>
          <p:spPr>
            <a:xfrm>
              <a:off x="4716360" y="3718080"/>
              <a:ext cx="7164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2"/>
            <p:cNvSpPr/>
            <p:nvPr/>
          </p:nvSpPr>
          <p:spPr>
            <a:xfrm>
              <a:off x="4716360" y="4005360"/>
              <a:ext cx="7164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"/>
            <p:cNvSpPr/>
            <p:nvPr/>
          </p:nvSpPr>
          <p:spPr>
            <a:xfrm>
              <a:off x="4718160" y="4275000"/>
              <a:ext cx="7128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4"/>
            <p:cNvSpPr/>
            <p:nvPr/>
          </p:nvSpPr>
          <p:spPr>
            <a:xfrm>
              <a:off x="4716360" y="45259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4"/>
            <p:cNvSpPr/>
            <p:nvPr/>
          </p:nvSpPr>
          <p:spPr>
            <a:xfrm>
              <a:off x="4716360" y="479736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DAF01E-BCE8-45B0-B5D4-E1675C675E6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transfert du sièg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03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39640" y="3068640"/>
            <a:ext cx="338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aller le siè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 sein de l’Hôtel-Di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4140360" y="24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27640" y="234936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managé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356000" y="4221000"/>
            <a:ext cx="424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meilleure organisation spatiale sour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syner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310" name="Oval 3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rc 3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3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D0D366-0BF8-48E3-AB02-3173410F194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Un musée transformé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17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539640" y="191628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sser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2556000" y="141300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3708360" y="16844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 les professionnels et acteurs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6"/>
          <p:cNvSpPr/>
          <p:nvPr/>
        </p:nvSpPr>
        <p:spPr>
          <a:xfrm>
            <a:off x="4140360" y="234936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4284720" y="2205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 le grand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2916360" y="134136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 hier et aujourd’hu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rchives historiqu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4284720" y="3716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4572000" y="3645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librairie-bou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4284720" y="420372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espace de resta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3851280" y="4700520"/>
            <a:ext cx="424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billetterie commun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usée de l’AP-HP, tours de Notre-Dame, conciergerie et Sainte-Chapel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28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9"/>
          <p:cNvSpPr/>
          <p:nvPr/>
        </p:nvSpPr>
        <p:spPr>
          <a:xfrm>
            <a:off x="3492360" y="465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900000" y="3933720"/>
            <a:ext cx="29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Équilibré financièrement p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7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333" name="Oval 48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rc 49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0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5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4000" y="1484280"/>
            <a:ext cx="8496000" cy="4753080"/>
          </a:xfrm>
          <a:prstGeom prst="rect">
            <a:avLst/>
          </a:prstGeom>
          <a:solidFill>
            <a:srgbClr val="d2eb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30920" y="1628640"/>
            <a:ext cx="1944720" cy="43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1628640"/>
            <a:ext cx="5832360" cy="43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64087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br>
              <a:rPr sz="2400"/>
            </a:br>
            <a:r>
              <a:rPr b="0" i="1" lang="en-US" sz="2000" spc="-1" strike="noStrike">
                <a:solidFill>
                  <a:srgbClr val="00519e"/>
                </a:solidFill>
                <a:latin typeface="Arial"/>
              </a:rPr>
              <a:t>La gouvernance cible</a:t>
            </a:r>
            <a:endParaRPr b="0" lang="en-US" sz="2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765000"/>
            <a:ext cx="4824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Site de l’Hôtel-Die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55640" y="2254320"/>
            <a:ext cx="3465000" cy="3695400"/>
            <a:chOff x="755640" y="2254320"/>
            <a:chExt cx="3465000" cy="3695400"/>
          </a:xfrm>
        </p:grpSpPr>
        <p:sp>
          <p:nvSpPr>
            <p:cNvPr id="344" name=""/>
            <p:cNvSpPr/>
            <p:nvPr/>
          </p:nvSpPr>
          <p:spPr>
            <a:xfrm>
              <a:off x="755640" y="2254320"/>
              <a:ext cx="3465000" cy="3695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 groupement de coopération sanitai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ur les activités de so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8160" y="3009600"/>
              <a:ext cx="1457280" cy="26881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ôle d’activités de san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-H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87960" y="3009600"/>
              <a:ext cx="1549800" cy="26881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utres activités de san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983280" y="2206800"/>
            <a:ext cx="154944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è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80400" y="313056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u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80400" y="405432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c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00720" y="3022560"/>
            <a:ext cx="1550880" cy="266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seign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t recherc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 santé publ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1773360"/>
            <a:ext cx="33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ôtel-Dieu érigé en 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81840" y="497844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ésidence étudi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773360"/>
            <a:ext cx="165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utres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77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55" name="Arc 71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73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4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75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76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56E1AF-903C-463C-AB8B-6D66B3108B8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s aspects économiques et financiers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62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00000" y="198900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financement des trav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2700360" y="1484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643280" y="3573360"/>
            <a:ext cx="432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it la nécessité de trouver un portage financier  proportionnel à la déc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4356000" y="357336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419640" y="1125360"/>
            <a:ext cx="42494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’apport financier de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oriser Victoria et St Martin pour financer les travaux de l’Hôtel-D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4572000" y="1989000"/>
            <a:ext cx="4464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a règle des cessions en zone déficitaire en logements soci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5% des surfaces de Victoria et St Martin sont affectés à des logements soci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montant de la cession ne sera évaluable qu’à l’issue des négociations relatives à la décote Duf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3851280" y="2060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1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71" name="Arc 12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3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4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5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6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17"/>
          <p:cNvSpPr/>
          <p:nvPr/>
        </p:nvSpPr>
        <p:spPr>
          <a:xfrm>
            <a:off x="395280" y="436572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te de résultat au minimum neutre pour l’AP-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3633840" y="4724280"/>
            <a:ext cx="504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recherche d’équilibre pour les activités nouvelles avec la participation de partenaires exter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2268360" y="5356080"/>
            <a:ext cx="55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 activités existantes au minimum neutres pour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1"/>
          <p:cNvSpPr/>
          <p:nvPr/>
        </p:nvSpPr>
        <p:spPr>
          <a:xfrm>
            <a:off x="3419640" y="479736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2"/>
          <p:cNvSpPr/>
          <p:nvPr/>
        </p:nvSpPr>
        <p:spPr>
          <a:xfrm>
            <a:off x="2050920" y="5157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A835B9-9EAD-46CB-BB20-0E26292A4A5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calendrier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83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2236680" y="429264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s trav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427640" y="4149720"/>
            <a:ext cx="35179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étape : les activités de 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finalisation des travaux fin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419640" y="4937040"/>
            <a:ext cx="44654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étape : les autres e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finalisation de l’ensemble du projet fin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780000" y="206064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2987640" y="4941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579600" y="2013120"/>
            <a:ext cx="2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plan local d’urb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5"/>
          <p:cNvSpPr/>
          <p:nvPr/>
        </p:nvSpPr>
        <p:spPr>
          <a:xfrm>
            <a:off x="4284720" y="206064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ication du PLU f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5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93" name="Arc 46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7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8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9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50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CFC1FA-DED1-4E32-A753-3B77D391E33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Sommaire 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3635280" y="2506680"/>
            <a:ext cx="2305080" cy="561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rc 8"/>
          <p:cNvSpPr/>
          <p:nvPr/>
        </p:nvSpPr>
        <p:spPr>
          <a:xfrm rot="21391200">
            <a:off x="1763280" y="2428920"/>
            <a:ext cx="2195640" cy="22464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3564000" y="2708280"/>
            <a:ext cx="164880" cy="18576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3708360" y="3933720"/>
            <a:ext cx="165240" cy="18756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3448080" y="3803760"/>
            <a:ext cx="2995560" cy="561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2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B409F9-AA0E-4DC4-9442-5B57AC05C11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289080" y="1341360"/>
          <a:ext cx="8675640" cy="45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1341360"/>
                    <a:ext cx="867564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0"/>
          <p:cNvSpPr/>
          <p:nvPr/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05" name="Oval 26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rc 28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9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2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3E106D-4CF9-4DB5-B96F-28695B35DCD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21"/>
          <p:cNvGraphicFramePr/>
          <p:nvPr/>
        </p:nvGraphicFramePr>
        <p:xfrm>
          <a:off x="620640" y="1382760"/>
          <a:ext cx="776772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382760"/>
                    <a:ext cx="7767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23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15" name="Oval 24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25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6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7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1DF7AC-F3E7-48CD-9D0E-59858E3DAA9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59752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22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971640" y="285264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innovante dans ses objectifs et so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3132000" y="14130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er l’accès aux populations frag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2771640" y="1484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4356000" y="220500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épondre aux besoins sanitaires qui ont besoin d’être renforc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4140360" y="24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4356000" y="364500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4535640" y="350028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 la médecine de ville et  des médecins de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924360" y="458136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s universi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484360" y="5229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s us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"/>
          <p:cNvSpPr/>
          <p:nvPr/>
        </p:nvSpPr>
        <p:spPr>
          <a:xfrm>
            <a:off x="3635280" y="465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2195640" y="515772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6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35" name="Oval 6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rc 6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30EDF2-C08E-4EA1-82F9-BCA2E0E15BC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42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24000" y="2924280"/>
            <a:ext cx="36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structure interuniversitaire de soins, d’enseignement et de recherche en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995640" y="162864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és de soins ambulatoires ouvertes sur la v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132000" y="4941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3492360" y="494172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seignement et recherche en santé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4"/>
          <p:cNvSpPr/>
          <p:nvPr/>
        </p:nvSpPr>
        <p:spPr>
          <a:xfrm>
            <a:off x="4211640" y="400536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5"/>
          <p:cNvSpPr/>
          <p:nvPr/>
        </p:nvSpPr>
        <p:spPr>
          <a:xfrm>
            <a:off x="4356000" y="2852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643280" y="278136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J Cusco adossées à un SMUR H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4427640" y="400536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de santé étud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7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53" name="Oval 38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39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F57D65-A4FC-4169-AAFE-88EB882DB7C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60" name="Arc 11"/>
          <p:cNvSpPr/>
          <p:nvPr/>
        </p:nvSpPr>
        <p:spPr>
          <a:xfrm rot="21391200">
            <a:off x="107640" y="249228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50920" y="286380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cueil et orientation des activités ambulato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268360" y="170028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eur de consultations médicales sans rendez-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2268360" y="2444760"/>
            <a:ext cx="360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eur de consultations spécialis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 très spécialis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2341440" y="44928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de soins paramédic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2341440" y="50688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médica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5869080" y="1486080"/>
            <a:ext cx="3022560" cy="57456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magerie et télémédec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RM, scanner, salles conventionnelles, ostéodensitométrie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5867280" y="2249640"/>
            <a:ext cx="3024360" cy="50292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hographie multidisciplinai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5867280" y="443700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preuves fonctionne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spiratoires, urodynamiques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5867280" y="371628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age ambulat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ppler, sommeil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5867280" y="2997360"/>
            <a:ext cx="3024360" cy="47124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osco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s anesthésie géné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3"/>
          <p:cNvSpPr/>
          <p:nvPr/>
        </p:nvSpPr>
        <p:spPr>
          <a:xfrm>
            <a:off x="2124000" y="342900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5"/>
          <p:cNvSpPr/>
          <p:nvPr/>
        </p:nvSpPr>
        <p:spPr>
          <a:xfrm>
            <a:off x="5651640" y="981000"/>
            <a:ext cx="360360" cy="5184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216000 h 5184720"/>
              <a:gd name="textAreaBottom" fmla="*/ 4968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190800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1908000" y="189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9"/>
          <p:cNvSpPr/>
          <p:nvPr/>
        </p:nvSpPr>
        <p:spPr>
          <a:xfrm>
            <a:off x="1908000" y="4637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0"/>
          <p:cNvSpPr/>
          <p:nvPr/>
        </p:nvSpPr>
        <p:spPr>
          <a:xfrm>
            <a:off x="1908000" y="5230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2"/>
          <p:cNvSpPr/>
          <p:nvPr/>
        </p:nvSpPr>
        <p:spPr>
          <a:xfrm>
            <a:off x="5867280" y="515772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e de prélè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79" name="Oval 7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rc 7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7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48"/>
          <p:cNvSpPr/>
          <p:nvPr/>
        </p:nvSpPr>
        <p:spPr>
          <a:xfrm>
            <a:off x="1979640" y="3989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340000" y="382896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évention et dépi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1E0F70-B686-44FC-BE7B-C4FB6D94BB5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88" name="Arc 11"/>
          <p:cNvSpPr/>
          <p:nvPr/>
        </p:nvSpPr>
        <p:spPr>
          <a:xfrm rot="21391200">
            <a:off x="107640" y="256536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50920" y="286380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268360" y="2187720"/>
            <a:ext cx="626436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ultations médicales sans rendez-v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formation du SAU en un accueil  de médecine générale ouvert H24 adossée à un SMUR H2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 jour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ynéc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ntaire et odont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ermanence d’Accès aux So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>
            <a:off x="1908000" y="2386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93" name="Oval 5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rc 5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5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DE70EC-B001-477C-A612-61BF6D68C1C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00" name="Arc 11"/>
          <p:cNvSpPr/>
          <p:nvPr/>
        </p:nvSpPr>
        <p:spPr>
          <a:xfrm rot="21391200">
            <a:off x="107640" y="249228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771640" y="1628640"/>
            <a:ext cx="59770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s de médecine spécialisée et très spécialis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joritairement sur rendez-vous mais en préservant un accès possible sans rendez-vous de l’ordre de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ant un nombre important de spécialités médi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vention - dépi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 préventi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éparation au voy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ucation à la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e dépistag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e gamme étendue d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219564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250920" y="296388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4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05" name="Oval 35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rc 36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7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8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Line 15"/>
          <p:cNvSpPr/>
          <p:nvPr/>
        </p:nvSpPr>
        <p:spPr>
          <a:xfrm>
            <a:off x="2195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14:10:09Z</dcterms:created>
  <dc:creator>direction de projet HDT</dc:creator>
  <dc:description/>
  <dc:language>en-US</dc:language>
  <cp:lastModifiedBy>111220</cp:lastModifiedBy>
  <dcterms:modified xsi:type="dcterms:W3CDTF">2013-03-20T18:18:12Z</dcterms:modified>
  <cp:revision>329</cp:revision>
  <dc:subject/>
  <dc:title>Diapositive 1</dc:title>
</cp:coreProperties>
</file>