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2B975-14AE-4092-9E51-AFDC44E7747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71055-A6FA-4603-8D61-D1B8D16E49C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9BAE-488D-4EB4-9E55-ECBACFC70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08D5-8C9C-4385-BF9B-212866DEE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CC3C-F497-4DC5-B888-E6CBCE583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4AF8-BF2F-4401-9A91-CCCA3D0C9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9D86-BE93-48AF-9532-6D1AE91B1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981A-D322-4778-8292-BA444E7CB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10AE-FE38-4BEA-9A82-0F5D8EFAE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31F2-9367-4EA2-92E0-99414FB2E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70B9-EA5F-4380-B59A-21C3308A7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8AF8-E550-4D49-ABF1-815FE8A5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11D2-8249-43FA-8C5F-4A2EEB2D3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8E72-66E5-45BB-AE7A-1113BD1FB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876E2-F100-43C7-A18D-B001E2ACE5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99640" y="1557360"/>
            <a:ext cx="755676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tructures d’accueil et des soins en addictologie à Par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213000"/>
            <a:ext cx="6400800" cy="24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SAP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AAR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ités d’addictologie hospitaliè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L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éseau ville hôp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12268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53735"/>
                </a:solidFill>
                <a:latin typeface="Arial"/>
              </a:rPr>
              <a:t>Traitements de substitution aux opiacé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84360" y="1844640"/>
          <a:ext cx="7632720" cy="3527640"/>
        </p:xfrm>
        <a:graphic>
          <a:graphicData uri="http://schemas.openxmlformats.org/drawingml/2006/table">
            <a:tbl>
              <a:tblPr/>
              <a:tblGrid>
                <a:gridCol w="1439640"/>
                <a:gridCol w="1631880"/>
                <a:gridCol w="1446480"/>
                <a:gridCol w="1595160"/>
                <a:gridCol w="1519560"/>
              </a:tblGrid>
              <a:tr h="77004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b de patients sous traiteme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de la file activ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pensation par le Cen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0da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des patients traité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0da"/>
                    </a:solidFill>
                  </a:tcPr>
                </a:tc>
              </a:tr>
              <a:tr h="91908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éthad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53735"/>
                          </a:solidFill>
                          <a:latin typeface="Arial"/>
                          <a:ea typeface="Arial"/>
                        </a:rPr>
                        <a:t>26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53735"/>
                          </a:solidFill>
                          <a:latin typeface="Arial"/>
                          <a:ea typeface="Arial"/>
                        </a:rPr>
                        <a:t>1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53735"/>
                          </a:solidFill>
                          <a:latin typeface="Arial"/>
                          <a:ea typeface="Arial"/>
                        </a:rPr>
                        <a:t>21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53735"/>
                          </a:solidFill>
                          <a:latin typeface="Arial"/>
                          <a:ea typeface="Arial"/>
                        </a:rPr>
                        <a:t>8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91908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H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53735"/>
                          </a:solidFill>
                          <a:latin typeface="Arial"/>
                          <a:ea typeface="Arial"/>
                        </a:rPr>
                        <a:t>16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53735"/>
                          </a:solidFill>
                          <a:latin typeface="Arial"/>
                          <a:ea typeface="Arial"/>
                        </a:rPr>
                        <a:t>1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53735"/>
                          </a:solidFill>
                          <a:latin typeface="Arial"/>
                          <a:ea typeface="Arial"/>
                        </a:rPr>
                        <a:t>8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53735"/>
                          </a:solidFill>
                          <a:latin typeface="Arial"/>
                          <a:ea typeface="Arial"/>
                        </a:rPr>
                        <a:t>5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91944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42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2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29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7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</a:tr>
            </a:tbl>
          </a:graphicData>
        </a:graphic>
      </p:graphicFrame>
      <p:sp>
        <p:nvSpPr>
          <p:cNvPr id="72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D48A9-C3CC-401C-A757-4DA501D15C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Espace réservé du pied de pag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S-DT75 : Réunion CSAPA - 5 sept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édérations - regroupements  - associations nationales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édération Add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ssociation Française de Rd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éseau Français de Rd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llégiale Addictologie de l’APH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édération Française d’Addictolo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ESPADD (Réseau des établissements de santé pour la prévention des addiction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SU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ID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D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édération Addi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1. REGROUPER les acteurs de l’addictolog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avoriser la connaissance réciproque des adhérents, leurs échanges et leur expression, afin de produire une culture de coopération inter associativ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echercher l’engagement des adhérents en favorisant leur participation directe aux groupes de travail nationaux et régionaux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outenir les Unions régionales en formalisant les mandats et délégations des représentants régionaux et en favorisant la coopération entre régions, afin d’améliorer l’efficacité et la cohérence de leurs action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2. RÉFLECHIR aux évolutions et au sens de l’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évelopper un travail de veille et de transmission de l’information relative au secteur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romouvoir les pratiques professionnelles transdisciplinaires en addictologie, et accompagner leurs évolution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évelopper des études interactives afin d’étayer les positions de l’association sur la prise en charge des addiction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romouvoir et accompagner les démarches d’évaluation des services rendu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 . SOUTENIR le réseau dans son organis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ompagner le réseau dans l’évolution des pratiques, par le biais de journées de réflexion nationales et régionale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éliorer la professionnalisation des intervenants en proposant des actions de formation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frir un appui-conseil aux adhérents en matière d’élaboration de projets et de conduite d’actions en s’appuyant sur des personnes ressourc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 REPRÉSENTER les adhérents auprès des décide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iper à l’élaboration des politiques publiques au niveau national et régional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ire valoir les intérêts des usagers dans l’analyse de leurs attentes et de l’offre de service qui leur est proposé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mettre des éléments de connaissance sur la problématique des addictions, en s’appuyant sur les éléments fournis par les acteurs de terrain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iper aux travaux européens, nationaux et régionaux d’autres réseaux du secteur social, médico-social et sanitair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quer les positions de la Fédération à l’opinion publique, en structurant ses relations avec les média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ois dispositifs concourent à la prise en charge des consommateurs de substances psycho-activ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e dispositif de soins spécialisés en addictologie (établissements médico-sociaux : CSAPA, consultations jeunes consommateurs et communautés thérapeutique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e dispositif de soins généraliste (hôpitaux et médecins généralis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e dispositif de réduction des risques (CAARUD, PES, intevention en festif, SCMR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des CS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Ils  s’adressent aux personnes ayant une consommation à risque, un usage nocif ou présentant une dépendance aux substances psychoactives ainsi que pour leur entourage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«accueil, l'information, évaluation médicale, psychologique et sociale et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orientation de la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ersonne ou de son entou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réduction des risques associés à la consommation de substances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sychoa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rise en charge médicale, psychologique, sociale et éducative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(diagnostic, soins, accès aux droits sociaux , aide à l'insertion ou à la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réinsertion.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[sevrage - traitements médicamenteux dont TSO…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usagers de substances psychoactives illicites et/ou alcool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restations ambulatoires, et/ou hébergement individuel ou collectif, soit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es deux pres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équipe pluridisciplinaire dont la composition et le fonctionnement sont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nformes aux objectifs du projet d'établissement et permettent sa mise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n oeuvre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éfinition de la Rd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pter l’usage de substances psycho-activ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L’illusion d’éradication des drogues et des addictions, quelles qu’elles soient, est abandonnée, au profit de stratégies visant à responsabiliser les usagers, à réduire les dommages et à promouvoir la sant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définir le soin et la prévention en fonction de la hiérarchie des risques encou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ion d’acceptabilité du ris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risque acceptable pour la sociét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risque acceptable pour les (chaque) individ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rincipes d’intervention en Rd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ccueillir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sans condition ces usagers, là où ils sont et là où ils en son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« Aller vers »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complétant  « l’accueil et le traitement de la demande »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ntrer en contact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avec les publics, en particulier les plus marginalisés, qui ne veulent pas ou ne peuvent pas arrêter leurs consommation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nformer les personnes sur les risques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associés aux usages de SPA et leur prévention par toute forme de support, de conseils personnalisés, ou d’interventions en groupe.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Distribuer et promouvoir les matériels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visant la prévention de la transmission interhumaine d’agents infectieux et des risques septiques (seringues, préservatifs etc.), et récupération du matériel d’injection usagé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Favoriser l’accès aux droits et aux soin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Orienter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vers les dispositifs spécialisés et de droit commu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outenir l’action des groupes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d’entraide, l’expertise et le soutien par les pair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erspectives = Accompagner les consommation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imation du nombre de consommateurs de substance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sycho-actives à Paris en 2010</a:t>
            </a:r>
            <a:br>
              <a:rPr sz="1800"/>
            </a:br>
            <a:r>
              <a:rPr b="1" lang="en-US" sz="1800" spc="-1" strike="noStrike">
                <a:solidFill>
                  <a:srgbClr val="558ed5"/>
                </a:solidFill>
                <a:latin typeface="Arial"/>
              </a:rPr>
              <a:t>Population 10-74 ans = 1.852.044 </a:t>
            </a:r>
            <a:br>
              <a:rPr sz="1800"/>
            </a:br>
            <a:r>
              <a:rPr b="1" lang="en-US" sz="1800" spc="-1" strike="noStrike">
                <a:solidFill>
                  <a:srgbClr val="558ed5"/>
                </a:solidFill>
                <a:latin typeface="Arial"/>
              </a:rPr>
              <a:t>Population 18-24 ans = 310.0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68360" y="2205000"/>
          <a:ext cx="8280360" cy="3887640"/>
        </p:xfrm>
        <a:graphic>
          <a:graphicData uri="http://schemas.openxmlformats.org/drawingml/2006/table">
            <a:tbl>
              <a:tblPr/>
              <a:tblGrid>
                <a:gridCol w="1568520"/>
                <a:gridCol w="1198440"/>
                <a:gridCol w="974880"/>
                <a:gridCol w="1000080"/>
                <a:gridCol w="1000080"/>
                <a:gridCol w="1270080"/>
                <a:gridCol w="1268280"/>
              </a:tblGrid>
              <a:tr h="29160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974807"/>
                          </a:solidFill>
                          <a:latin typeface="Arial"/>
                        </a:rPr>
                        <a:t>10-74 a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Cannab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Cocaï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Ecstas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Héroï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Alco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Taba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81160"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Expérimentateu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506 465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56 694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41 576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18 898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1 678 139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1 341 755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60012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38ed5"/>
                          </a:solidFill>
                          <a:latin typeface="Arial"/>
                        </a:rPr>
                        <a:t>Dont usagers dans l'anné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143 624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15 118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5 669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</a:t>
                      </a:r>
                      <a:r>
                        <a:rPr b="1" lang="fr-FR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n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1 560 971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597 176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9868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38ed5"/>
                          </a:solidFill>
                          <a:latin typeface="Arial"/>
                        </a:rPr>
                        <a:t>Dont usagers réguli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45 355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</a:t>
                      </a:r>
                      <a:r>
                        <a:rPr b="1" lang="fr-FR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n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</a:t>
                      </a:r>
                      <a:r>
                        <a:rPr b="1" lang="fr-FR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n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</a:t>
                      </a:r>
                      <a:r>
                        <a:rPr b="1" lang="fr-FR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n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332 604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506 465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9832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38ed5"/>
                          </a:solidFill>
                          <a:latin typeface="Arial"/>
                        </a:rPr>
                        <a:t>Dont usagers quotidie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20 788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</a:t>
                      </a:r>
                      <a:r>
                        <a:rPr b="1" lang="fr-FR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n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</a:t>
                      </a:r>
                      <a:r>
                        <a:rPr b="1" lang="fr-FR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n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</a:t>
                      </a:r>
                      <a:r>
                        <a:rPr b="1" lang="fr-FR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n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188 980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506 465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2608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204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974807"/>
                          </a:solidFill>
                          <a:latin typeface="Arial"/>
                        </a:rPr>
                        <a:t>Usage régulier ou quotidien 18-24 a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632523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632523"/>
                          </a:solidFill>
                          <a:latin typeface="Arial"/>
                        </a:rPr>
                        <a:t>19 842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632523"/>
                          </a:solidFill>
                          <a:latin typeface="Arial"/>
                        </a:rPr>
                        <a:t> </a:t>
                      </a:r>
                      <a:r>
                        <a:rPr b="1" lang="fr-FR" sz="1200" spc="-1" strike="noStrike">
                          <a:solidFill>
                            <a:srgbClr val="632523"/>
                          </a:solidFill>
                          <a:latin typeface="Arial"/>
                        </a:rPr>
                        <a:t>n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632523"/>
                          </a:solidFill>
                          <a:latin typeface="Arial"/>
                        </a:rPr>
                        <a:t> </a:t>
                      </a:r>
                      <a:r>
                        <a:rPr b="1" lang="fr-FR" sz="1200" spc="-1" strike="noStrike">
                          <a:solidFill>
                            <a:srgbClr val="632523"/>
                          </a:solidFill>
                          <a:latin typeface="Arial"/>
                        </a:rPr>
                        <a:t>n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632523"/>
                          </a:solidFill>
                          <a:latin typeface="Arial"/>
                        </a:rPr>
                        <a:t> </a:t>
                      </a:r>
                      <a:r>
                        <a:rPr b="1" lang="fr-FR" sz="1200" spc="-1" strike="noStrike">
                          <a:solidFill>
                            <a:srgbClr val="632523"/>
                          </a:solidFill>
                          <a:latin typeface="Arial"/>
                        </a:rPr>
                        <a:t>n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632523"/>
                          </a:solidFill>
                          <a:latin typeface="Arial"/>
                        </a:rPr>
                        <a:t>          </a:t>
                      </a:r>
                      <a:r>
                        <a:rPr b="1" lang="en-US" sz="1200" spc="-1" strike="noStrike">
                          <a:solidFill>
                            <a:srgbClr val="632523"/>
                          </a:solidFill>
                          <a:latin typeface="Arial"/>
                        </a:rPr>
                        <a:t>31 004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632523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632523"/>
                          </a:solidFill>
                          <a:latin typeface="Arial"/>
                        </a:rPr>
                        <a:t>120 914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2572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23920">
                <a:tc gridSpan="2"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rce : Insee, baromètre santé 2010 (Inpes) et Ofdt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4714B-E64D-4369-8689-F71DCBE607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Espace réservé du pied de pag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S-DT75 : Réunion CSAPA - 5 sept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79200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tructures de soins à PAR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899640" y="2060280"/>
            <a:ext cx="74883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8 CSAP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9 CAAR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9 services hospitaliers (APHP)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6 EL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 EL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Consultations de tabacolog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53735"/>
                </a:solidFill>
                <a:latin typeface="Arial"/>
              </a:rPr>
              <a:t>Activités des CSAPA à Paris en 2011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Graphique 1" descr=""/>
          <p:cNvPicPr/>
          <p:nvPr/>
        </p:nvPicPr>
        <p:blipFill>
          <a:blip r:embed="rId1"/>
          <a:stretch/>
        </p:blipFill>
        <p:spPr>
          <a:xfrm>
            <a:off x="826920" y="836640"/>
            <a:ext cx="7312320" cy="64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Graphique 1" descr=""/>
          <p:cNvPicPr/>
          <p:nvPr/>
        </p:nvPicPr>
        <p:blipFill>
          <a:blip r:embed="rId1"/>
          <a:stretch/>
        </p:blipFill>
        <p:spPr>
          <a:xfrm>
            <a:off x="0" y="620640"/>
            <a:ext cx="9156600" cy="5664240"/>
          </a:xfrm>
          <a:prstGeom prst="rect">
            <a:avLst/>
          </a:prstGeom>
          <a:ln w="0">
            <a:noFill/>
          </a:ln>
        </p:spPr>
      </p:pic>
      <p:sp>
        <p:nvSpPr>
          <p:cNvPr id="68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BC0A3-7664-48E0-99A8-6728741AD1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S-DT75 : Réunion CSAPA - 5 sept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31T16:47:41Z</dcterms:created>
  <dc:creator>Catherine</dc:creator>
  <dc:description/>
  <dc:language>en-US</dc:language>
  <cp:lastModifiedBy>Catherine</cp:lastModifiedBy>
  <dcterms:modified xsi:type="dcterms:W3CDTF">2013-02-15T07:59:26Z</dcterms:modified>
  <cp:revision>19</cp:revision>
  <dc:subject/>
  <dc:title>Activités des CSAPA  à Paris en 2011</dc:title>
</cp:coreProperties>
</file>