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9DFE-D7C4-4E60-86F3-1B9D4F37D7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F327-EC85-45A3-BABC-A96CF900E5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112-A2C7-4B3E-A97F-DE119A20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804-F58D-4A05-89A8-BBF21C5E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400-D254-427A-8CC1-24342738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E04-0A6B-47E5-82B3-00A0D858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082-161D-4C92-AFD7-1FCF5E1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373-F5ED-43DB-B19A-E9DC4E5A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45A-0B7F-432C-A37D-6521D62F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6E5-0946-43F1-87E9-97ADB830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D2D-F173-40B4-AD99-2F807604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764-7FBB-4C3E-8024-9D5AA0D7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1E0-2D92-4EF4-97DE-B48CEC0B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8DC-AE9B-4D1A-9091-A7CA8A3A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A266-6DBB-45C5-BA26-5A22BCE11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75567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ructures d’accueil et des soins en addictologie à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A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AR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tés d’addictologie hospital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au ville hô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226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53735"/>
                </a:solidFill>
                <a:latin typeface="Arial"/>
              </a:rPr>
              <a:t>Traitements de substitution aux opia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844640"/>
          <a:ext cx="7632720" cy="3527640"/>
        </p:xfrm>
        <a:graphic>
          <a:graphicData uri="http://schemas.openxmlformats.org/drawingml/2006/table">
            <a:tbl>
              <a:tblPr/>
              <a:tblGrid>
                <a:gridCol w="1439640"/>
                <a:gridCol w="1631880"/>
                <a:gridCol w="1446480"/>
                <a:gridCol w="1595160"/>
                <a:gridCol w="1519560"/>
              </a:tblGrid>
              <a:tr h="770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b de patients sous traite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 la file a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ensation par le Cen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es patients traité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tha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6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H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6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8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53735"/>
                          </a:solidFill>
                          <a:latin typeface="Arial"/>
                          <a:ea typeface="Arial"/>
                        </a:rPr>
                        <a:t>5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9194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  <p:sp>
        <p:nvSpPr>
          <p:cNvPr id="7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997-0678-485F-949B-38AA1BD9F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édérations - regroupements  - associations nationale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ociation Française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eau Français de R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égiale Addictologie de l’A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édération Française d’Addict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PADD (Réseau des établissements de santé pour la prévention des addic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édération Ad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REGROUPER les acteurs de l’addict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voriser la connaissance réciproque des adhérents, leurs échanges et leur expression, afin de produire une culture de coopération inter associa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chercher l’engagement des adhérents en favorisant leur participation directe aux groupes de travail nationaux et régionaux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tenir les Unions régionales en formalisant les mandats et délégations des représentants régionaux et en favorisant la coopération entre régions, afin d’améliorer l’efficacité et la cohérence de leurs a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RÉFLECHIR aux évolutions et au sens de l’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un travail de veille et de transmission de l’information relative au secteu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les pratiques professionnelles transdisciplinaires en addictologie, et accompagner leurs évolu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des études interactives afin d’étayer les positions de l’association sur la prise en charge des addic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mouvoir et accompagner les démarches d’évaluation des services rend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. SOUTENIR le réseau dans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r le réseau dans l’évolution des pratiques, par le biais de journées de réflexion nationales et régional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professionnalisation des intervenants en proposant des actions de form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rir un appui-conseil aux adhérents en matière d’élaboration de projets et de conduite d’actions en s’appuyant sur des personnes ressour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REPRÉSENTER les adhérents auprès des décid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à l’élaboration des politiques publiques au niveau national et région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re valoir les intérêts des usagers dans l’analyse de leurs attentes et de l’offre de service qui leur est proposé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ettre des éléments de connaissance sur la problématique des addictions, en s’appuyant sur les éléments fournis par les acteurs de terra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er aux travaux européens, nationaux et régionaux d’autres réseaux du secteur social, médico-social et sanitair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quer les positions de la Fédération à l’opinion publique, en structurant ses relations avec les méd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is dispositifs concourent à la prise en charge des consommateurs de substances psycho-a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spécialisés en addictologie (établissements médico-sociaux : CSAPA, consultations jeunes consommateurs et communautés thérapeutiqu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soins généraliste (hôpitaux et médecins généralis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spositif de réduction des risques (CAARUD, PES, intevention en festif, SCM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des CS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ls  s’adressent aux personnes ayant une consommation à risque, un usage nocif ou présentant une dépendance aux substances psychoactives ainsi que pour leur entourag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«accueil, l'information, évaluation médicale, psychologique et sociale e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rientation de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onne ou de son entou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uction des risques associés à la consommation de substanc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sycho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ise en charge médicale, psychologique, sociale et éducativ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(diagnostic, soins, accès aux droits sociaux , aide à l'insertion ou à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insertion.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[sevrage - traitements médicamenteux dont TSO…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sagers de substances psychoactives illicites et/ou alcool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estations ambulatoires, et/ou hébergement individuel ou collectif, soi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s deux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quipe pluridisciplinaire dont la composition et le fonctionnement so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formes aux objectifs du projet d'établissement et permettent sa mis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oeuvre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finition de la Rd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er l’usage de substances psycho-a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L’illusion d’éradication des drogues et des addictions, quelles qu’elles soient, est abandonnée, au profit de stratégies visant à responsabiliser les usagers, à réduire les dommages et à promouvoir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éfinir le soin et la prévention en fonction de la hiérarchie des risques enco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ion d’acceptabilité du ri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a socié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isque acceptable pour les (chaque) indivi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incipes d’intervention en R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cueilli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sans condition ces usagers, là où ils sont et là où ils en so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« Aller vers »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omplétant  « l’accueil et le traitement de la demande 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trer en contac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vec les publics, en particulier les plus marginalisés, qui ne veulent pas ou ne peuvent pas arrêter leur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former les personnes sur les risqu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ssociés aux usages de SPA et leur prévention par toute forme de support, de conseils personnalisés, ou d’interventions en group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tribuer et promouvoir les matériel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isant la prévention de la transmission interhumaine d’agents infectieux et des risques septiques (seringues, préservatifs etc.), et récupération du matériel d’injection usag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avoriser l’accès aux droits et aux soi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rient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ers les dispositifs spécialisés et de droit comm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utenir l’action des group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’entraide, l’expertise et le soutien par les pai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spectives = Accompagner les consomm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ion du nombre de consommateurs de substanc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ycho-actives à Paris en 2010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0-74 ans = 1.852.044 </a:t>
            </a:r>
            <a:br>
              <a:rPr sz="1800"/>
            </a:b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Population 18-24 ans = 310.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2205000"/>
          <a:ext cx="8280360" cy="3887640"/>
        </p:xfrm>
        <a:graphic>
          <a:graphicData uri="http://schemas.openxmlformats.org/drawingml/2006/table">
            <a:tbl>
              <a:tblPr/>
              <a:tblGrid>
                <a:gridCol w="1568520"/>
                <a:gridCol w="1198440"/>
                <a:gridCol w="974880"/>
                <a:gridCol w="1000080"/>
                <a:gridCol w="1000080"/>
                <a:gridCol w="1270080"/>
                <a:gridCol w="1268280"/>
              </a:tblGrid>
              <a:tr h="291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10-7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annab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Coca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Ecstas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Héroï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Alc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Tab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54061"/>
                          </a:solidFill>
                          <a:latin typeface="Arial"/>
                        </a:rPr>
                        <a:t>Expériment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6 69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1 5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 89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678 13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341 7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001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dans l'a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43 62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5 11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 669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 560 971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97 176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6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réguli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45 35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332 6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9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538ed5"/>
                          </a:solidFill>
                          <a:latin typeface="Arial"/>
                        </a:rPr>
                        <a:t>Dont usagers quotidi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20 788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188 980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c0504d"/>
                          </a:solidFill>
                          <a:latin typeface="Arial"/>
                        </a:rPr>
                        <a:t>506 465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60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74807"/>
                          </a:solidFill>
                          <a:latin typeface="Arial"/>
                        </a:rPr>
                        <a:t>Usage régulier ou quotidien 18-24 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9 842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n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31 00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632523"/>
                          </a:solidFill>
                          <a:latin typeface="Arial"/>
                        </a:rPr>
                        <a:t>120 914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Insee, baromètre santé 2010 (Inpes) et Ofdt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CB0D-AA61-471B-B051-DFA837574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20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s de soins à PAR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8 CS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CAAR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9 services hospitaliers (APHP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 E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 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sultations de tabac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53735"/>
                </a:solidFill>
                <a:latin typeface="Arial"/>
              </a:rPr>
              <a:t>Activités des CSAPA à Paris en 2011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phique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3123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raphique 1" descr=""/>
          <p:cNvPicPr/>
          <p:nvPr/>
        </p:nvPicPr>
        <p:blipFill>
          <a:blip r:embed="rId1"/>
          <a:stretch/>
        </p:blipFill>
        <p:spPr>
          <a:xfrm>
            <a:off x="0" y="620640"/>
            <a:ext cx="9156600" cy="5664240"/>
          </a:xfrm>
          <a:prstGeom prst="rect">
            <a:avLst/>
          </a:prstGeom>
          <a:ln w="0">
            <a:noFill/>
          </a:ln>
        </p:spPr>
      </p:pic>
      <p:sp>
        <p:nvSpPr>
          <p:cNvPr id="6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A931-8B85-45C3-91F2-A397E6013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space réservé du pied de page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RS-DT75 : Réunion CSAPA - 5 sept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6:47:41Z</dcterms:created>
  <dc:creator>Catherine</dc:creator>
  <dc:description/>
  <dc:language>en-US</dc:language>
  <cp:lastModifiedBy>Catherine</cp:lastModifiedBy>
  <dcterms:modified xsi:type="dcterms:W3CDTF">2013-02-15T07:59:26Z</dcterms:modified>
  <cp:revision>19</cp:revision>
  <dc:subject/>
  <dc:title>Activités des CSAPA  à Paris en 2011</dc:title>
</cp:coreProperties>
</file>