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EB03-74A2-45FB-862C-A5DAF1F8C7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8ACC-52A2-47BF-A460-56D579D9DF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868-544B-4AF1-BA26-32A1A07C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9FE-F192-4526-863D-FE9873A9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F55-C02B-4DFB-BEEF-F6C442BC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B51-3CA3-41A4-A3FB-AD7DE6E0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424-F364-4D8D-92BC-7269CBF3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878-59F7-418A-A253-92155C81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894-BF9C-4BE0-B910-A49256CC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837-8EDE-48BB-B00B-1F6CE4B9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236-4603-4551-8564-A4D23017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AD2-1F45-464C-9034-49727267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56E-0C4E-47FB-B0BF-B546760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B84-1A0F-44D2-B42D-959F74DF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D7C1-EBA3-4580-9377-906A9AA38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75567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es d’accueil et des soins en addictologie à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A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AR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tés d’addictologie hospital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au ville hô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226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Traitements de substitution aux opia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844640"/>
          <a:ext cx="7632720" cy="3527640"/>
        </p:xfrm>
        <a:graphic>
          <a:graphicData uri="http://schemas.openxmlformats.org/drawingml/2006/table">
            <a:tbl>
              <a:tblPr/>
              <a:tblGrid>
                <a:gridCol w="1439640"/>
                <a:gridCol w="1631880"/>
                <a:gridCol w="1446480"/>
                <a:gridCol w="1595160"/>
                <a:gridCol w="1519560"/>
              </a:tblGrid>
              <a:tr h="770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b de patients sous trait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 la file a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ensation par le Cen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s patients traité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tha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H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4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sp>
        <p:nvSpPr>
          <p:cNvPr id="7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8EA8-C10A-468B-9712-74DC6B17E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édérations - regroupements  - associations nationale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ociation Française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eau Français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égiale Addictologie de l’A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Française d’Addict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PADD (Réseau des établissements de santé pour la prévention des addic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REGROUPER les acteurs de l’addict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voriser la connaissance réciproque des adhérents, leurs échanges et leur expression, afin de produire une culture de coopération inter associa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hercher l’engagement des adhérents en favorisant leur participation directe aux groupes de travail nationaux et régionau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tenir les Unions régionales en formalisant les mandats et délégations des représentants régionaux et en favorisant la coopération entre régions, afin d’améliorer l’efficacité et la cohérence de leurs a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RÉFLECHIR aux évolutions et au sens de l’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un travail de veille et de transmission de l’information relative au secteu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les pratiques professionnelles transdisciplinaires en addictologie, et accompagner leurs évolu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des études interactives afin d’étayer les positions de l’association sur la prise en charge des addic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et accompagner les démarches d’évaluation des services rend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. SOUTENIR le réseau dans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r le réseau dans l’évolution des pratiques, par le biais de journées de réflexion nationales et région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professionnalisation des intervenants en proposant des actions de form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rir un appui-conseil aux adhérents en matière d’élaboration de projets et de conduite d’actions en s’appuyant sur des personnes ressour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REPRÉSENTER les adhérents auprès des décid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à l’élaboration des politiques publiques au niveau national et régio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re valoir les intérêts des usagers dans l’analyse de leurs attentes et de l’offre de service qui leur est proposé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ettre des éléments de connaissance sur la problématique des addictions, en s’appuyant sur les éléments fournis par les acteurs de terra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aux travaux européens, nationaux et régionaux d’autres réseaux du secteur social, médico-social et sanitair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quer les positions de la Fédération à l’opinion publique, en structurant ses relations avec les mé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is dispositifs concourent à la prise en charge des consommateurs de substances psycho-a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spécialisés en addictologie (établissements médico-sociaux : CSAPA, consultations jeunes consommateurs et communautés thérapeutiq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généraliste (hôpitaux et médecins généralis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réduction des risques (CAARUD, PES, intevention en festif, SCM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des CS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ls  s’adressent aux personnes ayant une consommation à risque, un usage nocif ou présentant une dépendance aux substances psychoactives ainsi que pour leur entourag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«accueil, l'information, évaluation médicale, psychologique et sociale e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rientation de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onne ou de son entou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uction des risques associés à la consommation de substanc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sycho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se en charge médicale, psychologique, sociale et éducativ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diagnostic, soins, accès aux droits sociaux , aide à l'insertion ou à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insertion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[sevrage - traitements médicamenteux dont TSO…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sagers de substances psychoactives illicites et/ou alcool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estations ambulatoires, et/ou hébergement individuel ou collectif, soi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s deux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quipe pluridisciplinaire dont la composition et le fonctionnement so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formes aux objectifs du projet d'établissement et permettent sa mi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oeuvr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finition de la Rd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er l’usage de substances psycho-a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’illusion d’éradication des drogues et des addictions, quelles qu’elles soient, est abandonnée, au profit de stratégies visant à responsabiliser les usagers, à réduire les dommages et à promouvoir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éfinir le soin et la prévention en fonction de la hiérarchie d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on d’acceptabilité du ri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a socié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es (chaque)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 d’intervention en R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ueilli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ans condition ces usagers, là où ils sont et là où ils en so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« Aller vers 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omplétant  « l’accueil et le traitement de la demande 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trer en contac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vec les publics, en particulier les plus marginalisés, qui ne veulent pas ou ne peuvent pas arrêter leur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er les personnes sur les risqu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ssociés aux usages de SPA et leur prévention par toute forme de support, de conseils personnalisés, ou d’interventions en group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tribuer et promouvoir les matériel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isant la prévention de la transmission interhumaine d’agents infectieux et des risques septiques (seringues, préservatifs etc.), et récupération du matériel d’injection usag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avoriser l’accès aux droits et aux so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ient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ers les dispositifs spécialisés et de droit comm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utenir l’action des group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’entraide, l’expertise et le soutien par les pai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spectives = Accompagner le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 du nombre de consommateurs de substanc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ycho-actives à Paris en 2010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0-74 ans = 1.852.044 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8-24 ans = 310.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205000"/>
          <a:ext cx="8280360" cy="3887640"/>
        </p:xfrm>
        <a:graphic>
          <a:graphicData uri="http://schemas.openxmlformats.org/drawingml/2006/table">
            <a:tbl>
              <a:tblPr/>
              <a:tblGrid>
                <a:gridCol w="1568520"/>
                <a:gridCol w="1198440"/>
                <a:gridCol w="974880"/>
                <a:gridCol w="1000080"/>
                <a:gridCol w="1000080"/>
                <a:gridCol w="1270080"/>
                <a:gridCol w="1268280"/>
              </a:tblGrid>
              <a:tr h="291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10-7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annab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ca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Ecsta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Héro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Alc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Tab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Expériment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6 69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1 5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 89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678 13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341 7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001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dans l'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3 62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5 11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 66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560 97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97 1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6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régu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5 3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32 6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quotidi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0 78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8 98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Usage régulier ou quotidien 18-2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9 84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31 0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20 91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Insee, baromètre santé 2010 (Inpes) et Ofdt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FA8-CFD6-4BA2-90B8-9FB3BF757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20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s de soins à PAR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8 CS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CAAR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services hospitaliers (APHP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 E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 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sultations de tabac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53735"/>
                </a:solidFill>
                <a:latin typeface="Arial"/>
              </a:rPr>
              <a:t>Activités des CSAPA à Paris en 201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phique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3123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raphique 1" descr=""/>
          <p:cNvPicPr/>
          <p:nvPr/>
        </p:nvPicPr>
        <p:blipFill>
          <a:blip r:embed="rId1"/>
          <a:stretch/>
        </p:blipFill>
        <p:spPr>
          <a:xfrm>
            <a:off x="0" y="620640"/>
            <a:ext cx="9156600" cy="5664240"/>
          </a:xfrm>
          <a:prstGeom prst="rect">
            <a:avLst/>
          </a:prstGeom>
          <a:ln w="0">
            <a:noFill/>
          </a:ln>
        </p:spPr>
      </p:pic>
      <p:sp>
        <p:nvSpPr>
          <p:cNvPr id="6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15C7-DA6B-464A-BFAB-0D4BD3D4B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6:47:41Z</dcterms:created>
  <dc:creator>Catherine</dc:creator>
  <dc:description/>
  <dc:language>en-US</dc:language>
  <cp:lastModifiedBy>Catherine</cp:lastModifiedBy>
  <dcterms:modified xsi:type="dcterms:W3CDTF">2013-02-15T07:59:26Z</dcterms:modified>
  <cp:revision>19</cp:revision>
  <dc:subject/>
  <dc:title>Activités des CSAPA  à Paris en 2011</dc:title>
</cp:coreProperties>
</file>