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7EA-BA05-496A-A2C8-A4477B59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DDC-9B73-440B-85CB-AC7C7840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F47-79BD-4E3F-A1A6-81354889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7D6-73A7-4E36-867D-ED10669A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D65-D6C7-405D-9787-B3FFD36A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CDF-E9A5-4B11-B9AE-8D7F2922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627-D839-4137-BEA4-7C3C4212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EA0-A32F-48DF-BF66-5E776211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F50-C683-441A-9CF1-7A935882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183-6957-468B-9435-EC5A2858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2E3-0661-4C60-8722-1BC7D096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615-0F46-4614-80B8-3D9200E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4F1F-39A3-4C5B-926C-1F07CA70B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CONFÉRENCE DU TERRITOIRE DE SANTÉ 75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GROUPE DE TRAVAIL SUR LE HANDI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Rapport d’étape du Grou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au 24 mai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Inno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« SIAO 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e « MAIA 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référent « autisme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262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cours de vie</a:t>
            </a:r>
            <a:r>
              <a:rPr b="0" lang="fr-FR" sz="4400" spc="-1" strike="noStrike">
                <a:solidFill>
                  <a:srgbClr val="17375e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handica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953735"/>
                </a:solidFill>
                <a:latin typeface="Calibri"/>
              </a:rPr>
              <a:t>Parcours de santé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sanitai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Parcours de so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édico-soci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priorités dégagées par le Groupe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e sont des objectifs aisément identifiables, dont le suivi et la réalisation peuvent être facilement repérés dans le temp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– Les équipements médico-sociaux à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2 – Les missions de la M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3 – Les Personnes Agées et les Personnes Handicap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– La spécificité du handicap psyc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 – Amélioration de l’information à destination des publics concern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02:23Z</dcterms:created>
  <dc:creator>Pierre SACHET</dc:creator>
  <dc:description/>
  <dc:language>en-US</dc:language>
  <cp:lastModifiedBy>Pierre SACHET</cp:lastModifiedBy>
  <dcterms:modified xsi:type="dcterms:W3CDTF">2012-05-23T21:19:50Z</dcterms:modified>
  <cp:revision>13</cp:revision>
  <dc:subject/>
  <dc:title>CONFÉRENCE DU TERRITOIRE DE SANTÉ 75  GROUPE DE TRAVAIL SUR LE HANDICAP </dc:title>
</cp:coreProperties>
</file>