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5D7-B3C0-45CD-B782-86637DD6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A40-13AE-49EA-B5C2-F2476631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F34-E613-4712-B4D0-D0981EF9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689-812D-4018-A608-0F450666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D85-ED71-412D-8D75-A32CC2C2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E2A-9A7A-4A63-B36B-938D6F36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BFF-1288-4D67-8504-6C53EEC5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7C8C-C254-400D-9694-258854C8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8AF-DF35-4D21-AC01-AD742E69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15C-B9B0-4463-BE8E-52EC5BA0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2C9-E0C7-450E-9E8C-47BB9063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2647-3A63-4731-91A1-B131A822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DAA1-9B00-48D0-88A5-FF1357EA7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CONFÉRENCE DU TERRITOIRE DE SANTÉ 75</a:t>
            </a: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GROUPE DE TRAVAIL SUR LE HANDICA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98989"/>
                </a:solidFill>
                <a:latin typeface="Calibri"/>
              </a:rPr>
              <a:t>Rapport d’étape du Grou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98989"/>
                </a:solidFill>
                <a:latin typeface="Calibri"/>
              </a:rPr>
              <a:t>au 24 mai 2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Inno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’un « SIAO »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e « MAIA »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’un référent « autisme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2625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Calibri"/>
              </a:rPr>
              <a:t>Parcours de vie</a:t>
            </a:r>
            <a:r>
              <a:rPr b="0" lang="fr-FR" sz="4400" spc="-1" strike="noStrike">
                <a:solidFill>
                  <a:srgbClr val="17375e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handica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4400" spc="-1" strike="noStrike">
                <a:solidFill>
                  <a:srgbClr val="953735"/>
                </a:solidFill>
                <a:latin typeface="Calibri"/>
              </a:rPr>
              <a:t>Parcours de santé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sanitair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Parcours de so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       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médico-social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71984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20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20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70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priorités dégagées par le Groupe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e sont des objectifs aisément identifiables, dont le suivi et la réalisation peuvent être facilement repérés dans le temp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1 – Les équipements médico-sociaux à P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2 – Les missions de la MD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3 – Les Personnes Agées et les Personnes Handicap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4 – La spécificité du handicap psych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5 – Amélioration de l’information à destination des publics concern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8:02:23Z</dcterms:created>
  <dc:creator>Pierre SACHET</dc:creator>
  <dc:description/>
  <dc:language>en-US</dc:language>
  <cp:lastModifiedBy>Pierre SACHET</cp:lastModifiedBy>
  <dcterms:modified xsi:type="dcterms:W3CDTF">2012-05-23T21:19:50Z</dcterms:modified>
  <cp:revision>13</cp:revision>
  <dc:subject/>
  <dc:title>CONFÉRENCE DU TERRITOIRE DE SANTÉ 75  GROUPE DE TRAVAIL SUR LE HANDICAP </dc:title>
</cp:coreProperties>
</file>