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5ED-0D7B-4138-B46D-D76AB8B2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B1C-55AA-4162-8EE0-8CE2B750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7A0-D1A9-472C-8324-72D207EF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D05-86F6-42E9-8E88-0CD0722B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3C4-0DCF-458C-8917-F7A66F3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D64-B1A1-4AB0-AFDB-57BB117B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2D5-63AF-4FF0-867A-1332A02D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5EA-3CBF-4148-A4D3-AF77315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4AD-E3EA-4DE2-B9FD-FF412AB1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1EC-B72E-4383-BE31-2F6E17BE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897-7C03-42C3-B2B1-F620CCE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5D8-D18D-467D-AA15-87372B4A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E78C-C4BB-42A4-9154-C45A3EA37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ONFÉRENCE DU TERRITOIRE DE SANTÉ 75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GROUPE DE TRAVAIL SUR LE HANDI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Rapport d’étape du Grou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au 24 mai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Inn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« SIAO 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e « MAIA 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référent « autisme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262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cours de vie</a:t>
            </a:r>
            <a:r>
              <a:rPr b="0" lang="fr-FR" sz="4400" spc="-1" strike="noStrike">
                <a:solidFill>
                  <a:srgbClr val="17375e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handica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953735"/>
                </a:solidFill>
                <a:latin typeface="Calibri"/>
              </a:rPr>
              <a:t>Parcours de santé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sanit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Parcours de so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édico-soci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priorités dégagées par le Groupe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e sont des objectifs aisément identifiables, dont le suivi et la réalisation peuvent être facilement repérés dans le temp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– Les équipements médico-sociaux à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 – Les missions de la M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3 – Les Personnes Agées et les Personnes Handicap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– La spécificité du handicap psyc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 – Amélioration de l’information à destination des publics concern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02:23Z</dcterms:created>
  <dc:creator>Pierre SACHET</dc:creator>
  <dc:description/>
  <dc:language>en-US</dc:language>
  <cp:lastModifiedBy>Pierre SACHET</cp:lastModifiedBy>
  <dcterms:modified xsi:type="dcterms:W3CDTF">2012-05-23T21:19:50Z</dcterms:modified>
  <cp:revision>13</cp:revision>
  <dc:subject/>
  <dc:title>CONFÉRENCE DU TERRITOIRE DE SANTÉ 75  GROUPE DE TRAVAIL SUR LE HANDICAP </dc:title>
</cp:coreProperties>
</file>