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93D-65C0-4C80-B000-230A07CF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99D-F608-49F2-8519-C0213E28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1D8-00E1-4316-9193-BFB5AF13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DA4-50D6-4450-8C7C-8B5B31C5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FEB-C6E3-48BC-ABF8-BF1C0142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999-E90E-4711-8BBA-EFC171C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6E2-CFDE-4075-BE24-089BA2C8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F78-A15A-4BDC-9505-80947D52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DA8-C737-4CA4-85F8-69C18CCA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880-DD2F-48B2-ABC8-2AB7F229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088-DBF9-4208-B9CC-4EF23D9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159-75F0-4B4E-8B8E-A8B15991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C53D-BE21-40A3-AE4F-C162A5C10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CONFÉRENCE DU TERRITOIRE DE SANTÉ 75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GROUPE DE TRAVAIL SUR LE HANDI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Rapport d’étape du Grou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au 24 mai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Inno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« SIAO 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e « MAIA 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référent « autisme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262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cours de vie</a:t>
            </a:r>
            <a:r>
              <a:rPr b="0" lang="fr-FR" sz="4400" spc="-1" strike="noStrike">
                <a:solidFill>
                  <a:srgbClr val="17375e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handica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953735"/>
                </a:solidFill>
                <a:latin typeface="Calibri"/>
              </a:rPr>
              <a:t>Parcours de santé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sanitai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Parcours de so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édico-soci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priorités dégagées par le Groupe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e sont des objectifs aisément identifiables, dont le suivi et la réalisation peuvent être facilement repérés dans le temp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– Les équipements médico-sociaux à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2 – Les missions de la M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3 – Les Personnes Agées et les Personnes Handicap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– La spécificité du handicap psyc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 – Amélioration de l’information à destination des publics concern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02:23Z</dcterms:created>
  <dc:creator>Pierre SACHET</dc:creator>
  <dc:description/>
  <dc:language>en-US</dc:language>
  <cp:lastModifiedBy>Pierre SACHET</cp:lastModifiedBy>
  <dcterms:modified xsi:type="dcterms:W3CDTF">2012-05-23T21:19:50Z</dcterms:modified>
  <cp:revision>13</cp:revision>
  <dc:subject/>
  <dc:title>CONFÉRENCE DU TERRITOIRE DE SANTÉ 75  GROUPE DE TRAVAIL SUR LE HANDICAP </dc:title>
</cp:coreProperties>
</file>