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937-CC5A-48CC-B4D7-181A67C97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CAD-75CD-41D8-A873-942CA1980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529A-ADCB-408F-A606-49FA522AE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32B-C28A-4725-B77A-58310138F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2AE5-4BF3-4E88-B6C7-56FAAB5DD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AD55-BB8E-4051-87E6-1E9EB4567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D717-1ED6-4F43-A771-0B1C46BA0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1CF1-ACF1-41AF-805C-043D8BC8E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E3B3-3A2F-4BB2-B327-30B457FA3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3346-3235-4317-853B-EBED65F6F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94BD-EC96-497C-BBAD-51037BF5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99C3-3B44-4F29-A0DE-EEFC2C372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61E6-1B10-40B1-8DF7-666BD8ABF9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Arial"/>
              </a:rPr>
              <a:t>CONFÉRENCE DU TERRITOIRE DE SANTÉ 75</a:t>
            </a:r>
            <a:br>
              <a:rPr sz="4000"/>
            </a:br>
            <a:br>
              <a:rPr sz="4000"/>
            </a:br>
            <a:r>
              <a:rPr b="1" lang="fr-FR" sz="4000" spc="-1" strike="noStrike">
                <a:solidFill>
                  <a:srgbClr val="000000"/>
                </a:solidFill>
                <a:latin typeface="Arial"/>
                <a:ea typeface="Arial"/>
              </a:rPr>
              <a:t>GROUPE DE TRAVAIL SUR LE HANDICAP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Rapport d’étape du Group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898989"/>
                </a:solidFill>
                <a:latin typeface="Calibri"/>
              </a:rPr>
              <a:t>au 24 mai 20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0000"/>
                </a:solidFill>
                <a:latin typeface="Arial"/>
                <a:ea typeface="Arial"/>
              </a:rPr>
              <a:t>Innov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« SIAO 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e « MAIA »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Création d’un référent « autisme 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19280" y="404640"/>
            <a:ext cx="626256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70c0"/>
                </a:solidFill>
                <a:latin typeface="Calibri"/>
              </a:rPr>
              <a:t>Parcours de vie</a:t>
            </a:r>
            <a:r>
              <a:rPr b="0" lang="fr-FR" sz="4400" spc="-1" strike="noStrike">
                <a:solidFill>
                  <a:srgbClr val="17375e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handicap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953735"/>
                </a:solidFill>
                <a:latin typeface="Calibri"/>
              </a:rPr>
              <a:t>Parcours de santé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sanitair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                   </a:t>
            </a:r>
            <a:r>
              <a:rPr b="0" lang="fr-FR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4400" spc="-1" strike="noStrike">
                <a:solidFill>
                  <a:srgbClr val="00b050"/>
                </a:solidFill>
                <a:latin typeface="Calibri"/>
              </a:rPr>
              <a:t>Parcours de so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b050"/>
                </a:solidFill>
                <a:latin typeface="Calibri"/>
              </a:rPr>
              <a:t>                   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(médico-social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684360" y="765000"/>
            <a:ext cx="77198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712000" cy="463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250920" y="1916280"/>
            <a:ext cx="8712000" cy="33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708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Calibri"/>
              </a:rPr>
              <a:t>Les priorités dégagées par le Groupe Handica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Calibri"/>
              </a:rPr>
              <a:t>Ce sont des objectifs aisément identifiables, dont le suivi et la réalisation peuvent être facilement repérés dans le temp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1 – Les équipements médico-sociaux à Par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2 – Les missions de la MDP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3 – Les Personnes Agées et les Personnes Handicap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4 – La spécificité du handicap psychiq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5 – Amélioration de l’information à destination des publics concern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3T18:02:23Z</dcterms:created>
  <dc:creator>Pierre SACHET</dc:creator>
  <dc:description/>
  <dc:language>en-US</dc:language>
  <cp:lastModifiedBy>Pierre SACHET</cp:lastModifiedBy>
  <dcterms:modified xsi:type="dcterms:W3CDTF">2012-05-23T21:19:50Z</dcterms:modified>
  <cp:revision>13</cp:revision>
  <dc:subject/>
  <dc:title>CONFÉRENCE DU TERRITOIRE DE SANTÉ 75  GROUPE DE TRAVAIL SUR LE HANDICAP </dc:title>
</cp:coreProperties>
</file>