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FF900-3DBF-42D6-AFFA-A58450CF91F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6240" y="687240"/>
            <a:ext cx="456732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E43-5926-490C-8FC1-56B872CA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C48-41ED-4710-BD18-D9AD4876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E76-E43E-4BFA-A7DB-8843D4D1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ABE-2EA5-47DB-B3FF-44AAEE25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0A87-853C-4414-BAC8-EC83AC49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9744-29A8-4310-A559-A37902A2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3F16-A80E-4B3E-A39E-F871EB89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A05B-A51D-4A85-A3C8-71CD73E7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0DFC-0F50-4E92-B4B2-A0939FF8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AC7A-17B0-48E9-AE8F-BF052FCE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A48D-4B55-4C21-B0F3-F09F8FBE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DB0-4A33-4245-8BE9-75F54FAE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48E1-3389-4AE7-A8D3-24210350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D02A-08BC-4F67-B7DB-5BADEF41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E161-CE45-45D9-BEA0-C323A353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3071-6CB6-4EA5-A293-17045547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D8AF-BEAE-46EA-970F-7DC86AFA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58C-7698-425C-9E52-D9C1E37F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4A2-7122-4228-A6BC-4D2B028C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51C-2CEF-40F3-BD32-EBA92764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028-75FA-4CA6-8FBF-F012D6B7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1B3-2407-4070-AB46-06EB63BB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5DA-A2B8-4978-BEDA-0BB7C0B4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212-CE43-45E2-A9C3-6ABE1169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DA590C-958A-4B25-A251-D558FDEB6AE0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4040"/>
            <a:ext cx="7085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3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49A82A-46C3-44D6-818B-11962F7A8DD6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906480"/>
            <a:ext cx="7559640" cy="1512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SPECT DES DROITS ET DES ATTENTES DES ENFANTS ET DES FAMILLES :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ALITES ET ENJEUX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86064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Danièle SOMME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Professeur émérite de Pédiatrie CHU N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19 Janvier 20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8BE5-B4F9-4638-9CE5-B9340956F47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543800" cy="963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3)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san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éfaut de lisibilité des parco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handicap, transition ado / adul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suffisance des données épidémiolog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Cloisonnement, dysfonctionnement de l’organisation des so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Formation initiale et continue hétérogène des acteurs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santé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publiqu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erte des modèles d’human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ystème de santé mal adapté aux besoins actuels de l’enfant :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des mesures ponc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3B0-0033-4BDA-B40E-9BD422ED28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79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« Les enfants laissés pour compte »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Jusqu’où la société laisse le fossé se creuser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ilan Innocenti 9 (2010) UNICEF / OC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4 pays riches : bien-être 0 – 18 ans, mesure des inégal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Bien-être matéri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revenus du ménage, ressources pédagogiques     élémentaires, espace v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 : 5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uisse, Finlande, Pays-Bas : les meilleu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Grèce, Italie, USA : les pi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Réussite scolai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ecture, maths, sci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: 23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Santé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15ème rang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 [avant la crise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Rappel bilan Innocenti 8 (2009)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France 16ème/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950080"/>
            <a:ext cx="77058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pays les mieux classés dans les niveaux moyens de réussite sont ceux qui parviennent à réduire les inégal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40B-4BC5-47FE-9350-806F9C626BC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-227160"/>
            <a:ext cx="8497800" cy="1982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anté des enfants en grande section de maternelle 2005-2006 (DREES, sept. 2010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23 000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enfants</a:t>
            </a:r>
            <a:br>
              <a:rPr sz="40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60436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ul du surpoid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2,1 % dont 3,1 % obè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4,4 % dont 3,4 % en 1999-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iens av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égalités sociales (Lorraine : 14 % surpoid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vités phys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habitudes alimentai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sthm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7,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ort lunett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1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anté bucco-dentaire, marqueur d’inégalité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Test langage normal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Vaccin hépatite 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 40 % (mieux en ZE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787-CA63-4D8B-BC6B-D43BA15C388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54840" cy="1224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apport ONED 2009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Observatoire National de l’enfance en danger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353440" cy="36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1 décembre 2007 : 265 061 mineurs et 21 565 majeurs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esures de prise en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0 % enfants en danger (A. Tursz)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traitance caché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omicides nouveau-né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ébé secou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-être famil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 flipV="1" rot="10800000">
            <a:off x="1692360" y="5659920"/>
            <a:ext cx="6557760" cy="459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blème +++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E19-88BB-4168-95A2-8834EC8332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63272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Évaluation de la loi de Santé Publiqu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du 9 août 2004 (avril 2010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56 objectifs / 100 considérés comme évalu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hez l’enfant, les « progrès » suivants : dépistage trouble du langage, prévention de la maltraitance, réduction de l’indice carieux (sauf si précarité), tendance à      accidents, à la     des suicides chez l’ado, stabilisation sur poids (sauf si précar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pport majeur des 5 Plans (ex  : canc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ommandations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enfant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011 - 20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érinatale, dépistage atteintes sensorielles, nutrition, vaccinations, santé mentale, risques liés aux soins, à l’exposition environnementale (radiations ionisantes) + réduction des inégalités de santé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2852640"/>
            <a:ext cx="144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285264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5950080"/>
            <a:ext cx="6767640" cy="398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e HCSP </a:t>
            </a:r>
            <a:r>
              <a:rPr b="0" lang="fr-FR" sz="2000" spc="-1" strike="noStrike">
                <a:solidFill>
                  <a:srgbClr val="ffff66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politique de santé publique pour l’enfant / 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452-D1BE-4938-A91A-99DA3CAA579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-330120"/>
            <a:ext cx="8712000" cy="20448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32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2360160"/>
            <a:ext cx="835344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erception état de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B ou T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1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4 % affection chro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 % limitation de leurs activ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oubles du sommeil, nervos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formation 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tabac, alcool, VIH, contrace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santé mentale, vaccination, alimentation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can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ADA-8FF3-4B93-ACA8-8D45FC2AEB5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168480"/>
            <a:ext cx="8424720" cy="1982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28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Tahoma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rpoids 17 % (4 % obés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agnation prévalence grossesses adolesc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15 000 IVG chez les mine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idents de circulation : 1èr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S et suicides : 2èm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ours aux soins : généralistes, dentistes, gynéco, derm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  <a:ea typeface="Arial"/>
              </a:rPr>
              <a:t>ma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renoncement fréquent pour raisons financiè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973-DA89-4182-820F-AEFBB6DBBD8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-206280"/>
            <a:ext cx="7898040" cy="1800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    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 Préambul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99956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éclaration d’Alma-Alta 2000 OM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Promotion de la santé : « processus qui confère aux populations les moyens d’assurer un plus grand contrôle sur leur propre santé et d’améliorer celle-ci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.DUBOS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« aptitude à s’adapter pour mieux fonctionner dans le présent et préparer l’avenir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5084640"/>
            <a:ext cx="7850160" cy="1008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« Agir à l’égard de tout être raisonnable (toi-même et les aut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e sorte qu’il ait pour toi également la valeur d’une f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t jamais d’un moyen »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E. K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30F-A040-4798-A2C5-A4480F8388E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-1459440"/>
            <a:ext cx="8640720" cy="46659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ne politique national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ciblée sur la population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0 – 18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ans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2550960"/>
            <a:ext cx="7543800" cy="27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ssociant d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xes stratégiques verticaux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ans mé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pécificités transversa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iées au développement / aux besoins sanitaires et psycho-socio et aux spécificités de l’entou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éclinaison régionale / spécificités géographiques et besoins de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5373720"/>
            <a:ext cx="7562880" cy="7610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Chaque âge, chaque état de la vie a sa perfection convenabl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a sorte de maturité qui lui est propre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J.J. ROUSSEAU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Em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927-9F12-4376-BC61-AA6F0AC065C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213120"/>
            <a:ext cx="8424720" cy="1739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certation et coopération multidisciplinaire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2276640"/>
            <a:ext cx="75438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Multiplicité des acteurs concerné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santé sanitaire, médico-sociale,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du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jus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s sciences humaines et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th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5157720"/>
            <a:ext cx="633708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La visée d’une vie bonne, avec et pour les autr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dans des institutions justes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. RICO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F75-0062-46E1-891A-A7352BC8C00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8204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troduction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mment protéger l’enfant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7826400" cy="62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L’être jeune est mouvement et agitation de part en part ; il gesticule, gambade, bondit et fait entendre mille cris. Animal parmi les animaux, il est semblable au bétail, sauvage et bouillant comme un troupeau de poulains…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laton, Les Lo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« Le niveau réel d’un pays se mesure à l’attention qu’il accorde à ses enfants, à leur santé et à leur sécurité, à leur situation matérielle, à leur éducation et à leur socialisation, ainsi qu’à leur sentiment d’être aimés, appréciés et intégrés dans les familles des sociétés au sein desquelles ils sont nés » 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C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57D-7E4D-4209-B521-410601FBF4C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-206280"/>
            <a:ext cx="828036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281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dicateurs (objectifs, évaluation)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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épidémiologie à renfor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ens parents / enfants,accueil jeunes enfants, éducation (famille, école), santé mentale,habitudes alimentaires, physiques, expositions environnementales,devenir socié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exemple :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naissance et le lien mère – 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nsultation prénatale 4ème mois, amélioration de préparation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à la naissance, réseaux de périnatalité </a:t>
            </a:r>
            <a:r>
              <a:rPr b="0" i="1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sorties précoces d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maternité, liens avec PMI, suivi des prématuré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ncouragement à l’allaitement matern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6E2-11DB-419D-90AD-3A65741958F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7705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7543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ons de terra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collective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Dépistag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Education à la sant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Soutien des familles à ris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Prévenir surmortalité, maladies de la société, comportements à risque, fardeau économique des maladies chron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5373720"/>
            <a:ext cx="7272360" cy="1008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lien entre les conditions socio-économiques et la san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 l’une des plus constantes observations jamais fa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 santé publique”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an et Sym KA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FC6-51E7-4989-BD87-64C39C34CA8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-198360"/>
            <a:ext cx="7759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tinuer à allier technicité et humanité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adies chroniques (rares, complexes) et autres situations de handic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cellence des soins : compétences verticales et transversales, techniques et humaines, de l’information initiale à la guérison ou à l’aggravation et parfois la mort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fiance et alli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avoriser les soins à domicile et structurer le rôle des </a:t>
            </a: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aidant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aux côtés des soigna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ndre lisible le parcours de soins, du diagnostic à l’âge adulte (transiti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poser des structures de répit (parents, enfan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5) Savoir placer le questionnement éthique au sein de toute décision complexe, de tout entretien difficile, quand un traitement peut (re)commencer ou quand la vie peut s’interromp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A09-0F19-471C-AF9E-3DF38A5BAAA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189000"/>
            <a:ext cx="8713800" cy="718920"/>
          </a:xfrm>
          <a:prstGeom prst="rect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ACTEURS ET STRUCTURES DE SOINS PEDIATRIQUES …</a:t>
            </a:r>
            <a:br>
              <a:rPr sz="2000"/>
            </a:b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UN PUZZ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2205000"/>
            <a:ext cx="1655640" cy="43200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eci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2781360"/>
            <a:ext cx="2016360" cy="57636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ramédicaux 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2997360"/>
            <a:ext cx="201636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estataires de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6560" y="3860640"/>
            <a:ext cx="1117800" cy="289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SI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6560" y="4365720"/>
            <a:ext cx="122580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ESS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84640"/>
            <a:ext cx="2160720" cy="12240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fant/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amille, frat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4724280"/>
            <a:ext cx="792000" cy="4334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465300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 de so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 territoriaux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229360"/>
            <a:ext cx="208908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Education nation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1268280"/>
            <a:ext cx="2016360" cy="863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pédiat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2060640"/>
            <a:ext cx="2160360" cy="647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tern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ôpital non univ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2852640"/>
            <a:ext cx="11509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S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35640" y="3357720"/>
            <a:ext cx="280836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ico-so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3860640"/>
            <a:ext cx="287964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sy-infanto-juv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4724280"/>
            <a:ext cx="12967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1844640"/>
            <a:ext cx="2087640" cy="360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Centre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349360"/>
            <a:ext cx="1800360" cy="35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950080"/>
            <a:ext cx="201600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s de répit 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3500280"/>
            <a:ext cx="2016360" cy="936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harmaci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hosp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offic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30064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x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organis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5950080"/>
            <a:ext cx="273528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énévo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35640" y="1341360"/>
            <a:ext cx="270036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de naiss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32720" y="2276640"/>
            <a:ext cx="576360" cy="215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D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48360" y="4365720"/>
            <a:ext cx="2016360" cy="215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2421000"/>
            <a:ext cx="1657440" cy="647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ités mobi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spi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4292640"/>
            <a:ext cx="720720" cy="36036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AMS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6081480" y="5155920"/>
            <a:ext cx="579240" cy="290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154200" y="5516640"/>
            <a:ext cx="5065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5229360"/>
            <a:ext cx="2376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périnatal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cancér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131920"/>
            <a:ext cx="21564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298920" y="2421000"/>
            <a:ext cx="2905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290920" y="3068640"/>
            <a:ext cx="745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82920" y="8037360"/>
            <a:ext cx="73080" cy="71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7BE-29C5-43AB-98CB-FD5F179258A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0920" y="111240"/>
            <a:ext cx="7993080" cy="947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pédiatres de ville exclusifs</a:t>
            </a:r>
            <a:r>
              <a:rPr b="0" lang="fr-FR" sz="28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1665 / 6767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2011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ut faire chez 100 % des enfants ?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Im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égalités démographiques, P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ôle de recour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ubliqu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ituations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systématiqu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3 à 6 mo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decine communauta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ités de réseaux, liens pédopsy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g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Passerelles ville-hôp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Enseignement et recherc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Rôle d’experts </a:t>
            </a:r>
            <a:r>
              <a:rPr b="0" lang="en-US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Institutions : Etat et collectivités  loc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5950080"/>
            <a:ext cx="828036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Valorisation financière des consultations comple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60E-4BF6-48EA-AE7E-5359F10C550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511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2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généralistes libéraux exclusif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55 136 / 93 39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353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dmettre que la diversité des pathologies et des tranches d’âge ne les rend pas égaux à des « spécialistes »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dmettre aussi leur rôle de première ligne : zones sans pédiatres, PDS, suivi des situations non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tablir notion de pédiatre de ville référent (mais alors accessib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roposer des modèles locaux cohérents d’exercice et de FM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14E-F8DA-424D-A407-2BD97FD9083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3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la PMI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(80 % généralistes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2 26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issions croissante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rgences médico-social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rganisation hétérogè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oit à la prescription trop lim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tégration insuffisante dans réseaux, liens avec ville, hôpital et 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5084640"/>
            <a:ext cx="79200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Renforcer place des pédiatres en PMI ou ↑ le nombre et la formation des généralistes de PMI, en modifiant leur stat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3CE-2A33-4E72-940E-7D309466F04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4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Médecine scolair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1918, 95 % généralistes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315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ssions de santé publique (promotion san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is : pénurie, isolement, dispersion (1/8 à 12 000 élèv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de 12 à 18 ans :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adies chroniques, handicap : intégration scolaire parfois diffic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5445000"/>
            <a:ext cx="6192720" cy="45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Alliance avec pédiatres de ville et PM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4B0-2AF1-427C-A594-290A1971C7F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269480" cy="8636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autr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604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problème de la pédopsychiatrie : pénurie, éclatemen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 = 885 (20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cloisonnement monde sanitaire/travailleurs sociau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s médecins de Santé Publique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énuri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éconnaissance du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5373720"/>
            <a:ext cx="6769080" cy="12675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posi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des pédiatres </a:t>
            </a:r>
            <a:r>
              <a:rPr b="0" lang="fr-FR" sz="2400" spc="-1" strike="noStrike">
                <a:solidFill>
                  <a:srgbClr val="ffff66"/>
                </a:solidFill>
                <a:latin typeface="Wingdings 3"/>
                <a:ea typeface="Wingdings 3"/>
              </a:rPr>
              <a:t>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médecins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5A7-413F-4970-B520-B2249D46F81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4247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oposer un plan national interministériel de politique de santé globale de l’enfant et de l’adolescent </a:t>
            </a:r>
            <a:r>
              <a:rPr b="0" lang="fr-FR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injonctions nationales et mise en œuvre région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FBC-28C3-4959-8D58-2FB00C3FF9F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345440" cy="1295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TAT DE SAN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GLOBALEMENT SATISFAISANT, MAIS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9992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’accès aux mesures individuelles et collectives de santé publ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de la prise en charge des situations de vulnérabilité physique, mentale et / ou sociale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de l’étape du diagnostic jusqu’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D01-066C-425E-921E-C65E0C9F53E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laborer avec l’ensemble des acteurs un programme d’organisation des pratiques professionnelles concernant tous les domaines de la santé de l’enfant et de l’adoles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4EF-F33C-49BB-B2E9-83E5BFAE546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079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0467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dapter la politique de santé publique aux problèmes de l’enfant / de l’adolescent et de sa famille dans la société actuelle, incluant la santé men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B1C-7FE9-4B74-8565-68AABE77295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e recueil de données épidémiologiques fiables permettant d’évaluer l’impact des mesures p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A9B-E56E-4BE3-87FC-E9E2D7F59EB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79261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ibuer à la promotion de la santé par une action cohérente nationale et de terrain et une stratégie de communication adaptée aux besoins et aux moy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62E-B437-4669-A173-87BA1BB39ED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79992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imiter les inégalités liées à l’environnement psychosocial et sanitaire (précarité, pauvret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B03-1E42-42C1-B38F-96616512F72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476280"/>
            <a:ext cx="7543800" cy="936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7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excellence de la prise en charge des maladies chroniques complexes et leur transition 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E24-D80C-4C09-88B2-9CD00A793AE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54380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8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8281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ndre lisible le parcours de l’enfant en situation de handicap jusqu’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124-735D-4B7A-9237-217672AD231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543800" cy="1008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9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4247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approche de l’adolescent par des acteurs et des structures adapté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139-B5F8-46D1-AAFA-B864C455447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0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2090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valuer les besoins démographiques ré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ettre en place le transfert de compét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D2E-96C3-48F5-8D0D-7A00969C4AA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117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7543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viser la formation initiale et continue (interdisciplinaire)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BDB-AE92-454D-B2A2-59370B8AE68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10796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(0 – 18 ans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534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ONU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20 novembre 19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ne vision globale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vention Internationale relative aux Droits de l’enfant (CIDE), ratifiée par la France en 1990 (54 articl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État gara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non discrimin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auvegarde de l’intérêt supérieur de l’enfa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protection de l’enfant / viol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vie pleine et décente pour les enfants handicap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respect des droits des par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droit à la dignité, au développement, à la santé, à l’édu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accès de l’enfant à l’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5877000"/>
            <a:ext cx="7056360" cy="6444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 L’enfant a le droit de jouir du meilleur état de santé pos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et de bénéficier des services médicaux qui lui sont nécessaires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0F1-5E6E-4724-893F-39FEFC1C027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20872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oursuivre le développement de la recherche clinico-biologique ainsi que dans le domaine des sciences humaines et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917-F152-47B6-85C8-75F93FAF7C8A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 en France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2000 - 2010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070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textes réglement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ois, décrets, circulair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4 : droit des malades, Défenseur des Enfants, santé publique,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réforme du divor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5 : autonomie et handicap, adop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7 : protection enfance, logement oppos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10 : HPS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lans de périnata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 Plans de santé publique, santé en milieu scolaire, santé mentale, soins palliatifs, douleur, tabac, alcool, conduites addictives, Plan santé des jeun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rappor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Conférence de la famille, milieux associatifs (réflexion et actions), institutions décentralisées, communes (villes amies des enfants, villes-santé…), éducation nationale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937-59BF-4008-A873-7020453C88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a CIDE est-elle connue en France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08720" cy="67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nquête TNS SOF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ov 2009, Unicef et Fondation pour l’enf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estionn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 = 1 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 connue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34 % de la pop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10 % des jeunes 15 – 18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55 % des parlementaires n’en connaissent que le n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Un bilan plutôt morose</a:t>
            </a:r>
            <a:r>
              <a:rPr b="0" lang="fr-FR" sz="2000" spc="-1" strike="noStrike">
                <a:solidFill>
                  <a:srgbClr val="745389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auvreté, précarité, violence en au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lace et avenir des jeunes dans la socié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e milieu associatif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’acteur le mieux placé pour garantir le respect des droits de l’enfant, suivi du Parl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60A-1782-474D-BC82-45A4CC083E5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-491040"/>
            <a:ext cx="7537680" cy="2654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1840" y="1916280"/>
            <a:ext cx="828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naître et faire re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roits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Être assuré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’un suivi du développeme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 enfant par des professionnels formés et coordonnés, sachant les orienter si nécessaire, et prenant en compte les difficultés sociales et / ou familiales éven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x : anomalie physique, troubles des apprentissage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     du comport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prévention, éducation à la santé, soutien psychologique et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rise en comp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s questions, de leurs inquiétudes, être entendus, écou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B9D-01CA-4B15-82CF-B308D986406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53768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2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assurés de la qualité des soin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un parcours de soins lisible, un projet thérapeutique, un projet de vie : orientation, technicité,humanité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oins primaires de proximité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Centres de référence (inter) régionaux pour maladies complexes et/ou ra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environnement thérapeutique adapté à leur tranche d’â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place des associ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Comprend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e diagnostic, les modalités et lieux du traitement, la notion de guérison, de risque immédiat ou à venir, de modes de suivi, de transition 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ur le développement et l’intérêt de la recherche pour l’enfant malade tra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Être accompagnés en cas de maladie chronique grave et de toute situation de handicap, surtout en cas  de précarité et de pauvre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6C6-0A5D-42A7-AE22-9A52F3B66A4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84320"/>
            <a:ext cx="7543800" cy="947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9036000" cy="57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1) Scientif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ogrès majeurs, mais nouvelles morbid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isque de dérive technolog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Enfant planifié, enfant parfa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ecul, refus de la m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)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ociét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écarité, pauvreté (2 M enfants), excl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euil de pauvreté : 950 €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 60 % médiane du revenu / unité famili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Transformation des comport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roit à tout, tout de suite, exigences de sécur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dividualisme, liberté sans responsabi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Judiciarisation croiss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Évolution de la famille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osaïque, crise de l’autorité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séparations conflictuelles des par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C3E-853B-4806-A159-442A6200694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U</cp:lastModifiedBy>
  <dcterms:modified xsi:type="dcterms:W3CDTF">2012-02-13T14:56:25Z</dcterms:modified>
  <cp:revision>266</cp:revision>
  <dc:subject/>
  <dc:title>PowerPoint Presentation</dc:title>
</cp:coreProperties>
</file>