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6D0D7-1496-4489-9BB6-C667609C4CB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146240" y="687240"/>
            <a:ext cx="4567320" cy="342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714C-B2D6-4B04-A5FB-4AE5A585D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2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92200"/>
            <a:ext cx="7542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CAEE-F822-4880-BE62-821E3BFF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128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3DAE-5FC0-431A-B5BD-07A7D5673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560" y="198072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160" y="198072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9220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560" y="419220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160" y="419220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2B9B-56CA-4222-A7D8-37A2BFB58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E0A3-393D-4DB0-AB5A-BAE776CC4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5423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D61D-8A1D-4193-B169-E5679D7B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23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1971-D659-422A-A90F-5ECE3D80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3E34-C659-4558-B1E5-B1D38523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CE99-4AA2-42B8-A704-C205FC5A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3120"/>
            <a:ext cx="7542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6E52-3CBD-4CD4-A18C-EB80488D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AEED-7983-40A6-84F1-E63CE8B6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5423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A579-8210-413B-BCC2-86F767D7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128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4DB8-F660-4DD5-8C13-0B29B89B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92200"/>
            <a:ext cx="7542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6585-91B0-42A6-B49E-7115C9C5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2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92200"/>
            <a:ext cx="7542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1BBC-29AF-4768-BF8A-9C0881C3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128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2054-BFF3-440D-8FCA-DAFE0A88F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560" y="198072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160" y="198072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9220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560" y="419220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160" y="419220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30B5-C06D-437E-A859-7E4FBA9C1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23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140A-29F1-43EB-BBEC-2ADF12C4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5F9D-E412-4FD0-8751-EAAAB9BE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9489-12AC-486A-A782-D924B876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3120"/>
            <a:ext cx="7542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C794-8EAC-4696-8164-9DC955F9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BE0C-D3F5-4C98-8D1B-B2D4FE8C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128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8681-03BC-40D2-B86E-10A5712B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92200"/>
            <a:ext cx="7542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5A3E-04D5-475D-842E-EE2521CA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5423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7360587-6981-461A-9FC3-6A99916C52D7}" type="slidenum">
              <a: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4040"/>
            <a:ext cx="7085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3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EA55A83-4675-4AC4-BDE3-EB146EA6D768}" type="slidenum">
              <a: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906480"/>
            <a:ext cx="7559640" cy="151272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RESPECT DES DROITS ET DES ATTENTES DES ENFANTS ET DES FAMILLES :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REALITES ET ENJEUX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763640" y="3860640"/>
            <a:ext cx="66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Narrow"/>
              </a:rPr>
              <a:t>Danièle SOMMEL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Narrow"/>
              </a:rPr>
              <a:t>Professeur émérite de Pédiatrie CHU Na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Narrow"/>
              </a:rPr>
              <a:t>19 Janvier 20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F66C-E4E4-464E-A921-058E0FE8E40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560" y="475920"/>
            <a:ext cx="7543800" cy="96372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Mutations : le monde bouge</a:t>
            </a:r>
            <a:r>
              <a:rPr b="1" lang="fr-FR" sz="4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8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2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39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66ff33"/>
                </a:solidFill>
                <a:latin typeface="Arial"/>
              </a:rPr>
              <a:t>3)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La san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Défaut de lisibilité des parcou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(handicap, transition ado / adult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Insuffisance des données épidémiologiqu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Cloisonnement, dysfonctionnement de l’organisation des soi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Formation initiale et continue hétérogène des acteurs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(santé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  publiqu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Perte des modèles d’humani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Système de santé mal adapté aux besoins actuels de l’enfant : 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  des mesures ponctuel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3F9F-84F3-4034-B4C2-ED56F1A09A9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107928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« Les enfants laissés pour compte »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Jusqu’où la société laisse le fossé se creuser 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Bilan Innocenti 9 (2010) UNICEF / OCD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4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4 pays riches : bien-être 0 – 18 ans, mesure des inégalité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99ff33"/>
                </a:solidFill>
                <a:latin typeface="Arial"/>
              </a:rPr>
              <a:t>Bien-être matériel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revenus du ménage, ressources pédagogiques     élémentaires, espace vit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fr-FR" sz="1800" spc="-1" strike="noStrike">
                <a:solidFill>
                  <a:srgbClr val="66ffff"/>
                </a:solidFill>
                <a:latin typeface="Arial"/>
              </a:rPr>
              <a:t>France  : 5ème ra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Suisse, Finlande, Pays-Bas : les meilleu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Grèce, Italie, USA : les pi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61508c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99ff33"/>
                </a:solidFill>
                <a:latin typeface="Arial"/>
              </a:rPr>
              <a:t>Réussite scolair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lecture, maths, scien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fr-FR" sz="1800" spc="-1" strike="noStrike">
                <a:solidFill>
                  <a:srgbClr val="66ffff"/>
                </a:solidFill>
                <a:latin typeface="Arial"/>
              </a:rPr>
              <a:t>France : 23ème ra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61508c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99ff33"/>
                </a:solidFill>
                <a:latin typeface="Arial"/>
              </a:rPr>
              <a:t>Santé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fr-FR" sz="1800" spc="-1" strike="noStrike">
                <a:solidFill>
                  <a:srgbClr val="66ffff"/>
                </a:solidFill>
                <a:latin typeface="Arial"/>
              </a:rPr>
              <a:t>France 15ème rang</a:t>
            </a:r>
            <a:r>
              <a:rPr b="0" lang="fr-FR" sz="18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66ffff"/>
                </a:solidFill>
                <a:latin typeface="Arial"/>
              </a:rPr>
              <a:t> [avant la crise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Rappel bilan Innocenti 8 (2009)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France 16ème/2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5950080"/>
            <a:ext cx="7705800" cy="7038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Les pays les mieux classés dans les niveaux moyens de réussite sont ceux qui parviennent à réduire les inégalité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2944-F71F-4266-8528-75D0AB17833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-227160"/>
            <a:ext cx="8497800" cy="198288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Santé des enfants en grande section de maternelle 2005-2006 (DREES, sept. 2010)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23 000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enfants</a:t>
            </a:r>
            <a:br>
              <a:rPr sz="40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604360" cy="40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63880" indent="-263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Recul du surpoid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12,1 % dont 3,1 % obè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14,4 % dont 3,4 % en 1999-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Liens avec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inégalités sociales (Lorraine : 14 % surpoid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activités physiqu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habitudes alimentai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Asthm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7,4 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Port lunette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14 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Santé bucco-dentaire, marqueur d’inégalité socia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Test langage normal</a:t>
            </a:r>
            <a:r>
              <a:rPr b="0" lang="fr-FR" sz="2000" spc="-1" strike="noStrike">
                <a:solidFill>
                  <a:srgbClr val="61508c"/>
                </a:solidFill>
                <a:latin typeface="Arial"/>
              </a:rPr>
              <a:t>  :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84 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Vaccin hépatite B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 40 % (mieux en ZEP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A76C-8598-4310-B045-E1C77713646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54840" cy="122400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Rapport ONED 2009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Observatoire National de l’enfance en danger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1280" y="2276280"/>
            <a:ext cx="8353440" cy="36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1 décembre 2007 : 265 061 mineurs et 21 565 majeurs </a:t>
            </a:r>
            <a:r>
              <a:rPr b="0" lang="fr-FR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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mesures de prise en char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Mai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10 % enfants en danger (A. Tursz)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2080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ltraitance cachée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2080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homicides nouveau-nés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2080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bébé secoué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2080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l-être famil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 flipV="1" rot="10800000">
            <a:off x="1692360" y="5659920"/>
            <a:ext cx="6557760" cy="45972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Problème +++ de santé publ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ECCE-8E27-467C-924C-298380F76D3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632720" cy="100800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Évaluation de la loi de Santé Publique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du 9 août 2004 (avril 2010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56 objectifs / 100 considérés comme évaluab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hez l’enfant, les « progrès » suivants : dépistage trouble du langage, prévention de la maltraitance, réduction de l’indice carieux (sauf si précarité), tendance à      accidents, à la     des suicides chez l’ado, stabilisation sur poids (sauf si précarité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pport majeur des 5 Plans (ex  : canc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Recommandations </a:t>
            </a:r>
            <a:r>
              <a:rPr b="0" lang="fr-FR" sz="2000" spc="-1" strike="noStrike">
                <a:solidFill>
                  <a:srgbClr val="66ff33"/>
                </a:solidFill>
                <a:latin typeface="Wingdings 3"/>
                <a:ea typeface="Wingdings 3"/>
              </a:rPr>
              <a:t>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 enfant</a:t>
            </a:r>
            <a:r>
              <a:rPr b="1" lang="fr-FR" sz="2000" spc="-1" strike="noStrike">
                <a:solidFill>
                  <a:srgbClr val="745389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74538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2011 - 201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anté périnatale, dépistage atteintes sensorielles, nutrition, vaccinations, santé mentale, risques liés aux soins, à l’exposition environnementale (radiations ionisantes) + réduction des inégalités de santé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132000" y="2852640"/>
            <a:ext cx="14472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48360" y="2852640"/>
            <a:ext cx="144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5950080"/>
            <a:ext cx="6767640" cy="39888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Le HCSP </a:t>
            </a:r>
            <a:r>
              <a:rPr b="0" lang="fr-FR" sz="2000" spc="-1" strike="noStrike">
                <a:solidFill>
                  <a:srgbClr val="ffff66"/>
                </a:solidFill>
                <a:latin typeface="Wingdings 3"/>
                <a:ea typeface="Wingdings 3"/>
              </a:rPr>
              <a:t>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 politique de santé publique pour l’enfant / 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CACE-2946-49AD-A15F-51FD220C92A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-330120"/>
            <a:ext cx="8712000" cy="204480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onférence biennale sur la santé des jeunes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INPES, InVS, OFDT, DREES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(15 – 25 ans)</a:t>
            </a:r>
            <a:br>
              <a:rPr sz="3200"/>
            </a:b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fr-FR" sz="1600" spc="-1" strike="noStrike">
                <a:solidFill>
                  <a:srgbClr val="eaeaea"/>
                </a:solidFill>
                <a:latin typeface="Arial"/>
              </a:rPr>
              <a:t>(1)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1280" y="2360160"/>
            <a:ext cx="8353440" cy="41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Perception état de santé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B ou TB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91 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Mai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14 % affection chroniq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8 % limitation de leurs activité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troubles du sommeil, nervosi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Information suffisant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tabac, alcool, VIH, contracep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insuffisant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santé mentale, vaccination, alimentation,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    canc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8885-F1C4-433C-8098-D3C9749B8E3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-168480"/>
            <a:ext cx="8424720" cy="198252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onférence biennale sur la santé des jeunes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INPES, InVS, OFDT, DREES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(15 – 25 ans)</a:t>
            </a:r>
            <a:br>
              <a:rPr sz="2800"/>
            </a:b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eaeaea"/>
                </a:solidFill>
                <a:latin typeface="Tahoma"/>
              </a:rPr>
              <a:t>(2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2818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urpoids 17 % (4 % obésité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tagnation prévalence grossesses adolescen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gt; 15 000 IVG chez les mineu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ccidents de circulation : 1ère cause de décès des 15 – 24 a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S et suicides : 2ème cause de décès des 15 – 24 a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cours aux soins : généralistes, dentistes, gynéco, derma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66ff33"/>
                </a:solidFill>
                <a:latin typeface="Arial"/>
                <a:ea typeface="Arial"/>
              </a:rPr>
              <a:t>mai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renoncement fréquent pour raisons financiè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88A9-EDF7-49F9-8E87-36F39A18055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-206280"/>
            <a:ext cx="7898040" cy="180000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     </a:t>
            </a:r>
            <a:br>
              <a:rPr sz="2800"/>
            </a:b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Enjeux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  Préambule</a:t>
            </a:r>
            <a:br>
              <a:rPr sz="2800"/>
            </a:b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1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99956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Déclaration d’Alma-Alta 2000 OM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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Promotion de la santé : « processus qui confère aux populations les moyens d’assurer un plus grand contrôle sur leur propre santé et d’améliorer celle-ci 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R.DUBOS Santé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« aptitude à s’adapter pour mieux fonctionner dans le présent et préparer l’avenir 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1042920" y="5084640"/>
            <a:ext cx="7850160" cy="100872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« Agir à l’égard de tout être raisonnable (toi-même et les autr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de sorte qu’il ait pour toi également la valeur d’une f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et jamais d’un moyen »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E. KA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5433-C5B6-406D-8517-E48D1A2EF2F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-1459440"/>
            <a:ext cx="8640720" cy="466596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fr-FR" sz="2400" spc="-1" strike="noStrike">
                <a:solidFill>
                  <a:srgbClr val="eaeaea"/>
                </a:solidFill>
                <a:latin typeface="Arial"/>
              </a:rPr>
              <a:t>Enjeux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Une politique nationale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ciblée sur la population 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0 – 18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ans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                                                       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2)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2550960"/>
            <a:ext cx="7543800" cy="27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ssociant des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axes stratégiques verticaux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sans méconnaître les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spécificités transversale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liées au développement / aux besoins sanitaires et psycho-socio et aux spécificités de l’entour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éclinaison régionale / spécificités géographiques et besoins de terra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1258920" y="5373720"/>
            <a:ext cx="7562880" cy="76104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« Chaque âge, chaque état de la vie a sa perfection convenabl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sa sorte de maturité qui lui est propre »</a:t>
            </a:r>
            <a:r>
              <a:rPr b="1" lang="fr-F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J.J. ROUSSEAU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(Emil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0795-37EA-4141-B035-8D8F1EA3459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-213120"/>
            <a:ext cx="8424720" cy="173988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njeux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oncertation et coopération multidisciplinaire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br>
              <a:rPr sz="2800"/>
            </a:b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3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2276640"/>
            <a:ext cx="754380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99ff33"/>
                </a:solidFill>
                <a:latin typeface="Arial"/>
              </a:rPr>
              <a:t>Multiplicité des acteurs concernés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de la santé sanitaire, médico-sociale, socia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de l’éduc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de la justi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des sciences humaines et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de l’éthiq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5157720"/>
            <a:ext cx="6337080" cy="7038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« La visée d’une vie bonne, avec et pour les autre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dans des institutions justes »</a:t>
            </a:r>
            <a:r>
              <a:rPr b="1" lang="fr-F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P. RICOEU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3A21-8497-437F-B84C-85FAEE9478E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682040" cy="117936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Introduction : 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omment protéger l’enfant 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8640"/>
            <a:ext cx="7826400" cy="626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L’être jeune est mouvement et agitation de part en part ; il gesticule, gambade, bondit et fait entendre mille cris. Animal parmi les animaux, il est semblable au bétail, sauvage et bouillant comme un troupeau de poulains…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Platon, Les Lo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« Le niveau réel d’un pays se mesure à l’attention qu’il accorde à ses enfants, à leur santé et à leur sécurité, à leur situation matérielle, à leur éducation et à leur socialisation, ainsi qu’à leur sentiment d’être aimés, appréciés et intégrés dans les familles des sociétés au sein desquelles ils sont nés » 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OCD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0A79-F2AA-46CA-ABC9-F8207721B61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280" y="-206280"/>
            <a:ext cx="8280360" cy="18000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Enjeux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Revisiter la politique de santé publique</a:t>
            </a:r>
            <a:br>
              <a:rPr sz="2800"/>
            </a:b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4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204640"/>
            <a:ext cx="82818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Indicateurs (objectifs, évaluation) </a:t>
            </a:r>
            <a:r>
              <a:rPr b="0" lang="fr-FR" sz="2000" spc="-1" strike="noStrike">
                <a:solidFill>
                  <a:srgbClr val="66ff33"/>
                </a:solidFill>
                <a:latin typeface="Wingdings 3"/>
                <a:ea typeface="Wingdings 3"/>
              </a:rPr>
              <a:t>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 épidémiologie à renforc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iens parents / enfants,accueil jeunes enfants, éducation (famille, école), santé mentale,habitudes alimentaires, physiques, expositions environnementales,devenir sociét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n exemple :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la naissance et le lien mère – enfa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Consultation prénatale 4ème mois, amélioration de préparation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à la naissance, réseaux de périnatalité </a:t>
            </a:r>
            <a:r>
              <a:rPr b="0" i="1" lang="fr-FR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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 sorties précoces de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maternité, liens avec PMI, suivi des prématurés,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encouragement à l’allaitement matern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10FB-779A-4CD1-9953-F9A10558F18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560" y="-171360"/>
            <a:ext cx="7705800" cy="18000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njeux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Revisiter la politique de santé publique</a:t>
            </a:r>
            <a:br>
              <a:rPr sz="2800"/>
            </a:b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(5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42560" y="2060280"/>
            <a:ext cx="754380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499"/>
              </a:spcBef>
              <a:buNone/>
              <a:tabLst>
                <a:tab algn="l" pos="0"/>
                <a:tab algn="l" pos="268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Actions de terrai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gt; collectives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 Dépistage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 Education à la santé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 Soutien des familles à risqu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268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99ff33"/>
                </a:solidFill>
                <a:latin typeface="Arial"/>
              </a:rPr>
              <a:t>Prévenir surmortalité, maladies de la société, comportements à risque, fardeau économique des maladies chroniqu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1476360" y="5373720"/>
            <a:ext cx="7272360" cy="10087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 lien entre les conditions socio-économiques et la san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st l’une des plus constantes observations jamais fai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 santé publique”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an et Sym KAP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A065-3398-46B8-BAC6-C347FE0EA09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2560" y="-198360"/>
            <a:ext cx="7759800" cy="18000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njeux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ontinuer à allier technicité et humanité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6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71380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Maladies chroniques (rares, complexes) et autres situations de handica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1)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Excellence des soins : compétences verticales et transversales, techniques et humaines, de l’information initiale à la guérison ou à l’aggravation et parfois la mort </a:t>
            </a:r>
            <a:r>
              <a:rPr b="0" lang="fr-FR" sz="1800" spc="-1" strike="noStrike">
                <a:solidFill>
                  <a:srgbClr val="ffffff"/>
                </a:solidFill>
                <a:latin typeface="Wingdings 3"/>
                <a:ea typeface="Wingdings 3"/>
              </a:rPr>
              <a:t>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confiance et allia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Favoriser les soins à domicile et structurer le rôle des </a:t>
            </a:r>
            <a:r>
              <a:rPr b="0" lang="fr-FR" sz="1800" spc="-1" strike="noStrike">
                <a:solidFill>
                  <a:srgbClr val="66ff33"/>
                </a:solidFill>
                <a:latin typeface="Arial"/>
              </a:rPr>
              <a:t>aidants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aux côtés des soignan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Rendre lisible le parcours de soins, du diagnostic à l’âge adulte (transitio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roposer des structures de répit (parents, enfant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5) Savoir placer le questionnement éthique au sein de toute décision complexe, de tout entretien difficile, quand un traitement peut (re)commencer ou quand la vie peut s’interromp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45DA-DE4D-44B6-B568-9C202F1C30F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50920" y="189000"/>
            <a:ext cx="8713800" cy="718920"/>
          </a:xfrm>
          <a:prstGeom prst="rect">
            <a:avLst/>
          </a:prstGeom>
          <a:solidFill>
            <a:srgbClr val="0000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LES ACTEURS ET STRUCTURES DE SOINS PEDIATRIQUES …</a:t>
            </a:r>
            <a:br>
              <a:rPr sz="2000"/>
            </a:b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UN PUZZ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43280" y="2205000"/>
            <a:ext cx="1655640" cy="43200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édecins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libérau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84360" y="2781360"/>
            <a:ext cx="2016360" cy="57636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aramédicaux libérau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9280" y="2997360"/>
            <a:ext cx="2016360" cy="50472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restataires de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6560" y="3860640"/>
            <a:ext cx="1117800" cy="2890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SSI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6560" y="4365720"/>
            <a:ext cx="1225800" cy="2872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SESS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51280" y="3284640"/>
            <a:ext cx="2160720" cy="12240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nfant/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Famille, fratr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abit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56000" y="4724280"/>
            <a:ext cx="792000" cy="43344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64000" y="4653000"/>
            <a:ext cx="2519280" cy="50472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éseau de soi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( territoriaux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5229360"/>
            <a:ext cx="2089080" cy="5032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Education nationa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35280" y="1268280"/>
            <a:ext cx="2016360" cy="86364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 pédiat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ix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59640" y="2060640"/>
            <a:ext cx="2160360" cy="64764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aternit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ôpital non univ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H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64360" y="2852640"/>
            <a:ext cx="1150920" cy="21600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S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335640" y="3357720"/>
            <a:ext cx="2808360" cy="2872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tructures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édico-soci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56360" y="3860640"/>
            <a:ext cx="2879640" cy="289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tructures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sy-infanto-juv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4724280"/>
            <a:ext cx="1296720" cy="21600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71640" y="1844640"/>
            <a:ext cx="2087640" cy="3603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Centres de sant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00000" y="2349360"/>
            <a:ext cx="1800360" cy="3589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Maisons de sant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71640" y="5950080"/>
            <a:ext cx="2016000" cy="4316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aisons de répit 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63640" y="3500280"/>
            <a:ext cx="2016360" cy="93672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harmaci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hosp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 offic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64000" y="5300640"/>
            <a:ext cx="2519280" cy="50472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éseaux de sant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(organisation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92360" y="5950080"/>
            <a:ext cx="2735280" cy="4316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énévo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ssoci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35640" y="1341360"/>
            <a:ext cx="2700360" cy="5763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Maisons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de naiss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532720" y="2276640"/>
            <a:ext cx="576360" cy="215640"/>
          </a:xfrm>
          <a:prstGeom prst="ellipse">
            <a:avLst/>
          </a:prstGeom>
          <a:solidFill>
            <a:srgbClr val="f8faa4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DJ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48360" y="4365720"/>
            <a:ext cx="2016360" cy="2156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aison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3280" y="2421000"/>
            <a:ext cx="1657440" cy="647640"/>
          </a:xfrm>
          <a:prstGeom prst="ellipse">
            <a:avLst/>
          </a:prstGeom>
          <a:solidFill>
            <a:srgbClr val="f8fa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Unités mobi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ospit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12000" y="4292640"/>
            <a:ext cx="720720" cy="360360"/>
          </a:xfrm>
          <a:prstGeom prst="ellipse">
            <a:avLst/>
          </a:prstGeom>
          <a:solidFill>
            <a:srgbClr val="f8fa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AMS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6081480" y="5155920"/>
            <a:ext cx="579240" cy="290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154200" y="5516640"/>
            <a:ext cx="50652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59640" y="5229360"/>
            <a:ext cx="237636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Réseau de périnatalit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Réseau de cancérolog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48360" y="2131920"/>
            <a:ext cx="21564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6298920" y="2421000"/>
            <a:ext cx="29052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5290920" y="3068640"/>
            <a:ext cx="7452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82920" y="8037360"/>
            <a:ext cx="73080" cy="71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BD26-85AF-4D07-A4C3-10EE808FD16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10920" y="111240"/>
            <a:ext cx="7993080" cy="9475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érimètres d’exercice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(1)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 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es pédiatres de ville exclusifs</a:t>
            </a:r>
            <a:r>
              <a:rPr b="0" lang="fr-FR" sz="2800" spc="-1" strike="noStrike">
                <a:solidFill>
                  <a:srgbClr val="eaeaea"/>
                </a:solidFill>
                <a:latin typeface="Arial"/>
              </a:rPr>
              <a:t> 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1665 / 6767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(2011)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Tout faire chez 100 % des enfants ?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Impossi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négalités démographiques, P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20640" indent="-3524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Rôle de recours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•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anté publique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•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ituations complex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•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uivi systématiqu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 3 à 6 mo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édecine communautai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ivités de réseaux, liens pédopsy, justice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gen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20640" indent="-3524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Passerelles ville-hôpit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20640" indent="-3524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Enseignement et recherch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20640" indent="-3524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Rôle d’experts </a:t>
            </a:r>
            <a:r>
              <a:rPr b="0" lang="en-US" sz="2000" spc="-1" strike="noStrike">
                <a:solidFill>
                  <a:srgbClr val="66ff33"/>
                </a:solidFill>
                <a:latin typeface="Wingdings 3"/>
                <a:ea typeface="Wingdings 3"/>
              </a:rPr>
              <a:t></a:t>
            </a: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 Institutions : Etat et collectivités  loc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468360" y="5950080"/>
            <a:ext cx="8280360" cy="4597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ffff66"/>
                </a:solidFill>
                <a:latin typeface="Times New Roman"/>
              </a:rPr>
              <a:t>Valorisation financière des consultations complex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E140-6580-450A-9825-87CBE25775D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351640" cy="151128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érimètres d’exercice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(2)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: 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es généralistes libéraux exclusifs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55 136 / 93 394 (2011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3534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dmettre que la diversité des pathologies et des tranches d’âge ne les rend pas égaux à des « spécialistes » de l’enfa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Admettre aussi leur rôle de première ligne : zones sans pédiatres, PDS, suivi des situations non complex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Rétablir notion de pédiatre de ville référent (mais alors accessibl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Proposer des modèles locaux cohérents d’exercice et de FM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33C0-5CBC-4B88-97A3-1FDD09375F0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69080" cy="10080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érimètres d’action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(3)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: la PMI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(80 % généralistes)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N = 2 264 (2011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49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Missions croissantes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rgences médico-sociale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organisation hétérogè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roit à la prescription trop limi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Intégration insuffisante dans réseaux, liens avec ville, hôpital et 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611280" y="5084640"/>
            <a:ext cx="7920000" cy="7038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Renforcer place des pédiatres en PMI ou ↑ le nombre et la formation des généralistes de PMI, en modifiant leur stat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3D1F-D6FF-46C1-9D96-442D36B890E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10080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érimètres d’action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(4)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: Médecine scolaire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N = 1918, 95 % généralistes (2011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3152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issions de santé publique (promotion santé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is : pénurie, isolement, dispersion (1/8 à 12 000 élève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uivi de 12 à 18 ans : 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ladies chroniques, handicap : intégration scolaire parfois diffici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1979640" y="5445000"/>
            <a:ext cx="6192720" cy="4597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Alliance avec pédiatres de ville et PM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E85D-7B85-46AB-8D54-F59532F4570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7269480" cy="86364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érimètres d’action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(5)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: autre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86043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e problème de la pédopsychiatrie : pénurie, éclatemen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 = 885 (201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e cloisonnement monde sanitaire/travailleurs sociau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es médecins de Santé Publique 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énurie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éconnaissance du terra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1403280" y="5373720"/>
            <a:ext cx="6769080" cy="12675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Propositio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des pédiatres </a:t>
            </a:r>
            <a:r>
              <a:rPr b="0" lang="fr-FR" sz="2400" spc="-1" strike="noStrike">
                <a:solidFill>
                  <a:srgbClr val="ffff66"/>
                </a:solidFill>
                <a:latin typeface="Wingdings 3"/>
                <a:ea typeface="Wingdings 3"/>
              </a:rPr>
              <a:t>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 médecins de Santé Publ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8FC6-4F38-4ADC-A5DF-37E2C42DF02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793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1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1280" y="2276280"/>
            <a:ext cx="842472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roposer un plan national interministériel de politique de santé globale de l’enfant et de l’adolescent </a:t>
            </a:r>
            <a:r>
              <a:rPr b="0" lang="fr-FR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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injonctions nationales et mise en œuvre régiona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C05E-04A5-4ACA-B677-1A90C4ABF0C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345440" cy="1295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9360">
            <a:solidFill>
              <a:srgbClr val="99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U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TAT DE SAN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 GLOBALEMENT SATISFAISANT, MAIS…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1280" y="2491920"/>
            <a:ext cx="799920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99ff33"/>
                </a:solidFill>
                <a:latin typeface="Arial"/>
                <a:ea typeface="Arial"/>
              </a:rPr>
              <a:t>Inégalités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d’accès aux mesures individuelles et collectives de santé publiq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99ff33"/>
                </a:solidFill>
                <a:latin typeface="Arial"/>
                <a:ea typeface="Arial"/>
              </a:rPr>
              <a:t>Inégalité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de la prise en charge des situations de vulnérabilité physique, mentale et / ou sociale </a:t>
            </a:r>
            <a:r>
              <a:rPr b="0" lang="fr-FR" sz="2000" spc="-1" strike="noStrike">
                <a:solidFill>
                  <a:srgbClr val="99ff33"/>
                </a:solidFill>
                <a:latin typeface="Arial"/>
                <a:ea typeface="Arial"/>
              </a:rPr>
              <a:t>de l’étape du diagnostic jusqu’à l’âge adul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1207-FDC0-4B8A-BBB4-CE1C5822791C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03644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2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3534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Élaborer avec l’ensemble des acteurs un programme d’organisation des pratiques professionnelles concernant tous les domaines de la santé de l’enfant et de l’adolesc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3A03-EB49-4670-8C4D-BECF0904696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543800" cy="107928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3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804672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dapter la politique de santé publique aux problèmes de l’enfant / de l’adolescent et de sa famille dans la société actuelle, incluant la santé menta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C7DA-9ADB-413D-AB61-B7A738EF23D3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03644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4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1280" y="2565360"/>
            <a:ext cx="819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ssurer le recueil de données épidémiologiques fiables permettant d’évaluer l’impact des mesures pri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2ACC-50E1-465E-8E1F-5381D17224BE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03644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5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792612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ontribuer à la promotion de la santé par une action cohérente nationale et de terrain et une stratégie de communication adaptée aux besoins et aux moye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E825-38D1-461D-A0C3-0D847DB8AA39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543800" cy="11793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6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1280" y="2637000"/>
            <a:ext cx="79992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imiter les inégalités liées à l’environnement psychosocial et sanitaire (précarité, pauvreté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EAE5-1D9E-4AEA-B588-259AA5C416E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476280"/>
            <a:ext cx="7543800" cy="9367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7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1280" y="24922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ssurer l’excellence de la prise en charge des maladies chroniques complexes et leur transition à l’âge adul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B7C6-CC00-4267-933F-3C24117A421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42560" y="476280"/>
            <a:ext cx="7543800" cy="10080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8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0920" y="2637000"/>
            <a:ext cx="82818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endre lisible le parcours de l’enfant en situation de handicap jusqu’à l’âge adul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B0AC-CA44-4599-B3F9-43D279A8DCE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543800" cy="10083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9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1280" y="2565000"/>
            <a:ext cx="84247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ssurer l’approche de l’adolescent par des acteurs et des structures adapté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2EDE-9DC2-4256-B966-119AB38D5DCB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10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55280" y="2708280"/>
            <a:ext cx="820908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Évaluer les besoins démographiques rée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ettre en place le transfert de compéten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7392-8017-4CCD-81AD-F8FDBCE6BDD1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543800" cy="11797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11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0920" y="2637000"/>
            <a:ext cx="75438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éviser la formation initiale et continue (interdisciplinaire)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6043-447A-4A97-957F-9858F5F7E93F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7543800" cy="107964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es droits de l’enfant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(0 – 18 ans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35344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ONU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20 novembre 198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Une vision globale </a:t>
            </a:r>
            <a:r>
              <a:rPr b="0" lang="fr-FR" sz="1800" spc="-1" strike="noStrike">
                <a:solidFill>
                  <a:srgbClr val="ffffff"/>
                </a:solidFill>
                <a:latin typeface="Wingdings 3"/>
                <a:ea typeface="Wingdings 3"/>
              </a:rPr>
              <a:t>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Convention Internationale relative aux Droits de l’enfant (CIDE), ratifiée par la France en 1990 (54 article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État garant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de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non discrimin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sauvegarde de l’intérêt supérieur de l’enfa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protection de l’enfant / viole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vie pleine et décente pour les enfants handicapé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respect des droits des paren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droit à la dignité, au développement, à la santé, à l’éduc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accès de l’enfant à l’inform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116000" y="5877000"/>
            <a:ext cx="7056360" cy="6444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«</a:t>
            </a:r>
            <a:r>
              <a:rPr b="0" i="1" lang="fr-FR" sz="1800" spc="-1" strike="noStrike">
                <a:solidFill>
                  <a:srgbClr val="ffff66"/>
                </a:solidFill>
                <a:latin typeface="Arial"/>
              </a:rPr>
              <a:t> L’enfant a le droit de jouir du meilleur état de santé pos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fr-FR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ffff66"/>
                </a:solidFill>
                <a:latin typeface="Arial"/>
              </a:rPr>
              <a:t>et de bénéficier des services médicaux qui lui sont nécessaires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 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7E3F-B942-4704-9BAC-B3A43A83A3BA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0808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12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1280" y="2420640"/>
            <a:ext cx="820872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oursuivre le développement de la recherche clinico-biologique ainsi que dans le domaine des sciences humaines et so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D12F-5D42-426D-9CA7-CFF8036D7DE1}" type="slidenum">
              <a:t>40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7936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es droits de l’enfant en France 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2000 - 2010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280" y="1981080"/>
            <a:ext cx="80708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Nombreux textes réglementaire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lois, décrets, circulaires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2004 : droit des malades, Défenseur des Enfants, santé publique,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      réforme du divor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2005 : autonomie et handicap, adop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2007 : protection enfance, logement oppos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0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2010 : HPST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Plans de périnatali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5 Plans de santé publique, santé en milieu scolaire, santé mentale, soins palliatifs, douleur, tabac, alcool, conduites addictives, Plan santé des jeunes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Nombreux rapport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, Conférence de la famille, milieux associatifs (réflexion et actions), institutions décentralisées, communes (villes amies des enfants, villes-santé…), éducation nationale, justice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6A10-0CCF-4472-9BBA-4FBA38BA548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96336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a CIDE est-elle connue en France 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8208720" cy="67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nquête TNS SOFRE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, nov 2009, Unicef et Fondation pour l’enfa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Questionnaire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, N = 1 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Mal connue 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34 % de la popul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10 % des jeunes 15 – 18 a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55 % des parlementaires n’en connaissent que le n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Un bilan plutôt morose</a:t>
            </a:r>
            <a:r>
              <a:rPr b="0" lang="fr-FR" sz="2000" spc="-1" strike="noStrike">
                <a:solidFill>
                  <a:srgbClr val="745389"/>
                </a:solidFill>
                <a:latin typeface="Arial"/>
              </a:rPr>
              <a:t> :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Pauvreté, précarité, violence en augmen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Place et avenir des jeunes dans la socié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Le milieu associatif</a:t>
            </a:r>
            <a:r>
              <a:rPr b="0" lang="fr-FR" sz="2000" spc="-1" strike="noStrike">
                <a:solidFill>
                  <a:srgbClr val="61508c"/>
                </a:solidFill>
                <a:latin typeface="Arial"/>
              </a:rPr>
              <a:t> :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l’acteur le mieux placé pour garantir le respect des droits de l’enfant, suivi du Parle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03B1-3FE5-454D-89D1-81C7873C873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-491040"/>
            <a:ext cx="7537680" cy="265428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Quelles sont les attentes des parents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et de leurs enfants ?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66"/>
                </a:solidFill>
                <a:latin typeface="Arial"/>
              </a:rPr>
              <a:t>(1)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61840" y="1916280"/>
            <a:ext cx="82821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onnaître et faire reconnaître les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Droits de l’enfa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Être assurés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d’un suivi du développement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de leur enfant par des professionnels formés et coordonnés, sachant les orienter si nécessaire, et prenant en compte les difficultés sociales et / ou familiales éventuel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Ex : anomalie physique, troubles des apprentissages,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       du comporte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Être informé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prévention, éducation à la santé, soutien psychologique et so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Prise en compt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de leurs questions, de leurs inquiétudes, être entendus, écouté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29AA-1629-496A-AD5B-37854B81F70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189000"/>
            <a:ext cx="7537680" cy="100800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Quelles sont les attentes des parents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et de leurs enfants ?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66"/>
                </a:solidFill>
                <a:latin typeface="Arial"/>
              </a:rPr>
              <a:t>(2)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89308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Être assurés de la qualité des soin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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un parcours de soins lisible, un projet thérapeutique, un projet de vie : orientation, technicité,humanité 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soins primaires de proximité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- Centres de référence (inter) régionaux pour maladies complexes et/ou rar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- environnement thérapeutique adapté à leur tranche d’â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- place des associa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Comprendr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le diagnostic, les modalités et lieux du traitement, la notion de guérison, de risque immédiat ou à venir, de modes de suivi, de transition à l’âge adul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Être informé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sur le développement et l’intérêt de la recherche pour l’enfant malade trai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Être accompagnés en cas de maladie chronique grave et de toute situation de handicap, surtout en cas  de précarité et de pauvre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FA5E-2DB4-49E9-8767-35641837291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560" y="184320"/>
            <a:ext cx="7543800" cy="94752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Mutations : le monde bouge</a:t>
            </a:r>
            <a:br>
              <a:rPr sz="2800"/>
            </a:b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eaeaea"/>
                </a:solidFill>
                <a:latin typeface="Arial"/>
              </a:rPr>
              <a:t>(1)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000" y="1483920"/>
            <a:ext cx="9036000" cy="57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1) Scientifiqu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Progrès majeurs, mais nouvelles morbidité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Risque de dérive technologiq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Enfant planifié, enfant parfai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Recul, refus de la mor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2)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Sociét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Précarité, pauvreté (2 M enfants), exclus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Seuil de pauvreté : 950 €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 60 % médiane du revenu / unité familia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Transformation des comporte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Droit à tout, tout de suite, exigences de sécuri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Individualisme, liberté sans responsabili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Judiciarisation croissa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Évolution de la famille </a:t>
            </a:r>
            <a:r>
              <a:rPr b="0" lang="fr-FR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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mosaïque, crise de l’autorité,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séparations conflictuelles des par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7A44-C6B6-44D9-BE33-203BA093837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U</cp:lastModifiedBy>
  <dcterms:modified xsi:type="dcterms:W3CDTF">2012-02-13T14:56:25Z</dcterms:modified>
  <cp:revision>266</cp:revision>
  <dc:subject/>
  <dc:title>PowerPoint Presentation</dc:title>
</cp:coreProperties>
</file>