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AD13A-F646-40EB-881F-B601D8610FD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146240" y="687240"/>
            <a:ext cx="4567320" cy="34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40E4-102A-4754-8C40-7AC25C9A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08D-D625-4BA1-8B8B-B0733C78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C12-B0B5-4902-B128-24CD0D40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4FC-4F6E-46B9-9BD6-F593A928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5BFE-9AF7-4C3B-B4BE-548DFCEB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5F16-561D-423F-8052-511056B2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A000-2BA9-4772-8660-1755E1A2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E8FC-B6EC-44DE-A167-23FFBFF5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F4B6-C412-411F-941A-48B8AE58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A687-5CA3-4FA4-85D7-A3A169EDF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B813-2E21-4282-807B-FC4F8FAF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E414-CE3E-49D1-A48F-1261CCE8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1BB2-A5C1-490F-90EE-F6F5DA49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427E-1911-4916-A1A2-2B605F66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7E91-1674-47CF-BD88-C0AB2D52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6A77-E484-4C32-8884-C1615714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5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160" y="198072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5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160" y="4192200"/>
            <a:ext cx="24285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BA28-6516-4451-A86B-964449EA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C74-DF14-48F8-8AEF-449E8CF2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DDBD-4CF2-402A-8EEA-FB97842E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B14-2FE8-49BD-8769-4CF6E7F1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3120"/>
            <a:ext cx="7542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444-EFA8-4FE8-B6B9-088C82EF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6511-A8E5-46D5-9157-4C051EAF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1280" y="419220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F06F-37F6-41BF-8487-4D972558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1280" y="1980720"/>
            <a:ext cx="36806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92200"/>
            <a:ext cx="75423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24C-7966-4F59-9627-401ACC75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3120"/>
            <a:ext cx="7542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0720"/>
            <a:ext cx="75423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7D4428-4C77-45BB-ACFF-38CEB9D9A660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4040"/>
            <a:ext cx="7085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3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9C8906-68F3-4783-BF3A-AE3E99DDCD2D}" type="slidenum">
              <a:rPr b="0" lang="fr-FR" sz="1000" spc="-1" strike="noStrike">
                <a:solidFill>
                  <a:srgbClr val="ffffff"/>
                </a:solidFill>
                <a:latin typeface="Tahoma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906480"/>
            <a:ext cx="7559640" cy="1512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SPECT DES DROITS ET DES ATTENTES DES ENFANTS ET DES FAMILLES :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ALITES ET ENJEUX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763640" y="3860640"/>
            <a:ext cx="66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Danièle SOMME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Professeur émérite de Pédiatrie CHU N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Narrow"/>
              </a:rPr>
              <a:t>19 Janvier 20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EECB-F72A-4AB2-8801-FE63A2C2806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543800" cy="963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800" spc="-1" strike="noStrike">
                <a:solidFill>
                  <a:srgbClr val="eaeaea"/>
                </a:solidFill>
                <a:latin typeface="Tahoma"/>
              </a:rPr>
              <a:t>  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96472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3)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san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éfaut de lisibilité des parco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handicap, transition ado / adult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suffisance des données épidémiolog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Cloisonnement, dysfonctionnement de l’organisation des so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Formation initiale et continue hétérogène des acteurs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(santé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publiqu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erte des modèles d’human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014480"/>
                <a:tab algn="l" pos="1928880"/>
                <a:tab algn="l" pos="2843280"/>
                <a:tab algn="l" pos="3757680"/>
                <a:tab algn="l" pos="4672080"/>
                <a:tab algn="l" pos="5586480"/>
                <a:tab algn="l" pos="6500880"/>
                <a:tab algn="l" pos="7415280"/>
                <a:tab algn="l" pos="8329680"/>
                <a:tab algn="l" pos="9244080"/>
                <a:tab algn="l" pos="101584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ystème de santé mal adapté aux besoins actuels de l’enfant :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 des mesures ponc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D33-3202-4BA7-B77E-0B2942590FF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1079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« Les enfants laissés pour compte »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Jusqu’où la société laisse le fossé se creuser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ilan Innocenti 9 (2010) UNICEF / OCD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4 pays riches : bien-être 0 – 18 ans, mesure des inégal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Bien-être matérie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revenus du ménage, ressources pédagogiques     élémentaires, espace v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 : 5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uisse, Finlande, Pays-Bas : les meilleu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Grèce, Italie, USA : les pi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Réussite scolai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ecture, maths, sci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: 23ème r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61508c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Santé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France 15ème rang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66ffff"/>
                </a:solidFill>
                <a:latin typeface="Arial"/>
              </a:rPr>
              <a:t> [avant la crise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4960" indent="-264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Rappel bilan Innocenti 8 (2009)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France 16ème/2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5950080"/>
            <a:ext cx="77058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pays les mieux classés dans les niveaux moyens de réussite sont ceux qui parviennent à réduire les inégalité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160-757C-4314-9A1A-D05A40D0BD7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-227160"/>
            <a:ext cx="8497800" cy="1982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Santé des enfants en grande section de maternelle 2005-2006 (DREES, sept. 2010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23 000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enfants</a:t>
            </a:r>
            <a:br>
              <a:rPr sz="40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604360" cy="40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ul du surpoid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2,1 % dont 3,1 % obè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4,4 % dont 3,4 % en 1999-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iens ave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égalités sociales (Lorraine : 14 % surpoi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vités phys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habitudes alimentai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sthm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7,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ort lunett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1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anté bucco-dentaire, marqueur d’inégalité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Test langage normal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 :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4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Vaccin hépatite 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 40 % (mieux en ZEP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34F-CB08-4C47-9B02-E162B5DBA1F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854840" cy="1224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apport ONED 2009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Observatoire National de l’enfance en danger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353440" cy="36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21 décembre 2007 : 265 061 mineurs et 21 565 majeurs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esures de prise en char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0 % enfants en danger (A. Tursz)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traitance caché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homicides nouveau-né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bébé secou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2080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130000"/>
              <a:buFont typeface="Arial"/>
              <a:buChar char="•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-être famil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1692360" y="5659920"/>
            <a:ext cx="6557760" cy="459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blème +++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A2B-0359-47A4-A630-C10A13713C1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63272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Évaluation de la loi de Santé Publiqu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du 9 août 2004 (avril 2010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424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56 objectifs / 100 considérés comme évaluab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hez l’enfant, les « progrès » suivants : dépistage trouble du langage, prévention de la maltraitance, réduction de l’indice carieux (sauf si précarité), tendance à      accidents, à la     des suicides chez l’ado, stabilisation sur poids (sauf si précar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pport majeur des 5 Plans (ex  : canc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ecommandations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enfant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745389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011 - 20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érinatale, dépistage atteintes sensorielles, nutrition, vaccinations, santé mentale, risques liés aux soins, à l’exposition environnementale (radiations ionisantes) + réduction des inégalités de santé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2852640"/>
            <a:ext cx="144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48360" y="2852640"/>
            <a:ext cx="14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5950080"/>
            <a:ext cx="6767640" cy="398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Le HCSP </a:t>
            </a:r>
            <a:r>
              <a:rPr b="0" lang="fr-FR" sz="2000" spc="-1" strike="noStrike">
                <a:solidFill>
                  <a:srgbClr val="ffff66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politique de santé publique pour l’enfant / 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36B5-6DAC-4D34-99A1-BCDA77C92F1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-330120"/>
            <a:ext cx="8712000" cy="20448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32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32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2360160"/>
            <a:ext cx="835344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erception état de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B ou TB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91 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i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14 % affection chro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8 % limitation de leurs activ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roubles du sommeil, nervos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formation 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tabac, alcool, VIH, contracep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suffisan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santé mentale, vaccination, alimentation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can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716-8105-4597-B4EE-9AF51398A03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168480"/>
            <a:ext cx="8424720" cy="1982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férence biennale sur la santé des jeune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PES, InVS, OFDT, DREES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15 – 25 ans)</a:t>
            </a:r>
            <a:br>
              <a:rPr sz="2800"/>
            </a:b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Tahoma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281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rpoids 17 % (4 % obési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tagnation prévalence grossesses adolescen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15 000 IVG chez les mine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ccidents de circulation : 1èr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S et suicides : 2ème cause de décès des 15 – 24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cours aux soins : généralistes, dentistes, gynéco, derm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  <a:ea typeface="Arial"/>
              </a:rPr>
              <a:t>ma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renoncement fréquent pour raisons financiè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36D7-3773-4D1B-876B-36A4E6C9878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-206280"/>
            <a:ext cx="7898040" cy="1800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    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 Préambul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99956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éclaration d’Alma-Alta 2000 OM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Promotion de la santé : « processus qui confère aux populations les moyens d’assurer un plus grand contrôle sur leur propre santé et d’améliorer celle-ci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.DUBOS Sant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« aptitude à s’adapter pour mieux fonctionner dans le présent et préparer l’avenir 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1042920" y="5084640"/>
            <a:ext cx="7850160" cy="10087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« Agir à l’égard de tout être raisonnable (toi-même et les aut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de sorte qu’il ait pour toi également la valeur d’une f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t jamais d’un moyen »</a:t>
            </a:r>
            <a:r>
              <a:rPr b="1" lang="fr-FR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ffff00"/>
                </a:solidFill>
                <a:latin typeface="Arial"/>
              </a:rPr>
              <a:t>E. K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B36-5284-4F49-9960-C920E82085C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-1459440"/>
            <a:ext cx="8640720" cy="46659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fr-FR" sz="2400" spc="-1" strike="noStrike">
                <a:solidFill>
                  <a:srgbClr val="eaeaea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Une politique national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ciblée sur la population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0 – 18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ans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                                                       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fr-FR" sz="4000" spc="-1" strike="noStrike">
                <a:solidFill>
                  <a:srgbClr val="eaeaea"/>
                </a:solidFill>
                <a:latin typeface="Tahoma"/>
              </a:rPr>
              <a:t>	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2550960"/>
            <a:ext cx="7543800" cy="27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ssociant d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axes stratégiques verticaux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ans mé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pécificités transversal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iées au développement / aux besoins sanitaires et psycho-socio et aux spécificités de l’entourag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éclinaison régionale / spécificités géographiques et besoins de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1258920" y="5373720"/>
            <a:ext cx="7562880" cy="7610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Chaque âge, chaque état de la vie a sa perfection convenable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sa sorte de maturité qui lui est propre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J.J. ROUSSEAU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Emil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8330-1C3C-4762-9A97-7B99C343F10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-213120"/>
            <a:ext cx="8424720" cy="17398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certation et coopération multidisciplinaire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2276640"/>
            <a:ext cx="754380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Multiplicité des acteurs concerné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santé sanitaire, médico-sociale, socia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du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a jus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s sciences humaines et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e l’éth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5157720"/>
            <a:ext cx="633708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« La visée d’une vie bonne, avec et pour les autr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dans des institutions justes »</a:t>
            </a:r>
            <a:r>
              <a:rPr b="1" lang="fr-F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. RICO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06C-EFDB-4743-91BF-EC841A4DF82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68204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Introduction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mment protéger l’enfant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8640"/>
            <a:ext cx="7826400" cy="62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L’être jeune est mouvement et agitation de part en part ; il gesticule, gambade, bondit et fait entendre mille cris. Animal parmi les animaux, il est semblable au bétail, sauvage et bouillant comme un troupeau de poulains…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Platon, Les Lo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« Le niveau réel d’un pays se mesure à l’attention qu’il accorde à ses enfants, à leur santé et à leur sécurité, à leur situation matérielle, à leur éducation et à leur socialisation, ainsi qu’à leur sentiment d’être aimés, appréciés et intégrés dans les familles des sociétés au sein desquelles ils sont nés » 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OCD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741-AD3F-491A-9045-F13A87B1CCE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280" y="-206280"/>
            <a:ext cx="828036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204640"/>
            <a:ext cx="82818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dicateurs (objectifs, évaluation) </a:t>
            </a:r>
            <a:r>
              <a:rPr b="0" lang="fr-FR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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 épidémiologie à renforc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iens parents / enfants,accueil jeunes enfants, éducation (famille, école), santé mentale,habitudes alimentaires, physiques, expositions environnementales,devenir socié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n exemple :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a naissance et le lien mère – 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nsultation prénatale 4ème mois, amélioration de préparation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à la naissance, réseaux de périnatalité </a:t>
            </a:r>
            <a:r>
              <a:rPr b="0" i="1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sorties précoces de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maternité, liens avec PMI, suivi des prématuré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ncouragement à l’allaitement matern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41F-5532-4385-B836-B7265189071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-171360"/>
            <a:ext cx="7705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Revisiter la politique de santé publique</a:t>
            </a:r>
            <a:br>
              <a:rPr sz="2800"/>
            </a:b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754380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Actions de terrai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gt; collective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Dépistag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Education à la santé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 Soutien des familles à ris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</a:rPr>
              <a:t>Prévenir surmortalité, maladies de la société, comportements à risque, fardeau économique des maladies chron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820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>
            <a:off x="1476360" y="5373720"/>
            <a:ext cx="7272360" cy="1008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 lien entre les conditions socio-économiques et la santé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t l’une des plus constantes observations jamais fa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 santé publique”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lan et Sym KAPL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3692-6908-4D9B-A4EA-AB31131F4EE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-198360"/>
            <a:ext cx="7759800" cy="1800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jeux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Continuer à allier technicité et humanité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55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9440" indent="-37944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adies chroniques (rares, complexes) et autres situations de handica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1)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cellence des soins : compétences verticales et transversales, techniques et humaines, de l’information initiale à la guérison ou à l’aggravation et parfois la mort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fiance et alli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Favoriser les soins à domicile et structurer le rôle des </a:t>
            </a:r>
            <a:r>
              <a:rPr b="0" lang="fr-FR" sz="1800" spc="-1" strike="noStrike">
                <a:solidFill>
                  <a:srgbClr val="66ff33"/>
                </a:solidFill>
                <a:latin typeface="Arial"/>
              </a:rPr>
              <a:t>aidant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aux côtés des soigna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Rendre lisible le parcours de soins, du diagnostic à l’âge adulte (transiti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poser des structures de répit (parents, enfant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5) Savoir placer le questionnement éthique au sein de toute décision complexe, de tout entretien difficile, quand un traitement peut (re)commencer ou quand la vie peut s’interromp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49320"/>
                <a:tab algn="l" pos="1863720"/>
                <a:tab algn="l" pos="2778120"/>
                <a:tab algn="l" pos="3692520"/>
                <a:tab algn="l" pos="4606920"/>
                <a:tab algn="l" pos="5521320"/>
                <a:tab algn="l" pos="6435720"/>
                <a:tab algn="l" pos="7350120"/>
                <a:tab algn="l" pos="8264520"/>
                <a:tab algn="l" pos="9178920"/>
                <a:tab algn="l" pos="1009332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D37-3168-4664-A030-15356B0ECC9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50920" y="189000"/>
            <a:ext cx="8713800" cy="718920"/>
          </a:xfrm>
          <a:prstGeom prst="rect">
            <a:avLst/>
          </a:prstGeom>
          <a:solidFill>
            <a:srgbClr val="0000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LES ACTEURS ET STRUCTURES DE SOINS PEDIATRIQUES …</a:t>
            </a:r>
            <a:br>
              <a:rPr sz="2000"/>
            </a:b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UN PUZZ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3280" y="2205000"/>
            <a:ext cx="1655640" cy="43200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eci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2781360"/>
            <a:ext cx="2016360" cy="57636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aramédicaux libér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2997360"/>
            <a:ext cx="201636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restataires de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6560" y="3860640"/>
            <a:ext cx="1117800" cy="2890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SI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6560" y="4365720"/>
            <a:ext cx="1225800" cy="287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SESS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1280" y="3284640"/>
            <a:ext cx="2160720" cy="12240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nfant/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Famille, fratr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bit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56000" y="4724280"/>
            <a:ext cx="792000" cy="4334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465300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 de so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 territoriaux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5280" y="5229360"/>
            <a:ext cx="2089080" cy="5032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Education nationa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1268280"/>
            <a:ext cx="2016360" cy="863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pédiat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ix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2060640"/>
            <a:ext cx="2160360" cy="64764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tern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ôpital non univ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H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64360" y="2852640"/>
            <a:ext cx="11509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S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335640" y="3357720"/>
            <a:ext cx="280836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édico-so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56360" y="3860640"/>
            <a:ext cx="287964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sy-infanto-juv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4724280"/>
            <a:ext cx="1296720" cy="21600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D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844640"/>
            <a:ext cx="2087640" cy="360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Centre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349360"/>
            <a:ext cx="1800360" cy="3589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5950080"/>
            <a:ext cx="201600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s de répit 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63640" y="3500280"/>
            <a:ext cx="2016360" cy="936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harmaci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hospi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-  offic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64000" y="5300640"/>
            <a:ext cx="2519280" cy="504720"/>
          </a:xfrm>
          <a:prstGeom prst="ellipse">
            <a:avLst/>
          </a:prstGeom>
          <a:solidFill>
            <a:srgbClr val="f8f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eaux de san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(organis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92360" y="5950080"/>
            <a:ext cx="2735280" cy="431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Bénévo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35640" y="1341360"/>
            <a:ext cx="2700360" cy="5763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Maisons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66"/>
                </a:solidFill>
                <a:latin typeface="Arial"/>
              </a:rPr>
              <a:t>de naiss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532720" y="2276640"/>
            <a:ext cx="576360" cy="215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DJ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48360" y="4365720"/>
            <a:ext cx="2016360" cy="2156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ison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3280" y="2421000"/>
            <a:ext cx="1657440" cy="64764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Unités mobi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ospit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12000" y="4292640"/>
            <a:ext cx="720720" cy="360360"/>
          </a:xfrm>
          <a:prstGeom prst="ellipse">
            <a:avLst/>
          </a:prstGeom>
          <a:solidFill>
            <a:srgbClr val="f8faa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AMS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6081480" y="5155920"/>
            <a:ext cx="579240" cy="290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154200" y="5516640"/>
            <a:ext cx="50652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59640" y="5229360"/>
            <a:ext cx="2376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périnatalité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Réseau de cancérolog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148360" y="2131920"/>
            <a:ext cx="21564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298920" y="2421000"/>
            <a:ext cx="2905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5290920" y="3068640"/>
            <a:ext cx="745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82920" y="8037360"/>
            <a:ext cx="73080" cy="71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9A34-5404-4715-9BD5-AB4507E8B73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0920" y="111240"/>
            <a:ext cx="7993080" cy="947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pédiatres de ville exclusifs</a:t>
            </a:r>
            <a:r>
              <a:rPr b="0" lang="fr-FR" sz="2800" spc="-1" strike="noStrike">
                <a:solidFill>
                  <a:srgbClr val="eaeaea"/>
                </a:solidFill>
                <a:latin typeface="Arial"/>
              </a:rPr>
              <a:t> 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: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1665 / 6767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(2011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Tout faire chez 100 % des enfants ?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Impos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Inégalités démographiques, P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Rôle de recour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anté publiqu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ituations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systématiqu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 3 à 6 mo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édecine communautai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ivités de réseaux, liens pédopsy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g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Passerelles ville-hôpit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Enseignement et recherch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20640" indent="-3524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"/>
              <a:tabLst>
                <a:tab algn="l" pos="1192320"/>
                <a:tab algn="l" pos="2106720"/>
                <a:tab algn="l" pos="3021120"/>
                <a:tab algn="l" pos="3935520"/>
                <a:tab algn="l" pos="4849920"/>
                <a:tab algn="l" pos="5764320"/>
                <a:tab algn="l" pos="6678720"/>
                <a:tab algn="l" pos="7593120"/>
                <a:tab algn="l" pos="8507520"/>
                <a:tab algn="l" pos="9421920"/>
                <a:tab algn="l" pos="10336320"/>
                <a:tab algn="l" pos="10782360"/>
              </a:tabLst>
            </a:pP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Rôle d’experts </a:t>
            </a:r>
            <a:r>
              <a:rPr b="0" lang="en-US" sz="2000" spc="-1" strike="noStrike">
                <a:solidFill>
                  <a:srgbClr val="66ff33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66ff33"/>
                </a:solidFill>
                <a:latin typeface="Arial"/>
              </a:rPr>
              <a:t> Institutions : Etat et collectivités  loc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5950080"/>
            <a:ext cx="8280360" cy="45972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Times New Roman"/>
              </a:rPr>
              <a:t>Valorisation financière des consultations complex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B3F8-5044-4991-AE50-106379E6CCB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511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exercice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2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généralistes libéraux exclusif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55 136 / 93 39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3534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dmettre que la diversité des pathologies et des tranches d’âge ne les rend pas égaux à des « spécialistes »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dmettre aussi leur rôle de première ligne : zones sans pédiatres, PDS, suivi des situations non complex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Rétablir notion de pédiatre de ville référent (mais alors accessibl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Proposer des modèles locaux cohérents d’exercice et de FMC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CDC-8523-4F9E-B1ED-E0842A4F88B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56908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3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la PMI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(80 % généralistes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2 264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84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issions croissantes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urgences médico-sociales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ganisation hétérogè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roit à la prescription trop lim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Intégration insuffisante dans réseaux, liens avec ville, hôpital et 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611280" y="5084640"/>
            <a:ext cx="7920000" cy="7038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Renforcer place des pédiatres en PMI ou ↑ le nombre et la formation des généralistes de PMI, en modifiant leur stat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B099-EF90-424C-9F4E-7B3E063CE80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4216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4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Médecine scolaire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N = 1918, 95 % généralistes (2011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315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issions de santé publique (promotion santé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is : pénurie, isolement, dispersion (1/8 à 12 000 élève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uivi de 12 à 18 ans : 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aladies chroniques, handicap : intégration scolaire parfois diffic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445000"/>
            <a:ext cx="6192720" cy="45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Alliance avec pédiatres de ville et PM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7DEC-4DAA-4B31-883A-C1F867D0BE9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269480" cy="8636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Périmètres d’action 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(5)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: autr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60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problème de la pédopsychiatrie : pénurie, éclatemen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 = 885 (2011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 cloisonnement monde sanitaire/travailleurs sociau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Les médecins de Santé Publique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énuri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méconnaissance du terr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403280" y="5373720"/>
            <a:ext cx="6769080" cy="12675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roposition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des pédiatres </a:t>
            </a:r>
            <a:r>
              <a:rPr b="0" lang="fr-FR" sz="2400" spc="-1" strike="noStrike">
                <a:solidFill>
                  <a:srgbClr val="ffff66"/>
                </a:solidFill>
                <a:latin typeface="Wingdings 3"/>
                <a:ea typeface="Wingdings 3"/>
              </a:rPr>
              <a:t>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 médecins de Santé Pub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7C1B-D561-4159-8678-354260826AC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1280" y="2276280"/>
            <a:ext cx="8424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roposer un plan national interministériel de politique de santé globale de l’enfant et de l’adolescent </a:t>
            </a:r>
            <a:r>
              <a:rPr b="0" lang="fr-FR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injonctions nationales et mise en œuvre régio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824-9DA9-4992-B787-7517F6809BD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345440" cy="1295280"/>
          </a:xfrm>
          <a:prstGeom prst="rect">
            <a:avLst/>
          </a:prstGeom>
          <a:gradFill rotWithShape="0">
            <a:gsLst>
              <a:gs pos="0">
                <a:srgbClr val="000046"/>
              </a:gs>
              <a:gs pos="50000">
                <a:srgbClr val="000099"/>
              </a:gs>
              <a:gs pos="100000">
                <a:srgbClr val="000046"/>
              </a:gs>
            </a:gsLst>
            <a:lin ang="5400000"/>
          </a:gra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TAT DE SANT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É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  <a:ea typeface="Arial"/>
              </a:rPr>
              <a:t> GLOBALEMENT SATISFAISANT, MAIS…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9992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’accès aux mesures individuelles et collectives de santé publ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Inégalit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de la prise en charge des situations de vulnérabilité physique, mentale et / ou sociale </a:t>
            </a:r>
            <a:r>
              <a:rPr b="0" lang="fr-FR" sz="2000" spc="-1" strike="noStrike">
                <a:solidFill>
                  <a:srgbClr val="99ff33"/>
                </a:solidFill>
                <a:latin typeface="Arial"/>
                <a:ea typeface="Arial"/>
              </a:rPr>
              <a:t>de l’étape du diagnostic jusqu’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769-EBC4-4196-8CBC-CCFC2A80A08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3534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laborer avec l’ensemble des acteurs un programme d’organisation des pratiques professionnelles concernant tous les domaines de la santé de l’enfant et de l’adoles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6ABF-03FF-4D89-9C28-05E8DBEF222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0792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3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4360" y="2349360"/>
            <a:ext cx="804672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dapter la politique de santé publique aux problèmes de l’enfant / de l’adolescent et de sa famille dans la société actuelle, incluant la santé ment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6C87-9608-4C5D-8997-EF4A008C292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4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2565360"/>
            <a:ext cx="819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e recueil de données épidémiologiques fiables permettant d’évaluer l’impact des mesures pri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E2A-3E6D-4B9B-89C0-E55DEC42DB1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5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792612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ibuer à la promotion de la santé par une action cohérente nationale et de terrain et une stratégie de communication adaptée aux besoins et aux moy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C7A6-744F-4632-BD8E-7EFC0283925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543800" cy="1179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6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2637000"/>
            <a:ext cx="79992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imiter les inégalités liées à l’environnement psychosocial et sanitaire (précarité, pauvret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DE0-BF50-4C9F-A27A-6E363C38EB7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476280"/>
            <a:ext cx="7543800" cy="936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7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excellence de la prise en charge des maladies chroniques complexes et leur transition 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0FE-A9BD-452C-92EA-9EE3B5D24A9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543800" cy="10080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8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8281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ndre lisible le parcours de l’enfant en situation de handicap jusqu’à l’âge adul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B192-E427-40FC-8EE1-C13587F61CD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42560" y="404280"/>
            <a:ext cx="7543800" cy="10083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9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42472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ssurer l’approche de l’adolescent par des acteurs et des structures adapté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CB2-D9B1-4119-AAD8-703DE058907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0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82090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valuer les besoins démographiques ré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ettre en place le transfert de compéten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B89-A0F0-4DF8-82C0-5DDC669BE6F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543800" cy="11797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1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0920" y="2637000"/>
            <a:ext cx="754380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éviser la formation initiale et continue (interdisciplinaire)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8E6-CE27-42B8-AF72-F8E2C292E78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560" y="333000"/>
            <a:ext cx="7543800" cy="107964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(0 – 18 ans)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3534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ONU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20 novembre 198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Une vision globale </a:t>
            </a:r>
            <a:r>
              <a:rPr b="0" lang="fr-FR" sz="18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Convention Internationale relative aux Droits de l’enfant (CIDE), ratifiée par la France en 1990 (54 articl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État gara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non discrimin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sauvegarde de l’intérêt supérieur de l’enfa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protection de l’enfant / viole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vie pleine et décente pour les enfants handicapé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respect des droits des par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droit à la dignité, au développement, à la santé, à l’édu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accès de l’enfant à l’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16000" y="5877000"/>
            <a:ext cx="7056360" cy="64440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«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 L’enfant a le droit de jouir du meilleur état de santé possi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fr-FR" sz="1800" spc="-1" strike="noStrike">
                <a:solidFill>
                  <a:srgbClr val="ffff66"/>
                </a:solidFill>
                <a:latin typeface="Arial"/>
              </a:rPr>
              <a:t>et de bénéficier des services médicaux qui lui sont nécessaires</a:t>
            </a:r>
            <a:r>
              <a:rPr b="0" lang="fr-FR" sz="1800" spc="-1" strike="noStrike">
                <a:solidFill>
                  <a:srgbClr val="ffff66"/>
                </a:solidFill>
                <a:latin typeface="Arial"/>
              </a:rPr>
              <a:t> 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9CC6-079F-497C-8E83-8F6472000A8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eaeaea"/>
                </a:solidFill>
                <a:latin typeface="Arial"/>
              </a:rPr>
              <a:t>Propositions </a:t>
            </a:r>
            <a:r>
              <a:rPr b="0" lang="fr-FR" sz="1800" spc="-1" strike="noStrike">
                <a:solidFill>
                  <a:srgbClr val="eaeaea"/>
                </a:solidFill>
                <a:latin typeface="Arial"/>
              </a:rPr>
              <a:t>(12)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2420640"/>
            <a:ext cx="820872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2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Poursuivre le développement de la recherche clinico-biologique ainsi que dans le domaine des sciences humaines et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71F-B260-47D5-863C-0D145545164A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es droits de l’enfant en France 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2000 - 2010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07084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textes réglement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lois, décrets, circulair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4 : droit des malades, Défenseur des Enfants, santé publique,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          réforme du divor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5 : autonomie et handicap, adop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07 : protection enfance, logement opposab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0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2010 : HPS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lans de périnata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 Plans de santé publique, santé en milieu scolaire, santé mentale, soins palliatifs, douleur, tabac, alcool, conduites addictives, Plan santé des jeunes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30240"/>
                <a:tab algn="l" pos="1844640"/>
                <a:tab algn="l" pos="2759040"/>
                <a:tab algn="l" pos="3673440"/>
                <a:tab algn="l" pos="4587840"/>
                <a:tab algn="l" pos="5502240"/>
                <a:tab algn="l" pos="6416640"/>
                <a:tab algn="l" pos="7331040"/>
                <a:tab algn="l" pos="8245440"/>
                <a:tab algn="l" pos="9159840"/>
                <a:tab algn="l" pos="100742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Nombreux rapport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Conférence de la famille, milieux associatifs (réflexion et actions), institutions décentralisées, communes (villes amies des enfants, villes-santé…), éducation nationale, justice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67F-7492-4FF4-9CFE-923BC8F1C2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La CIDE est-elle connue en France ?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08720" cy="67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nquête TNS SOF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ov 2009, Unicef et Fondation pour l’enf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estionnaire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, N = 1 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Mal connue 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34 % de la popu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10 % des jeunes 15 – 18 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55 % des parlementaires n’en connaissent que le n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Un bilan plutôt morose</a:t>
            </a:r>
            <a:r>
              <a:rPr b="0" lang="fr-FR" sz="2000" spc="-1" strike="noStrike">
                <a:solidFill>
                  <a:srgbClr val="745389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auvreté, précarité, violence en augmen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lace et avenir des jeunes dans la socié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Le milieu associatif</a:t>
            </a:r>
            <a:r>
              <a:rPr b="0" lang="fr-FR" sz="2000" spc="-1" strike="noStrike">
                <a:solidFill>
                  <a:srgbClr val="61508c"/>
                </a:solidFill>
                <a:latin typeface="Arial"/>
              </a:rPr>
              <a:t> :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’acteur le mieux placé pour garantir le respect des droits de l’enfant, suivi du Parl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E75-C1CA-43F2-9B5F-DCEB5D4D02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491040"/>
            <a:ext cx="7537680" cy="265428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br>
              <a:rPr sz="2800"/>
            </a:b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1840" y="1916280"/>
            <a:ext cx="82821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onnaître et faire reconnaître le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roits de l’enf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Être assurés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d’un suivi du développement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 enfant par des professionnels formés et coordonnés, sachant les orienter si nécessaire, et prenant en compte les difficultés sociales et / ou familiales éventuel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Ex : anomalie physique, troubles des apprentissages,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     du comporte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: prévention, éducation à la santé, soutien psychologique et so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Prise en compt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de leurs questions, de leurs inquiétudes, être entendus, écou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F08A-D271-42CA-ADD5-AB82ABE859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189000"/>
            <a:ext cx="7537680" cy="100800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Quelles sont les attentes des parents</a:t>
            </a:r>
            <a:br>
              <a:rPr sz="2800"/>
            </a:b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et de leurs enfants ?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ffff66"/>
                </a:solidFill>
                <a:latin typeface="Arial"/>
              </a:rPr>
              <a:t>(2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assurés de la qualité des soin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un parcours de soins lisible, un projet thérapeutique, un projet de vie : orientation, technicité,humanité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oins primaires de proximité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Centres de référence (inter) régionaux pour maladies complexes et/ou rar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environnement thérapeutique adapté à leur tranche d’â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- place des associ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Comprendre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le diagnostic, les modalités et lieux du traitement, la notion de guérison, de risque immédiat ou à venir, de modes de suivi, de transition à l’âge adul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Être informés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sur le développement et l’intérêt de la recherche pour l’enfant malade tra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-2667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66"/>
                </a:solidFill>
                <a:latin typeface="Arial"/>
              </a:rPr>
              <a:t>Être accompagnés en cas de maladie chronique grave et de toute situation de handicap, surtout en cas  de précarité et de pauvre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66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36640"/>
                <a:tab algn="l" pos="1751040"/>
                <a:tab algn="l" pos="2665440"/>
                <a:tab algn="l" pos="3579840"/>
                <a:tab algn="l" pos="4494240"/>
                <a:tab algn="l" pos="5408640"/>
                <a:tab algn="l" pos="6323040"/>
                <a:tab algn="l" pos="7237440"/>
                <a:tab algn="l" pos="8151840"/>
                <a:tab algn="l" pos="9066240"/>
                <a:tab algn="l" pos="998064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B6A-A58C-447B-A05A-02F397F963C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84320"/>
            <a:ext cx="7543800" cy="947520"/>
          </a:xfrm>
          <a:prstGeom prst="rect">
            <a:avLst/>
          </a:prstGeom>
          <a:noFill/>
          <a:ln w="9360">
            <a:solidFill>
              <a:srgbClr val="99ff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ffff66"/>
                </a:solidFill>
                <a:latin typeface="Arial"/>
              </a:rPr>
              <a:t>Mutations : le monde bouge</a:t>
            </a:r>
            <a:br>
              <a:rPr sz="2800"/>
            </a:b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eaeaea"/>
                </a:solidFill>
                <a:latin typeface="Arial"/>
              </a:rPr>
              <a:t>(1)</a:t>
            </a:r>
            <a:endParaRPr b="1" lang="en-US" sz="1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483920"/>
            <a:ext cx="9036000" cy="57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1) Scientifiqu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ogrès majeurs, mais nouvelles morbidité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isque de dérive technolog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Enfant planifié, enfant parfai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Recul, refus de la mor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2) </a:t>
            </a:r>
            <a:r>
              <a:rPr b="0" lang="fr-FR" sz="2000" spc="-1" strike="noStrike">
                <a:solidFill>
                  <a:srgbClr val="66ff33"/>
                </a:solidFill>
                <a:latin typeface="Arial"/>
              </a:rPr>
              <a:t>Sociét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Précarité, pauvreté (2 M enfants), exclus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1800" spc="-1" strike="noStrike">
                <a:solidFill>
                  <a:srgbClr val="ffffff"/>
                </a:solidFill>
                <a:latin typeface="Arial"/>
              </a:rPr>
              <a:t>Seuil de pauvreté : 950 €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 60 % médiane du revenu / unité famili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Transformation des comporte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Droit à tout, tout de suite, exigences de sécur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Individualisme, liberté sans responsabi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Judiciarisation croissa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- Évolution de la famille </a:t>
            </a:r>
            <a:r>
              <a:rPr b="0" lang="fr-FR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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mosaïque, crise de l’autorité,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séparations conflictuelles des par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38080"/>
                <a:tab algn="l" pos="1752480"/>
                <a:tab algn="l" pos="2666880"/>
                <a:tab algn="l" pos="3581280"/>
                <a:tab algn="l" pos="4495680"/>
                <a:tab algn="l" pos="5410080"/>
                <a:tab algn="l" pos="6324480"/>
                <a:tab algn="l" pos="7238880"/>
                <a:tab algn="l" pos="8153280"/>
                <a:tab algn="l" pos="9067680"/>
                <a:tab algn="l" pos="99820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E64-6820-4ABF-ABA0-E1CB47E41E7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U</cp:lastModifiedBy>
  <dcterms:modified xsi:type="dcterms:W3CDTF">2012-02-13T14:56:25Z</dcterms:modified>
  <cp:revision>266</cp:revision>
  <dc:subject/>
  <dc:title>PowerPoint Presentation</dc:title>
</cp:coreProperties>
</file>