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38340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20680" y="938340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A82F1B5-53A5-44B8-AEFF-A09F1B0E3D7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A4A6AD3-C537-4761-B06F-77F9914D280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F13AE4D-E806-4472-ACEE-756E456DF39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E78771B-9129-4538-B0DE-B71CB99B1BF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DE0EF58-4585-4C7C-BBD7-05C7E90CD73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7608-B7C2-4985-818B-522A3704E129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05816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Volet handicap du Schéma régional d’organisation médico-sociale de L’ARS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5444640"/>
            <a:ext cx="684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férence de territoir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17 novem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630920" cy="35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’insertion sociale et professionnelle des personnes handicapées psychiq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tions spécifiques en faveur des personnes souffrant d’autisme et de troubles envahissants du développement (T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communs aux trois population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PA- PH-P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la bientraitan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mer les professionnels et accompagner les aidants familia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chéma médico-social un élément du Projet Régional de Santé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41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rojet régional de santé (PRS)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t être arrêté fin 2012 (arrêté du DG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composé notamment du schéma médico-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t apporter une réponse aux enjeux stratégiques déterminés dans le PS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rrêté du DGARS du 11 oct 201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am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duction d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mélioration de la qualité du service rendu aux Franciliens par le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arantie de l’efficienc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95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MEDIC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RGANISATION DES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S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UR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P 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 de surveil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territoriaux + C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I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pluriannuel de gestion du ris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mm Rég G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P : commission perman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S : commission spécialis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C : commission de 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T : conférence de terri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dt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s génér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 téléméde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. Régional d’Accès à la prévention et aux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Le calendrier du PRS                                        </a:t>
            </a:r>
            <a:r>
              <a:rPr b="0" i="1" lang="en-US" sz="1400" spc="-1" strike="noStrike">
                <a:solidFill>
                  <a:srgbClr val="969696"/>
                </a:solidFill>
                <a:latin typeface="Arial"/>
                <a:ea typeface="ＭＳ Ｐゴシック"/>
              </a:rPr>
              <a:t>Document de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Région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an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é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v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Ambulato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volet ambula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ur avis offic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 Télémédec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GD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 (CC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hier de charges PD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cible PDS-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Etablissements de san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R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rogramme de télémédec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 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Soins aux déte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iologie médi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ucco-dent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médico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des soin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alid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non-officiel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offici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DS-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iologie médi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Soins  déte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ucco-dent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Concer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Conce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Arrêté 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N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               non 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ROM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41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 objectifs stratégiqu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ser et structurer une offre médico-sociale de proximité, accessible, adaptée et diversifi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qualité de la prise en charge et de l’accompagnement pour garantir l’adéquation du parcours de vie et de soins aux besoins des perso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trois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handicapé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âgé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en difficulté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articulation avec les autres démarches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SROMS n’a pas vocation, à lui seul, à apporter, toutes les réponses aux problématiques qu’il va aborder.  Organisation nécessaire de la transversalité et la synergie avec les autres volets des schémas PRS ainsi qu’avec les schémas départ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Méthodologie et calendrier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416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ité de pilotage du SRO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groupes de travail au niveau régional dont 4 pour les personnes handicap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précoce du handic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à la scolarisation et à l ’insertion professionne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icap psych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nes handicapées vieilliss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vaux régionau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s – juin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daction du SROS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été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aux partenaires région et départ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tomne 2011, pour Paris le 18/11/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érimentation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êté du DGARS (fin déc. 2012) après avis de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 volet « Personnes Handicapées » du SROMS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. Organiser et structurer une offre médico-sociale adaptée et de proximit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tructurer l’offre pour réduire les inégalités territoriales et opérer des redéploiements de res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es coopérations et les partenariats entre les acteurs concernés (ambulatoire, hospitalier, social, médico-so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nforcer une logique d’efficience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e la dép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ans le positionnement de l’établissement dans la filiè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I. Améliorer la qualité de l’accompagnement pour assurer un parcours de vie et de soins répondant aux besoins des person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rganiser et renforcer la prévention tout au long du parcours de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’accès et le maintien au logement des person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e soutien aux aidants (formation, reconnaissance de leur action, prise en compte de leur sant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a qualité des prestations pour garantir une prise en charge adaptée aux besoins et à la diversité des publ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velopper une démarche de bientrai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oriser les métiers du médico-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1 : Organiser et structurer une offre médico-sociale de proximité, accessible, adaptée et diversifiée</a:t>
            </a: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gmenter, restructurer et diversifier l’offre d’accompagnement des personnes handicap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es actions innovantes et expérimentales pour être au plus près des besoins des personnes handicapées et de leur entou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3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ndre en compte de façon coordonnée les problématiques du logement, de l’habitat et du déplacement pour faciliter le quotidien des personnes handicapées en perte d’autonomie (Fiche concernant les 3 populations PA-PH-PD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poser des organisations innovantes d’information et de suivi de prises en charge des personnes handicapées psychiqu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53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éder à l’évaluation des personne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formalisation des partenariats et des coopérations entre les différents acteu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prévention et l’accès aux soin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4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’insertion professionnelle de la personne handicapée tout au long du parcours de vi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fficience de la dépense dans le secteur du handicap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1-16T09:17:39Z</dcterms:modified>
  <cp:revision>276</cp:revision>
  <dc:subject/>
  <dc:title>Présentation PowerPoint</dc:title>
</cp:coreProperties>
</file>