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20680" y="-360"/>
            <a:ext cx="292284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02880" y="740880"/>
            <a:ext cx="4940280" cy="370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383400"/>
            <a:ext cx="292248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20680" y="9383400"/>
            <a:ext cx="2922840" cy="4921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  <a:defRPr b="0" lang="fr-F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5D39ED7-F9CA-4A31-836F-99943BDF7908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64E58279-3936-4722-B5FE-B431702D579F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32584459-7BE6-408D-9FB9-52BCF1A0F3D0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891C3833-3FFB-44EF-9329-85F3C96FA4B3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21040" y="9383760"/>
            <a:ext cx="29228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9320"/>
                <a:tab algn="l" pos="1898640"/>
                <a:tab algn="l" pos="2847960"/>
                <a:tab algn="l" pos="3797280"/>
                <a:tab algn="l" pos="4746600"/>
                <a:tab algn="l" pos="5695920"/>
                <a:tab algn="l" pos="6645240"/>
                <a:tab algn="l" pos="7594560"/>
                <a:tab algn="l" pos="8543880"/>
                <a:tab algn="l" pos="9493200"/>
                <a:tab algn="l" pos="10442520"/>
              </a:tabLst>
            </a:pPr>
            <a:fld id="{928405F1-BE82-470B-97A8-41639835A25B}" type="slidenum">
              <a:rPr b="0" lang="fr-F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03240" y="741240"/>
            <a:ext cx="4940280" cy="37054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898200" y="4692240"/>
            <a:ext cx="4946760" cy="444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468E-D313-4AF9-989A-F0AC8FD121FE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23" descr="ARS-PPT ECRAN D'OUVERTURE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Text Box 22"/>
          <p:cNvSpPr/>
          <p:nvPr/>
        </p:nvSpPr>
        <p:spPr>
          <a:xfrm>
            <a:off x="345960" y="6375240"/>
            <a:ext cx="89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XX/XX/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6" descr="ARS_LOGOS_idf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8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87280" y="2205000"/>
            <a:ext cx="705816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Volet handicap du Schéma régional d’organisation médico-sociale de L’ARS</a:t>
            </a: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	</a:t>
            </a:r>
            <a:r>
              <a:rPr b="1" lang="en-US" sz="2500" spc="-1" strike="noStrike">
                <a:solidFill>
                  <a:srgbClr val="002395"/>
                </a:solidFill>
                <a:latin typeface="Arial"/>
              </a:rPr>
              <a:t> </a:t>
            </a:r>
            <a:br>
              <a:rPr sz="2500"/>
            </a:b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58920" y="5444640"/>
            <a:ext cx="684216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férence de territoire 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17 novembre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spcBef>
                <a:spcPts val="425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objectif n° 2 : Améliorer la qualité de la prise en charge et de l’accompagnement pour garantir l’adéquation du parcours de vie et de soins aux besoins des personne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1916280"/>
            <a:ext cx="7630920" cy="35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 opérationnels sur des problématiques spécifiques</a:t>
            </a:r>
            <a:r>
              <a:rPr b="1" lang="fr-FR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mpagnement à l’insertion sociale et professionnelle des personnes handicapées psychiqu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compagnement à la perte d’autonomie (PHV : personnes handicapées vieillissan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ctions spécifiques en faveur des personnes souffrant d’autisme et de troubles envahissants du développement (TED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bjectifs opérationnels communs aux trois population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PA- PH-PD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velopper la bientraitanc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Former les professionnels et accompagner les aidants familiaux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 schéma médico-social un élément du Projet Régional de Santé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4167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projet régional de santé (PRS) 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it être arrêté fin 2012 (arrêté du DGA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 composé notamment du schéma médico-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it apporter une réponse aux enjeux stratégiques déterminés dans le PSR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rrêté du DGARS du 11 oct 2011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notammen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éduction des inégalités sociales et territoriale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mélioration de la qualité du service rendu aux Franciliens par le système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garantie de l’efficience des dépen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907560"/>
            <a:ext cx="381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les composantes du Projet Régional de Santé (PRS)</a:t>
            </a: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324000" y="5589720"/>
            <a:ext cx="3382920" cy="480960"/>
            <a:chOff x="324000" y="5589720"/>
            <a:chExt cx="3382920" cy="480960"/>
          </a:xfrm>
        </p:grpSpPr>
        <p:sp>
          <p:nvSpPr>
            <p:cNvPr id="95" name="Rectangle 10"/>
            <p:cNvSpPr/>
            <p:nvPr/>
          </p:nvSpPr>
          <p:spPr>
            <a:xfrm>
              <a:off x="324000" y="5680080"/>
              <a:ext cx="3382920" cy="2462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Recueil des avis                Recueil des proposition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1"/>
            <p:cNvSpPr/>
            <p:nvPr/>
          </p:nvSpPr>
          <p:spPr>
            <a:xfrm>
              <a:off x="1752840" y="5589720"/>
              <a:ext cx="195120" cy="480960"/>
            </a:xfrm>
            <a:prstGeom prst="ellipse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2"/>
            <p:cNvSpPr/>
            <p:nvPr/>
          </p:nvSpPr>
          <p:spPr>
            <a:xfrm>
              <a:off x="324000" y="5608440"/>
              <a:ext cx="183600" cy="3668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98" name="AutoShape 13"/>
          <p:cNvCxnSpPr/>
          <p:nvPr/>
        </p:nvCxnSpPr>
        <p:spPr>
          <a:xfrm>
            <a:off x="684000" y="20602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Rectangle 14"/>
          <p:cNvSpPr/>
          <p:nvPr/>
        </p:nvSpPr>
        <p:spPr>
          <a:xfrm>
            <a:off x="7093080" y="2276640"/>
            <a:ext cx="143964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MEDICO SOC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580000" y="2276640"/>
            <a:ext cx="136836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ORGANISATION DES SO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6"/>
          <p:cNvSpPr/>
          <p:nvPr/>
        </p:nvSpPr>
        <p:spPr>
          <a:xfrm>
            <a:off x="4213080" y="2276640"/>
            <a:ext cx="1224000" cy="158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E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7"/>
          <p:cNvSpPr/>
          <p:nvPr/>
        </p:nvSpPr>
        <p:spPr>
          <a:xfrm>
            <a:off x="4067280" y="1773360"/>
            <a:ext cx="4680000" cy="215892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EMAS</a:t>
            </a: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4431600" y="270756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6507360" y="332676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5871600" y="277884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5618880" y="3264840"/>
            <a:ext cx="75096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UR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4284720" y="3084480"/>
            <a:ext cx="1068480" cy="7783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4067280" y="765000"/>
            <a:ext cx="4680000" cy="863640"/>
          </a:xfrm>
          <a:prstGeom prst="rect">
            <a:avLst/>
          </a:prstGeom>
          <a:solidFill>
            <a:srgbClr val="ffffff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S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24"/>
          <p:cNvSpPr/>
          <p:nvPr/>
        </p:nvSpPr>
        <p:spPr>
          <a:xfrm>
            <a:off x="4346280" y="1416960"/>
            <a:ext cx="10494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P 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5"/>
          <p:cNvSpPr/>
          <p:nvPr/>
        </p:nvSpPr>
        <p:spPr>
          <a:xfrm>
            <a:off x="5826960" y="1412280"/>
            <a:ext cx="147924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nseil de surveill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26"/>
          <p:cNvSpPr/>
          <p:nvPr/>
        </p:nvSpPr>
        <p:spPr>
          <a:xfrm>
            <a:off x="7776720" y="1372320"/>
            <a:ext cx="494640" cy="34776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27"/>
          <p:cNvSpPr/>
          <p:nvPr/>
        </p:nvSpPr>
        <p:spPr>
          <a:xfrm>
            <a:off x="4067280" y="4099320"/>
            <a:ext cx="4681440" cy="1866600"/>
          </a:xfrm>
          <a:prstGeom prst="rect">
            <a:avLst/>
          </a:prstGeom>
          <a:noFill/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28"/>
          <p:cNvSpPr/>
          <p:nvPr/>
        </p:nvSpPr>
        <p:spPr>
          <a:xfrm>
            <a:off x="4211640" y="4320720"/>
            <a:ext cx="1512720" cy="861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s territoriaux + C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29"/>
          <p:cNvSpPr/>
          <p:nvPr/>
        </p:nvSpPr>
        <p:spPr>
          <a:xfrm>
            <a:off x="4716720" y="4838040"/>
            <a:ext cx="3499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0"/>
          <p:cNvSpPr/>
          <p:nvPr/>
        </p:nvSpPr>
        <p:spPr>
          <a:xfrm>
            <a:off x="7524720" y="4509360"/>
            <a:ext cx="1009800" cy="709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I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1"/>
          <p:cNvSpPr/>
          <p:nvPr/>
        </p:nvSpPr>
        <p:spPr>
          <a:xfrm>
            <a:off x="7743600" y="485856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2"/>
          <p:cNvSpPr/>
          <p:nvPr/>
        </p:nvSpPr>
        <p:spPr>
          <a:xfrm>
            <a:off x="5940360" y="4512960"/>
            <a:ext cx="1368360" cy="124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s pluriannuel de gestion du risq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3"/>
          <p:cNvSpPr/>
          <p:nvPr/>
        </p:nvSpPr>
        <p:spPr>
          <a:xfrm>
            <a:off x="6084720" y="5299920"/>
            <a:ext cx="114300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mm Rég GD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4"/>
          <p:cNvSpPr/>
          <p:nvPr/>
        </p:nvSpPr>
        <p:spPr>
          <a:xfrm>
            <a:off x="324000" y="4797360"/>
            <a:ext cx="1800000" cy="580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P : commission perman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S : commission spécialisé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C : commission de coordin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666699"/>
                </a:solidFill>
                <a:latin typeface="Arial"/>
                <a:ea typeface="ＭＳ Ｐゴシック"/>
              </a:rPr>
              <a:t>CT : conférence de territo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2"/>
          <p:cNvSpPr/>
          <p:nvPr/>
        </p:nvSpPr>
        <p:spPr>
          <a:xfrm>
            <a:off x="7456320" y="3039480"/>
            <a:ext cx="587520" cy="2462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C 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3"/>
          <p:cNvSpPr/>
          <p:nvPr/>
        </p:nvSpPr>
        <p:spPr>
          <a:xfrm>
            <a:off x="7311240" y="2563200"/>
            <a:ext cx="83916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de la CRS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4"/>
          <p:cNvSpPr/>
          <p:nvPr/>
        </p:nvSpPr>
        <p:spPr>
          <a:xfrm>
            <a:off x="7165800" y="3355200"/>
            <a:ext cx="1227600" cy="39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Pdt d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Conseils générau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24360" y="476280"/>
            <a:ext cx="5040360" cy="554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  <a:effectLst>
            <a:outerShdw dist="17819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189000"/>
            <a:ext cx="57636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0"/>
          <p:cNvSpPr/>
          <p:nvPr/>
        </p:nvSpPr>
        <p:spPr>
          <a:xfrm>
            <a:off x="7524720" y="5433120"/>
            <a:ext cx="1009800" cy="39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ramme télémédec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0"/>
          <p:cNvSpPr/>
          <p:nvPr/>
        </p:nvSpPr>
        <p:spPr>
          <a:xfrm>
            <a:off x="4140360" y="5304600"/>
            <a:ext cx="1655640" cy="550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cc99"/>
                </a:solidFill>
                <a:latin typeface="Arial"/>
                <a:ea typeface="ＭＳ Ｐゴシック"/>
              </a:rPr>
              <a:t>Prog. Régional d’Accès à la prévention et aux Soi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403280" y="1268280"/>
            <a:ext cx="75614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432080" y="76320"/>
            <a:ext cx="753264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14320" indent="-814320">
              <a:buSzPct val="100000"/>
              <a:buBlip>
                <a:blip r:embed="rId1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4320" indent="-814320">
              <a:buSzPct val="100000"/>
              <a:buBlip>
                <a:blip r:embed="rId2"/>
              </a:buBlip>
              <a:tabLst>
                <a:tab algn="l" pos="1022400"/>
                <a:tab algn="l" pos="1535040"/>
                <a:tab algn="l" pos="2048040"/>
                <a:tab algn="l" pos="2560680"/>
                <a:tab algn="l" pos="3073320"/>
                <a:tab algn="l" pos="3586320"/>
                <a:tab algn="l" pos="4098960"/>
                <a:tab algn="l" pos="4611600"/>
                <a:tab algn="l" pos="5124600"/>
                <a:tab algn="l" pos="5637240"/>
                <a:tab algn="l" pos="6149880"/>
                <a:tab algn="l" pos="6662880"/>
                <a:tab algn="l" pos="7175520"/>
                <a:tab algn="l" pos="7688160"/>
                <a:tab algn="l" pos="8201160"/>
                <a:tab algn="l" pos="8713800"/>
                <a:tab algn="l" pos="9226440"/>
                <a:tab algn="l" pos="9739440"/>
                <a:tab algn="l" pos="10252080"/>
                <a:tab algn="l" pos="10764720"/>
                <a:tab algn="l" pos="10782360"/>
              </a:tabLst>
            </a:pPr>
            <a:r>
              <a:rPr b="1" i="1" lang="en-US" sz="18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 </a:t>
            </a:r>
            <a:r>
              <a:rPr b="1" i="1" lang="en-US" sz="1800" spc="-1" strike="noStrike">
                <a:solidFill>
                  <a:srgbClr val="002395"/>
                </a:solidFill>
                <a:latin typeface="Arial"/>
                <a:ea typeface="ＭＳ Ｐゴシック"/>
              </a:rPr>
              <a:t>Le calendrier du PRS                                        </a:t>
            </a:r>
            <a:r>
              <a:rPr b="0" i="1" lang="en-US" sz="1400" spc="-1" strike="noStrike">
                <a:solidFill>
                  <a:srgbClr val="969696"/>
                </a:solidFill>
                <a:latin typeface="Arial"/>
                <a:ea typeface="ＭＳ Ｐゴシック"/>
              </a:rPr>
              <a:t>Document de trava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98280" y="1797120"/>
            <a:ext cx="1224000" cy="3133800"/>
          </a:xfrm>
          <a:prstGeom prst="rect">
            <a:avLst/>
          </a:pr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Sché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Région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7885080" y="6524640"/>
            <a:ext cx="1258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28"/>
          <p:cNvSpPr/>
          <p:nvPr/>
        </p:nvSpPr>
        <p:spPr>
          <a:xfrm>
            <a:off x="1360440" y="1033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31"/>
          <p:cNvSpPr/>
          <p:nvPr/>
        </p:nvSpPr>
        <p:spPr>
          <a:xfrm>
            <a:off x="177012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6"/>
          <p:cNvSpPr/>
          <p:nvPr/>
        </p:nvSpPr>
        <p:spPr>
          <a:xfrm flipV="1">
            <a:off x="35463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9"/>
          <p:cNvSpPr/>
          <p:nvPr/>
        </p:nvSpPr>
        <p:spPr>
          <a:xfrm flipV="1">
            <a:off x="7920000" y="977760"/>
            <a:ext cx="233280" cy="25272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1"/>
          <p:cNvSpPr/>
          <p:nvPr/>
        </p:nvSpPr>
        <p:spPr>
          <a:xfrm flipV="1">
            <a:off x="8721720" y="101052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31"/>
          <p:cNvSpPr/>
          <p:nvPr/>
        </p:nvSpPr>
        <p:spPr>
          <a:xfrm>
            <a:off x="2085840" y="10112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1"/>
          <p:cNvSpPr/>
          <p:nvPr/>
        </p:nvSpPr>
        <p:spPr>
          <a:xfrm>
            <a:off x="2440080" y="10018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31"/>
          <p:cNvSpPr/>
          <p:nvPr/>
        </p:nvSpPr>
        <p:spPr>
          <a:xfrm>
            <a:off x="4386240" y="1046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6966000" y="795240"/>
            <a:ext cx="43164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l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4"/>
          <p:cNvSpPr/>
          <p:nvPr/>
        </p:nvSpPr>
        <p:spPr>
          <a:xfrm>
            <a:off x="8335800" y="793800"/>
            <a:ext cx="28764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9"/>
          <p:cNvSpPr/>
          <p:nvPr/>
        </p:nvSpPr>
        <p:spPr>
          <a:xfrm>
            <a:off x="6678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7"/>
          <p:cNvSpPr/>
          <p:nvPr/>
        </p:nvSpPr>
        <p:spPr>
          <a:xfrm>
            <a:off x="5022720" y="577800"/>
            <a:ext cx="3932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5022720" y="793800"/>
            <a:ext cx="4320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an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45472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é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8"/>
          <p:cNvSpPr/>
          <p:nvPr/>
        </p:nvSpPr>
        <p:spPr>
          <a:xfrm>
            <a:off x="8047080" y="795240"/>
            <a:ext cx="28872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768672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8"/>
          <p:cNvSpPr/>
          <p:nvPr/>
        </p:nvSpPr>
        <p:spPr>
          <a:xfrm>
            <a:off x="7397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oû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8"/>
          <p:cNvSpPr/>
          <p:nvPr/>
        </p:nvSpPr>
        <p:spPr>
          <a:xfrm>
            <a:off x="6389640" y="795240"/>
            <a:ext cx="2890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8"/>
          <p:cNvSpPr/>
          <p:nvPr/>
        </p:nvSpPr>
        <p:spPr>
          <a:xfrm>
            <a:off x="6102360" y="795240"/>
            <a:ext cx="28728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vri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5742000" y="79380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6"/>
          <p:cNvSpPr/>
          <p:nvPr/>
        </p:nvSpPr>
        <p:spPr>
          <a:xfrm>
            <a:off x="8623440" y="795240"/>
            <a:ext cx="331560" cy="2160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é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4"/>
          <p:cNvSpPr/>
          <p:nvPr/>
        </p:nvSpPr>
        <p:spPr>
          <a:xfrm>
            <a:off x="3257640" y="773280"/>
            <a:ext cx="1128600" cy="25056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o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6"/>
          <p:cNvSpPr/>
          <p:nvPr/>
        </p:nvSpPr>
        <p:spPr>
          <a:xfrm>
            <a:off x="4386240" y="816120"/>
            <a:ext cx="636480" cy="2142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é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1093680" y="598320"/>
            <a:ext cx="3929040" cy="2178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440080" y="816120"/>
            <a:ext cx="817560" cy="22860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8"/>
          <p:cNvSpPr/>
          <p:nvPr/>
        </p:nvSpPr>
        <p:spPr>
          <a:xfrm>
            <a:off x="667368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8"/>
          <p:cNvSpPr/>
          <p:nvPr/>
        </p:nvSpPr>
        <p:spPr>
          <a:xfrm>
            <a:off x="7397640" y="10159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8"/>
          <p:cNvSpPr/>
          <p:nvPr/>
        </p:nvSpPr>
        <p:spPr>
          <a:xfrm>
            <a:off x="638028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8"/>
          <p:cNvSpPr/>
          <p:nvPr/>
        </p:nvSpPr>
        <p:spPr>
          <a:xfrm>
            <a:off x="7686720" y="105408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8"/>
          <p:cNvSpPr/>
          <p:nvPr/>
        </p:nvSpPr>
        <p:spPr>
          <a:xfrm>
            <a:off x="6102360" y="10875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8"/>
          <p:cNvSpPr/>
          <p:nvPr/>
        </p:nvSpPr>
        <p:spPr>
          <a:xfrm>
            <a:off x="8335800" y="10317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8"/>
          <p:cNvSpPr/>
          <p:nvPr/>
        </p:nvSpPr>
        <p:spPr>
          <a:xfrm>
            <a:off x="5742000" y="110484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8"/>
          <p:cNvSpPr/>
          <p:nvPr/>
        </p:nvSpPr>
        <p:spPr>
          <a:xfrm>
            <a:off x="5454720" y="110016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98280" y="1055520"/>
            <a:ext cx="1224000" cy="625680"/>
          </a:xfrm>
          <a:prstGeom prst="rect">
            <a:avLst/>
          </a:prstGeom>
          <a:solidFill>
            <a:srgbClr val="003399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S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40"/>
          <p:cNvSpPr/>
          <p:nvPr/>
        </p:nvSpPr>
        <p:spPr>
          <a:xfrm>
            <a:off x="1387440" y="2011320"/>
            <a:ext cx="2276640" cy="290520"/>
          </a:xfrm>
          <a:custGeom>
            <a:avLst/>
            <a:gdLst>
              <a:gd name="textAreaLeft" fmla="*/ 0 w 2276640"/>
              <a:gd name="textAreaRight" fmla="*/ 2277000 w 227664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e 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40"/>
          <p:cNvSpPr/>
          <p:nvPr/>
        </p:nvSpPr>
        <p:spPr>
          <a:xfrm>
            <a:off x="1376280" y="3876840"/>
            <a:ext cx="1536840" cy="16164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161640"/>
              <a:gd name="textAreaBottom" fmla="*/ 162000 h 16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2000" bIns="72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Ambulato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108000" y="5281560"/>
            <a:ext cx="1224000" cy="1174680"/>
          </a:xfrm>
          <a:prstGeom prst="rect">
            <a:avLst/>
          </a:pr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5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40"/>
          <p:cNvSpPr/>
          <p:nvPr/>
        </p:nvSpPr>
        <p:spPr>
          <a:xfrm>
            <a:off x="5580000" y="380988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volet ambulato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40"/>
          <p:cNvSpPr/>
          <p:nvPr/>
        </p:nvSpPr>
        <p:spPr>
          <a:xfrm>
            <a:off x="8037360" y="1663560"/>
            <a:ext cx="574920" cy="427320"/>
          </a:xfrm>
          <a:custGeom>
            <a:avLst/>
            <a:gdLst>
              <a:gd name="textAreaLeft" fmla="*/ 0 w 574920"/>
              <a:gd name="textAreaRight" fmla="*/ 575280 w 57492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our avis offici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0"/>
          <p:cNvSpPr/>
          <p:nvPr/>
        </p:nvSpPr>
        <p:spPr>
          <a:xfrm>
            <a:off x="8612280" y="4782960"/>
            <a:ext cx="531720" cy="714600"/>
          </a:xfrm>
          <a:custGeom>
            <a:avLst/>
            <a:gdLst>
              <a:gd name="textAreaLeft" fmla="*/ 0 w 531720"/>
              <a:gd name="textAreaRight" fmla="*/ 532080 w 531720"/>
              <a:gd name="textAreaTop" fmla="*/ 0 h 714600"/>
              <a:gd name="textAreaBottom" fmla="*/ 71496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du D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Schém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46"/>
          <p:cNvSpPr/>
          <p:nvPr/>
        </p:nvSpPr>
        <p:spPr>
          <a:xfrm flipV="1">
            <a:off x="2779560" y="102312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40"/>
          <p:cNvSpPr/>
          <p:nvPr/>
        </p:nvSpPr>
        <p:spPr>
          <a:xfrm>
            <a:off x="1376280" y="5597640"/>
            <a:ext cx="531720" cy="268200"/>
          </a:xfrm>
          <a:custGeom>
            <a:avLst/>
            <a:gdLst>
              <a:gd name="textAreaLeft" fmla="*/ 0 w 531720"/>
              <a:gd name="textAreaRight" fmla="*/ 532080 w 531720"/>
              <a:gd name="textAreaTop" fmla="*/ 0 h 268200"/>
              <a:gd name="textAreaBottom" fmla="*/ 268560 h 268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I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0"/>
          <p:cNvSpPr/>
          <p:nvPr/>
        </p:nvSpPr>
        <p:spPr>
          <a:xfrm>
            <a:off x="1360440" y="6254640"/>
            <a:ext cx="3211560" cy="160560"/>
          </a:xfrm>
          <a:custGeom>
            <a:avLst/>
            <a:gdLst>
              <a:gd name="textAreaLeft" fmla="*/ 0 w 3211560"/>
              <a:gd name="textAreaRight" fmla="*/ 3211920 w 3211560"/>
              <a:gd name="textAreaTop" fmla="*/ 0 h 160560"/>
              <a:gd name="textAreaBottom" fmla="*/ 160920 h 160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70920" bIns="70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ogramme Télémédecin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"/>
          <p:cNvSpPr/>
          <p:nvPr/>
        </p:nvSpPr>
        <p:spPr>
          <a:xfrm>
            <a:off x="8872560" y="128412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3678120" y="136836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3"/>
          <p:cNvSpPr/>
          <p:nvPr/>
        </p:nvSpPr>
        <p:spPr>
          <a:xfrm>
            <a:off x="5580000" y="1200240"/>
            <a:ext cx="0" cy="536400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3"/>
          <p:cNvSpPr/>
          <p:nvPr/>
        </p:nvSpPr>
        <p:spPr>
          <a:xfrm>
            <a:off x="8037360" y="1276200"/>
            <a:ext cx="9720" cy="49546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40"/>
          <p:cNvSpPr/>
          <p:nvPr/>
        </p:nvSpPr>
        <p:spPr>
          <a:xfrm>
            <a:off x="1376280" y="6018120"/>
            <a:ext cx="3005280" cy="142920"/>
          </a:xfrm>
          <a:custGeom>
            <a:avLst/>
            <a:gdLst>
              <a:gd name="textAreaLeft" fmla="*/ 0 w 3005280"/>
              <a:gd name="textAreaRight" fmla="*/ 3005640 w 30052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GD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0"/>
          <p:cNvSpPr/>
          <p:nvPr/>
        </p:nvSpPr>
        <p:spPr>
          <a:xfrm>
            <a:off x="6102360" y="5689440"/>
            <a:ext cx="833400" cy="133560"/>
          </a:xfrm>
          <a:custGeom>
            <a:avLst/>
            <a:gdLst>
              <a:gd name="textAreaLeft" fmla="*/ 0 w 833400"/>
              <a:gd name="textAreaRight" fmla="*/ 833760 w 83340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43920" bIns="4392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IA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40"/>
          <p:cNvSpPr/>
          <p:nvPr/>
        </p:nvSpPr>
        <p:spPr>
          <a:xfrm>
            <a:off x="6935760" y="5640480"/>
            <a:ext cx="750960" cy="234720"/>
          </a:xfrm>
          <a:custGeom>
            <a:avLst/>
            <a:gdLst>
              <a:gd name="textAreaLeft" fmla="*/ 0 w 750960"/>
              <a:gd name="textAreaRight" fmla="*/ 751320 w 7509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1080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ation  (CCM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40"/>
          <p:cNvSpPr/>
          <p:nvPr/>
        </p:nvSpPr>
        <p:spPr>
          <a:xfrm>
            <a:off x="1387440" y="4964040"/>
            <a:ext cx="1525680" cy="211320"/>
          </a:xfrm>
          <a:custGeom>
            <a:avLst/>
            <a:gdLst>
              <a:gd name="textAreaLeft" fmla="*/ 0 w 1525680"/>
              <a:gd name="textAreaRight" fmla="*/ 1526040 w 1525680"/>
              <a:gd name="textAreaTop" fmla="*/ 0 h 211320"/>
              <a:gd name="textAreaBottom" fmla="*/ 211680 h 21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hier de charges PDS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0"/>
          <p:cNvSpPr/>
          <p:nvPr/>
        </p:nvSpPr>
        <p:spPr>
          <a:xfrm>
            <a:off x="1376280" y="3602160"/>
            <a:ext cx="1536840" cy="210960"/>
          </a:xfrm>
          <a:custGeom>
            <a:avLst/>
            <a:gdLst>
              <a:gd name="textAreaLeft" fmla="*/ 0 w 1536840"/>
              <a:gd name="textAreaRight" fmla="*/ 1537200 w 153684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cible PDS-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0"/>
          <p:cNvSpPr/>
          <p:nvPr/>
        </p:nvSpPr>
        <p:spPr>
          <a:xfrm>
            <a:off x="1376280" y="3308400"/>
            <a:ext cx="6640560" cy="252360"/>
          </a:xfrm>
          <a:custGeom>
            <a:avLst/>
            <a:gdLst>
              <a:gd name="textAreaLeft" fmla="*/ 0 w 6640560"/>
              <a:gd name="textAreaRight" fmla="*/ 6640920 w 6640560"/>
              <a:gd name="textAreaTop" fmla="*/ 0 h 252360"/>
              <a:gd name="textAreaBottom" fmla="*/ 252720 h 2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Etablissements de sant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40"/>
          <p:cNvSpPr/>
          <p:nvPr/>
        </p:nvSpPr>
        <p:spPr>
          <a:xfrm>
            <a:off x="5580000" y="242100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SRO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0"/>
          <p:cNvSpPr/>
          <p:nvPr/>
        </p:nvSpPr>
        <p:spPr>
          <a:xfrm>
            <a:off x="5580000" y="2011320"/>
            <a:ext cx="2457360" cy="290520"/>
          </a:xfrm>
          <a:custGeom>
            <a:avLst/>
            <a:gdLst>
              <a:gd name="textAreaLeft" fmla="*/ 0 w 2457360"/>
              <a:gd name="textAreaRight" fmla="*/ 2457720 w 24573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Schéma de préven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40"/>
          <p:cNvSpPr/>
          <p:nvPr/>
        </p:nvSpPr>
        <p:spPr>
          <a:xfrm>
            <a:off x="5745240" y="6284880"/>
            <a:ext cx="2631960" cy="147600"/>
          </a:xfrm>
          <a:custGeom>
            <a:avLst/>
            <a:gdLst>
              <a:gd name="textAreaLeft" fmla="*/ 0 w 2631960"/>
              <a:gd name="textAreaRight" fmla="*/ 2631960 w 263196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Programme de télémédec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40"/>
          <p:cNvSpPr/>
          <p:nvPr/>
        </p:nvSpPr>
        <p:spPr>
          <a:xfrm>
            <a:off x="2481120" y="1276200"/>
            <a:ext cx="432000" cy="428760"/>
          </a:xfrm>
          <a:custGeom>
            <a:avLst/>
            <a:gdLst>
              <a:gd name="textAreaLeft" fmla="*/ 0 w 432000"/>
              <a:gd name="textAreaRight" fmla="*/ 432360 w 432000"/>
              <a:gd name="textAreaTop" fmla="*/ 0 h 428760"/>
              <a:gd name="textAreaBottom" fmla="*/ 4291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70c0"/>
          </a:solidFill>
          <a:ln w="219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du DG PS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0"/>
          <p:cNvSpPr/>
          <p:nvPr/>
        </p:nvSpPr>
        <p:spPr>
          <a:xfrm>
            <a:off x="1376280" y="4335480"/>
            <a:ext cx="2287800" cy="210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210960"/>
              <a:gd name="textAreaBottom" fmla="*/ 211320 h 210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Soins aux déten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40"/>
          <p:cNvSpPr/>
          <p:nvPr/>
        </p:nvSpPr>
        <p:spPr>
          <a:xfrm>
            <a:off x="1380960" y="4060800"/>
            <a:ext cx="1876680" cy="239760"/>
          </a:xfrm>
          <a:custGeom>
            <a:avLst/>
            <a:gdLst>
              <a:gd name="textAreaLeft" fmla="*/ 0 w 1876680"/>
              <a:gd name="textAreaRight" fmla="*/ 1877040 w 1876680"/>
              <a:gd name="textAreaTop" fmla="*/ 0 h 239760"/>
              <a:gd name="textAreaBottom" fmla="*/ 240120 h 239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Biologie médic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0"/>
          <p:cNvSpPr/>
          <p:nvPr/>
        </p:nvSpPr>
        <p:spPr>
          <a:xfrm>
            <a:off x="1376280" y="4599000"/>
            <a:ext cx="2287800" cy="183960"/>
          </a:xfrm>
          <a:custGeom>
            <a:avLst/>
            <a:gdLst>
              <a:gd name="textAreaLeft" fmla="*/ 0 w 2287800"/>
              <a:gd name="textAreaRight" fmla="*/ 2288160 w 228780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olet Bucco-dentai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0"/>
          <p:cNvSpPr/>
          <p:nvPr/>
        </p:nvSpPr>
        <p:spPr>
          <a:xfrm>
            <a:off x="1360440" y="2421000"/>
            <a:ext cx="1870200" cy="315720"/>
          </a:xfrm>
          <a:custGeom>
            <a:avLst/>
            <a:gdLst>
              <a:gd name="textAreaLeft" fmla="*/ 0 w 1870200"/>
              <a:gd name="textAreaRight" fmla="*/ 1870560 w 1870200"/>
              <a:gd name="textAreaTop" fmla="*/ 0 h 315720"/>
              <a:gd name="textAreaBottom" fmla="*/ 316080 h 31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’Organisation médico soc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0"/>
          <p:cNvSpPr/>
          <p:nvPr/>
        </p:nvSpPr>
        <p:spPr>
          <a:xfrm>
            <a:off x="1360440" y="2932200"/>
            <a:ext cx="6559560" cy="290520"/>
          </a:xfrm>
          <a:custGeom>
            <a:avLst/>
            <a:gdLst>
              <a:gd name="textAreaLeft" fmla="*/ 0 w 6559560"/>
              <a:gd name="textAreaRight" fmla="*/ 6559920 w 6559560"/>
              <a:gd name="textAreaTop" fmla="*/ 0 h 290520"/>
              <a:gd name="textAreaBottom" fmla="*/ 290880 h 290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chéma d’Organisation des soins 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3120" y="4964040"/>
            <a:ext cx="1452600" cy="235080"/>
          </a:xfrm>
          <a:custGeom>
            <a:avLst/>
            <a:gdLst>
              <a:gd name="textAreaLeft" fmla="*/ 0 w 1452600"/>
              <a:gd name="textAreaRight" fmla="*/ 1452960 w 145260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1338120" y="808200"/>
            <a:ext cx="432000" cy="2156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uill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8"/>
          <p:cNvSpPr/>
          <p:nvPr/>
        </p:nvSpPr>
        <p:spPr>
          <a:xfrm>
            <a:off x="1770120" y="816120"/>
            <a:ext cx="30960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oû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2079720" y="816120"/>
            <a:ext cx="360360" cy="21744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p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73"/>
          <p:cNvSpPr/>
          <p:nvPr/>
        </p:nvSpPr>
        <p:spPr>
          <a:xfrm>
            <a:off x="2098800" y="1704960"/>
            <a:ext cx="765000" cy="289080"/>
          </a:xfrm>
          <a:custGeom>
            <a:avLst/>
            <a:gdLst>
              <a:gd name="textAreaLeft" fmla="*/ 0 w 765000"/>
              <a:gd name="textAreaRight" fmla="*/ 765360 w 76500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Validation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me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8"/>
          <p:cNvSpPr/>
          <p:nvPr/>
        </p:nvSpPr>
        <p:spPr>
          <a:xfrm>
            <a:off x="6966000" y="10303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48"/>
          <p:cNvSpPr/>
          <p:nvPr/>
        </p:nvSpPr>
        <p:spPr>
          <a:xfrm flipV="1">
            <a:off x="5454720" y="1001160"/>
            <a:ext cx="23328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73"/>
          <p:cNvSpPr/>
          <p:nvPr/>
        </p:nvSpPr>
        <p:spPr>
          <a:xfrm>
            <a:off x="2913120" y="1663560"/>
            <a:ext cx="2666880" cy="289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190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oncertation non-officiel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3120" y="4863960"/>
            <a:ext cx="1314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rtation officiel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05200" y="4994280"/>
            <a:ext cx="317520" cy="287280"/>
          </a:xfrm>
          <a:prstGeom prst="rect">
            <a:avLst/>
          </a:prstGeom>
          <a:solidFill>
            <a:srgbClr val="ff3300"/>
          </a:solidFill>
          <a:ln w="25560">
            <a:solidFill>
              <a:srgbClr val="003399"/>
            </a:solidFill>
            <a:miter/>
          </a:ln>
          <a:effectLst>
            <a:outerShdw dist="17819" dir="2700000" blurRad="0" rotWithShape="0">
              <a:srgbClr val="001e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97560" y="4964040"/>
            <a:ext cx="54756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rrêté du D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40"/>
          <p:cNvSpPr/>
          <p:nvPr/>
        </p:nvSpPr>
        <p:spPr>
          <a:xfrm>
            <a:off x="5580000" y="3602160"/>
            <a:ext cx="2436840" cy="14760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781" y="0"/>
                </a:lnTo>
                <a:lnTo>
                  <a:pt x="21600" y="10800"/>
                </a:lnTo>
                <a:lnTo>
                  <a:pt x="19781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7960" bIns="579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érimentations PDS-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40"/>
          <p:cNvSpPr/>
          <p:nvPr/>
        </p:nvSpPr>
        <p:spPr>
          <a:xfrm>
            <a:off x="5580000" y="4038480"/>
            <a:ext cx="2436840" cy="20484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Biologie médic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0"/>
          <p:cNvSpPr/>
          <p:nvPr/>
        </p:nvSpPr>
        <p:spPr>
          <a:xfrm>
            <a:off x="5575320" y="4335480"/>
            <a:ext cx="2441520" cy="158760"/>
          </a:xfrm>
          <a:custGeom>
            <a:avLst/>
            <a:gdLst>
              <a:gd name="textAreaLeft" fmla="*/ 0 w 2441520"/>
              <a:gd name="textAreaRight" fmla="*/ 2441880 w 244152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69120" bIns="6912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Soins  déten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0"/>
          <p:cNvSpPr/>
          <p:nvPr/>
        </p:nvSpPr>
        <p:spPr>
          <a:xfrm>
            <a:off x="5580000" y="4599000"/>
            <a:ext cx="2436840" cy="183960"/>
          </a:xfrm>
          <a:custGeom>
            <a:avLst/>
            <a:gdLst>
              <a:gd name="textAreaLeft" fmla="*/ 0 w 2436840"/>
              <a:gd name="textAreaRight" fmla="*/ 2437200 w 2436840"/>
              <a:gd name="textAreaTop" fmla="*/ 0 h 183960"/>
              <a:gd name="textAreaBottom" fmla="*/ 184320 h 183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érimentations Volet Bucco-dentai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3"/>
          <p:cNvSpPr/>
          <p:nvPr/>
        </p:nvSpPr>
        <p:spPr>
          <a:xfrm>
            <a:off x="1071720" y="1046160"/>
            <a:ext cx="607680" cy="289080"/>
          </a:xfrm>
          <a:custGeom>
            <a:avLst/>
            <a:gdLst>
              <a:gd name="textAreaLeft" fmla="*/ 0 w 607680"/>
              <a:gd name="textAreaRight" fmla="*/ 608040 w 607680"/>
              <a:gd name="textAreaTop" fmla="*/ 0 h 289080"/>
              <a:gd name="textAreaBottom" fmla="*/ 289080 h 28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476" y="0"/>
                </a:lnTo>
                <a:lnTo>
                  <a:pt x="21600" y="10800"/>
                </a:lnTo>
                <a:lnTo>
                  <a:pt x="2147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8f8f8"/>
          </a:solidFill>
          <a:ln w="9360">
            <a:solidFill>
              <a:srgbClr val="99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ＭＳ Ｐゴシック"/>
              </a:rPr>
              <a:t>Concert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993366"/>
                </a:solidFill>
                <a:latin typeface="Arial"/>
                <a:ea typeface="ＭＳ Ｐゴシック"/>
              </a:rPr>
              <a:t>PS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0"/>
          <p:cNvSpPr/>
          <p:nvPr/>
        </p:nvSpPr>
        <p:spPr>
          <a:xfrm>
            <a:off x="1376280" y="5354640"/>
            <a:ext cx="3340080" cy="142920"/>
          </a:xfrm>
          <a:custGeom>
            <a:avLst/>
            <a:gdLst>
              <a:gd name="textAreaLeft" fmla="*/ 0 w 3340080"/>
              <a:gd name="textAreaRight" fmla="*/ 3340440 w 334008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677c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53280" bIns="5328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PRA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40"/>
          <p:cNvSpPr/>
          <p:nvPr/>
        </p:nvSpPr>
        <p:spPr>
          <a:xfrm>
            <a:off x="2195640" y="5621400"/>
            <a:ext cx="1468440" cy="287280"/>
          </a:xfrm>
          <a:custGeom>
            <a:avLst/>
            <a:gdLst>
              <a:gd name="textAreaLeft" fmla="*/ 0 w 1468440"/>
              <a:gd name="textAreaRight" fmla="*/ 1468800 w 14684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Conce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40"/>
          <p:cNvSpPr/>
          <p:nvPr/>
        </p:nvSpPr>
        <p:spPr>
          <a:xfrm>
            <a:off x="4119480" y="5597640"/>
            <a:ext cx="531720" cy="277560"/>
          </a:xfrm>
          <a:custGeom>
            <a:avLst/>
            <a:gdLst>
              <a:gd name="textAreaLeft" fmla="*/ 0 w 531720"/>
              <a:gd name="textAreaRight" fmla="*/ 532080 w 531720"/>
              <a:gd name="textAreaTop" fmla="*/ 0 h 277560"/>
              <a:gd name="textAreaBottom" fmla="*/ 277920 h 27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900" spc="-1" strike="noStrike">
                <a:solidFill>
                  <a:srgbClr val="f8f8f8"/>
                </a:solidFill>
                <a:latin typeface="Arial"/>
                <a:ea typeface="ＭＳ Ｐゴシック"/>
              </a:rPr>
              <a:t>Arrêté du D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0"/>
          <p:cNvSpPr/>
          <p:nvPr/>
        </p:nvSpPr>
        <p:spPr>
          <a:xfrm>
            <a:off x="4365720" y="5908680"/>
            <a:ext cx="631800" cy="287280"/>
          </a:xfrm>
          <a:custGeom>
            <a:avLst/>
            <a:gdLst>
              <a:gd name="textAreaLeft" fmla="*/ 0 w 631800"/>
              <a:gd name="textAreaRight" fmla="*/ 632160 w 63180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62" y="0"/>
                </a:lnTo>
                <a:lnTo>
                  <a:pt x="21600" y="10800"/>
                </a:lnTo>
                <a:lnTo>
                  <a:pt x="207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d9091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90000" bIns="90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Valid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800" spc="-1" strike="noStrike">
                <a:solidFill>
                  <a:srgbClr val="f8f8f8"/>
                </a:solidFill>
                <a:latin typeface="Arial Black"/>
                <a:ea typeface="ＭＳ Ｐゴシック"/>
              </a:rPr>
              <a:t>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3"/>
          <p:cNvSpPr/>
          <p:nvPr/>
        </p:nvSpPr>
        <p:spPr>
          <a:xfrm>
            <a:off x="2913120" y="1211400"/>
            <a:ext cx="0" cy="38876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8"/>
          <p:cNvSpPr/>
          <p:nvPr/>
        </p:nvSpPr>
        <p:spPr>
          <a:xfrm>
            <a:off x="5022720" y="1044720"/>
            <a:ext cx="0" cy="518472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8000" y="5640480"/>
            <a:ext cx="287640" cy="1825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814400" y="5640480"/>
            <a:ext cx="76068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NS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2720" y="6254640"/>
            <a:ext cx="719280" cy="247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97520" y="6208560"/>
            <a:ext cx="869760" cy="459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ertation                non officiel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6"/>
          <p:cNvSpPr/>
          <p:nvPr/>
        </p:nvSpPr>
        <p:spPr>
          <a:xfrm flipV="1">
            <a:off x="31399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3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3"/>
          <p:cNvSpPr/>
          <p:nvPr/>
        </p:nvSpPr>
        <p:spPr>
          <a:xfrm>
            <a:off x="3257640" y="1325520"/>
            <a:ext cx="0" cy="496728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3"/>
          <p:cNvSpPr/>
          <p:nvPr/>
        </p:nvSpPr>
        <p:spPr>
          <a:xfrm>
            <a:off x="8623440" y="1200240"/>
            <a:ext cx="0" cy="3498840"/>
          </a:xfrm>
          <a:prstGeom prst="line">
            <a:avLst/>
          </a:prstGeom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51"/>
          <p:cNvSpPr/>
          <p:nvPr/>
        </p:nvSpPr>
        <p:spPr>
          <a:xfrm flipV="1">
            <a:off x="8505720" y="1015200"/>
            <a:ext cx="233640" cy="252360"/>
          </a:xfrm>
          <a:prstGeom prst="diamond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1</a:t>
            </a:r>
            <a:r>
              <a:rPr b="1" lang="en-US" sz="1000" spc="-1" strike="noStrike" baseline="30000">
                <a:solidFill>
                  <a:srgbClr val="ffffff"/>
                </a:solidFill>
                <a:latin typeface="Arial"/>
                <a:ea typeface="ＭＳ Ｐゴシック"/>
              </a:rPr>
              <a:t>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6280" y="2754360"/>
            <a:ext cx="664056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380960" y="4861080"/>
            <a:ext cx="663588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16840" y="273672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374840" y="2749680"/>
            <a:ext cx="0" cy="21272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Le SROMS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99640" y="1267920"/>
            <a:ext cx="741708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 objectifs stratégiqu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mu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ganiser et structurer une offre médico-sociale de proximité, accessible, adaptée et diversifié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éliorer la qualité de la prise en charge et de l’accompagnement pour garantir l’adéquation du parcours de vie et de soins aux besoins des person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ur trois pop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handicapée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âgé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s personnes en difficultés spécifiq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articulation avec les autres démarches de planif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 SROMS n’a pas vocation, à lui seul, à apporter, toutes les réponses aux problématiques qu’il va aborder.  Organisation nécessaire de la transversalité et la synergie avec les autres volets des schémas PRS ainsi qu’avec les schémas département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Méthodologie et calendrier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6000" y="1267920"/>
            <a:ext cx="741672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éthodolo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comité de pilotage du SRO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 groupes de travail au niveau régional dont 4 pour les personnes handicapée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ment précoce du handica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ompagnement à la scolarisation et à l ’insertion professionnel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icap psychi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onnes handicapées vieilliss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end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vaux régionaux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s – juin 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édaction du SROSM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été 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ésentation aux partenaires région et départeme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automne 2011, pour Paris le 18/11/201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périmentation en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rrêté du DGARS (fin déc. 2012) après avis de la C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Le volet « Personnes Handicapées » du SROMS</a:t>
            </a: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79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Objectif I. Organiser et structurer une offre médico-sociale adaptée et de proximité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structurer l’offre pour réduire les inégalités territoriales et opérer des redéploiements de res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voriser les coopérations et les partenariats entre les acteurs concernés (ambulatoire, hospitalier, social, médico-soci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nforcer une logique d’efficience :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fficience de la dépen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Efficience dans le positionnement de l’établissement dans la filiè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000000"/>
                </a:solidFill>
                <a:latin typeface="Arial"/>
              </a:rPr>
              <a:t>Objectif II. Améliorer la qualité de l’accompagnement pour assurer un parcours de vie et de soins répondant aux besoins des personn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Organiser et renforcer la prévention tout au long du parcours de v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Favoriser l’accès et le maintien au logement des person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méliorer le soutien aux aidants (formation, reconnaissance de leur action, prise en compte de leur sant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méliorer la qualité des prestations pour garantir une prise en charge adaptée aux besoins et à la diversité des publ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évelopper une démarche de bientrai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lnSpc>
                <a:spcPct val="90000"/>
              </a:lnSpc>
              <a:spcBef>
                <a:spcPts val="3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aloriser les métiers du médico-soc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500" spc="-1" strike="noStrike">
                <a:solidFill>
                  <a:srgbClr val="7ab8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objectif n° 1 : Organiser et structurer une offre médico-sociale de proximité, accessible, adaptée et diversifiée</a:t>
            </a:r>
            <a:r>
              <a:rPr b="1" lang="en-US" sz="2500" spc="-1" strike="noStrike">
                <a:solidFill>
                  <a:srgbClr val="3333cc"/>
                </a:solidFill>
                <a:latin typeface="Arial"/>
              </a:rPr>
              <a:t> </a:t>
            </a:r>
            <a:endParaRPr b="1" lang="en-US" sz="25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53272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s opérationne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1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ugmenter, restructurer et diversifier l’offre d’accompagnement des personnes handicapé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2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voriser les actions innovantes et expérimentales pour être au plus près des besoins des personnes handicapées et de leur entourag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1-3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endre en compte de façon coordonnée les problématiques du logement, de l’habitat et du déplacement pour faciliter le quotidien des personnes handicapées en perte d’autonomie (Fiche concernant les 3 populations PA-PH-PD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jectifs opérationnels sur des problématiques spécifiq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poser des organisations innovantes d’information et de suivi de prises en charge des personnes handicapées psychique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compagnement à la perte d’autonomie (PHV : personnes handicapées vieillissante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153280" cy="158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8bc53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8bc53f"/>
                </a:solidFill>
                <a:latin typeface="Arial"/>
              </a:rPr>
              <a:t>objectif n° 2 : Améliorer la qualité de la prise en charge et de l’accompagnement pour garantir l’adéquation du parcours de vie et de soins aux besoins des personnes</a:t>
            </a:r>
            <a:br>
              <a:rPr sz="2000"/>
            </a:b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28036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jectifs opérationnel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1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Procéder à l’évaluation des personnes tout au long du parcours de v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2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évelopper la formalisation des partenariats et des coopérations entre les différents acteu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évelopper la prévention et l’accès aux soins tout au long du parcours de vi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4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avoriser l’insertion professionnelle de la personne handicapée tout au long du parcours de vi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° 2-5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fficience de la dépense dans le secteur du handicap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BOUCOMONT</cp:lastModifiedBy>
  <dcterms:modified xsi:type="dcterms:W3CDTF">2011-11-16T09:17:39Z</dcterms:modified>
  <cp:revision>276</cp:revision>
  <dc:subject/>
  <dc:title>Présentation PowerPoint</dc:title>
</cp:coreProperties>
</file>