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42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20680" y="-360"/>
            <a:ext cx="292284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02880" y="740880"/>
            <a:ext cx="4940280" cy="370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move the slide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898200" y="4692240"/>
            <a:ext cx="4946760" cy="4442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938340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20680" y="9383400"/>
            <a:ext cx="292284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456A138-EAE3-42A3-9672-A5A995B0744F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21040" y="938376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4686D77-08AF-4107-8B93-CCAB58E14D95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898200" y="4692240"/>
            <a:ext cx="494676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21040" y="938376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C903C4E-0900-4F4F-B696-0488E59D895C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898200" y="4692240"/>
            <a:ext cx="494676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21040" y="938376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41C5CB4-D7DB-4292-8999-3DAF1D06A520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98200" y="4692240"/>
            <a:ext cx="494676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21040" y="938376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2CC2246-2874-4C1D-9722-955743F48BE1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898200" y="4692240"/>
            <a:ext cx="494676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4" descr="ARS-TERRITOIRE GRAPHIQUE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7896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1BE02-35FE-4B9F-BB73-1BBE5A555206}" type="slidenum">
              <a:rPr b="0" lang="en-US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3" descr="ARS-PPT ECRAN D'OUVERTURE"/>
          <p:cNvPicPr/>
          <p:nvPr/>
        </p:nvPicPr>
        <p:blipFill>
          <a:blip r:embed="rId2"/>
          <a:stretch/>
        </p:blipFill>
        <p:spPr>
          <a:xfrm>
            <a:off x="0" y="9360"/>
            <a:ext cx="9144000" cy="6839280"/>
          </a:xfrm>
          <a:prstGeom prst="rect">
            <a:avLst/>
          </a:prstGeom>
          <a:ln w="0">
            <a:noFill/>
          </a:ln>
        </p:spPr>
      </p:pic>
      <p:sp>
        <p:nvSpPr>
          <p:cNvPr id="41" name="Text Box 22"/>
          <p:cNvSpPr/>
          <p:nvPr/>
        </p:nvSpPr>
        <p:spPr>
          <a:xfrm>
            <a:off x="345960" y="6375240"/>
            <a:ext cx="89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XX/XX/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6" descr="ARS_LOGOS_idf"/>
          <p:cNvPicPr/>
          <p:nvPr/>
        </p:nvPicPr>
        <p:blipFill>
          <a:blip r:embed="rId3"/>
          <a:stretch/>
        </p:blipFill>
        <p:spPr>
          <a:xfrm>
            <a:off x="395280" y="1015920"/>
            <a:ext cx="2448000" cy="1405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8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7280" y="2205000"/>
            <a:ext cx="7058160" cy="13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806400"/>
                <a:tab algn="l" pos="95256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r>
              <a:rPr b="1" lang="en-US" sz="2500" spc="-1" strike="noStrike">
                <a:solidFill>
                  <a:srgbClr val="002395"/>
                </a:solidFill>
                <a:latin typeface="Arial"/>
              </a:rPr>
              <a:t>Volet handicap du Schéma régional d’organisation médico-sociale de L’ARS</a:t>
            </a:r>
            <a:r>
              <a:rPr b="1" lang="en-US" sz="25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2395"/>
                </a:solidFill>
                <a:latin typeface="Arial"/>
              </a:rPr>
              <a:t> </a:t>
            </a:r>
            <a:br>
              <a:rPr sz="2500"/>
            </a:br>
            <a:endParaRPr b="1" lang="en-US" sz="25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58920" y="5444640"/>
            <a:ext cx="684216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férence de territoire 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17 novembre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3886200" y="6165720"/>
            <a:ext cx="12952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25"/>
              </a:spcBef>
              <a:buClr>
                <a:srgbClr val="00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objectif n° 2 : Améliorer la qualité de la prise en charge et de l’accompagnement pour garantir l’adéquation du parcours de vie et de soins aux besoins des personnes</a:t>
            </a:r>
            <a:br>
              <a:rPr sz="2000"/>
            </a:b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4000" y="1916280"/>
            <a:ext cx="7630920" cy="35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bjectifs opérationnels sur des problématiques spécifiques</a:t>
            </a: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ccompagnement à l’insertion sociale et professionnelle des personnes handicapées psychiqu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ccompagnement à la perte d’autonomie (PHV : personnes handicapées vieillissante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ctions spécifiques en faveur des personnes souffrant d’autisme et de troubles envahissants du développement (TED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bjectifs opérationnels communs aux trois populations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(PA- PH-PD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Développer la bientraitanc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Former les professionnels et accompagner les aidants familiaux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Le schéma médico-social un élément du Projet Régional de Santé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6000" y="1916280"/>
            <a:ext cx="741672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projet régional de santé (PRS) 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it être arrêté fin 2012 (arrêté du DGA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 composé notamment du schéma médico-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it apporter une réponse aux enjeux stratégiques déterminés dans le PSR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rrêté du DGARS du 11 oct 2011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otammen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réduction des inégalités sociales et territoriales de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’amélioration de la qualité du service rendu aux Franciliens par le système de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garantie de l’efficience des dépe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907560"/>
            <a:ext cx="38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les composantes du Projet Régional de Santé (PRS)</a:t>
            </a:r>
            <a:r>
              <a:rPr b="1" lang="en-US" sz="2500" spc="-1" strike="noStrike">
                <a:solidFill>
                  <a:srgbClr val="7ab800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7ab800"/>
              </a:solidFill>
              <a:latin typeface="Arial"/>
            </a:endParaRPr>
          </a:p>
        </p:txBody>
      </p:sp>
      <p:grpSp>
        <p:nvGrpSpPr>
          <p:cNvPr id="94" name="Group 9"/>
          <p:cNvGrpSpPr/>
          <p:nvPr/>
        </p:nvGrpSpPr>
        <p:grpSpPr>
          <a:xfrm>
            <a:off x="324000" y="5589720"/>
            <a:ext cx="3382920" cy="480960"/>
            <a:chOff x="324000" y="5589720"/>
            <a:chExt cx="3382920" cy="480960"/>
          </a:xfrm>
        </p:grpSpPr>
        <p:sp>
          <p:nvSpPr>
            <p:cNvPr id="95" name="Rectangle 10"/>
            <p:cNvSpPr/>
            <p:nvPr/>
          </p:nvSpPr>
          <p:spPr>
            <a:xfrm>
              <a:off x="324000" y="5680080"/>
              <a:ext cx="3382920" cy="246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ecueil des avis                Recueil des propositio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1"/>
            <p:cNvSpPr/>
            <p:nvPr/>
          </p:nvSpPr>
          <p:spPr>
            <a:xfrm>
              <a:off x="1752840" y="5589720"/>
              <a:ext cx="195120" cy="480960"/>
            </a:xfrm>
            <a:prstGeom prst="ellips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2"/>
            <p:cNvSpPr/>
            <p:nvPr/>
          </p:nvSpPr>
          <p:spPr>
            <a:xfrm>
              <a:off x="324000" y="5608440"/>
              <a:ext cx="183600" cy="36684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98" name="AutoShape 13"/>
          <p:cNvCxnSpPr/>
          <p:nvPr/>
        </p:nvCxnSpPr>
        <p:spPr>
          <a:xfrm>
            <a:off x="684000" y="20602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Rectangle 14"/>
          <p:cNvSpPr/>
          <p:nvPr/>
        </p:nvSpPr>
        <p:spPr>
          <a:xfrm>
            <a:off x="7093080" y="2276640"/>
            <a:ext cx="1439640" cy="158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MEDICO SOC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5"/>
          <p:cNvSpPr/>
          <p:nvPr/>
        </p:nvSpPr>
        <p:spPr>
          <a:xfrm>
            <a:off x="5580000" y="2276640"/>
            <a:ext cx="1368360" cy="158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ORGANISATION DES SO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6"/>
          <p:cNvSpPr/>
          <p:nvPr/>
        </p:nvSpPr>
        <p:spPr>
          <a:xfrm>
            <a:off x="4213080" y="2276640"/>
            <a:ext cx="1224000" cy="158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PREVEN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4067280" y="1773360"/>
            <a:ext cx="4680000" cy="215892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EMAS</a:t>
            </a:r>
            <a:r>
              <a:rPr b="1" lang="en-US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4431600" y="2707560"/>
            <a:ext cx="839160" cy="39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de la CR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9"/>
          <p:cNvSpPr/>
          <p:nvPr/>
        </p:nvSpPr>
        <p:spPr>
          <a:xfrm>
            <a:off x="6507360" y="3326760"/>
            <a:ext cx="34992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0"/>
          <p:cNvSpPr/>
          <p:nvPr/>
        </p:nvSpPr>
        <p:spPr>
          <a:xfrm>
            <a:off x="5871600" y="2778840"/>
            <a:ext cx="839160" cy="39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de la CR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21"/>
          <p:cNvSpPr/>
          <p:nvPr/>
        </p:nvSpPr>
        <p:spPr>
          <a:xfrm>
            <a:off x="5618880" y="3264840"/>
            <a:ext cx="750960" cy="34776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UR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22"/>
          <p:cNvSpPr/>
          <p:nvPr/>
        </p:nvSpPr>
        <p:spPr>
          <a:xfrm>
            <a:off x="4284720" y="3084480"/>
            <a:ext cx="1068480" cy="77832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C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Préven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3"/>
          <p:cNvSpPr/>
          <p:nvPr/>
        </p:nvSpPr>
        <p:spPr>
          <a:xfrm>
            <a:off x="4067280" y="765000"/>
            <a:ext cx="468000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S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4"/>
          <p:cNvSpPr/>
          <p:nvPr/>
        </p:nvSpPr>
        <p:spPr>
          <a:xfrm>
            <a:off x="4346280" y="1416960"/>
            <a:ext cx="104940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P de la CR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5"/>
          <p:cNvSpPr/>
          <p:nvPr/>
        </p:nvSpPr>
        <p:spPr>
          <a:xfrm>
            <a:off x="5826960" y="1412280"/>
            <a:ext cx="147924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onseil de surveill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26"/>
          <p:cNvSpPr/>
          <p:nvPr/>
        </p:nvSpPr>
        <p:spPr>
          <a:xfrm>
            <a:off x="7776720" y="1372320"/>
            <a:ext cx="494640" cy="34776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7"/>
          <p:cNvSpPr/>
          <p:nvPr/>
        </p:nvSpPr>
        <p:spPr>
          <a:xfrm>
            <a:off x="4067280" y="4099320"/>
            <a:ext cx="4681440" cy="186660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GRAM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	</a:t>
            </a:r>
            <a:r>
              <a:rPr b="1" lang="en-US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8"/>
          <p:cNvSpPr/>
          <p:nvPr/>
        </p:nvSpPr>
        <p:spPr>
          <a:xfrm>
            <a:off x="4211640" y="4320720"/>
            <a:ext cx="1512720" cy="86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Programmes territoriaux + C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9"/>
          <p:cNvSpPr/>
          <p:nvPr/>
        </p:nvSpPr>
        <p:spPr>
          <a:xfrm>
            <a:off x="4716720" y="4838040"/>
            <a:ext cx="34992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0"/>
          <p:cNvSpPr/>
          <p:nvPr/>
        </p:nvSpPr>
        <p:spPr>
          <a:xfrm>
            <a:off x="7524720" y="4509360"/>
            <a:ext cx="1009800" cy="70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PRI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1"/>
          <p:cNvSpPr/>
          <p:nvPr/>
        </p:nvSpPr>
        <p:spPr>
          <a:xfrm>
            <a:off x="7743600" y="4858560"/>
            <a:ext cx="58752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C 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2"/>
          <p:cNvSpPr/>
          <p:nvPr/>
        </p:nvSpPr>
        <p:spPr>
          <a:xfrm>
            <a:off x="5940360" y="4512960"/>
            <a:ext cx="1368360" cy="124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Programmes pluriannuel de gestion du ris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3"/>
          <p:cNvSpPr/>
          <p:nvPr/>
        </p:nvSpPr>
        <p:spPr>
          <a:xfrm>
            <a:off x="6084720" y="5299920"/>
            <a:ext cx="114300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omm Rég GD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4"/>
          <p:cNvSpPr/>
          <p:nvPr/>
        </p:nvSpPr>
        <p:spPr>
          <a:xfrm>
            <a:off x="324000" y="4797360"/>
            <a:ext cx="1800000" cy="5806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6699"/>
                </a:solidFill>
                <a:latin typeface="Arial"/>
                <a:ea typeface="ＭＳ Ｐゴシック"/>
              </a:rPr>
              <a:t>CP : commission permane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6699"/>
                </a:solidFill>
                <a:latin typeface="Arial"/>
                <a:ea typeface="ＭＳ Ｐゴシック"/>
              </a:rPr>
              <a:t>CS : commission spécialisé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6699"/>
                </a:solidFill>
                <a:latin typeface="Arial"/>
                <a:ea typeface="ＭＳ Ｐゴシック"/>
              </a:rPr>
              <a:t>CC : commission de coordin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6699"/>
                </a:solidFill>
                <a:latin typeface="Arial"/>
                <a:ea typeface="ＭＳ Ｐゴシック"/>
              </a:rPr>
              <a:t>CT : conférence de territoi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2"/>
          <p:cNvSpPr/>
          <p:nvPr/>
        </p:nvSpPr>
        <p:spPr>
          <a:xfrm>
            <a:off x="7456320" y="3039480"/>
            <a:ext cx="58752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C 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3"/>
          <p:cNvSpPr/>
          <p:nvPr/>
        </p:nvSpPr>
        <p:spPr>
          <a:xfrm>
            <a:off x="7311240" y="2563200"/>
            <a:ext cx="839160" cy="39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de la CR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4"/>
          <p:cNvSpPr/>
          <p:nvPr/>
        </p:nvSpPr>
        <p:spPr>
          <a:xfrm>
            <a:off x="7165800" y="3355200"/>
            <a:ext cx="1227600" cy="39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Pdt d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onseils généra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24360" y="476280"/>
            <a:ext cx="5040360" cy="554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189000"/>
            <a:ext cx="57636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P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0"/>
          <p:cNvSpPr/>
          <p:nvPr/>
        </p:nvSpPr>
        <p:spPr>
          <a:xfrm>
            <a:off x="7524720" y="5433120"/>
            <a:ext cx="100980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Programme télémédec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0"/>
          <p:cNvSpPr/>
          <p:nvPr/>
        </p:nvSpPr>
        <p:spPr>
          <a:xfrm>
            <a:off x="4140360" y="5304600"/>
            <a:ext cx="1655640" cy="55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Prog. Régional d’Accès à la prévention et aux So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403280" y="1268280"/>
            <a:ext cx="756144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1432080" y="76320"/>
            <a:ext cx="753264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14320" indent="-814320">
              <a:buSzPct val="100000"/>
              <a:buBlip>
                <a:blip r:embed="rId1"/>
              </a:buBlip>
              <a:tabLst>
                <a:tab algn="l" pos="1022400"/>
                <a:tab algn="l" pos="1535040"/>
                <a:tab algn="l" pos="2048040"/>
                <a:tab algn="l" pos="2560680"/>
                <a:tab algn="l" pos="3073320"/>
                <a:tab algn="l" pos="3586320"/>
                <a:tab algn="l" pos="4098960"/>
                <a:tab algn="l" pos="4611600"/>
                <a:tab algn="l" pos="5124600"/>
                <a:tab algn="l" pos="5637240"/>
                <a:tab algn="l" pos="6149880"/>
                <a:tab algn="l" pos="6662880"/>
                <a:tab algn="l" pos="7175520"/>
                <a:tab algn="l" pos="7688160"/>
                <a:tab algn="l" pos="8201160"/>
                <a:tab algn="l" pos="8713800"/>
                <a:tab algn="l" pos="9226440"/>
                <a:tab algn="l" pos="9739440"/>
                <a:tab algn="l" pos="10252080"/>
                <a:tab algn="l" pos="1076472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4320" indent="-814320">
              <a:buSzPct val="100000"/>
              <a:buBlip>
                <a:blip r:embed="rId2"/>
              </a:buBlip>
              <a:tabLst>
                <a:tab algn="l" pos="1022400"/>
                <a:tab algn="l" pos="1535040"/>
                <a:tab algn="l" pos="2048040"/>
                <a:tab algn="l" pos="2560680"/>
                <a:tab algn="l" pos="3073320"/>
                <a:tab algn="l" pos="3586320"/>
                <a:tab algn="l" pos="4098960"/>
                <a:tab algn="l" pos="4611600"/>
                <a:tab algn="l" pos="5124600"/>
                <a:tab algn="l" pos="5637240"/>
                <a:tab algn="l" pos="6149880"/>
                <a:tab algn="l" pos="6662880"/>
                <a:tab algn="l" pos="7175520"/>
                <a:tab algn="l" pos="7688160"/>
                <a:tab algn="l" pos="8201160"/>
                <a:tab algn="l" pos="8713800"/>
                <a:tab algn="l" pos="9226440"/>
                <a:tab algn="l" pos="9739440"/>
                <a:tab algn="l" pos="10252080"/>
                <a:tab algn="l" pos="10764720"/>
                <a:tab algn="l" pos="10782360"/>
              </a:tabLst>
            </a:pPr>
            <a:r>
              <a:rPr b="1" i="1" lang="en-US" sz="18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 </a:t>
            </a:r>
            <a:r>
              <a:rPr b="1" i="1" lang="en-US" sz="18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Le calendrier du PRS                                        </a:t>
            </a:r>
            <a:r>
              <a:rPr b="0" i="1" lang="en-US" sz="1400" spc="-1" strike="noStrike">
                <a:solidFill>
                  <a:srgbClr val="969696"/>
                </a:solidFill>
                <a:latin typeface="Arial"/>
                <a:ea typeface="ＭＳ Ｐゴシック"/>
              </a:rPr>
              <a:t>Document de trav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98280" y="1797120"/>
            <a:ext cx="1224000" cy="3133800"/>
          </a:xfrm>
          <a:prstGeom prst="rect">
            <a:avLst/>
          </a:prstGeom>
          <a:solidFill>
            <a:srgbClr val="b2b2b2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Sché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Régiona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7885080" y="6524640"/>
            <a:ext cx="12589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8"/>
          <p:cNvSpPr/>
          <p:nvPr/>
        </p:nvSpPr>
        <p:spPr>
          <a:xfrm>
            <a:off x="1360440" y="10335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1"/>
          <p:cNvSpPr/>
          <p:nvPr/>
        </p:nvSpPr>
        <p:spPr>
          <a:xfrm>
            <a:off x="1770120" y="101124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6"/>
          <p:cNvSpPr/>
          <p:nvPr/>
        </p:nvSpPr>
        <p:spPr>
          <a:xfrm flipV="1">
            <a:off x="3546360" y="1023120"/>
            <a:ext cx="23364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9"/>
          <p:cNvSpPr/>
          <p:nvPr/>
        </p:nvSpPr>
        <p:spPr>
          <a:xfrm flipV="1">
            <a:off x="7920000" y="977760"/>
            <a:ext cx="233280" cy="25272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1"/>
          <p:cNvSpPr/>
          <p:nvPr/>
        </p:nvSpPr>
        <p:spPr>
          <a:xfrm flipV="1">
            <a:off x="8721720" y="1010520"/>
            <a:ext cx="23328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1"/>
          <p:cNvSpPr/>
          <p:nvPr/>
        </p:nvSpPr>
        <p:spPr>
          <a:xfrm>
            <a:off x="2085840" y="101124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1"/>
          <p:cNvSpPr/>
          <p:nvPr/>
        </p:nvSpPr>
        <p:spPr>
          <a:xfrm>
            <a:off x="2440080" y="100188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1"/>
          <p:cNvSpPr/>
          <p:nvPr/>
        </p:nvSpPr>
        <p:spPr>
          <a:xfrm>
            <a:off x="4386240" y="10461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6966000" y="795240"/>
            <a:ext cx="43164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Juill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4"/>
          <p:cNvSpPr/>
          <p:nvPr/>
        </p:nvSpPr>
        <p:spPr>
          <a:xfrm>
            <a:off x="8335800" y="793800"/>
            <a:ext cx="28764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o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9"/>
          <p:cNvSpPr/>
          <p:nvPr/>
        </p:nvSpPr>
        <p:spPr>
          <a:xfrm>
            <a:off x="6678720" y="795240"/>
            <a:ext cx="2872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Ju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7"/>
          <p:cNvSpPr/>
          <p:nvPr/>
        </p:nvSpPr>
        <p:spPr>
          <a:xfrm>
            <a:off x="5022720" y="577800"/>
            <a:ext cx="39322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5022720" y="793800"/>
            <a:ext cx="43200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Jan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454720" y="795240"/>
            <a:ext cx="2872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é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8047080" y="795240"/>
            <a:ext cx="28872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c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7686720" y="793800"/>
            <a:ext cx="36036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p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7397640" y="795240"/>
            <a:ext cx="2890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oû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6389640" y="795240"/>
            <a:ext cx="2890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6102360" y="795240"/>
            <a:ext cx="2872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vr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5742000" y="793800"/>
            <a:ext cx="36036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6"/>
          <p:cNvSpPr/>
          <p:nvPr/>
        </p:nvSpPr>
        <p:spPr>
          <a:xfrm>
            <a:off x="8623440" y="795240"/>
            <a:ext cx="33156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é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3257640" y="773280"/>
            <a:ext cx="1128600" cy="25056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o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4386240" y="816120"/>
            <a:ext cx="636480" cy="2142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é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7"/>
          <p:cNvSpPr/>
          <p:nvPr/>
        </p:nvSpPr>
        <p:spPr>
          <a:xfrm>
            <a:off x="1093680" y="598320"/>
            <a:ext cx="3929040" cy="2178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2440080" y="816120"/>
            <a:ext cx="817560" cy="2286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c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8"/>
          <p:cNvSpPr/>
          <p:nvPr/>
        </p:nvSpPr>
        <p:spPr>
          <a:xfrm>
            <a:off x="6673680" y="11001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8"/>
          <p:cNvSpPr/>
          <p:nvPr/>
        </p:nvSpPr>
        <p:spPr>
          <a:xfrm>
            <a:off x="7397640" y="101592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8"/>
          <p:cNvSpPr/>
          <p:nvPr/>
        </p:nvSpPr>
        <p:spPr>
          <a:xfrm>
            <a:off x="6380280" y="10875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8"/>
          <p:cNvSpPr/>
          <p:nvPr/>
        </p:nvSpPr>
        <p:spPr>
          <a:xfrm>
            <a:off x="7686720" y="105408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8"/>
          <p:cNvSpPr/>
          <p:nvPr/>
        </p:nvSpPr>
        <p:spPr>
          <a:xfrm>
            <a:off x="6102360" y="10875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8"/>
          <p:cNvSpPr/>
          <p:nvPr/>
        </p:nvSpPr>
        <p:spPr>
          <a:xfrm>
            <a:off x="8335800" y="10317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8"/>
          <p:cNvSpPr/>
          <p:nvPr/>
        </p:nvSpPr>
        <p:spPr>
          <a:xfrm>
            <a:off x="5742000" y="110484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8"/>
          <p:cNvSpPr/>
          <p:nvPr/>
        </p:nvSpPr>
        <p:spPr>
          <a:xfrm>
            <a:off x="5454720" y="11001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98280" y="1055520"/>
            <a:ext cx="1224000" cy="625680"/>
          </a:xfrm>
          <a:prstGeom prst="rect">
            <a:avLst/>
          </a:prstGeom>
          <a:solidFill>
            <a:srgbClr val="003399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PS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40"/>
          <p:cNvSpPr/>
          <p:nvPr/>
        </p:nvSpPr>
        <p:spPr>
          <a:xfrm>
            <a:off x="1387440" y="2011320"/>
            <a:ext cx="2276640" cy="290520"/>
          </a:xfrm>
          <a:custGeom>
            <a:avLst/>
            <a:gdLst>
              <a:gd name="textAreaLeft" fmla="*/ 0 w 2276640"/>
              <a:gd name="textAreaRight" fmla="*/ 2277000 w 22766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chéma de Préven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40"/>
          <p:cNvSpPr/>
          <p:nvPr/>
        </p:nvSpPr>
        <p:spPr>
          <a:xfrm>
            <a:off x="1376280" y="3876840"/>
            <a:ext cx="1536840" cy="161640"/>
          </a:xfrm>
          <a:custGeom>
            <a:avLst/>
            <a:gdLst>
              <a:gd name="textAreaLeft" fmla="*/ 0 w 1536840"/>
              <a:gd name="textAreaRight" fmla="*/ 1537200 w 1536840"/>
              <a:gd name="textAreaTop" fmla="*/ 0 h 161640"/>
              <a:gd name="textAreaBottom" fmla="*/ 162000 h 16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72000" bIns="72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Volet Ambulatoi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108000" y="5281560"/>
            <a:ext cx="1224000" cy="1174680"/>
          </a:xfrm>
          <a:prstGeom prst="rect">
            <a:avLst/>
          </a:pr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5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Program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40"/>
          <p:cNvSpPr/>
          <p:nvPr/>
        </p:nvSpPr>
        <p:spPr>
          <a:xfrm>
            <a:off x="5580000" y="3809880"/>
            <a:ext cx="2436840" cy="147600"/>
          </a:xfrm>
          <a:custGeom>
            <a:avLst/>
            <a:gdLst>
              <a:gd name="textAreaLeft" fmla="*/ 0 w 2436840"/>
              <a:gd name="textAreaRight" fmla="*/ 2437200 w 243684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7960" bIns="57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xpérimentations volet ambulatoi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40"/>
          <p:cNvSpPr/>
          <p:nvPr/>
        </p:nvSpPr>
        <p:spPr>
          <a:xfrm>
            <a:off x="8037360" y="1663560"/>
            <a:ext cx="574920" cy="427320"/>
          </a:xfrm>
          <a:custGeom>
            <a:avLst/>
            <a:gdLst>
              <a:gd name="textAreaLeft" fmla="*/ 0 w 574920"/>
              <a:gd name="textAreaRight" fmla="*/ 575280 w 574920"/>
              <a:gd name="textAreaTop" fmla="*/ 0 h 427320"/>
              <a:gd name="textAreaBottom" fmla="*/ 427680 h 427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cer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our avis offici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40"/>
          <p:cNvSpPr/>
          <p:nvPr/>
        </p:nvSpPr>
        <p:spPr>
          <a:xfrm>
            <a:off x="8612280" y="4782960"/>
            <a:ext cx="531720" cy="714600"/>
          </a:xfrm>
          <a:custGeom>
            <a:avLst/>
            <a:gdLst>
              <a:gd name="textAreaLeft" fmla="*/ 0 w 531720"/>
              <a:gd name="textAreaRight" fmla="*/ 532080 w 531720"/>
              <a:gd name="textAreaTop" fmla="*/ 0 h 714600"/>
              <a:gd name="textAreaBottom" fmla="*/ 714960 h 7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rrêté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u D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P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Schém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Programm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46"/>
          <p:cNvSpPr/>
          <p:nvPr/>
        </p:nvSpPr>
        <p:spPr>
          <a:xfrm flipV="1">
            <a:off x="2779560" y="1023120"/>
            <a:ext cx="23364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40"/>
          <p:cNvSpPr/>
          <p:nvPr/>
        </p:nvSpPr>
        <p:spPr>
          <a:xfrm>
            <a:off x="1376280" y="5597640"/>
            <a:ext cx="531720" cy="268200"/>
          </a:xfrm>
          <a:custGeom>
            <a:avLst/>
            <a:gdLst>
              <a:gd name="textAreaLeft" fmla="*/ 0 w 531720"/>
              <a:gd name="textAreaRight" fmla="*/ 532080 w 53172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PRIA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40"/>
          <p:cNvSpPr/>
          <p:nvPr/>
        </p:nvSpPr>
        <p:spPr>
          <a:xfrm>
            <a:off x="1360440" y="6254640"/>
            <a:ext cx="3211560" cy="160560"/>
          </a:xfrm>
          <a:custGeom>
            <a:avLst/>
            <a:gdLst>
              <a:gd name="textAreaLeft" fmla="*/ 0 w 3211560"/>
              <a:gd name="textAreaRight" fmla="*/ 3211920 w 3211560"/>
              <a:gd name="textAreaTop" fmla="*/ 0 h 160560"/>
              <a:gd name="textAreaBottom" fmla="*/ 160920 h 16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70920" bIns="7092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Programme Télémédecin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3"/>
          <p:cNvSpPr/>
          <p:nvPr/>
        </p:nvSpPr>
        <p:spPr>
          <a:xfrm>
            <a:off x="8872560" y="1284120"/>
            <a:ext cx="0" cy="34988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3"/>
          <p:cNvSpPr/>
          <p:nvPr/>
        </p:nvSpPr>
        <p:spPr>
          <a:xfrm>
            <a:off x="3678120" y="1368360"/>
            <a:ext cx="0" cy="49672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3"/>
          <p:cNvSpPr/>
          <p:nvPr/>
        </p:nvSpPr>
        <p:spPr>
          <a:xfrm>
            <a:off x="5580000" y="1200240"/>
            <a:ext cx="0" cy="53640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3"/>
          <p:cNvSpPr/>
          <p:nvPr/>
        </p:nvSpPr>
        <p:spPr>
          <a:xfrm>
            <a:off x="8037360" y="1276200"/>
            <a:ext cx="9720" cy="49546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40"/>
          <p:cNvSpPr/>
          <p:nvPr/>
        </p:nvSpPr>
        <p:spPr>
          <a:xfrm>
            <a:off x="1376280" y="6018120"/>
            <a:ext cx="3005280" cy="142920"/>
          </a:xfrm>
          <a:custGeom>
            <a:avLst/>
            <a:gdLst>
              <a:gd name="textAreaLeft" fmla="*/ 0 w 3005280"/>
              <a:gd name="textAreaRight" fmla="*/ 3005640 w 300528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3280" bIns="5328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PRGD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40"/>
          <p:cNvSpPr/>
          <p:nvPr/>
        </p:nvSpPr>
        <p:spPr>
          <a:xfrm>
            <a:off x="6102360" y="5689440"/>
            <a:ext cx="833400" cy="133560"/>
          </a:xfrm>
          <a:custGeom>
            <a:avLst/>
            <a:gdLst>
              <a:gd name="textAreaLeft" fmla="*/ 0 w 833400"/>
              <a:gd name="textAreaRight" fmla="*/ 833760 w 83340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3920" bIns="4392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PRIA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40"/>
          <p:cNvSpPr/>
          <p:nvPr/>
        </p:nvSpPr>
        <p:spPr>
          <a:xfrm>
            <a:off x="6935760" y="5640480"/>
            <a:ext cx="750960" cy="234720"/>
          </a:xfrm>
          <a:custGeom>
            <a:avLst/>
            <a:gdLst>
              <a:gd name="textAreaLeft" fmla="*/ 0 w 750960"/>
              <a:gd name="textAreaRight" fmla="*/ 751320 w 75096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certation  (CCM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40"/>
          <p:cNvSpPr/>
          <p:nvPr/>
        </p:nvSpPr>
        <p:spPr>
          <a:xfrm>
            <a:off x="1387440" y="4964040"/>
            <a:ext cx="1525680" cy="211320"/>
          </a:xfrm>
          <a:custGeom>
            <a:avLst/>
            <a:gdLst>
              <a:gd name="textAreaLeft" fmla="*/ 0 w 1525680"/>
              <a:gd name="textAreaRight" fmla="*/ 1526040 w 1525680"/>
              <a:gd name="textAreaTop" fmla="*/ 0 h 211320"/>
              <a:gd name="textAreaBottom" fmla="*/ 211680 h 21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hier de charges PDS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40"/>
          <p:cNvSpPr/>
          <p:nvPr/>
        </p:nvSpPr>
        <p:spPr>
          <a:xfrm>
            <a:off x="1376280" y="3602160"/>
            <a:ext cx="1536840" cy="210960"/>
          </a:xfrm>
          <a:custGeom>
            <a:avLst/>
            <a:gdLst>
              <a:gd name="textAreaLeft" fmla="*/ 0 w 1536840"/>
              <a:gd name="textAreaRight" fmla="*/ 1537200 w 15368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chéma cible PDS-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40"/>
          <p:cNvSpPr/>
          <p:nvPr/>
        </p:nvSpPr>
        <p:spPr>
          <a:xfrm>
            <a:off x="1376280" y="3308400"/>
            <a:ext cx="6640560" cy="252360"/>
          </a:xfrm>
          <a:custGeom>
            <a:avLst/>
            <a:gdLst>
              <a:gd name="textAreaLeft" fmla="*/ 0 w 6640560"/>
              <a:gd name="textAreaRight" fmla="*/ 6640920 w 664056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Volet Etablissements de sant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40"/>
          <p:cNvSpPr/>
          <p:nvPr/>
        </p:nvSpPr>
        <p:spPr>
          <a:xfrm>
            <a:off x="5580000" y="2421000"/>
            <a:ext cx="2457360" cy="290520"/>
          </a:xfrm>
          <a:custGeom>
            <a:avLst/>
            <a:gdLst>
              <a:gd name="textAreaLeft" fmla="*/ 0 w 2457360"/>
              <a:gd name="textAreaRight" fmla="*/ 2457720 w 24573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xpérimentations SRO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40"/>
          <p:cNvSpPr/>
          <p:nvPr/>
        </p:nvSpPr>
        <p:spPr>
          <a:xfrm>
            <a:off x="5580000" y="2011320"/>
            <a:ext cx="2457360" cy="290520"/>
          </a:xfrm>
          <a:custGeom>
            <a:avLst/>
            <a:gdLst>
              <a:gd name="textAreaLeft" fmla="*/ 0 w 2457360"/>
              <a:gd name="textAreaRight" fmla="*/ 2457720 w 24573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xpérimentations Schéma de préven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40"/>
          <p:cNvSpPr/>
          <p:nvPr/>
        </p:nvSpPr>
        <p:spPr>
          <a:xfrm>
            <a:off x="5745240" y="6284880"/>
            <a:ext cx="2631960" cy="147600"/>
          </a:xfrm>
          <a:custGeom>
            <a:avLst/>
            <a:gdLst>
              <a:gd name="textAreaLeft" fmla="*/ 0 w 2631960"/>
              <a:gd name="textAreaRight" fmla="*/ 2631960 w 263196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7960" bIns="57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xpérimentations Programme de télémédec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40"/>
          <p:cNvSpPr/>
          <p:nvPr/>
        </p:nvSpPr>
        <p:spPr>
          <a:xfrm>
            <a:off x="2481120" y="1276200"/>
            <a:ext cx="432000" cy="428760"/>
          </a:xfrm>
          <a:custGeom>
            <a:avLst/>
            <a:gdLst>
              <a:gd name="textAreaLeft" fmla="*/ 0 w 432000"/>
              <a:gd name="textAreaRight" fmla="*/ 432360 w 43200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219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rrêté du DG PS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40"/>
          <p:cNvSpPr/>
          <p:nvPr/>
        </p:nvSpPr>
        <p:spPr>
          <a:xfrm>
            <a:off x="1376280" y="4335480"/>
            <a:ext cx="2287800" cy="210960"/>
          </a:xfrm>
          <a:custGeom>
            <a:avLst/>
            <a:gdLst>
              <a:gd name="textAreaLeft" fmla="*/ 0 w 2287800"/>
              <a:gd name="textAreaRight" fmla="*/ 2288160 w 228780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Volet Soins aux déten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40"/>
          <p:cNvSpPr/>
          <p:nvPr/>
        </p:nvSpPr>
        <p:spPr>
          <a:xfrm>
            <a:off x="1380960" y="4060800"/>
            <a:ext cx="1876680" cy="239760"/>
          </a:xfrm>
          <a:custGeom>
            <a:avLst/>
            <a:gdLst>
              <a:gd name="textAreaLeft" fmla="*/ 0 w 1876680"/>
              <a:gd name="textAreaRight" fmla="*/ 1877040 w 187668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Volet Biologie médic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40"/>
          <p:cNvSpPr/>
          <p:nvPr/>
        </p:nvSpPr>
        <p:spPr>
          <a:xfrm>
            <a:off x="1376280" y="4599000"/>
            <a:ext cx="2287800" cy="183960"/>
          </a:xfrm>
          <a:custGeom>
            <a:avLst/>
            <a:gdLst>
              <a:gd name="textAreaLeft" fmla="*/ 0 w 2287800"/>
              <a:gd name="textAreaRight" fmla="*/ 2288160 w 228780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Volet Bucco-dentai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40"/>
          <p:cNvSpPr/>
          <p:nvPr/>
        </p:nvSpPr>
        <p:spPr>
          <a:xfrm>
            <a:off x="1360440" y="2421000"/>
            <a:ext cx="1870200" cy="315720"/>
          </a:xfrm>
          <a:custGeom>
            <a:avLst/>
            <a:gdLst>
              <a:gd name="textAreaLeft" fmla="*/ 0 w 1870200"/>
              <a:gd name="textAreaRight" fmla="*/ 1870560 w 1870200"/>
              <a:gd name="textAreaTop" fmla="*/ 0 h 315720"/>
              <a:gd name="textAreaBottom" fmla="*/ 316080 h 31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chéma d’Organisation médico soci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40"/>
          <p:cNvSpPr/>
          <p:nvPr/>
        </p:nvSpPr>
        <p:spPr>
          <a:xfrm>
            <a:off x="1360440" y="2932200"/>
            <a:ext cx="6559560" cy="290520"/>
          </a:xfrm>
          <a:custGeom>
            <a:avLst/>
            <a:gdLst>
              <a:gd name="textAreaLeft" fmla="*/ 0 w 6559560"/>
              <a:gd name="textAreaRight" fmla="*/ 6559920 w 65595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chéma d’Organisation des soins 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913120" y="4964040"/>
            <a:ext cx="1452600" cy="235080"/>
          </a:xfrm>
          <a:custGeom>
            <a:avLst/>
            <a:gdLst>
              <a:gd name="textAreaLeft" fmla="*/ 0 w 1452600"/>
              <a:gd name="textAreaRight" fmla="*/ 1452960 w 145260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091d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1338120" y="808200"/>
            <a:ext cx="432000" cy="2156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Juill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1770120" y="816120"/>
            <a:ext cx="30960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oû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2079720" y="816120"/>
            <a:ext cx="36036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p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73"/>
          <p:cNvSpPr/>
          <p:nvPr/>
        </p:nvSpPr>
        <p:spPr>
          <a:xfrm>
            <a:off x="2098800" y="1704960"/>
            <a:ext cx="765000" cy="289080"/>
          </a:xfrm>
          <a:custGeom>
            <a:avLst/>
            <a:gdLst>
              <a:gd name="textAreaLeft" fmla="*/ 0 w 765000"/>
              <a:gd name="textAreaRight" fmla="*/ 765360 w 76500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76" y="0"/>
                </a:lnTo>
                <a:lnTo>
                  <a:pt x="21600" y="10800"/>
                </a:lnTo>
                <a:lnTo>
                  <a:pt x="21476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Validatio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me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8"/>
          <p:cNvSpPr/>
          <p:nvPr/>
        </p:nvSpPr>
        <p:spPr>
          <a:xfrm>
            <a:off x="6966000" y="103032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48"/>
          <p:cNvSpPr/>
          <p:nvPr/>
        </p:nvSpPr>
        <p:spPr>
          <a:xfrm flipV="1">
            <a:off x="5454720" y="1001160"/>
            <a:ext cx="23328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73"/>
          <p:cNvSpPr/>
          <p:nvPr/>
        </p:nvSpPr>
        <p:spPr>
          <a:xfrm>
            <a:off x="2913120" y="1663560"/>
            <a:ext cx="2666880" cy="28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476" y="0"/>
                </a:lnTo>
                <a:lnTo>
                  <a:pt x="21600" y="10800"/>
                </a:lnTo>
                <a:lnTo>
                  <a:pt x="21476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certation non-officiell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913120" y="4863960"/>
            <a:ext cx="1314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ertation officiel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705200" y="4994280"/>
            <a:ext cx="317520" cy="287280"/>
          </a:xfrm>
          <a:prstGeom prst="rect">
            <a:avLst/>
          </a:prstGeom>
          <a:solidFill>
            <a:srgbClr val="ff3300"/>
          </a:solidFill>
          <a:ln w="25560">
            <a:solidFill>
              <a:srgbClr val="003399"/>
            </a:solidFill>
            <a:miter/>
          </a:ln>
          <a:effectLst>
            <a:outerShdw dist="17819" dir="2700000" blurRad="0" rotWithShape="0">
              <a:srgbClr val="00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97560" y="4964040"/>
            <a:ext cx="5475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rrêté du D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40"/>
          <p:cNvSpPr/>
          <p:nvPr/>
        </p:nvSpPr>
        <p:spPr>
          <a:xfrm>
            <a:off x="5580000" y="3602160"/>
            <a:ext cx="2436840" cy="147600"/>
          </a:xfrm>
          <a:custGeom>
            <a:avLst/>
            <a:gdLst>
              <a:gd name="textAreaLeft" fmla="*/ 0 w 2436840"/>
              <a:gd name="textAreaRight" fmla="*/ 2437200 w 243684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7960" bIns="57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xpérimentations PDS-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40"/>
          <p:cNvSpPr/>
          <p:nvPr/>
        </p:nvSpPr>
        <p:spPr>
          <a:xfrm>
            <a:off x="5580000" y="4038480"/>
            <a:ext cx="2436840" cy="204840"/>
          </a:xfrm>
          <a:custGeom>
            <a:avLst/>
            <a:gdLst>
              <a:gd name="textAreaLeft" fmla="*/ 0 w 2436840"/>
              <a:gd name="textAreaRight" fmla="*/ 2437200 w 243684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érimentations Volet Biologie médic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40"/>
          <p:cNvSpPr/>
          <p:nvPr/>
        </p:nvSpPr>
        <p:spPr>
          <a:xfrm>
            <a:off x="5575320" y="4335480"/>
            <a:ext cx="2441520" cy="158760"/>
          </a:xfrm>
          <a:custGeom>
            <a:avLst/>
            <a:gdLst>
              <a:gd name="textAreaLeft" fmla="*/ 0 w 2441520"/>
              <a:gd name="textAreaRight" fmla="*/ 2441880 w 24415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69120" bIns="691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érimentations Volet Soins  déten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40"/>
          <p:cNvSpPr/>
          <p:nvPr/>
        </p:nvSpPr>
        <p:spPr>
          <a:xfrm>
            <a:off x="5580000" y="4599000"/>
            <a:ext cx="2436840" cy="183960"/>
          </a:xfrm>
          <a:custGeom>
            <a:avLst/>
            <a:gdLst>
              <a:gd name="textAreaLeft" fmla="*/ 0 w 2436840"/>
              <a:gd name="textAreaRight" fmla="*/ 2437200 w 243684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érimentations Volet Bucco-dentai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73"/>
          <p:cNvSpPr/>
          <p:nvPr/>
        </p:nvSpPr>
        <p:spPr>
          <a:xfrm>
            <a:off x="1071720" y="1046160"/>
            <a:ext cx="607680" cy="289080"/>
          </a:xfrm>
          <a:custGeom>
            <a:avLst/>
            <a:gdLst>
              <a:gd name="textAreaLeft" fmla="*/ 0 w 607680"/>
              <a:gd name="textAreaRight" fmla="*/ 608040 w 60768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76" y="0"/>
                </a:lnTo>
                <a:lnTo>
                  <a:pt x="21600" y="10800"/>
                </a:lnTo>
                <a:lnTo>
                  <a:pt x="2147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8f8f8"/>
          </a:solidFill>
          <a:ln w="9360">
            <a:solidFill>
              <a:srgbClr val="99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993366"/>
                </a:solidFill>
                <a:latin typeface="Arial"/>
                <a:ea typeface="ＭＳ Ｐゴシック"/>
              </a:rPr>
              <a:t>Concertatio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993366"/>
                </a:solidFill>
                <a:latin typeface="Arial"/>
                <a:ea typeface="ＭＳ Ｐゴシック"/>
              </a:rPr>
              <a:t>PS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40"/>
          <p:cNvSpPr/>
          <p:nvPr/>
        </p:nvSpPr>
        <p:spPr>
          <a:xfrm>
            <a:off x="1376280" y="5354640"/>
            <a:ext cx="3340080" cy="142920"/>
          </a:xfrm>
          <a:custGeom>
            <a:avLst/>
            <a:gdLst>
              <a:gd name="textAreaLeft" fmla="*/ 0 w 3340080"/>
              <a:gd name="textAreaRight" fmla="*/ 3340440 w 334008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3280" bIns="5328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PRAP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40"/>
          <p:cNvSpPr/>
          <p:nvPr/>
        </p:nvSpPr>
        <p:spPr>
          <a:xfrm>
            <a:off x="2195640" y="5621400"/>
            <a:ext cx="1468440" cy="287280"/>
          </a:xfrm>
          <a:custGeom>
            <a:avLst/>
            <a:gdLst>
              <a:gd name="textAreaLeft" fmla="*/ 0 w 1468440"/>
              <a:gd name="textAreaRight" fmla="*/ 1468800 w 14684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091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8f8f8"/>
                </a:solidFill>
                <a:latin typeface="Arial Black"/>
                <a:ea typeface="ＭＳ Ｐゴシック"/>
              </a:rPr>
              <a:t>Conce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8f8f8"/>
                </a:solidFill>
                <a:latin typeface="Arial Black"/>
                <a:ea typeface="ＭＳ Ｐゴシック"/>
              </a:rPr>
              <a:t>officiel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40"/>
          <p:cNvSpPr/>
          <p:nvPr/>
        </p:nvSpPr>
        <p:spPr>
          <a:xfrm>
            <a:off x="4119480" y="5597640"/>
            <a:ext cx="531720" cy="277560"/>
          </a:xfrm>
          <a:custGeom>
            <a:avLst/>
            <a:gdLst>
              <a:gd name="textAreaLeft" fmla="*/ 0 w 531720"/>
              <a:gd name="textAreaRight" fmla="*/ 532080 w 531720"/>
              <a:gd name="textAreaTop" fmla="*/ 0 h 277560"/>
              <a:gd name="textAreaBottom" fmla="*/ 277920 h 27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Arrêté du D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40"/>
          <p:cNvSpPr/>
          <p:nvPr/>
        </p:nvSpPr>
        <p:spPr>
          <a:xfrm>
            <a:off x="4365720" y="5908680"/>
            <a:ext cx="631800" cy="287280"/>
          </a:xfrm>
          <a:custGeom>
            <a:avLst/>
            <a:gdLst>
              <a:gd name="textAreaLeft" fmla="*/ 0 w 631800"/>
              <a:gd name="textAreaRight" fmla="*/ 632160 w 6318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091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8f8f8"/>
                </a:solidFill>
                <a:latin typeface="Arial Black"/>
                <a:ea typeface="ＭＳ Ｐゴシック"/>
              </a:rPr>
              <a:t>Valid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8f8f8"/>
                </a:solidFill>
                <a:latin typeface="Arial Black"/>
                <a:ea typeface="ＭＳ Ｐゴシック"/>
              </a:rPr>
              <a:t>officiel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"/>
          <p:cNvSpPr/>
          <p:nvPr/>
        </p:nvSpPr>
        <p:spPr>
          <a:xfrm>
            <a:off x="2913120" y="1211400"/>
            <a:ext cx="0" cy="38876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8"/>
          <p:cNvSpPr/>
          <p:nvPr/>
        </p:nvSpPr>
        <p:spPr>
          <a:xfrm>
            <a:off x="5022720" y="104472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908000" y="5640480"/>
            <a:ext cx="287640" cy="1825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959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814400" y="5640480"/>
            <a:ext cx="76068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NS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2720" y="6254640"/>
            <a:ext cx="719280" cy="2476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997520" y="6208560"/>
            <a:ext cx="869760" cy="45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ertation                non officiel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46"/>
          <p:cNvSpPr/>
          <p:nvPr/>
        </p:nvSpPr>
        <p:spPr>
          <a:xfrm flipV="1">
            <a:off x="3139920" y="1015200"/>
            <a:ext cx="23364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3"/>
          <p:cNvSpPr/>
          <p:nvPr/>
        </p:nvSpPr>
        <p:spPr>
          <a:xfrm>
            <a:off x="3257640" y="1325520"/>
            <a:ext cx="0" cy="49672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3"/>
          <p:cNvSpPr/>
          <p:nvPr/>
        </p:nvSpPr>
        <p:spPr>
          <a:xfrm>
            <a:off x="8623440" y="1200240"/>
            <a:ext cx="0" cy="34988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51"/>
          <p:cNvSpPr/>
          <p:nvPr/>
        </p:nvSpPr>
        <p:spPr>
          <a:xfrm flipV="1">
            <a:off x="8505720" y="1015200"/>
            <a:ext cx="23364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</a:t>
            </a:r>
            <a:r>
              <a:rPr b="1" lang="en-US" sz="1000" spc="-1" strike="noStrike" baseline="30000">
                <a:solidFill>
                  <a:srgbClr val="ffffff"/>
                </a:solidFill>
                <a:latin typeface="Arial"/>
                <a:ea typeface="ＭＳ Ｐゴシック"/>
              </a:rPr>
              <a:t>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76280" y="2754360"/>
            <a:ext cx="66405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80960" y="4861080"/>
            <a:ext cx="663588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16840" y="2736720"/>
            <a:ext cx="0" cy="21272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374840" y="2749680"/>
            <a:ext cx="0" cy="21272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Le SROMS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99640" y="1267920"/>
            <a:ext cx="741708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 objectifs stratégiqu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ganiser et structurer une offre médico-sociale de proximité, accessible, adaptée et diversifié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éliorer la qualité de la prise en charge et de l’accompagnement pour garantir l’adéquation du parcours de vie et de soins aux besoins des person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ur trois pop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s personnes handicapée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s personnes âgé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s personnes en difficultés spécif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 articulation avec les autres démarches de plan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 SROMS n’a pas vocation, à lui seul, à apporter, toutes les réponses aux problématiques qu’il va aborder.  Organisation nécessaire de la transversalité et la synergie avec les autres volets des schémas PRS ainsi qu’avec les schémas départementa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Méthodologie et calendrier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16000" y="1267920"/>
            <a:ext cx="741672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éthodolo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comité de pilotage du SRO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 groupes de travail au niveau régional dont 4 pour les personnes handicapée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ompagnement précoce du handica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ompagnement à la scolarisation et à l ’insertion professionnel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ndicap psychiq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onnes handicapées vieillissan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end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vaux régionaux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mars – juin 201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3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édaction du SROSM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été 201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3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ésentation aux partenaires région et départemen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utomne 2011, pour Paris le 18/11/201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érimentation en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rêté du DGARS (fin déc. 2012) après avis de la CR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Le volet « Personnes Handicapées » du SROMS</a:t>
            </a:r>
            <a:r>
              <a:rPr b="1" lang="en-US" sz="2500" spc="-1" strike="noStrike">
                <a:solidFill>
                  <a:srgbClr val="7ab800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7993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Objectif I. Organiser et structurer une offre médico-sociale adaptée et de proximité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Restructurer l’offre pour réduire les inégalités territoriales et opérer des redéploiements de ressour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avoriser les coopérations et les partenariats entre les acteurs concernés (ambulatoire, hospitalier, social, médico-soci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Renforcer une logique d’efficience :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fficience de la dépe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fficience dans le positionnement de l’établissement dans la filiè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Objectif II. Améliorer la qualité de l’accompagnement pour assurer un parcours de vie et de soins répondant aux besoins des personn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Organiser et renforcer la prévention tout au long du parcours de v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avoriser l’accès et le maintien au logement des person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méliorer le soutien aux aidants (formation, reconnaissance de leur action, prise en compte de leur santé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méliorer la qualité des prestations pour garantir une prise en charge adaptée aux besoins et à la diversité des publ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évelopper une démarche de bientrai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Valoriser les métiers du médico-so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5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objectif n° 1 : Organiser et structurer une offre médico-sociale de proximité, accessible, adaptée et diversifiée</a:t>
            </a:r>
            <a:r>
              <a:rPr b="1" lang="en-US" sz="2500" spc="-1" strike="noStrike">
                <a:solidFill>
                  <a:srgbClr val="3333cc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532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ifs opération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° 1-1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ugmenter, restructurer et diversifier l’offre d’accompagnement des personnes handicapé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° 1-2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avoriser les actions innovantes et expérimentales pour être au plus près des besoins des personnes handicapées et de leur entourag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° 1-3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endre en compte de façon coordonnée les problématiques du logement, de l’habitat et du déplacement pour faciliter le quotidien des personnes handicapées en perte d’autonomie (Fiche concernant les 3 populations PA-PH-PD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fs opérationnels sur des problématiques spécifiq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oposer des organisations innovantes d’information et de suivi de prises en charge des personnes handicapées psychique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compagnement à la perte d’autonomie (PHV : personnes handicapées vieillissante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153280" cy="15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8bc53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bc53f"/>
                </a:solidFill>
                <a:latin typeface="Arial"/>
              </a:rPr>
              <a:t>objectif n° 2 : Améliorer la qualité de la prise en charge et de l’accompagnement pour garantir l’adéquation du parcours de vie et de soins aux besoins des personnes</a:t>
            </a:r>
            <a:br>
              <a:rPr sz="2000"/>
            </a:b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28036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ifs opérationnel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° 2-1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océder à l’évaluation des personnes tout au long du parcours de vi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° 2-2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évelopper la formalisation des partenariats et des coopérations entre les différents acteur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° 2-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évelopper la prévention et l’accès aux soins tout au long du parcours de vi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° 2-4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avoriser l’insertion professionnelle de la personne handicapée tout au long du parcours de vi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° 2-5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Efficience de la dépense dans le secteur du handicap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0:10:18Z</dcterms:created>
  <dc:creator>Service Info</dc:creator>
  <dc:description/>
  <dc:language>en-US</dc:language>
  <cp:lastModifiedBy>BOUCOMONT</cp:lastModifiedBy>
  <dcterms:modified xsi:type="dcterms:W3CDTF">2011-11-16T09:17:39Z</dcterms:modified>
  <cp:revision>276</cp:revision>
  <dc:subject/>
  <dc:title>Présentation PowerPoint</dc:title>
</cp:coreProperties>
</file>