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20680" y="-360"/>
            <a:ext cx="292284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0288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38340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20680" y="9383400"/>
            <a:ext cx="292284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44648BC-5089-4693-AF6B-7E1B25FA95A0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21040" y="938376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9845849-D1F0-439C-93E2-7E0C33BB00DE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21040" y="938376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5CF32D1-E8A6-4B49-8878-A320C7CD8179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21040" y="938376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64D511C-3221-448F-BE62-D846E1E8AB77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21040" y="938376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0850412-D0F5-4BF7-84AC-D39E92B41660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7198-8D97-4634-BF03-ACDC1B09DF72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ARS-PPT ECRAN D'OUVERTURE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22"/>
          <p:cNvSpPr/>
          <p:nvPr/>
        </p:nvSpPr>
        <p:spPr>
          <a:xfrm>
            <a:off x="345960" y="6375240"/>
            <a:ext cx="8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XX/XX/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6" descr="ARS_LOGOS_idf"/>
          <p:cNvPicPr/>
          <p:nvPr/>
        </p:nvPicPr>
        <p:blipFill>
          <a:blip r:embed="rId3"/>
          <a:stretch/>
        </p:blipFill>
        <p:spPr>
          <a:xfrm>
            <a:off x="395280" y="1015920"/>
            <a:ext cx="2448000" cy="1405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8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205000"/>
            <a:ext cx="7058160" cy="13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95256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002395"/>
                </a:solidFill>
                <a:latin typeface="Arial"/>
              </a:rPr>
              <a:t>Volet handicap du Schéma régional d’organisation médico-sociale de L’ARS</a:t>
            </a:r>
            <a:r>
              <a:rPr b="1" lang="en-US" sz="25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2395"/>
                </a:solidFill>
                <a:latin typeface="Arial"/>
              </a:rPr>
              <a:t> </a:t>
            </a:r>
            <a:br>
              <a:rPr sz="2500"/>
            </a:b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58920" y="5444640"/>
            <a:ext cx="68421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férence de territoire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17 novembr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886200" y="616572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25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objectif n° 2 : Améliorer la qualité de la prise en charge et de l’accompagnement pour garantir l’adéquation du parcours de vie et de soins aux besoins des personnes</a:t>
            </a:r>
            <a:br>
              <a:rPr sz="2000"/>
            </a:b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7630920" cy="35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bjectifs opérationnels sur des problématiques spécifiques</a:t>
            </a: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ompagnement à l’insertion sociale et professionnelle des personnes handicapées psychiqu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ompagnement à la perte d’autonomie (PHV : personnes handicapées vieillissante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tions spécifiques en faveur des personnes souffrant d’autisme et de troubles envahissants du développement (TED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bjectifs opérationnels communs aux trois population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PA- PH-P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évelopper la bientraitanc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ormer les professionnels et accompagner les aidants familiau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 schéma médico-social un élément du Projet Régional de Santé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416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projet régional de santé (PRS)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it être arrêté fin 2012 (arrêté du DG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 composé notamment du schéma médico-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it apporter une réponse aux enjeux stratégiques déterminés dans le PSR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rrêté du DGARS du 11 oct 2011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tammen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réduction des inégalités sociales et territoriales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amélioration de la qualité du service rendu aux Franciliens par le système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garantie de l’efficience des dé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90756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les composantes du Projet Régional de Santé (PRS)</a:t>
            </a:r>
            <a:r>
              <a:rPr b="1" lang="en-US" sz="25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grpSp>
        <p:nvGrpSpPr>
          <p:cNvPr id="94" name="Group 9"/>
          <p:cNvGrpSpPr/>
          <p:nvPr/>
        </p:nvGrpSpPr>
        <p:grpSpPr>
          <a:xfrm>
            <a:off x="324000" y="5589720"/>
            <a:ext cx="3382920" cy="480960"/>
            <a:chOff x="324000" y="5589720"/>
            <a:chExt cx="3382920" cy="480960"/>
          </a:xfrm>
        </p:grpSpPr>
        <p:sp>
          <p:nvSpPr>
            <p:cNvPr id="95" name="Rectangle 10"/>
            <p:cNvSpPr/>
            <p:nvPr/>
          </p:nvSpPr>
          <p:spPr>
            <a:xfrm>
              <a:off x="324000" y="5680080"/>
              <a:ext cx="338292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cueil des avis                Recueil des proposi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1"/>
            <p:cNvSpPr/>
            <p:nvPr/>
          </p:nvSpPr>
          <p:spPr>
            <a:xfrm>
              <a:off x="1752840" y="5589720"/>
              <a:ext cx="195120" cy="48096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324000" y="5608440"/>
              <a:ext cx="183600" cy="3668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8" name="AutoShape 13"/>
          <p:cNvCxnSpPr/>
          <p:nvPr/>
        </p:nvCxnSpPr>
        <p:spPr>
          <a:xfrm>
            <a:off x="684000" y="20602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Rectangle 14"/>
          <p:cNvSpPr/>
          <p:nvPr/>
        </p:nvSpPr>
        <p:spPr>
          <a:xfrm>
            <a:off x="7093080" y="2276640"/>
            <a:ext cx="143964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MEDICO SOC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5580000" y="2276640"/>
            <a:ext cx="136836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ORGANISATION DES SO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4213080" y="2276640"/>
            <a:ext cx="122400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E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4067280" y="1773360"/>
            <a:ext cx="4680000" cy="21589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EMAS</a:t>
            </a: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4431600" y="270756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de la CR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9"/>
          <p:cNvSpPr/>
          <p:nvPr/>
        </p:nvSpPr>
        <p:spPr>
          <a:xfrm>
            <a:off x="6507360" y="3326760"/>
            <a:ext cx="3499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5871600" y="277884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de la CR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1"/>
          <p:cNvSpPr/>
          <p:nvPr/>
        </p:nvSpPr>
        <p:spPr>
          <a:xfrm>
            <a:off x="5618880" y="3264840"/>
            <a:ext cx="750960" cy="3477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UR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2"/>
          <p:cNvSpPr/>
          <p:nvPr/>
        </p:nvSpPr>
        <p:spPr>
          <a:xfrm>
            <a:off x="4284720" y="3084480"/>
            <a:ext cx="1068480" cy="7783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Pré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4067280" y="765000"/>
            <a:ext cx="468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S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4"/>
          <p:cNvSpPr/>
          <p:nvPr/>
        </p:nvSpPr>
        <p:spPr>
          <a:xfrm>
            <a:off x="4346280" y="1416960"/>
            <a:ext cx="10494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P de la CR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5"/>
          <p:cNvSpPr/>
          <p:nvPr/>
        </p:nvSpPr>
        <p:spPr>
          <a:xfrm>
            <a:off x="5826960" y="1412280"/>
            <a:ext cx="147924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onseil de surveill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6"/>
          <p:cNvSpPr/>
          <p:nvPr/>
        </p:nvSpPr>
        <p:spPr>
          <a:xfrm>
            <a:off x="7776720" y="1372320"/>
            <a:ext cx="494640" cy="3477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7"/>
          <p:cNvSpPr/>
          <p:nvPr/>
        </p:nvSpPr>
        <p:spPr>
          <a:xfrm>
            <a:off x="4067280" y="4099320"/>
            <a:ext cx="4681440" cy="18666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	</a:t>
            </a: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8"/>
          <p:cNvSpPr/>
          <p:nvPr/>
        </p:nvSpPr>
        <p:spPr>
          <a:xfrm>
            <a:off x="4211640" y="4320720"/>
            <a:ext cx="1512720" cy="86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ogrammes territoriaux + C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9"/>
          <p:cNvSpPr/>
          <p:nvPr/>
        </p:nvSpPr>
        <p:spPr>
          <a:xfrm>
            <a:off x="4716720" y="4838040"/>
            <a:ext cx="3499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0"/>
          <p:cNvSpPr/>
          <p:nvPr/>
        </p:nvSpPr>
        <p:spPr>
          <a:xfrm>
            <a:off x="7524720" y="4509360"/>
            <a:ext cx="1009800" cy="70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I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1"/>
          <p:cNvSpPr/>
          <p:nvPr/>
        </p:nvSpPr>
        <p:spPr>
          <a:xfrm>
            <a:off x="7743600" y="4858560"/>
            <a:ext cx="5875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C 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2"/>
          <p:cNvSpPr/>
          <p:nvPr/>
        </p:nvSpPr>
        <p:spPr>
          <a:xfrm>
            <a:off x="5940360" y="4512960"/>
            <a:ext cx="1368360" cy="12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ogrammes pluriannuel de gestion du ris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3"/>
          <p:cNvSpPr/>
          <p:nvPr/>
        </p:nvSpPr>
        <p:spPr>
          <a:xfrm>
            <a:off x="6084720" y="5299920"/>
            <a:ext cx="11430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omm Rég GD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4"/>
          <p:cNvSpPr/>
          <p:nvPr/>
        </p:nvSpPr>
        <p:spPr>
          <a:xfrm>
            <a:off x="324000" y="4797360"/>
            <a:ext cx="1800000" cy="580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699"/>
                </a:solidFill>
                <a:latin typeface="Arial"/>
                <a:ea typeface="ＭＳ Ｐゴシック"/>
              </a:rPr>
              <a:t>CP : commission permane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699"/>
                </a:solidFill>
                <a:latin typeface="Arial"/>
                <a:ea typeface="ＭＳ Ｐゴシック"/>
              </a:rPr>
              <a:t>CS : commission spécialisé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699"/>
                </a:solidFill>
                <a:latin typeface="Arial"/>
                <a:ea typeface="ＭＳ Ｐゴシック"/>
              </a:rPr>
              <a:t>CC : commission de coordin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699"/>
                </a:solidFill>
                <a:latin typeface="Arial"/>
                <a:ea typeface="ＭＳ Ｐゴシック"/>
              </a:rPr>
              <a:t>CT : conférence de territo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2"/>
          <p:cNvSpPr/>
          <p:nvPr/>
        </p:nvSpPr>
        <p:spPr>
          <a:xfrm>
            <a:off x="7456320" y="3039480"/>
            <a:ext cx="5875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C 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3"/>
          <p:cNvSpPr/>
          <p:nvPr/>
        </p:nvSpPr>
        <p:spPr>
          <a:xfrm>
            <a:off x="7311240" y="256320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de la CR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4"/>
          <p:cNvSpPr/>
          <p:nvPr/>
        </p:nvSpPr>
        <p:spPr>
          <a:xfrm>
            <a:off x="7165800" y="3355200"/>
            <a:ext cx="122760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Pdt d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onseils génér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24360" y="476280"/>
            <a:ext cx="5040360" cy="554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189000"/>
            <a:ext cx="576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0"/>
          <p:cNvSpPr/>
          <p:nvPr/>
        </p:nvSpPr>
        <p:spPr>
          <a:xfrm>
            <a:off x="7524720" y="5433120"/>
            <a:ext cx="10098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ogramme télémédec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0"/>
          <p:cNvSpPr/>
          <p:nvPr/>
        </p:nvSpPr>
        <p:spPr>
          <a:xfrm>
            <a:off x="4140360" y="5304600"/>
            <a:ext cx="165564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og. Régional d’Accès à la prévention et aux So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403280" y="1268280"/>
            <a:ext cx="7561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432080" y="76320"/>
            <a:ext cx="7532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4320" indent="-814320">
              <a:buSzPct val="100000"/>
              <a:buBlip>
                <a:blip r:embed="rId1"/>
              </a:buBlip>
              <a:tabLst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4320" indent="-814320">
              <a:buSzPct val="100000"/>
              <a:buBlip>
                <a:blip r:embed="rId2"/>
              </a:buBlip>
              <a:tabLst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r>
              <a:rPr b="1" i="1" lang="en-US" sz="18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 </a:t>
            </a:r>
            <a:r>
              <a:rPr b="1" i="1" lang="en-US" sz="18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Le calendrier du PRS                                        </a:t>
            </a:r>
            <a:r>
              <a:rPr b="0" i="1" lang="en-US" sz="1400" spc="-1" strike="noStrike">
                <a:solidFill>
                  <a:srgbClr val="969696"/>
                </a:solidFill>
                <a:latin typeface="Arial"/>
                <a:ea typeface="ＭＳ Ｐゴシック"/>
              </a:rPr>
              <a:t>Document de trav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98280" y="1797120"/>
            <a:ext cx="1224000" cy="3133800"/>
          </a:xfrm>
          <a:prstGeom prst="rect">
            <a:avLst/>
          </a:prstGeom>
          <a:solidFill>
            <a:srgbClr val="b2b2b2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Sché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Région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7885080" y="6524640"/>
            <a:ext cx="12589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8"/>
          <p:cNvSpPr/>
          <p:nvPr/>
        </p:nvSpPr>
        <p:spPr>
          <a:xfrm>
            <a:off x="1360440" y="1033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1"/>
          <p:cNvSpPr/>
          <p:nvPr/>
        </p:nvSpPr>
        <p:spPr>
          <a:xfrm>
            <a:off x="177012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6"/>
          <p:cNvSpPr/>
          <p:nvPr/>
        </p:nvSpPr>
        <p:spPr>
          <a:xfrm flipV="1">
            <a:off x="3546360" y="102312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9"/>
          <p:cNvSpPr/>
          <p:nvPr/>
        </p:nvSpPr>
        <p:spPr>
          <a:xfrm flipV="1">
            <a:off x="7920000" y="977760"/>
            <a:ext cx="233280" cy="25272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1"/>
          <p:cNvSpPr/>
          <p:nvPr/>
        </p:nvSpPr>
        <p:spPr>
          <a:xfrm flipV="1">
            <a:off x="8721720" y="101052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1"/>
          <p:cNvSpPr/>
          <p:nvPr/>
        </p:nvSpPr>
        <p:spPr>
          <a:xfrm>
            <a:off x="208584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1"/>
          <p:cNvSpPr/>
          <p:nvPr/>
        </p:nvSpPr>
        <p:spPr>
          <a:xfrm>
            <a:off x="2440080" y="10018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4386240" y="1046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6966000" y="795240"/>
            <a:ext cx="43164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uill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8335800" y="793800"/>
            <a:ext cx="28764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667872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u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7"/>
          <p:cNvSpPr/>
          <p:nvPr/>
        </p:nvSpPr>
        <p:spPr>
          <a:xfrm>
            <a:off x="5022720" y="577800"/>
            <a:ext cx="3932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5022720" y="793800"/>
            <a:ext cx="43200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an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45472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é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8047080" y="795240"/>
            <a:ext cx="28872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7686720" y="79380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7397640" y="7952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oû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6389640" y="7952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610236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vr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5742000" y="79380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8623440" y="795240"/>
            <a:ext cx="33156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é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3257640" y="773280"/>
            <a:ext cx="1128600" cy="25056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4386240" y="816120"/>
            <a:ext cx="636480" cy="2142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é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7"/>
          <p:cNvSpPr/>
          <p:nvPr/>
        </p:nvSpPr>
        <p:spPr>
          <a:xfrm>
            <a:off x="1093680" y="598320"/>
            <a:ext cx="3929040" cy="2178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2440080" y="816120"/>
            <a:ext cx="817560" cy="2286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8"/>
          <p:cNvSpPr/>
          <p:nvPr/>
        </p:nvSpPr>
        <p:spPr>
          <a:xfrm>
            <a:off x="667368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8"/>
          <p:cNvSpPr/>
          <p:nvPr/>
        </p:nvSpPr>
        <p:spPr>
          <a:xfrm>
            <a:off x="7397640" y="10159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8"/>
          <p:cNvSpPr/>
          <p:nvPr/>
        </p:nvSpPr>
        <p:spPr>
          <a:xfrm>
            <a:off x="638028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8"/>
          <p:cNvSpPr/>
          <p:nvPr/>
        </p:nvSpPr>
        <p:spPr>
          <a:xfrm>
            <a:off x="7686720" y="10540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8"/>
          <p:cNvSpPr/>
          <p:nvPr/>
        </p:nvSpPr>
        <p:spPr>
          <a:xfrm>
            <a:off x="610236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8"/>
          <p:cNvSpPr/>
          <p:nvPr/>
        </p:nvSpPr>
        <p:spPr>
          <a:xfrm>
            <a:off x="8335800" y="10317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8"/>
          <p:cNvSpPr/>
          <p:nvPr/>
        </p:nvSpPr>
        <p:spPr>
          <a:xfrm>
            <a:off x="5742000" y="11048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8"/>
          <p:cNvSpPr/>
          <p:nvPr/>
        </p:nvSpPr>
        <p:spPr>
          <a:xfrm>
            <a:off x="545472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98280" y="1055520"/>
            <a:ext cx="1224000" cy="625680"/>
          </a:xfrm>
          <a:prstGeom prst="rect">
            <a:avLst/>
          </a:prstGeom>
          <a:solidFill>
            <a:srgbClr val="003399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S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0"/>
          <p:cNvSpPr/>
          <p:nvPr/>
        </p:nvSpPr>
        <p:spPr>
          <a:xfrm>
            <a:off x="1387440" y="2011320"/>
            <a:ext cx="2276640" cy="290520"/>
          </a:xfrm>
          <a:custGeom>
            <a:avLst/>
            <a:gdLst>
              <a:gd name="textAreaLeft" fmla="*/ 0 w 2276640"/>
              <a:gd name="textAreaRight" fmla="*/ 2277000 w 2276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héma de Pré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0"/>
          <p:cNvSpPr/>
          <p:nvPr/>
        </p:nvSpPr>
        <p:spPr>
          <a:xfrm>
            <a:off x="1376280" y="3876840"/>
            <a:ext cx="1536840" cy="16164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72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Ambulato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08000" y="5281560"/>
            <a:ext cx="1224000" cy="1174680"/>
          </a:xfrm>
          <a:prstGeom prst="rect">
            <a:avLst/>
          </a:pr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5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ogram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40"/>
          <p:cNvSpPr/>
          <p:nvPr/>
        </p:nvSpPr>
        <p:spPr>
          <a:xfrm>
            <a:off x="5580000" y="3809880"/>
            <a:ext cx="2436840" cy="14760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volet ambulato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8037360" y="1663560"/>
            <a:ext cx="574920" cy="427320"/>
          </a:xfrm>
          <a:custGeom>
            <a:avLst/>
            <a:gdLst>
              <a:gd name="textAreaLeft" fmla="*/ 0 w 574920"/>
              <a:gd name="textAreaRight" fmla="*/ 575280 w 57492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er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ur avis offic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0"/>
          <p:cNvSpPr/>
          <p:nvPr/>
        </p:nvSpPr>
        <p:spPr>
          <a:xfrm>
            <a:off x="8612280" y="4782960"/>
            <a:ext cx="531720" cy="714600"/>
          </a:xfrm>
          <a:custGeom>
            <a:avLst/>
            <a:gdLst>
              <a:gd name="textAreaLeft" fmla="*/ 0 w 531720"/>
              <a:gd name="textAreaRight" fmla="*/ 532080 w 53172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rrêté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u D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Schém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ogramm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6"/>
          <p:cNvSpPr/>
          <p:nvPr/>
        </p:nvSpPr>
        <p:spPr>
          <a:xfrm flipV="1">
            <a:off x="2779560" y="102312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0"/>
          <p:cNvSpPr/>
          <p:nvPr/>
        </p:nvSpPr>
        <p:spPr>
          <a:xfrm>
            <a:off x="1376280" y="5597640"/>
            <a:ext cx="531720" cy="268200"/>
          </a:xfrm>
          <a:custGeom>
            <a:avLst/>
            <a:gdLst>
              <a:gd name="textAreaLeft" fmla="*/ 0 w 531720"/>
              <a:gd name="textAreaRight" fmla="*/ 532080 w 53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I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0"/>
          <p:cNvSpPr/>
          <p:nvPr/>
        </p:nvSpPr>
        <p:spPr>
          <a:xfrm>
            <a:off x="1360440" y="6254640"/>
            <a:ext cx="3211560" cy="160560"/>
          </a:xfrm>
          <a:custGeom>
            <a:avLst/>
            <a:gdLst>
              <a:gd name="textAreaLeft" fmla="*/ 0 w 3211560"/>
              <a:gd name="textAreaRight" fmla="*/ 3211920 w 321156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0920" bIns="70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ogramme Télémédeci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"/>
          <p:cNvSpPr/>
          <p:nvPr/>
        </p:nvSpPr>
        <p:spPr>
          <a:xfrm>
            <a:off x="8872560" y="128412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"/>
          <p:cNvSpPr/>
          <p:nvPr/>
        </p:nvSpPr>
        <p:spPr>
          <a:xfrm>
            <a:off x="3678120" y="1368360"/>
            <a:ext cx="0" cy="4967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5580000" y="1200240"/>
            <a:ext cx="0" cy="5364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8037360" y="1276200"/>
            <a:ext cx="9720" cy="49546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0"/>
          <p:cNvSpPr/>
          <p:nvPr/>
        </p:nvSpPr>
        <p:spPr>
          <a:xfrm>
            <a:off x="1376280" y="6018120"/>
            <a:ext cx="3005280" cy="142920"/>
          </a:xfrm>
          <a:custGeom>
            <a:avLst/>
            <a:gdLst>
              <a:gd name="textAreaLeft" fmla="*/ 0 w 3005280"/>
              <a:gd name="textAreaRight" fmla="*/ 3005640 w 30052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3280" bIns="532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GD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0"/>
          <p:cNvSpPr/>
          <p:nvPr/>
        </p:nvSpPr>
        <p:spPr>
          <a:xfrm>
            <a:off x="6102360" y="5689440"/>
            <a:ext cx="833400" cy="133560"/>
          </a:xfrm>
          <a:custGeom>
            <a:avLst/>
            <a:gdLst>
              <a:gd name="textAreaLeft" fmla="*/ 0 w 833400"/>
              <a:gd name="textAreaRight" fmla="*/ 833760 w 83340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3920" bIns="43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I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0"/>
          <p:cNvSpPr/>
          <p:nvPr/>
        </p:nvSpPr>
        <p:spPr>
          <a:xfrm>
            <a:off x="6935760" y="5640480"/>
            <a:ext cx="750960" cy="234720"/>
          </a:xfrm>
          <a:custGeom>
            <a:avLst/>
            <a:gdLst>
              <a:gd name="textAreaLeft" fmla="*/ 0 w 750960"/>
              <a:gd name="textAreaRight" fmla="*/ 751320 w 75096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ertation  (CCM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0"/>
          <p:cNvSpPr/>
          <p:nvPr/>
        </p:nvSpPr>
        <p:spPr>
          <a:xfrm>
            <a:off x="1387440" y="4964040"/>
            <a:ext cx="1525680" cy="211320"/>
          </a:xfrm>
          <a:custGeom>
            <a:avLst/>
            <a:gdLst>
              <a:gd name="textAreaLeft" fmla="*/ 0 w 1525680"/>
              <a:gd name="textAreaRight" fmla="*/ 1526040 w 152568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hier de charges PDS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0"/>
          <p:cNvSpPr/>
          <p:nvPr/>
        </p:nvSpPr>
        <p:spPr>
          <a:xfrm>
            <a:off x="1376280" y="3602160"/>
            <a:ext cx="1536840" cy="21096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héma cible PDS-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0"/>
          <p:cNvSpPr/>
          <p:nvPr/>
        </p:nvSpPr>
        <p:spPr>
          <a:xfrm>
            <a:off x="1376280" y="3308400"/>
            <a:ext cx="6640560" cy="252360"/>
          </a:xfrm>
          <a:custGeom>
            <a:avLst/>
            <a:gdLst>
              <a:gd name="textAreaLeft" fmla="*/ 0 w 6640560"/>
              <a:gd name="textAreaRight" fmla="*/ 6640920 w 66405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Etablissements de sant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40"/>
          <p:cNvSpPr/>
          <p:nvPr/>
        </p:nvSpPr>
        <p:spPr>
          <a:xfrm>
            <a:off x="5580000" y="2421000"/>
            <a:ext cx="2457360" cy="29052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SRO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0"/>
          <p:cNvSpPr/>
          <p:nvPr/>
        </p:nvSpPr>
        <p:spPr>
          <a:xfrm>
            <a:off x="5580000" y="2011320"/>
            <a:ext cx="2457360" cy="29052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Schéma de pré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40"/>
          <p:cNvSpPr/>
          <p:nvPr/>
        </p:nvSpPr>
        <p:spPr>
          <a:xfrm>
            <a:off x="5745240" y="6284880"/>
            <a:ext cx="2631960" cy="147600"/>
          </a:xfrm>
          <a:custGeom>
            <a:avLst/>
            <a:gdLst>
              <a:gd name="textAreaLeft" fmla="*/ 0 w 2631960"/>
              <a:gd name="textAreaRight" fmla="*/ 2631960 w 263196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Programme de télémédec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0"/>
          <p:cNvSpPr/>
          <p:nvPr/>
        </p:nvSpPr>
        <p:spPr>
          <a:xfrm>
            <a:off x="2481120" y="1276200"/>
            <a:ext cx="432000" cy="428760"/>
          </a:xfrm>
          <a:custGeom>
            <a:avLst/>
            <a:gdLst>
              <a:gd name="textAreaLeft" fmla="*/ 0 w 432000"/>
              <a:gd name="textAreaRight" fmla="*/ 432360 w 43200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19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rrêté du DG PS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0"/>
          <p:cNvSpPr/>
          <p:nvPr/>
        </p:nvSpPr>
        <p:spPr>
          <a:xfrm>
            <a:off x="1376280" y="4335480"/>
            <a:ext cx="2287800" cy="210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Soins aux déten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0"/>
          <p:cNvSpPr/>
          <p:nvPr/>
        </p:nvSpPr>
        <p:spPr>
          <a:xfrm>
            <a:off x="1380960" y="4060800"/>
            <a:ext cx="1876680" cy="239760"/>
          </a:xfrm>
          <a:custGeom>
            <a:avLst/>
            <a:gdLst>
              <a:gd name="textAreaLeft" fmla="*/ 0 w 1876680"/>
              <a:gd name="textAreaRight" fmla="*/ 1877040 w 18766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Biologie médic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0"/>
          <p:cNvSpPr/>
          <p:nvPr/>
        </p:nvSpPr>
        <p:spPr>
          <a:xfrm>
            <a:off x="1376280" y="4599000"/>
            <a:ext cx="2287800" cy="183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Bucco-denta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0"/>
          <p:cNvSpPr/>
          <p:nvPr/>
        </p:nvSpPr>
        <p:spPr>
          <a:xfrm>
            <a:off x="1360440" y="2421000"/>
            <a:ext cx="1870200" cy="315720"/>
          </a:xfrm>
          <a:custGeom>
            <a:avLst/>
            <a:gdLst>
              <a:gd name="textAreaLeft" fmla="*/ 0 w 1870200"/>
              <a:gd name="textAreaRight" fmla="*/ 1870560 w 187020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héma d’Organisation médico soci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0"/>
          <p:cNvSpPr/>
          <p:nvPr/>
        </p:nvSpPr>
        <p:spPr>
          <a:xfrm>
            <a:off x="1360440" y="2932200"/>
            <a:ext cx="6559560" cy="290520"/>
          </a:xfrm>
          <a:custGeom>
            <a:avLst/>
            <a:gdLst>
              <a:gd name="textAreaLeft" fmla="*/ 0 w 6559560"/>
              <a:gd name="textAreaRight" fmla="*/ 6559920 w 65595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héma d’Organisation des soins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3120" y="4964040"/>
            <a:ext cx="1452600" cy="23508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1338120" y="808200"/>
            <a:ext cx="432000" cy="2156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uill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770120" y="816120"/>
            <a:ext cx="30960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oû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2079720" y="81612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73"/>
          <p:cNvSpPr/>
          <p:nvPr/>
        </p:nvSpPr>
        <p:spPr>
          <a:xfrm>
            <a:off x="2098800" y="1704960"/>
            <a:ext cx="765000" cy="289080"/>
          </a:xfrm>
          <a:custGeom>
            <a:avLst/>
            <a:gdLst>
              <a:gd name="textAreaLeft" fmla="*/ 0 w 765000"/>
              <a:gd name="textAreaRight" fmla="*/ 765360 w 76500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alida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me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8"/>
          <p:cNvSpPr/>
          <p:nvPr/>
        </p:nvSpPr>
        <p:spPr>
          <a:xfrm>
            <a:off x="6966000" y="10303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8"/>
          <p:cNvSpPr/>
          <p:nvPr/>
        </p:nvSpPr>
        <p:spPr>
          <a:xfrm flipV="1">
            <a:off x="5454720" y="100116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73"/>
          <p:cNvSpPr/>
          <p:nvPr/>
        </p:nvSpPr>
        <p:spPr>
          <a:xfrm>
            <a:off x="2913120" y="1663560"/>
            <a:ext cx="266688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ertation non-officiell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3120" y="4863960"/>
            <a:ext cx="1314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ertation officiel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05200" y="4994280"/>
            <a:ext cx="317520" cy="287280"/>
          </a:xfrm>
          <a:prstGeom prst="rect">
            <a:avLst/>
          </a:prstGeom>
          <a:solidFill>
            <a:srgbClr val="ff3300"/>
          </a:solidFill>
          <a:ln w="25560">
            <a:solidFill>
              <a:srgbClr val="003399"/>
            </a:solidFill>
            <a:miter/>
          </a:ln>
          <a:effectLst>
            <a:outerShdw dist="17819" dir="2700000" blurRad="0" rotWithShape="0">
              <a:srgbClr val="00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97560" y="4964040"/>
            <a:ext cx="5475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rrêté du D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0"/>
          <p:cNvSpPr/>
          <p:nvPr/>
        </p:nvSpPr>
        <p:spPr>
          <a:xfrm>
            <a:off x="5580000" y="3602160"/>
            <a:ext cx="2436840" cy="14760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PDS-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40"/>
          <p:cNvSpPr/>
          <p:nvPr/>
        </p:nvSpPr>
        <p:spPr>
          <a:xfrm>
            <a:off x="5580000" y="4038480"/>
            <a:ext cx="2436840" cy="20484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érimentations Volet Biologie médic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0"/>
          <p:cNvSpPr/>
          <p:nvPr/>
        </p:nvSpPr>
        <p:spPr>
          <a:xfrm>
            <a:off x="5575320" y="4335480"/>
            <a:ext cx="2441520" cy="158760"/>
          </a:xfrm>
          <a:custGeom>
            <a:avLst/>
            <a:gdLst>
              <a:gd name="textAreaLeft" fmla="*/ 0 w 2441520"/>
              <a:gd name="textAreaRight" fmla="*/ 2441880 w 2441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69120" bIns="691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érimentations Volet Soins  déten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0"/>
          <p:cNvSpPr/>
          <p:nvPr/>
        </p:nvSpPr>
        <p:spPr>
          <a:xfrm>
            <a:off x="5580000" y="4599000"/>
            <a:ext cx="2436840" cy="18396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érimentations Volet Bucco-denta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73"/>
          <p:cNvSpPr/>
          <p:nvPr/>
        </p:nvSpPr>
        <p:spPr>
          <a:xfrm>
            <a:off x="1071720" y="1046160"/>
            <a:ext cx="607680" cy="289080"/>
          </a:xfrm>
          <a:custGeom>
            <a:avLst/>
            <a:gdLst>
              <a:gd name="textAreaLeft" fmla="*/ 0 w 607680"/>
              <a:gd name="textAreaRight" fmla="*/ 608040 w 60768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8f8f8"/>
          </a:solidFill>
          <a:ln w="936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93366"/>
                </a:solidFill>
                <a:latin typeface="Arial"/>
                <a:ea typeface="ＭＳ Ｐゴシック"/>
              </a:rPr>
              <a:t>Concert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93366"/>
                </a:solidFill>
                <a:latin typeface="Arial"/>
                <a:ea typeface="ＭＳ Ｐゴシック"/>
              </a:rPr>
              <a:t>PS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0"/>
          <p:cNvSpPr/>
          <p:nvPr/>
        </p:nvSpPr>
        <p:spPr>
          <a:xfrm>
            <a:off x="1376280" y="5354640"/>
            <a:ext cx="3340080" cy="142920"/>
          </a:xfrm>
          <a:custGeom>
            <a:avLst/>
            <a:gdLst>
              <a:gd name="textAreaLeft" fmla="*/ 0 w 3340080"/>
              <a:gd name="textAreaRight" fmla="*/ 3340440 w 33400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3280" bIns="532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A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40"/>
          <p:cNvSpPr/>
          <p:nvPr/>
        </p:nvSpPr>
        <p:spPr>
          <a:xfrm>
            <a:off x="2195640" y="5621400"/>
            <a:ext cx="1468440" cy="287280"/>
          </a:xfrm>
          <a:custGeom>
            <a:avLst/>
            <a:gdLst>
              <a:gd name="textAreaLeft" fmla="*/ 0 w 1468440"/>
              <a:gd name="textAreaRight" fmla="*/ 1468800 w 1468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ＭＳ Ｐゴシック"/>
              </a:rPr>
              <a:t>Conce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ＭＳ Ｐゴシック"/>
              </a:rPr>
              <a:t>officie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40"/>
          <p:cNvSpPr/>
          <p:nvPr/>
        </p:nvSpPr>
        <p:spPr>
          <a:xfrm>
            <a:off x="4119480" y="5597640"/>
            <a:ext cx="531720" cy="277560"/>
          </a:xfrm>
          <a:custGeom>
            <a:avLst/>
            <a:gdLst>
              <a:gd name="textAreaLeft" fmla="*/ 0 w 531720"/>
              <a:gd name="textAreaRight" fmla="*/ 532080 w 53172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Arrêté du D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40"/>
          <p:cNvSpPr/>
          <p:nvPr/>
        </p:nvSpPr>
        <p:spPr>
          <a:xfrm>
            <a:off x="4365720" y="5908680"/>
            <a:ext cx="631800" cy="287280"/>
          </a:xfrm>
          <a:custGeom>
            <a:avLst/>
            <a:gdLst>
              <a:gd name="textAreaLeft" fmla="*/ 0 w 631800"/>
              <a:gd name="textAreaRight" fmla="*/ 632160 w 6318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ＭＳ Ｐゴシック"/>
              </a:rPr>
              <a:t>Valid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ＭＳ Ｐゴシック"/>
              </a:rPr>
              <a:t>officie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"/>
          <p:cNvSpPr/>
          <p:nvPr/>
        </p:nvSpPr>
        <p:spPr>
          <a:xfrm>
            <a:off x="2913120" y="1211400"/>
            <a:ext cx="0" cy="38876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8"/>
          <p:cNvSpPr/>
          <p:nvPr/>
        </p:nvSpPr>
        <p:spPr>
          <a:xfrm>
            <a:off x="5022720" y="10447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8000" y="5640480"/>
            <a:ext cx="287640" cy="1825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14400" y="5640480"/>
            <a:ext cx="7606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N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2720" y="6254640"/>
            <a:ext cx="719280" cy="2476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97520" y="6208560"/>
            <a:ext cx="86976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ertation                non officie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6"/>
          <p:cNvSpPr/>
          <p:nvPr/>
        </p:nvSpPr>
        <p:spPr>
          <a:xfrm flipV="1">
            <a:off x="3139920" y="101520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3"/>
          <p:cNvSpPr/>
          <p:nvPr/>
        </p:nvSpPr>
        <p:spPr>
          <a:xfrm>
            <a:off x="3257640" y="1325520"/>
            <a:ext cx="0" cy="4967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"/>
          <p:cNvSpPr/>
          <p:nvPr/>
        </p:nvSpPr>
        <p:spPr>
          <a:xfrm>
            <a:off x="8623440" y="120024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1"/>
          <p:cNvSpPr/>
          <p:nvPr/>
        </p:nvSpPr>
        <p:spPr>
          <a:xfrm flipV="1">
            <a:off x="8505720" y="101520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10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6280" y="2754360"/>
            <a:ext cx="6640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80960" y="4861080"/>
            <a:ext cx="66358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16840" y="273672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74840" y="274968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 SROM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99640" y="1267920"/>
            <a:ext cx="74170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 objectifs stratégiqu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aniser et structurer une offre médico-sociale de proximité, accessible, adaptée et diversifié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éliorer la qualité de la prise en charge et de l’accompagnement pour garantir l’adéquation du parcours de vie et de soins aux besoins des person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ur trois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personnes handicapé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personnes âgé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personnes en difficultés spécif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articulation avec les autres démarches de pla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 SROMS n’a pas vocation, à lui seul, à apporter, toutes les réponses aux problématiques qu’il va aborder.  Organisation nécessaire de la transversalité et la synergie avec les autres volets des schémas PRS ainsi qu’avec les schémas département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Méthodologie et calendrier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6000" y="1267920"/>
            <a:ext cx="741672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éthod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comité de pilotage du SRO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 groupes de travail au niveau régional dont 4 pour les personnes handicapé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mpagnement précoce du handic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mpagnement à la scolarisation et à l ’insertion professionnel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icap psychiq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onnes handicapées vieillissa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end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vaux régionaux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rs – juin 20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édaction du SROSM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été 20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ésentation aux partenaires région et départemen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utomne 2011, pour Paris le 18/11/20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érimentation en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rêté du DGARS (fin déc. 2012) après avis de la CR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Le volet « Personnes Handicapées » du SROMS</a:t>
            </a:r>
            <a:r>
              <a:rPr b="1" lang="en-US" sz="25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9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Objectif I. Organiser et structurer une offre médico-sociale adaptée et de proximité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structurer l’offre pour réduire les inégalités territoriales et opérer des redéploiements de ressour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avoriser les coopérations et les partenariats entre les acteurs concernés (ambulatoire, hospitalier, social, médico-soc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nforcer une logique d’efficience :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fficience de la dépe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fficience dans le positionnement de l’établissement dans la filiè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Objectif II. Améliorer la qualité de l’accompagnement pour assurer un parcours de vie et de soins répondant aux besoins des personn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rganiser et renforcer la prévention tout au long du parcours de v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avoriser l’accès et le maintien au logement des person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méliorer le soutien aux aidants (formation, reconnaissance de leur action, prise en compte de leur sant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méliorer la qualité des prestations pour garantir une prise en charge adaptée aux besoins et à la diversité des publ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velopper une démarche de bientrai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aloriser les métiers du médico-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5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objectif n° 1 : Organiser et structurer une offre médico-sociale de proximité, accessible, adaptée et diversifiée</a:t>
            </a:r>
            <a:r>
              <a:rPr b="1" lang="en-US" sz="25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532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fs opératio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1-1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ugmenter, restructurer et diversifier l’offre d’accompagnement des personnes handicapé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1-2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avoriser les actions innovantes et expérimentales pour être au plus près des besoins des personnes handicapées et de leur entour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1-3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endre en compte de façon coordonnée les problématiques du logement, de l’habitat et du déplacement pour faciliter le quotidien des personnes handicapées en perte d’autonomie (Fiche concernant les 3 populations PA-PH-PD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fs opérationnels sur des problématiques spécif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poser des organisations innovantes d’information et de suivi de prises en charge des personnes handicapées psychique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compagnement à la perte d’autonomie (PHV : personnes handicapées vieillissante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15328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8bc53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bc53f"/>
                </a:solidFill>
                <a:latin typeface="Arial"/>
              </a:rPr>
              <a:t>objectif n° 2 : Améliorer la qualité de la prise en charge et de l’accompagnement pour garantir l’adéquation du parcours de vie et de soins aux besoins des personnes</a:t>
            </a:r>
            <a:br>
              <a:rPr sz="2000"/>
            </a:b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803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fs opérationnel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1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céder à l’évaluation des personnes tout au long du parcours de vi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2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évelopper la formalisation des partenariats et des coopérations entre les différents acteu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évelopper la prévention et l’accès aux soins tout au long du parcours de vi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4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avoriser l’insertion professionnelle de la personne handicapée tout au long du parcours de vi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5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Efficience de la dépense dans le secteur du handicap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BOUCOMONT</cp:lastModifiedBy>
  <dcterms:modified xsi:type="dcterms:W3CDTF">2011-11-16T09:17:39Z</dcterms:modified>
  <cp:revision>276</cp:revision>
  <dc:subject/>
  <dc:title>Présentation PowerPoint</dc:title>
</cp:coreProperties>
</file>