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BB5B-A925-4483-AC6F-EC0058C0438E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28746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Conférence de territoire 75</a:t>
            </a:r>
            <a:br>
              <a:rPr sz="2900"/>
            </a:b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présentation calendrier PR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50880" y="4268880"/>
            <a:ext cx="56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51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15 septembr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86200" y="6386400"/>
            <a:ext cx="184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fr-FR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84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  <p:cxnSp>
        <p:nvCxnSpPr>
          <p:cNvPr id="87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MEDICO SOCIA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ORGANISATION DES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E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CHEMAS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URP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S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P 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 de surveillanc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territoriaux + CL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IAC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pluriannuel de gestion du risqu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mm Rég GD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P : commission permanent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S : commission spécialisé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C : commission de coordin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T : conférence de terri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dt d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s générau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S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 télémédecin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. Régional d’Accès à la prévention et aux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2d2db9"/>
                </a:solidFill>
                <a:latin typeface="Arial"/>
              </a:rPr>
              <a:t>Les 8 principes d’actions du PSRS</a:t>
            </a: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125360"/>
            <a:ext cx="8400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8589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vention est préférable au soi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éduction des inégalités sociales et territoriales de santé passe par une mobilisation de tous les acteu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ction de la population impose une vigilance renforcée face aux risques sanitair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tructuration de l’offre de santé doit être réellement subordonnée aux besoin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hérence des parcours de santé des usagers requiert une approche intégrée entre prévention, soin et prise en charge médico-soci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mélioration de l’efficience et la garantie de la qualité des prises en charge vont de pair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démocratie sanitaire effective passe par le développement de l’observation et de l’information en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réativité des acteurs locaux est un levier majeur du chang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 </a:t>
            </a: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Le calendrier du PRS                                        </a:t>
            </a:r>
            <a:r>
              <a:rPr b="0" i="1" lang="fr-FR" sz="1400" spc="-1" strike="noStrike">
                <a:solidFill>
                  <a:srgbClr val="969696"/>
                </a:solidFill>
                <a:latin typeface="Arial"/>
                <a:ea typeface="Arial"/>
              </a:rPr>
              <a:t>Document de travail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5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4" name="AutoShape 70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8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1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5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8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2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Valid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6" name="Rectangle 92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8" name="Rectangle 94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9" name="Text Box 95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0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00"/>
          <a:ext cx="9144000" cy="5867280"/>
        </p:xfrm>
        <a:graphic>
          <a:graphicData uri="http://schemas.openxmlformats.org/drawingml/2006/table">
            <a:tbl>
              <a:tblPr/>
              <a:tblGrid>
                <a:gridCol w="900000"/>
                <a:gridCol w="541440"/>
                <a:gridCol w="476280"/>
                <a:gridCol w="536400"/>
                <a:gridCol w="489240"/>
                <a:gridCol w="477720"/>
                <a:gridCol w="371520"/>
                <a:gridCol w="355680"/>
                <a:gridCol w="357120"/>
                <a:gridCol w="355680"/>
                <a:gridCol w="291960"/>
                <a:gridCol w="461880"/>
                <a:gridCol w="420840"/>
                <a:gridCol w="422280"/>
                <a:gridCol w="379440"/>
                <a:gridCol w="436320"/>
                <a:gridCol w="333360"/>
                <a:gridCol w="312840"/>
                <a:gridCol w="380880"/>
                <a:gridCol w="487440"/>
                <a:gridCol w="355680"/>
              </a:tblGrid>
              <a:tr h="200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   non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non 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êté du     DG AR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S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erences         des territoir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Mé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régionale 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fet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 Génér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AMU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s depart de l'ordre des médec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ion paritaire région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mblée pléniè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Pré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Offre des so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      Me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usagé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s régionaux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DE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MEDICOSOCI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OS: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hospitalier *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S-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ambulato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it°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ucco-denta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iologie médic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Soins aux détenu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DS-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s Régionaux 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IA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sep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 d'avi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élé-médecin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366"/>
          <p:cNvSpPr/>
          <p:nvPr/>
        </p:nvSpPr>
        <p:spPr>
          <a:xfrm>
            <a:off x="2199240" y="6453360"/>
            <a:ext cx="466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S : proposition du chemin critique de consultations officielles et non officiell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15:03Z</dcterms:created>
  <dc:creator>Service Info</dc:creator>
  <dc:description/>
  <dc:language>en-US</dc:language>
  <cp:lastModifiedBy>pia</cp:lastModifiedBy>
  <dcterms:modified xsi:type="dcterms:W3CDTF">2011-10-03T03:18:57Z</dcterms:modified>
  <cp:revision>94</cp:revision>
  <dc:subject/>
  <dc:title>Présentation PowerPoint</dc:title>
</cp:coreProperties>
</file>