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D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dt" idx="2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4D19AAF8-4CD7-4FE5-9F8E-D5A9A3ED3A01}" type="datetime">
              <a:rPr b="0" lang="fr-FR" sz="1200" spc="-1" strike="noStrike">
                <a:solidFill>
                  <a:srgbClr val="000000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 type="ftr" idx="3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6"/>
          <p:cNvSpPr>
            <a:spLocks noGrp="1"/>
          </p:cNvSpPr>
          <p:nvPr>
            <p:ph type="sldNum" idx="4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D8454BE-091E-477F-B937-70DCE232DD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1095942-823B-4033-8C12-54E45F1DD2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B30B1EA-1EB2-4782-A695-B93B7459877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BFBE5-A0B8-4633-A009-989BC8156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89DB9-AECC-40E2-A330-87630C2B08B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FC32C-1115-496F-B267-B3340BC6FB7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B17B4-382F-4630-8EF1-DA1D5DFE4EF8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C5019-5CA2-4D2F-A5E4-DE013EC775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6FDCF-E2CC-47FE-B355-9B99B4354DC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25D0E-4FF5-4CD6-8AF0-2A6DD1FF48A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47097-AC6C-406D-A9F9-084C07E1C47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663B1-1069-4973-943C-A51B7C9BB1C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6D5B0-48FA-40FB-A07F-B2E545C98EE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BA8F0-5594-4871-8BC5-E4E06DD75F4E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311D7-304E-4625-80CF-26CDFD38F2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1476000" y="115560"/>
            <a:ext cx="721044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285840" y="3801960"/>
            <a:ext cx="84009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90360" y="98100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28584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90360" y="3801960"/>
            <a:ext cx="40993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12660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67360" y="98100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28584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12660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67360" y="3801960"/>
            <a:ext cx="270504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6" descr="Logo ARS.png"/>
          <p:cNvPicPr/>
          <p:nvPr/>
        </p:nvPicPr>
        <p:blipFill>
          <a:blip r:embed="rId2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Connecteur droit 8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ZoneTexte 9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76360" y="115560"/>
            <a:ext cx="61200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8773920" y="6482880"/>
            <a:ext cx="369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91798-C72B-4DC7-838F-A83C3B1F0B65}" type="slidenum">
              <a:rPr b="0" lang="fr-FR" sz="9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82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83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25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26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68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69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11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12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47628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9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2448000" cy="1409760"/>
          </a:xfrm>
          <a:prstGeom prst="rect">
            <a:avLst/>
          </a:prstGeom>
          <a:ln w="0">
            <a:noFill/>
          </a:ln>
        </p:spPr>
      </p:pic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8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59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595" name="Connecteur droit 5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Connecteur droit 6"/>
          <p:cNvSpPr/>
          <p:nvPr/>
        </p:nvSpPr>
        <p:spPr>
          <a:xfrm>
            <a:off x="1403280" y="142920"/>
            <a:ext cx="0" cy="6215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ZoneTexte 7"/>
          <p:cNvSpPr/>
          <p:nvPr/>
        </p:nvSpPr>
        <p:spPr>
          <a:xfrm>
            <a:off x="142920" y="590400"/>
            <a:ext cx="118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Cellule Performan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4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4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476000" y="836280"/>
            <a:ext cx="7210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24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167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168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10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11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53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54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296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297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6432480"/>
            <a:ext cx="9144000" cy="381240"/>
          </a:xfrm>
          <a:prstGeom prst="rect">
            <a:avLst/>
          </a:prstGeom>
          <a:ln w="0">
            <a:noFill/>
          </a:ln>
        </p:spPr>
      </p:pic>
      <p:pic>
        <p:nvPicPr>
          <p:cNvPr id="339" name="Image 6" descr="Logo ARS.png"/>
          <p:cNvPicPr/>
          <p:nvPr/>
        </p:nvPicPr>
        <p:blipFill>
          <a:blip r:embed="rId3"/>
          <a:stretch/>
        </p:blipFill>
        <p:spPr>
          <a:xfrm>
            <a:off x="214200" y="142920"/>
            <a:ext cx="990720" cy="500040"/>
          </a:xfrm>
          <a:prstGeom prst="rect">
            <a:avLst/>
          </a:prstGeom>
          <a:ln w="0">
            <a:noFill/>
          </a:ln>
        </p:spPr>
      </p:pic>
      <p:sp>
        <p:nvSpPr>
          <p:cNvPr id="340" name="Connecteur droit 7"/>
          <p:cNvSpPr/>
          <p:nvPr/>
        </p:nvSpPr>
        <p:spPr>
          <a:xfrm>
            <a:off x="285840" y="785880"/>
            <a:ext cx="85723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Connecteur droit 8"/>
          <p:cNvSpPr/>
          <p:nvPr/>
        </p:nvSpPr>
        <p:spPr>
          <a:xfrm>
            <a:off x="1403280" y="142920"/>
            <a:ext cx="0" cy="6937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oneTexte 9"/>
          <p:cNvSpPr/>
          <p:nvPr/>
        </p:nvSpPr>
        <p:spPr>
          <a:xfrm>
            <a:off x="36360" y="590400"/>
            <a:ext cx="1332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000000"/>
                </a:solidFill>
                <a:latin typeface="Calibri"/>
              </a:rPr>
              <a:t>Direction générale adjoi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Calibri"/>
              </a:rPr>
              <a:t>Click to edit the title text format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2626920" y="2130120"/>
            <a:ext cx="59403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2395"/>
                </a:solidFill>
                <a:latin typeface="Calibri"/>
              </a:rPr>
              <a:t>Le contrat pluriannuel d’objectifs et de moyens </a:t>
            </a:r>
            <a:r>
              <a:rPr b="1" lang="fr-FR" sz="2500" spc="-1" strike="noStrike">
                <a:solidFill>
                  <a:srgbClr val="002395"/>
                </a:solidFill>
                <a:latin typeface="Calibri"/>
              </a:rPr>
              <a:t> de l’ARS d’Ile de France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subTitle"/>
          </p:nvPr>
        </p:nvSpPr>
        <p:spPr>
          <a:xfrm>
            <a:off x="3203640" y="3886200"/>
            <a:ext cx="676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Conférence de territoire 7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7ab800"/>
                </a:solidFill>
                <a:latin typeface="Calibri"/>
              </a:rPr>
              <a:t>du 15 septembre 201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7"/>
          <p:cNvSpPr/>
          <p:nvPr/>
        </p:nvSpPr>
        <p:spPr>
          <a:xfrm>
            <a:off x="8582400" y="6475320"/>
            <a:ext cx="8344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608A-E869-44FD-BB7D-66C5C71C8431}" type="slidenum">
              <a:rPr b="1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/>
          </p:nvPr>
        </p:nvSpPr>
        <p:spPr>
          <a:xfrm>
            <a:off x="285840" y="609480"/>
            <a:ext cx="8400960" cy="577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Le CPOM, c’est quoi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l que défini dans la Loi, il fixe les objectifs chiffrés pluriannuels 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s ARS sur leurs métiers et leur fonctionnement inter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l s’agit d’un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Calibri"/>
              </a:rPr>
              <a:t>contrat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gné entre l’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Eta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, représenté par le ministr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e la santé et des sports et le ministre du travail, de la solidarité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t de la fonction publique et le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GARS.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la période allant d’avril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2010 à 2013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Un CPOM, pour quoi faire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la cohérence du projet de l’ARS Ile de France par rapport aux priorités de santé définies au niveau national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arantir de l’engagement de l’agence vis-à-vis de la population francilienn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cliner les orientations stratégique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-291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Définir des moyens de l’agenc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91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285840" y="380520"/>
            <a:ext cx="8400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Comment est articulé le CPOM de l’ARS d’Ile de France ?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’est un document unique contractuel comprenant les élément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uivants 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éambule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1 : Objectifs et indicateurs pluriannuels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2 : Objectifs de mise en place et de management retenus a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3 : Moyens des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4 : Modalités de suivi et d’évaluation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5 : Dispositions relatives à l’amélioration continue du contrat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rticle 6 : Annexe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Zoom sur l’article 1 : objectifs et indicateurs pluriannuels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285840" y="981000"/>
            <a:ext cx="84009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3 priorités nationales qui se déclinent en 9 objectifs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Améliorer l’espérance de vie en bonne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a mortalité prématurée évit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a promotion de la santé et la prévention des maladi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nforcer l’efficacité du dispositif de veille et de sécurité sanita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Promouvoir l’égalité devant la santé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éduire les inégalités territoriales et sociales de santé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</a:rPr>
              <a:t>Développer un système de qualité, accessible et efficien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méliorer la qualité et l’efficience des soins et des services médico-socia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Adapter l’offre de soins et des services médico-sociaux aux beso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Optimiser l’organisation de la permanence des soins ambulatoir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Maitriser les dépenses de santé et rétablir durablement l’équilibre financier des EP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Développer les parcours de soins et de vie des personnes âgées et des personnes handicapé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et en indicateurs communs ou spécifiques aux ARS</a:t>
            </a:r>
            <a:endParaRPr b="1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Line 2"/>
          <p:cNvSpPr/>
          <p:nvPr/>
        </p:nvSpPr>
        <p:spPr>
          <a:xfrm flipV="1">
            <a:off x="3490920" y="155736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3"/>
          <p:cNvSpPr/>
          <p:nvPr/>
        </p:nvSpPr>
        <p:spPr>
          <a:xfrm>
            <a:off x="3490920" y="2852640"/>
            <a:ext cx="1655640" cy="1008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4"/>
          <p:cNvSpPr/>
          <p:nvPr/>
        </p:nvSpPr>
        <p:spPr>
          <a:xfrm flipH="1">
            <a:off x="2555640" y="2852640"/>
            <a:ext cx="93492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5"/>
          <p:cNvSpPr/>
          <p:nvPr/>
        </p:nvSpPr>
        <p:spPr>
          <a:xfrm>
            <a:off x="971640" y="907920"/>
            <a:ext cx="548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1. RÉDUIRE LES INÉGALITÉS SOCIALES ET TERRITORIALES DE S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6"/>
          <p:cNvSpPr/>
          <p:nvPr/>
        </p:nvSpPr>
        <p:spPr>
          <a:xfrm>
            <a:off x="1258920" y="3357720"/>
            <a:ext cx="331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2. AMÉLIORER LA QUALITÉ DU SERVICE RENDU PAR LE SYSTÈM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7"/>
          <p:cNvSpPr/>
          <p:nvPr/>
        </p:nvSpPr>
        <p:spPr>
          <a:xfrm>
            <a:off x="5219640" y="342900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0000"/>
                </a:solidFill>
                <a:latin typeface="Arial"/>
              </a:rPr>
              <a:t>3. RENFORCER L’EFFICIENCE DE L’ORGANISATION DE L’OFFRE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8"/>
          <p:cNvSpPr/>
          <p:nvPr/>
        </p:nvSpPr>
        <p:spPr>
          <a:xfrm>
            <a:off x="3851280" y="1125360"/>
            <a:ext cx="5724360" cy="19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1-2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évalence de l’obésité et du surpoids parmi les enfants à l’entrée en C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2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articipation au dépistage organisé du cancer colorectal chez les 50 à 74 ans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couverture vaccinale ROR des enfants de 24 mo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2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infant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 la population vivant dans un bassin de vie dont la densité médicale de médeci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généralistes est inférieure à 30% de la moyenne nation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logements ayant fait l'objet d'une évaluation sanitaire ayant conduit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à une procédure d'insalubrité au titre du CS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icipation au dépistage organisé du cancer du sein pour les femmes de 50 à 74 a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contrats locaux de santé signés au titre l’Art. L.1434 (CSP) sur des territoire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rioritaires urbains (CUCS, ZEP) ou ruraux (isolé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4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Ecarts intra régionaux d’équipements en ESMS mesurés à partir de la dépens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d’assurance maladie rapportée à la population cible (personnes handicapées de 0 à 59 an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et personnes âgées de 75 ans et +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9"/>
          <p:cNvSpPr/>
          <p:nvPr/>
        </p:nvSpPr>
        <p:spPr>
          <a:xfrm>
            <a:off x="0" y="3813120"/>
            <a:ext cx="4714920" cy="27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mortalité prématurée évita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1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décès par suicide pour 100 000 hab. standardisé par â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1</a:t>
            </a: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es plans nationaux de veille et sécurité sanitaire déclinés au niveau régional et ayant fait l’objet d’une révision dans l’anné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3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% d’unités de distribution d’eau alimentant en eau potable plus de 5 000 hab., présentant de manière récurrente des dépassements des limites de quali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1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établissements de santé certifiés avec réserves (majeures ou non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2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% d’ESMS ayant fait l’objet d’une évaluation exter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6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journées en HAD / 10 000 habitant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6.7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Nombre de structures d’exercice collectif en milieu ambulatoire / 100 000 hab. (maisons de santé, centres de santé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7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Part des patients relevant du niveau 1 de la CCMU (classification clinique des malades des urgences) dans les passages aux urgences pendant la P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en unités spécifiques pour malades Alzheimer (UHR-PASA)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9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Taux de réalisation des places pour enfants et adultes atteints d’autisme ou de TED au regard de l’objectif régio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0"/>
          <p:cNvSpPr/>
          <p:nvPr/>
        </p:nvSpPr>
        <p:spPr>
          <a:xfrm>
            <a:off x="4643280" y="4076640"/>
            <a:ext cx="4969080" cy="20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5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éalisation du programme pluriannuel régional de gestion du risque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recours à la chirurgie (20 actes marqueurs) de la population domicili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laces installées sur places financées en ESMS par 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3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services dans l’offre globale médico-soci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e pratique de la chirurgie ambulatoire (17 gestes marqueur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6.5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Part des patients traités par dialyse péritonéale / part des patients dialysé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c0504d"/>
                </a:solidFill>
                <a:latin typeface="Arial"/>
              </a:rPr>
              <a:t>Fiche 8.1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 Montant du déficit cumulé brut des établissements publics de sant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2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Volume d’activité des établissements hospitaliers en MCO en nombre de séjou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3 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Taux d’établissements publics dont le ratio ICR (indice de coût relatif) de chirurgie par salle d’interventions chirurgicales est supérieur à la médiane nationale 200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395"/>
                </a:solidFill>
                <a:latin typeface="Arial"/>
              </a:rPr>
              <a:t>Fiche 8.4</a:t>
            </a: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Nombre d’établissements dont la marge brute d’exploitation est supérieure à 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11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2" descr=""/>
          <p:cNvPicPr/>
          <p:nvPr/>
        </p:nvPicPr>
        <p:blipFill>
          <a:blip r:embed="rId2"/>
          <a:stretch/>
        </p:blipFill>
        <p:spPr>
          <a:xfrm>
            <a:off x="2482920" y="1484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13" descr=""/>
          <p:cNvPicPr/>
          <p:nvPr/>
        </p:nvPicPr>
        <p:blipFill>
          <a:blip r:embed="rId3"/>
          <a:stretch/>
        </p:blipFill>
        <p:spPr>
          <a:xfrm>
            <a:off x="219384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2" name="Picture 14" descr=""/>
          <p:cNvPicPr/>
          <p:nvPr/>
        </p:nvPicPr>
        <p:blipFill>
          <a:blip r:embed="rId4"/>
          <a:stretch/>
        </p:blipFill>
        <p:spPr>
          <a:xfrm>
            <a:off x="1906560" y="19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3" name="Picture 15" descr=""/>
          <p:cNvPicPr/>
          <p:nvPr/>
        </p:nvPicPr>
        <p:blipFill>
          <a:blip r:embed="rId5"/>
          <a:stretch/>
        </p:blipFill>
        <p:spPr>
          <a:xfrm>
            <a:off x="2698920" y="1413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4" name="Picture 16" descr=""/>
          <p:cNvPicPr/>
          <p:nvPr/>
        </p:nvPicPr>
        <p:blipFill>
          <a:blip r:embed="rId6"/>
          <a:stretch/>
        </p:blipFill>
        <p:spPr>
          <a:xfrm>
            <a:off x="2482920" y="21319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5" name="Picture 17" descr=""/>
          <p:cNvPicPr/>
          <p:nvPr/>
        </p:nvPicPr>
        <p:blipFill>
          <a:blip r:embed="rId7"/>
          <a:stretch/>
        </p:blipFill>
        <p:spPr>
          <a:xfrm>
            <a:off x="2266920" y="1700280"/>
            <a:ext cx="503280" cy="3664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8" descr=""/>
          <p:cNvPicPr/>
          <p:nvPr/>
        </p:nvPicPr>
        <p:blipFill>
          <a:blip r:embed="rId8"/>
          <a:stretch/>
        </p:blipFill>
        <p:spPr>
          <a:xfrm>
            <a:off x="8244000" y="306864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19" descr=""/>
          <p:cNvPicPr/>
          <p:nvPr/>
        </p:nvPicPr>
        <p:blipFill>
          <a:blip r:embed="rId9"/>
          <a:stretch/>
        </p:blipFill>
        <p:spPr>
          <a:xfrm>
            <a:off x="8244000" y="342900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0" descr=""/>
          <p:cNvPicPr/>
          <p:nvPr/>
        </p:nvPicPr>
        <p:blipFill>
          <a:blip r:embed="rId10"/>
          <a:stretch/>
        </p:blipFill>
        <p:spPr>
          <a:xfrm>
            <a:off x="7954920" y="3716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1" descr=""/>
          <p:cNvPicPr/>
          <p:nvPr/>
        </p:nvPicPr>
        <p:blipFill>
          <a:blip r:embed="rId11"/>
          <a:stretch/>
        </p:blipFill>
        <p:spPr>
          <a:xfrm>
            <a:off x="8531280" y="3933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0" name="Picture 22" descr=""/>
          <p:cNvPicPr/>
          <p:nvPr/>
        </p:nvPicPr>
        <p:blipFill>
          <a:blip r:embed="rId12"/>
          <a:stretch/>
        </p:blipFill>
        <p:spPr>
          <a:xfrm>
            <a:off x="8531280" y="328464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3" descr=""/>
          <p:cNvPicPr/>
          <p:nvPr/>
        </p:nvPicPr>
        <p:blipFill>
          <a:blip r:embed="rId13"/>
          <a:stretch/>
        </p:blipFill>
        <p:spPr>
          <a:xfrm>
            <a:off x="8244000" y="371628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24" descr=""/>
          <p:cNvPicPr/>
          <p:nvPr/>
        </p:nvPicPr>
        <p:blipFill>
          <a:blip r:embed="rId14"/>
          <a:stretch/>
        </p:blipFill>
        <p:spPr>
          <a:xfrm>
            <a:off x="8459640" y="3573360"/>
            <a:ext cx="503280" cy="36684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25" descr=""/>
          <p:cNvPicPr/>
          <p:nvPr/>
        </p:nvPicPr>
        <p:blipFill>
          <a:blip r:embed="rId15"/>
          <a:stretch/>
        </p:blipFill>
        <p:spPr>
          <a:xfrm>
            <a:off x="538200" y="2546280"/>
            <a:ext cx="649080" cy="47160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26" descr=""/>
          <p:cNvPicPr/>
          <p:nvPr/>
        </p:nvPicPr>
        <p:blipFill>
          <a:blip r:embed="rId16"/>
          <a:stretch/>
        </p:blipFill>
        <p:spPr>
          <a:xfrm>
            <a:off x="1187280" y="2925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27" descr=""/>
          <p:cNvPicPr/>
          <p:nvPr/>
        </p:nvPicPr>
        <p:blipFill>
          <a:blip r:embed="rId17"/>
          <a:stretch/>
        </p:blipFill>
        <p:spPr>
          <a:xfrm>
            <a:off x="538200" y="314172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8" descr=""/>
          <p:cNvPicPr/>
          <p:nvPr/>
        </p:nvPicPr>
        <p:blipFill>
          <a:blip r:embed="rId18"/>
          <a:stretch/>
        </p:blipFill>
        <p:spPr>
          <a:xfrm>
            <a:off x="611280" y="3068640"/>
            <a:ext cx="576000" cy="41904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29" descr=""/>
          <p:cNvPicPr/>
          <p:nvPr/>
        </p:nvPicPr>
        <p:blipFill>
          <a:blip r:embed="rId19"/>
          <a:stretch/>
        </p:blipFill>
        <p:spPr>
          <a:xfrm>
            <a:off x="118728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8" name="Picture 30" descr=""/>
          <p:cNvPicPr/>
          <p:nvPr/>
        </p:nvPicPr>
        <p:blipFill>
          <a:blip r:embed="rId20"/>
          <a:stretch/>
        </p:blipFill>
        <p:spPr>
          <a:xfrm>
            <a:off x="898560" y="2492280"/>
            <a:ext cx="576360" cy="419040"/>
          </a:xfrm>
          <a:prstGeom prst="rect">
            <a:avLst/>
          </a:prstGeom>
          <a:ln w="0">
            <a:noFill/>
          </a:ln>
        </p:spPr>
      </p:pic>
      <p:pic>
        <p:nvPicPr>
          <p:cNvPr id="679" name="Picture 31" descr=""/>
          <p:cNvPicPr/>
          <p:nvPr/>
        </p:nvPicPr>
        <p:blipFill>
          <a:blip r:embed="rId21"/>
          <a:stretch/>
        </p:blipFill>
        <p:spPr>
          <a:xfrm>
            <a:off x="1546200" y="2708280"/>
            <a:ext cx="503280" cy="366840"/>
          </a:xfrm>
          <a:prstGeom prst="rect">
            <a:avLst/>
          </a:prstGeom>
          <a:ln w="0">
            <a:noFill/>
          </a:ln>
        </p:spPr>
      </p:pic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37072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	</a:t>
            </a:r>
            <a:r>
              <a:rPr b="1" lang="fr-FR" sz="1600" spc="-1" strike="noStrike">
                <a:solidFill>
                  <a:srgbClr val="7ab8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1- Les orientations de l’ARS IDF et les indicateurs CPOM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1" name="Text Box 34"/>
          <p:cNvSpPr/>
          <p:nvPr/>
        </p:nvSpPr>
        <p:spPr>
          <a:xfrm>
            <a:off x="4714920" y="5877000"/>
            <a:ext cx="3529080" cy="65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ff"/>
                </a:solidFill>
                <a:latin typeface="Calibri"/>
              </a:rPr>
              <a:t>30 indicateurs</a:t>
            </a: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ff"/>
                </a:solidFill>
                <a:latin typeface="Calibri"/>
              </a:rPr>
              <a:t>(en bleu les indicateurs prioritaires pour l’ARS d’Id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à coins arrondis 5"/>
          <p:cNvSpPr/>
          <p:nvPr/>
        </p:nvSpPr>
        <p:spPr>
          <a:xfrm>
            <a:off x="971640" y="2789280"/>
            <a:ext cx="2663640" cy="10713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Travail du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GT IST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dentification de la grossesse/naissance comme vecteur d’inégalités sociales et territoriales de sant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AutoShape 2"/>
          <p:cNvSpPr/>
          <p:nvPr/>
        </p:nvSpPr>
        <p:spPr>
          <a:xfrm>
            <a:off x="108000" y="5084640"/>
            <a:ext cx="8983440" cy="649440"/>
          </a:xfrm>
          <a:prstGeom prst="rightArrow">
            <a:avLst>
              <a:gd name="adj1" fmla="val 50278"/>
              <a:gd name="adj2" fmla="val 757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476000" y="115560"/>
            <a:ext cx="7210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7ab800"/>
                </a:solidFill>
                <a:latin typeface="Calibri"/>
              </a:rPr>
              <a:t>Un exemple : réduire la mortalité infantile en Ile-de-France</a:t>
            </a:r>
            <a:endParaRPr b="1" lang="en-US" sz="2000" spc="-1" strike="noStrike">
              <a:solidFill>
                <a:srgbClr val="7ab800"/>
              </a:solidFill>
              <a:latin typeface="Calibri"/>
            </a:endParaRPr>
          </a:p>
        </p:txBody>
      </p:sp>
      <p:sp>
        <p:nvSpPr>
          <p:cNvPr id="685" name="Text Box 4"/>
          <p:cNvSpPr/>
          <p:nvPr/>
        </p:nvSpPr>
        <p:spPr>
          <a:xfrm>
            <a:off x="3924360" y="57164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Rédaction de la stratég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5"/>
          <p:cNvSpPr/>
          <p:nvPr/>
        </p:nvSpPr>
        <p:spPr>
          <a:xfrm>
            <a:off x="360360" y="5661000"/>
            <a:ext cx="2843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Diagnostic et identification des enje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12"/>
          <p:cNvSpPr/>
          <p:nvPr/>
        </p:nvSpPr>
        <p:spPr>
          <a:xfrm>
            <a:off x="358920" y="5408640"/>
            <a:ext cx="8065800" cy="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à coins arrondis 5"/>
          <p:cNvSpPr/>
          <p:nvPr/>
        </p:nvSpPr>
        <p:spPr>
          <a:xfrm>
            <a:off x="258840" y="1771560"/>
            <a:ext cx="2297160" cy="100656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Diagnostic : Identification de fortes inégalités territ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à coins arrondis 5"/>
          <p:cNvSpPr/>
          <p:nvPr/>
        </p:nvSpPr>
        <p:spPr>
          <a:xfrm>
            <a:off x="5506920" y="3884760"/>
            <a:ext cx="1441440" cy="121428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chéma de prévention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à coins arrondis 5"/>
          <p:cNvSpPr/>
          <p:nvPr/>
        </p:nvSpPr>
        <p:spPr>
          <a:xfrm>
            <a:off x="3780000" y="3284640"/>
            <a:ext cx="1549080" cy="1331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SR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expression des orientations stratégiques et fixation des objectifs généra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à coins arrondis 5"/>
          <p:cNvSpPr/>
          <p:nvPr/>
        </p:nvSpPr>
        <p:spPr>
          <a:xfrm>
            <a:off x="7054920" y="3284640"/>
            <a:ext cx="1765080" cy="111600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Programmes territoriaux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ontrats locaux de santé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projets d’action territorialisé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à coins arrondis 5"/>
          <p:cNvSpPr/>
          <p:nvPr/>
        </p:nvSpPr>
        <p:spPr>
          <a:xfrm>
            <a:off x="34920" y="1341360"/>
            <a:ext cx="1914480" cy="4334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Indicateur </a:t>
            </a: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CP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à coins arrondis 5"/>
          <p:cNvSpPr/>
          <p:nvPr/>
        </p:nvSpPr>
        <p:spPr>
          <a:xfrm>
            <a:off x="5448240" y="2565360"/>
            <a:ext cx="1441440" cy="1214640"/>
          </a:xfrm>
          <a:prstGeom prst="roundRect">
            <a:avLst>
              <a:gd name="adj" fmla="val 16667"/>
            </a:avLst>
          </a:prstGeom>
          <a:solidFill>
            <a:srgbClr val="eeece1"/>
          </a:solidFill>
          <a:ln w="25560">
            <a:solidFill>
              <a:srgbClr val="333333"/>
            </a:solidFill>
            <a:miter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ab800"/>
                </a:solidFill>
                <a:latin typeface="Calibri"/>
              </a:rPr>
              <a:t>SROS</a:t>
            </a: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Fixation d’objectifs opérationn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6443640" y="5722920"/>
            <a:ext cx="144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Sélection des actions et mise en œuv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3T18:56:24Z</dcterms:created>
  <dc:creator>Céline</dc:creator>
  <dc:description/>
  <dc:language>en-US</dc:language>
  <cp:lastModifiedBy>pia</cp:lastModifiedBy>
  <dcterms:modified xsi:type="dcterms:W3CDTF">2011-10-03T03:19:15Z</dcterms:modified>
  <cp:revision>315</cp:revision>
  <dc:subject/>
  <dc:title>Diapositive 1</dc:title>
</cp:coreProperties>
</file>