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D:\Mes documents\Lauranne\Dicom\ARS\ARS-PPT-ELEMTS-1\ARS-TERRITOIRE GRAPHIQUE.jpg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8041-222F-46C5-A96C-B250AB803A8D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D:\Mes documents\Lauranne\Dicom\ARS\ARS-PPT\ARS-PPT ECRAN D'OUVERTURE.jpg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7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28800" y="2874600"/>
            <a:ext cx="678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Conférence de territoire 75</a:t>
            </a:r>
            <a:br>
              <a:rPr sz="2900"/>
            </a:b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présentation calendrier PR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450880" y="4268880"/>
            <a:ext cx="5607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51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15 septembre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886200" y="6386400"/>
            <a:ext cx="1843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fr-FR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83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84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fr-FR" sz="1000" spc="-1" strike="noStrike">
                  <a:solidFill>
                    <a:srgbClr val="000000"/>
                  </a:solidFill>
                  <a:latin typeface="Arial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5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2395"/>
                </a:solidFill>
                <a:latin typeface="Arial"/>
              </a:endParaRPr>
            </a:p>
          </p:txBody>
        </p:sp>
      </p:grpSp>
      <p:cxnSp>
        <p:nvCxnSpPr>
          <p:cNvPr id="87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MEDICO SOCIA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ORGANISATION DES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E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CHEMAS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5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URP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6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S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8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P 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9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 de surveillanc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0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PROGRAMM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2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territoriaux + CL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3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4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IAC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5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6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s pluriannuel de gestion du risqu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7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mm Rég GD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8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P : commission permanent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S : commission spécialisé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C : commission de coordin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666699"/>
                </a:solidFill>
                <a:latin typeface="Arial"/>
              </a:rPr>
              <a:t>CT : conférence de terri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09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C 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0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de la CRSA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dt d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Conseils généraux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3" name="Text Box 48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f0000"/>
                </a:solidFill>
                <a:latin typeface="Arial"/>
              </a:rPr>
              <a:t>PRS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4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ramme télémédecin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</a:rPr>
              <a:t>Prog. Régional d’Accès à la prévention et aux Soin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3200" spc="-1" strike="noStrike">
                <a:solidFill>
                  <a:srgbClr val="2d2db9"/>
                </a:solidFill>
                <a:latin typeface="Arial"/>
              </a:rPr>
              <a:t>Les 8 principes d’actions du PSRS</a:t>
            </a:r>
            <a:r>
              <a:rPr b="1" lang="fr-FR" sz="32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24000" y="1125360"/>
            <a:ext cx="840096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58960" indent="-858960">
              <a:lnSpc>
                <a:spcPct val="90000"/>
              </a:lnSpc>
              <a:spcBef>
                <a:spcPts val="27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9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évention est préférable au soi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réduction des inégalités sociales et territoriales de santé passe par une mobilisation de tous les acteu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tection de la population impose une vigilance renforcée face aux risques sanitair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structuration de l’offre de santé doit être réellement subordonnée aux besoin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hérence des parcours de santé des usagers requiert une approche intégrée entre prévention, soin et prise en charge médico-soci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’amélioration de l’efficience et la garantie de la qualité des prises en charge vont de pair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 démocratie sanitaire effective passe par le développement de l’observation et de l’information en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673280" indent="-34308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000000"/>
              </a:buClr>
              <a:buSzPct val="15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réativité des acteurs locaux est un levier majeur du chang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 </a:t>
            </a:r>
            <a:r>
              <a:rPr b="1" i="1" lang="fr-FR" sz="1800" spc="-1" strike="noStrike">
                <a:solidFill>
                  <a:srgbClr val="002395"/>
                </a:solidFill>
                <a:latin typeface="Arial"/>
                <a:ea typeface="Arial"/>
              </a:rPr>
              <a:t>Le calendrier du PRS                                        </a:t>
            </a:r>
            <a:r>
              <a:rPr b="0" i="1" lang="fr-FR" sz="1400" spc="-1" strike="noStrike">
                <a:solidFill>
                  <a:srgbClr val="969696"/>
                </a:solidFill>
                <a:latin typeface="Arial"/>
                <a:ea typeface="Arial"/>
              </a:rPr>
              <a:t>Document de travail</a:t>
            </a:r>
            <a:endParaRPr b="0" lang="en-US" sz="14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Régionaux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1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2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4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5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6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7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8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29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0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1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2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3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an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Fé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i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vril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Mar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2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3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Nov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4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Déc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5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Oc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8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49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0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2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3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4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Arial"/>
                <a:ea typeface="Arial"/>
              </a:rPr>
              <a:t>PSR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6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7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Ambulato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5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15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59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volet ambulato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0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.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pour avis officiel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1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Arrêté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Schéma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"/>
                <a:ea typeface="Arial"/>
              </a:rPr>
              <a:t>Programm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2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3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4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ogramme Télémédecin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5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6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7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8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GDR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IAC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1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 (CCMS)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Cahier de charges PDSA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cible PDS-ES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4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Etablissements de santé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5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ROM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6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Schéma de prévention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7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rogramme de télémédecin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Arrêté du DG 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Soins aux détenu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iologie médic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Volet Bucco-dentair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médico sociale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chéma </a:t>
            </a: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d’Organisation des soins :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4" name="AutoShape 70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5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Juille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Août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Sept.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8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Validation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mex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89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0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1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Concertation non-officielle 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2" name="Text Box 78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Concertation officielle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f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4" name="Text Box 80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Arrêté du DG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5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  <a:ea typeface="Arial"/>
              </a:rPr>
              <a:t>Expérimentations PDS-E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6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iologie médica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7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Soins  détenu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8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  <a:ea typeface="Arial"/>
              </a:rPr>
              <a:t>Expérimentations Volet Bucco-dentair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199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Concertation 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800" spc="-1" strike="noStrike">
                <a:solidFill>
                  <a:srgbClr val="993366"/>
                </a:solidFill>
                <a:latin typeface="Arial"/>
                <a:ea typeface="Arial"/>
              </a:rPr>
              <a:t>PSRS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0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PRAPS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1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Concert.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2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900" spc="-1" strike="noStrike">
                <a:solidFill>
                  <a:srgbClr val="f8f8f8"/>
                </a:solidFill>
                <a:latin typeface="Arial"/>
                <a:ea typeface="Arial"/>
              </a:rPr>
              <a:t>Arrêté du DG</a:t>
            </a:r>
            <a:endParaRPr b="0" lang="en-US" sz="9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3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Validation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8f8f8"/>
                </a:solidFill>
                <a:latin typeface="Arial Black"/>
                <a:ea typeface="Arial"/>
              </a:rPr>
              <a:t>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4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6" name="Rectangle 92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7" name="Text Box 93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CNSA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8" name="Rectangle 94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09" name="Text Box 95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ncertation                non officielle</a:t>
            </a:r>
            <a:endParaRPr b="0" lang="en-US" sz="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0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1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2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3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fr-FR" sz="10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er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4" name="Line 100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6" name="Line 102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217" name="Line 103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0" y="189000"/>
          <a:ext cx="9144000" cy="5867280"/>
        </p:xfrm>
        <a:graphic>
          <a:graphicData uri="http://schemas.openxmlformats.org/drawingml/2006/table">
            <a:tbl>
              <a:tblPr/>
              <a:tblGrid>
                <a:gridCol w="900000"/>
                <a:gridCol w="541440"/>
                <a:gridCol w="476280"/>
                <a:gridCol w="536400"/>
                <a:gridCol w="489240"/>
                <a:gridCol w="477720"/>
                <a:gridCol w="371520"/>
                <a:gridCol w="355680"/>
                <a:gridCol w="357120"/>
                <a:gridCol w="355680"/>
                <a:gridCol w="291960"/>
                <a:gridCol w="461880"/>
                <a:gridCol w="420840"/>
                <a:gridCol w="422280"/>
                <a:gridCol w="379440"/>
                <a:gridCol w="436320"/>
                <a:gridCol w="333360"/>
                <a:gridCol w="312840"/>
                <a:gridCol w="380880"/>
                <a:gridCol w="487440"/>
                <a:gridCol w="355680"/>
              </a:tblGrid>
              <a:tr h="20052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   non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non -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e d'envoi pour 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cueil d'avis officie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rêté du     DG AR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S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ferences         des territoir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coordination Mé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mission régionale 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R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fet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 Génér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DAMU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seils depart de l'ordre des médec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ission paritaire région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46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ssemblée pléniè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Pré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Offre des soin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      Med-so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S                 usagé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émas régionaux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DE PREVENTION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CHEMA MEDICOSOCIAL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ROS: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hospitalier *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DS-E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ambulato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posit°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ucco-dentair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Biologie médical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let Soins aux détenu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févr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oct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DS-A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oc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21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grammes Régionaux </a:t>
                      </a: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PRIAC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sept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nov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P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GDR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s d'avis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-déc-11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élé-médecine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-déc-12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?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37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7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700" spc="-1" strike="noStrike">
                        <a:solidFill>
                          <a:srgbClr val="002395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Rectangle 5366"/>
          <p:cNvSpPr/>
          <p:nvPr/>
        </p:nvSpPr>
        <p:spPr>
          <a:xfrm>
            <a:off x="2199240" y="6453360"/>
            <a:ext cx="4661280" cy="246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a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RS : proposition du chemin critique de consultations officielles et non officielles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9:15:03Z</dcterms:created>
  <dc:creator>Service Info</dc:creator>
  <dc:description/>
  <dc:language>en-US</dc:language>
  <cp:lastModifiedBy>pia</cp:lastModifiedBy>
  <dcterms:modified xsi:type="dcterms:W3CDTF">2011-10-03T03:18:57Z</dcterms:modified>
  <cp:revision>94</cp:revision>
  <dc:subject/>
  <dc:title>Présentation PowerPoint</dc:title>
</cp:coreProperties>
</file>