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EB6AD0A-5D79-480E-B7E3-6E6366F601D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9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77B16CA-7DAD-4D29-9869-CCF190C526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2813BC-ED35-43BD-88E4-A5122A858E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262862-CA44-4E05-B5D3-C97C852C63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AC9C-F9BB-49F6-8105-2D4E5FA6D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EF61-0459-4F68-B135-1B73B33628D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1EE3-13AC-4A1B-A5CC-DAAB6D9306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97EF-9728-42DB-8F5D-67E3BFE3852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72BE-D83C-4AFB-9318-E868A7B9E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C06B-9554-4AD6-BB73-066AB75C39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AFC3-7237-464F-AFA6-B1BE1D4FC1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E3EB-3C73-44BE-8235-D577672BA7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A536-24C2-4459-89B4-2E7354BE47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9599-BB10-4E24-A858-58BB35960B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8E63-C9D4-4FBD-8F04-73A9B98174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826E-F37F-4762-A6B6-A400C27645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Logo ARS.png"/>
          <p:cNvPicPr/>
          <p:nvPr/>
        </p:nvPicPr>
        <p:blipFill>
          <a:blip r:embed="rId2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oneTexte 9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1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773920" y="6482880"/>
            <a:ext cx="36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210A-6137-4A38-848A-AC96DB368BD4}" type="slidenum">
              <a:rPr b="0" lang="fr-FR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6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69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12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48000" cy="14097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8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9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Connecteur droit 5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onnecteur droit 6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1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5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97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40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626920" y="2130120"/>
            <a:ext cx="594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2395"/>
                </a:solidFill>
                <a:latin typeface="Calibri"/>
              </a:rPr>
              <a:t>Le contrat pluriannuel d’objectifs et de moyens </a:t>
            </a:r>
            <a:r>
              <a:rPr b="1" lang="fr-FR" sz="2500" spc="-1" strike="noStrike">
                <a:solidFill>
                  <a:srgbClr val="002395"/>
                </a:solidFill>
                <a:latin typeface="Calibri"/>
              </a:rPr>
              <a:t> de l’ARS d’Ile de France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3203640" y="3886200"/>
            <a:ext cx="67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Conférence de territoire 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du 15 septembre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8582400" y="6475320"/>
            <a:ext cx="834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757E-F9A8-479B-A98C-72176B283973}" type="slidenum">
              <a:rPr b="1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285840" y="609480"/>
            <a:ext cx="84009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Le CPOM, c’est quo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l que défini dans la Loi, il fixe les objectifs chiffrés pluriannuel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ARS sur leurs métiers et leur fonctionnement inter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s’agit d’un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contra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gné entre 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a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représenté par le minist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la santé et des sports et le ministre du travail, de la solidarité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e la fonction publique et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GARS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a période allant d’avril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010 à 201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Un CPOM, pour quoi fair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la cohérence du projet de l’ARS Ile de France par rapport aux priorités de santé définies au niveau nationa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de l’engagement de l’agence vis-à-vis de la population francilien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liner les orientations stratégique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finir des moyen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85840" y="380520"/>
            <a:ext cx="8400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Comment est articulé le CPOM de l’ARS d’Ile de France 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’est un document unique contractuel comprenant les éléme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ants 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ambu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1 : Objectifs et indicateurs pluriannuels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2 : Objectifs de mise en place et de management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3 : Moyens des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4 : Modalités de suivi et d’évaluation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5 : Dispositions relatives à l’amélioration continue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6 : Annex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Zoom sur l’article 1 : objectifs et indicateurs pluriannuels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3 priorités nationales qui se déclinent en 9 objectif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er l’espérance de vie en bonne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a mortalité prématurée évi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a promotion de la santé et la prévention des mala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forcer l’efficacité du dispositif de veille et de sécurité sanit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mouvoir l’égalité devant la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es inégalités territoriales et sociales de san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velopper un système de qualité, accessible et effici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méliorer la qualité et l’efficience des soins et des services médico-soci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dapter l’offre de soins et des services médico-sociaux aux beso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timiser l’organisation de la permanence des soins ambulato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itriser les dépenses de santé et rétablir durablement l’équilibre financier des 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es parcours de soins et de vie des personnes âgées et des personnes handicap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et en indicateurs communs ou spécifiques aux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2"/>
          <p:cNvSpPr/>
          <p:nvPr/>
        </p:nvSpPr>
        <p:spPr>
          <a:xfrm flipV="1">
            <a:off x="3490920" y="1557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3490920" y="2852640"/>
            <a:ext cx="16556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"/>
          <p:cNvSpPr/>
          <p:nvPr/>
        </p:nvSpPr>
        <p:spPr>
          <a:xfrm flipH="1">
            <a:off x="2555640" y="2852640"/>
            <a:ext cx="93492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971640" y="907920"/>
            <a:ext cx="54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1. RÉDUIRE LES INÉGALITÉS SOCIALES ET TERRITORIALES DE S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1258920" y="335772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2. AMÉLIORER LA QUALITÉ DU SERVICE RENDU PAR LE SYSTÈM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219640" y="342900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3. RENFORCER L’EFFICIENCE DE L’ORGANISATION DE L’OFFR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851280" y="1125360"/>
            <a:ext cx="5724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1-2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évalence de l’obésité et du surpoids parmi les enfants à l’entrée en 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articipation au dépistage organisé du cancer colorectal chez les 50 à 74 ans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couverture vaccinale ROR des enfants de 24 m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infant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 la population vivant dans un bassin de vie dont la densité médicale de médeci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énéralistes est inférieure à 30% de la moyenne n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logements ayant fait l'objet d'une évaluation sanitaire ayant cond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à une procédure d'insalubrité au titre du C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icipation au dépistage organisé du cancer du sein pour les femmes de 50 à 74 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contrats locaux de santé signés au titre l’Art. L.1434 (CSP) sur des territoi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ioritaires urbains (CUCS, ZEP) ou ruraux (isolé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Ecarts intra régionaux d’équipements en ESMS mesurés à partir de la dépen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’assurance maladie rapportée à la population cible (personnes handicapées de 0 à 59 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t personnes âgées de 75 ans et +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0" y="3813120"/>
            <a:ext cx="47149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prématurée évi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décès par suicide pour 100 000 hab. standardisé par â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1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es plans nationaux de veille et sécurité sanitaire déclinés au niveau régional et ayant fait l’objet d’une révision dans l’anné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% d’unités de distribution d’eau alimentant en eau potable plus de 5 000 hab., présentant de manière récurrente des dépassements des limites de qua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1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établissements de santé certifiés avec réserves (majeures ou n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ESMS ayant fait l’objet d’une évaluation ext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journées en HAD / 10 000 habita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7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structures d’exercice collectif en milieu ambulatoire / 100 000 hab. (maisons de santé, centres de santé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7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s patients relevant du niveau 1 de la CCMU (classification clinique des malades des urgences) dans les passages aux urgences pendant la P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en unités spécifiques pour malades Alzheimer (UHR-PASA)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des places pour enfants et adultes atteints d’autisme ou de TED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4643280" y="4076640"/>
            <a:ext cx="496908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éalisation du programme pluriannuel régional de gestion du risqu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ecours à la chirurgie (20 actes marqueurs) de la population domicili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laces installées sur places financées en ESMS par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services dans l’offre globale médico-socia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ratique de la chirurgie ambulatoire (17 gestes marqueu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patients traités par dialyse péritonéale / part des patients dialy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8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Montant du déficit cumulé brut des établissements publics de san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ume d’activité des établissements hospitaliers en MCO en nombre de séjo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’établissements publics dont le ratio ICR (indice de coût relatif) de chirurgie par salle d’interventions chirurgicales est supérieur à la médiane national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bre d’établissements dont la marge brute d’exploitation est supérieure à 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"/>
          <p:cNvPicPr/>
          <p:nvPr/>
        </p:nvPicPr>
        <p:blipFill>
          <a:blip r:embed="rId2"/>
          <a:stretch/>
        </p:blipFill>
        <p:spPr>
          <a:xfrm>
            <a:off x="2482920" y="1484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"/>
          <p:cNvPicPr/>
          <p:nvPr/>
        </p:nvPicPr>
        <p:blipFill>
          <a:blip r:embed="rId3"/>
          <a:stretch/>
        </p:blipFill>
        <p:spPr>
          <a:xfrm>
            <a:off x="219384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"/>
          <p:cNvPicPr/>
          <p:nvPr/>
        </p:nvPicPr>
        <p:blipFill>
          <a:blip r:embed="rId4"/>
          <a:stretch/>
        </p:blipFill>
        <p:spPr>
          <a:xfrm>
            <a:off x="1906560" y="19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"/>
          <p:cNvPicPr/>
          <p:nvPr/>
        </p:nvPicPr>
        <p:blipFill>
          <a:blip r:embed="rId5"/>
          <a:stretch/>
        </p:blipFill>
        <p:spPr>
          <a:xfrm>
            <a:off x="2698920" y="1413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"/>
          <p:cNvPicPr/>
          <p:nvPr/>
        </p:nvPicPr>
        <p:blipFill>
          <a:blip r:embed="rId6"/>
          <a:stretch/>
        </p:blipFill>
        <p:spPr>
          <a:xfrm>
            <a:off x="248292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7"/>
          <a:stretch/>
        </p:blipFill>
        <p:spPr>
          <a:xfrm>
            <a:off x="2266920" y="1700280"/>
            <a:ext cx="503280" cy="366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8" descr=""/>
          <p:cNvPicPr/>
          <p:nvPr/>
        </p:nvPicPr>
        <p:blipFill>
          <a:blip r:embed="rId8"/>
          <a:stretch/>
        </p:blipFill>
        <p:spPr>
          <a:xfrm>
            <a:off x="8244000" y="306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9" descr=""/>
          <p:cNvPicPr/>
          <p:nvPr/>
        </p:nvPicPr>
        <p:blipFill>
          <a:blip r:embed="rId9"/>
          <a:stretch/>
        </p:blipFill>
        <p:spPr>
          <a:xfrm>
            <a:off x="8244000" y="3429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0" descr=""/>
          <p:cNvPicPr/>
          <p:nvPr/>
        </p:nvPicPr>
        <p:blipFill>
          <a:blip r:embed="rId10"/>
          <a:stretch/>
        </p:blipFill>
        <p:spPr>
          <a:xfrm>
            <a:off x="7954920" y="37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"/>
          <p:cNvPicPr/>
          <p:nvPr/>
        </p:nvPicPr>
        <p:blipFill>
          <a:blip r:embed="rId11"/>
          <a:stretch/>
        </p:blipFill>
        <p:spPr>
          <a:xfrm>
            <a:off x="8531280" y="3933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12"/>
          <a:stretch/>
        </p:blipFill>
        <p:spPr>
          <a:xfrm>
            <a:off x="8531280" y="328464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3" descr=""/>
          <p:cNvPicPr/>
          <p:nvPr/>
        </p:nvPicPr>
        <p:blipFill>
          <a:blip r:embed="rId13"/>
          <a:stretch/>
        </p:blipFill>
        <p:spPr>
          <a:xfrm>
            <a:off x="8244000" y="371628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4" descr=""/>
          <p:cNvPicPr/>
          <p:nvPr/>
        </p:nvPicPr>
        <p:blipFill>
          <a:blip r:embed="rId14"/>
          <a:stretch/>
        </p:blipFill>
        <p:spPr>
          <a:xfrm>
            <a:off x="8459640" y="3573360"/>
            <a:ext cx="503280" cy="366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5" descr=""/>
          <p:cNvPicPr/>
          <p:nvPr/>
        </p:nvPicPr>
        <p:blipFill>
          <a:blip r:embed="rId15"/>
          <a:stretch/>
        </p:blipFill>
        <p:spPr>
          <a:xfrm>
            <a:off x="538200" y="254628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6" descr=""/>
          <p:cNvPicPr/>
          <p:nvPr/>
        </p:nvPicPr>
        <p:blipFill>
          <a:blip r:embed="rId16"/>
          <a:stretch/>
        </p:blipFill>
        <p:spPr>
          <a:xfrm>
            <a:off x="1187280" y="2925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7" descr=""/>
          <p:cNvPicPr/>
          <p:nvPr/>
        </p:nvPicPr>
        <p:blipFill>
          <a:blip r:embed="rId17"/>
          <a:stretch/>
        </p:blipFill>
        <p:spPr>
          <a:xfrm>
            <a:off x="538200" y="3141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8" descr=""/>
          <p:cNvPicPr/>
          <p:nvPr/>
        </p:nvPicPr>
        <p:blipFill>
          <a:blip r:embed="rId18"/>
          <a:stretch/>
        </p:blipFill>
        <p:spPr>
          <a:xfrm>
            <a:off x="611280" y="306864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9" descr=""/>
          <p:cNvPicPr/>
          <p:nvPr/>
        </p:nvPicPr>
        <p:blipFill>
          <a:blip r:embed="rId19"/>
          <a:stretch/>
        </p:blipFill>
        <p:spPr>
          <a:xfrm>
            <a:off x="118728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0" descr=""/>
          <p:cNvPicPr/>
          <p:nvPr/>
        </p:nvPicPr>
        <p:blipFill>
          <a:blip r:embed="rId20"/>
          <a:stretch/>
        </p:blipFill>
        <p:spPr>
          <a:xfrm>
            <a:off x="89856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1" descr=""/>
          <p:cNvPicPr/>
          <p:nvPr/>
        </p:nvPicPr>
        <p:blipFill>
          <a:blip r:embed="rId21"/>
          <a:stretch/>
        </p:blipFill>
        <p:spPr>
          <a:xfrm>
            <a:off x="1546200" y="2708280"/>
            <a:ext cx="503280" cy="3668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370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1- Les orientations de l’ARS IDF et les indicateurs CPOM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4714920" y="5877000"/>
            <a:ext cx="352908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30 indicateurs</a:t>
            </a: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(en bleu les indicateurs prioritaires pour l’ARS d’Id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à coins arrondis 5"/>
          <p:cNvSpPr/>
          <p:nvPr/>
        </p:nvSpPr>
        <p:spPr>
          <a:xfrm>
            <a:off x="971640" y="2789280"/>
            <a:ext cx="2663640" cy="1071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Travail du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GT IST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dentification de la grossesse/naissance comme vecteur d’inégalités sociales et territoriales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2"/>
          <p:cNvSpPr/>
          <p:nvPr/>
        </p:nvSpPr>
        <p:spPr>
          <a:xfrm>
            <a:off x="108000" y="5084640"/>
            <a:ext cx="8983440" cy="649440"/>
          </a:xfrm>
          <a:prstGeom prst="rightArrow">
            <a:avLst>
              <a:gd name="adj1" fmla="val 50278"/>
              <a:gd name="adj2" fmla="val 75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Un exemple : réduire la mortalité infantile en Ile-de-France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924360" y="57164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daction de la straté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360360" y="566100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iagnostic et identification des enj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"/>
          <p:cNvSpPr/>
          <p:nvPr/>
        </p:nvSpPr>
        <p:spPr>
          <a:xfrm>
            <a:off x="358920" y="5408640"/>
            <a:ext cx="806580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à coins arrondis 5"/>
          <p:cNvSpPr/>
          <p:nvPr/>
        </p:nvSpPr>
        <p:spPr>
          <a:xfrm>
            <a:off x="258840" y="1771560"/>
            <a:ext cx="2297160" cy="1006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iagnostic : Identification de fortes inégalités territ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à coins arrondis 5"/>
          <p:cNvSpPr/>
          <p:nvPr/>
        </p:nvSpPr>
        <p:spPr>
          <a:xfrm>
            <a:off x="5506920" y="3884760"/>
            <a:ext cx="1441440" cy="1214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chéma de prévention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à coins arrondis 5"/>
          <p:cNvSpPr/>
          <p:nvPr/>
        </p:nvSpPr>
        <p:spPr>
          <a:xfrm>
            <a:off x="3780000" y="3284640"/>
            <a:ext cx="1549080" cy="1331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SR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pression des orientations stratégiques et fixation des objectifs génér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à coins arrondis 5"/>
          <p:cNvSpPr/>
          <p:nvPr/>
        </p:nvSpPr>
        <p:spPr>
          <a:xfrm>
            <a:off x="7054920" y="3284640"/>
            <a:ext cx="1765080" cy="11160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rogrammes territoriaux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ontrats locaux de santé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s d’action territoria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5"/>
          <p:cNvSpPr/>
          <p:nvPr/>
        </p:nvSpPr>
        <p:spPr>
          <a:xfrm>
            <a:off x="34920" y="1341360"/>
            <a:ext cx="1914480" cy="4334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ndicateur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P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à coins arrondis 5"/>
          <p:cNvSpPr/>
          <p:nvPr/>
        </p:nvSpPr>
        <p:spPr>
          <a:xfrm>
            <a:off x="5448240" y="2565360"/>
            <a:ext cx="1441440" cy="1214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RO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6443640" y="5722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élection des actions et mise en œ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8:56:24Z</dcterms:created>
  <dc:creator>Céline</dc:creator>
  <dc:description/>
  <dc:language>en-US</dc:language>
  <cp:lastModifiedBy>pia</cp:lastModifiedBy>
  <dcterms:modified xsi:type="dcterms:W3CDTF">2011-10-03T03:19:15Z</dcterms:modified>
  <cp:revision>315</cp:revision>
  <dc:subject/>
  <dc:title>Diapositive 1</dc:title>
</cp:coreProperties>
</file>