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72F6-FDD5-4018-B5C6-52D3494A2D46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997000"/>
            <a:ext cx="77914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Le Schéma Régional de Prévention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et sa déclinaison territoria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Conférence territoriale de Paris </a:t>
            </a: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 13 octobre 2011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Prévention et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Affiche la lutte contre les inégalités sociales de santé (gradient social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e qui implique la territorialis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et la prise en compte des déterminants sociaux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 méthod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promotion de la santé et la pre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es déterminants =&gt; coordination des politiques pub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’offre de pré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développer les partenariats avec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e rôle des professionnels de santé par les pratiques cliniques préventives et la prévention dans le parcour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santé communautaire : co-construction avec les usagers et développer les relais efficaces avec les populations 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Mener des campagnes de communication cib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orit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OMOUVOIR LA SANTE GLOBALE (santé à tous les â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AGIR DES LE PLUS JEUNE AGE (prévenir et dép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IORITES THE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erinata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fants/adolescentes jeun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ment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Habitat indigne (saturnisme et infections respiratoir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seni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opulations en difficultés particulières (dont : personnes handicapées, en grande précarité, migrantes, détenues, prostitué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vironnement (pressings, sécurité des eaux, aéroports, pesticid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+ développer le signalement et la gestion des aler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DECLINAISON TERRITORIAL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Elaboration d’ici 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Dans chaque territoire de santé (départ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Focus sur les territoires prioritaires (IDH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xes prioritaires départementaux en terme de populations et thémat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rticulation avec les autres schém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0-26T07:49:50Z</dcterms:modified>
  <cp:revision>111</cp:revision>
  <dc:subject/>
  <dc:title>Présentation PowerPoint</dc:title>
</cp:coreProperties>
</file>