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9359-B2B7-469C-A729-10022FFD988F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997000"/>
            <a:ext cx="77914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Le Schéma Régional de Prévention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et sa déclinaison territoria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Conférence territoriale de Paris </a:t>
            </a:r>
            <a:br>
              <a:rPr sz="2900"/>
            </a:br>
            <a:r>
              <a:rPr b="0" lang="en-US" sz="2900" spc="-1" strike="noStrike">
                <a:solidFill>
                  <a:srgbClr val="7ab800"/>
                </a:solidFill>
                <a:latin typeface="Arial"/>
              </a:rPr>
              <a:t> 13 octobre 2011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Prévention et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Affiche la lutte contre les inégalités sociales de santé (gradient social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e qui implique la territorialis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et la prise en compte des déterminants sociaux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 méthod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promotion de la santé et la pre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es déterminants =&gt; coordination des politiques pub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agir sur l’offre de pré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- développer les partenariats avec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e rôle des professionnels de santé par les pratiques cliniques préventives et la prévention dans le parcour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Développer la santé communautaire : co-construction avec les usagers et développer les relais efficaces avec les populations 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Mener des campagnes de communication cib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orit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OMOUVOIR LA SANTE GLOBALE (santé à tous les â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AGIR DES LE PLUS JEUNE AGE (prévenir et dép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80000"/>
              </a:lnSpc>
              <a:spcBef>
                <a:spcPts val="400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PRIORITES THE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erinatal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fants/adolescentes jeun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ment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Habitat indigne (saturnisme et infections respiratoir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adul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Santé des seni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Populations en difficultés particulières (dont : personnes handicapées, en grande précarité, migrantes, détenues, prostitué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Environnement (pressings, sécurité des eaux, aéroports, pesticide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2395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Times New Roman"/>
              </a:rPr>
              <a:t>+ développer le signalement et la gestion des aler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DECLINAISON TERRITORIAL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Elaboration d’ici 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Dans chaque territoire de santé (départ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Focus sur les territoires prioritaires (IDH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xes prioritaires départementaux en terme de populations et thémat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76"/>
              </a:spcBef>
              <a:buClr>
                <a:srgbClr val="002395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Articulation avec les autres schém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79280" y="907920"/>
            <a:ext cx="1656000" cy="0"/>
          </a:xfrm>
          <a:prstGeom prst="line">
            <a:avLst/>
          </a:prstGeom>
          <a:ln w="1260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0-26T07:49:50Z</dcterms:modified>
  <cp:revision>111</cp:revision>
  <dc:subject/>
  <dc:title>Présentation PowerPoint</dc:title>
</cp:coreProperties>
</file>