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8973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96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260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79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462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F56A3AB7-7FF8-4A1C-979C-96B9FF3810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79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nombre de consult réalisées à la demande du CRRA-C15 est un chiffre déclaratif du 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s de données sur le nb de consul et visites effectuées par le S.Ur, car incomplè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ffecteurs postés : la tranche 20h-0h : non communiqu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4660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2F601EB2-B823-401A-87A9-CFECCB6A97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04680" y="4718160"/>
            <a:ext cx="497988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5% des appels décrochés pendant la PDSA ne sont pas significatifs ; les données communiquées par le S.Ur. sont incomplè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4660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39C1E59-BB2B-4AA8-A68D-0610B0AB68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2ABF-CF58-4D5A-AA5C-791859C9F8A7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7" descr="LOGO_ARS_IDF_territoire graphique_2"/>
          <p:cNvPicPr/>
          <p:nvPr/>
        </p:nvPicPr>
        <p:blipFill>
          <a:blip r:embed="rId1"/>
          <a:stretch/>
        </p:blipFill>
        <p:spPr>
          <a:xfrm>
            <a:off x="34920" y="127080"/>
            <a:ext cx="9144000" cy="1141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19162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fr-FR" sz="4400" spc="-1" strike="noStrike">
                <a:solidFill>
                  <a:srgbClr val="7ab800"/>
                </a:solidFill>
                <a:latin typeface="Arial"/>
              </a:rPr>
              <a:t>SOUS-COMITE MEDICAL </a:t>
            </a:r>
            <a:br>
              <a:rPr sz="2800"/>
            </a:br>
            <a:br>
              <a:rPr sz="2800"/>
            </a:br>
            <a:r>
              <a:rPr b="1" lang="fr-FR" sz="3600" spc="-1" strike="noStrike">
                <a:solidFill>
                  <a:srgbClr val="2d2db9"/>
                </a:solidFill>
                <a:latin typeface="Arial"/>
              </a:rPr>
              <a:t>du 12 juin 2014</a:t>
            </a:r>
            <a:endParaRPr b="1" lang="en-US" sz="36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. Nouveaux projets dans le départemen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78920" y="1413000"/>
            <a:ext cx="828036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9640" indent="-44460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cun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t reçu pour le 93, suite à l’appel à projet (17 avril -17 mai 2014) pour instruction au 1er semestre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9640" indent="-44460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information : un projet de point fixe déposé par SOS sur le Nord-Est de Paris, dans le 19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9640" indent="-44460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2d2db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9640" indent="-44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1532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. Calendrier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9280" y="1341000"/>
            <a:ext cx="8640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12880" indent="-546120" algn="just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Comité de pilotage régional PDSA : 8/07/2014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avis sur les nouveaux pro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aluation du dispositif de rémunération dégressive =&gt; 2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emestre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Consultation des instanc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CODAMUPS-TS, des Préfets, des CDOM, de l’URPS-Médecins et de la CSOS de la CRSA) sur nouveau cahier des charges =&gt; octobre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Publication de l’arrêté du DGA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xant le cahier des charges régional =&gt; 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novembre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5. Plan canicule 2014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1628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12880" indent="-54612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tivé depuis le 1er ju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Cf instruction ministérielle relative au plan canicule 2014 du 6 mai 20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llicitation des CDOM par l’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546120" algn="just">
              <a:spcBef>
                <a:spcPts val="1199"/>
              </a:spcBef>
              <a:spcAft>
                <a:spcPts val="1199"/>
              </a:spcAft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rganisation locale (possibilité de renforcement en cas de vague de chale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08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Ordre du jour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11280" y="1267920"/>
            <a:ext cx="8208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ilan dispositif PDSA 20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Evaluation - Tableaux de bord SI PD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Information sur appel à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4. Plan canic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15364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1. Bilan dispositif PDSA 2013 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8120" y="3068280"/>
            <a:ext cx="820908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space réservé du contenu 3"/>
          <p:cNvSpPr/>
          <p:nvPr/>
        </p:nvSpPr>
        <p:spPr>
          <a:xfrm>
            <a:off x="324000" y="1125360"/>
            <a:ext cx="828036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41680" indent="-841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Arial"/>
              </a:rPr>
              <a:t>Faits marquants 2013</a:t>
            </a:r>
            <a:endParaRPr b="0" lang="en-US" sz="22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2395"/>
              </a:solidFill>
              <a:latin typeface="Arial"/>
            </a:endParaRPr>
          </a:p>
          <a:p>
            <a:pPr marL="841680" indent="-8416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plan régional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se en place de la gouvernance territoriale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ralisation du dispositif de rémunération dégressive pour les gardes postées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spositif de suivi et d’évaluation de la PDSA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uveaux projets 2013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41680" indent="-8416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Sur le département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buClr>
                <a:srgbClr val="ff0000"/>
              </a:buClr>
              <a:buSzPct val="5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2 CMTG,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buClr>
                <a:srgbClr val="ff0000"/>
              </a:buClr>
              <a:buSzPct val="5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réation d’une 5</a:t>
            </a:r>
            <a:r>
              <a:rPr b="0" lang="fr-FR" sz="18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 MMG à Noisy le Sec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buClr>
                <a:srgbClr val="ff0000"/>
              </a:buClr>
              <a:buSzPct val="5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extension du CT Noisy-le-Grand/Gournay par la création d’un point  fixe sur l’HPMV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1" marL="1303560">
              <a:spcBef>
                <a:spcPts val="451"/>
              </a:spcBef>
              <a:buClr>
                <a:srgbClr val="ff0000"/>
              </a:buClr>
              <a:buSzPct val="5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4600" indent="-1074600">
              <a:buSzPct val="100000"/>
              <a:buBlip>
                <a:blip r:embed="rId1"/>
              </a:buBlip>
              <a:tabLst>
                <a:tab algn="l" pos="895320"/>
                <a:tab algn="l" pos="107460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2. Evaluation et tableaux de bord SI PDSA </a:t>
            </a:r>
            <a:r>
              <a:rPr b="1" lang="fr-FR" sz="2200" spc="-1" strike="noStrike">
                <a:solidFill>
                  <a:srgbClr val="7ab800"/>
                </a:solidFill>
                <a:latin typeface="Arial"/>
                <a:ea typeface="ＭＳ Ｐゴシック"/>
              </a:rPr>
              <a:t>	</a:t>
            </a:r>
            <a:br>
              <a:rPr sz="2200"/>
            </a:b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196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 d’un outil de recueil de données standardisées, renseigné par tous les acteurs (régulateurs et effecteurs) de tous les départemen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men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=&gt; avril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til provisoir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&gt; jusqu’en 12/2014 (données déclarativ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til intégré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&gt;  en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vaux menés par le GCS D-SISIF pour l’ARS, en lien avec les acteurs présents au niveau régional (URPS-médecins, représentants des SAMU) et au niveau territorial (médecins régulateurs libéraux et hospitaliers, effecteurs fixes et mob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 : disposer d’indicateurs de suivi et d’évaluation de la PDSA, partagés entre les ac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ers Tableaux de bor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=&gt;  15 mai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42472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4600" indent="-1074600">
              <a:buSzPct val="100000"/>
              <a:buBlip>
                <a:blip r:embed="rId1"/>
              </a:buBlip>
              <a:tabLst>
                <a:tab algn="l" pos="895320"/>
                <a:tab algn="l" pos="107460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3. Evaluation et tableaux de bord SI PDSA </a:t>
            </a:r>
            <a:r>
              <a:rPr b="1" lang="fr-FR" sz="2200" spc="-1" strike="noStrike">
                <a:solidFill>
                  <a:srgbClr val="7ab800"/>
                </a:solidFill>
                <a:latin typeface="Arial"/>
                <a:ea typeface="ＭＳ Ｐゴシック"/>
              </a:rPr>
              <a:t>	</a:t>
            </a:r>
            <a:br>
              <a:rPr sz="2200"/>
            </a:b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3640" y="1341000"/>
            <a:ext cx="8569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Montée en charge progres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ploiement auprès de l’ensemble des acteurs du C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solidation de l’exploitation avec l’appui d’un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ité d’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valuation du dispositif régional PDSA prévue au 2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semestre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spcAft>
                <a:spcPts val="675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ère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restitution sous forme de tableaux de bord synthétiques à diffusion restreinte dans un 1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er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temps aux instances de la PDSA (SCM et CTM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régionales et par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catégorie d’acteur (régulation médicale, effection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tour des remarques : GCS DSIS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712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4600" indent="-1074600">
              <a:buSzPct val="100000"/>
              <a:buBlip>
                <a:blip r:embed="rId1"/>
              </a:buBlip>
              <a:tabLst>
                <a:tab algn="l" pos="895320"/>
                <a:tab algn="l" pos="107460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3. Evaluation et tableaux de bord SI PDSA </a:t>
            </a:r>
            <a:br>
              <a:rPr sz="2900"/>
            </a:b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Axes de suivi et d’évaluation privilégié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371240"/>
            <a:ext cx="784872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Régulation médicale, pivot du dispositif PDSA conforme aux recommandations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ès régulé à un médecin de g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isions de la régulation méd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tivité de la régulation par profil de médecins aux horaires de la PD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Effection répondant aux besoins de la PD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ude de l’activité de l’effection post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ude de l’activité de l’effection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34960" indent="-444240" algn="just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ude de l’articulation des dispositifs d’ef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3 . Tableaux de bord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Volet Régulation médicale au CRRA-C15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1412640"/>
            <a:ext cx="7847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iffres clé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23 629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els entrants aux horaires de la PDSA / 1 933 136 pour l’I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78 %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els décrochés / 78 % pour l’I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84 %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’appels décrochés en moins de 60 secondes / 85 % pour l’I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72 %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RM vers un médecin régulateur / 55 % sur l’IDF e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vers un médecin hospitalier / 45 % sur l’I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 algn="just">
              <a:spcBef>
                <a:spcPts val="751"/>
              </a:spcBef>
              <a:spcAft>
                <a:spcPts val="75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74 %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décisions apportées aux horaires de la PDSA ont été des conseils médicaux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9 %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nt été orientés vers un service d’urgence et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7 %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nt des orientations vers une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55000"/>
              <a:buFont typeface="Calibri,Bold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77240" indent="-426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3 . Tableaux de bord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Volet Effection globale (mobile et posté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547280"/>
            <a:ext cx="81360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01360" indent="-43992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iffres cl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ffection mobil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1 991 visit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sur 8 mo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ffecteurs posté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tous confondus)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 805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ultations don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 110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alisées à la demande du CRAA-C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53 %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 consultations se font le samedi, de 12h à 16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dimanches et JF : la répartition est identique aux tranches d’horaire de la PDSA, soi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3 % à 34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1360" indent="-43992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3 . Tableaux de bord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Volet Plate-forme d’appel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000" y="1547280"/>
            <a:ext cx="80643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9640" indent="-44460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iffres cl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9640" indent="-44460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progression des appels décrochés par effecteur :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5 000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els en janvier et près d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0 000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déce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09640" indent="-444600" algn="just"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se en charge des appels décrochés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5 %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ar un médecin présent sur la platefor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APUIS, Stéphanie</cp:lastModifiedBy>
  <cp:lastPrinted>2014-03-12T12:36:01Z</cp:lastPrinted>
  <dcterms:modified xsi:type="dcterms:W3CDTF">2014-06-11T12:05:30Z</dcterms:modified>
  <cp:revision>1653</cp:revision>
  <dc:subject/>
  <dc:title>Présentation PowerPoint</dc:title>
</cp:coreProperties>
</file>