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62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50FF6CF-4E2C-4168-9202-3D626961D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nombre de consult réalisées à la demande du CRRA-C15 est un chiffre déclaratif du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s de données sur le nb de consul et visites effectuées par le S.Ur, car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ffecteurs postés : la tranche 20h-0h : non commun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3ED1E3C-B79C-48E5-9222-42639FAF0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5% des appels décrochés pendant la PDSA ne sont pas significatifs ; les données communiquées par le S.Ur. sont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1DF1BAB-31D4-4A6B-BC5E-2CD981862F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64FD-8A59-4E1E-AA43-DA6227C71B52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7" descr="LOGO_ARS_IDF_territoire graphique_2"/>
          <p:cNvPicPr/>
          <p:nvPr/>
        </p:nvPicPr>
        <p:blipFill>
          <a:blip r:embed="rId1"/>
          <a:stretch/>
        </p:blipFill>
        <p:spPr>
          <a:xfrm>
            <a:off x="34920" y="127080"/>
            <a:ext cx="9144000" cy="1141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19162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fr-FR" sz="4400" spc="-1" strike="noStrike">
                <a:solidFill>
                  <a:srgbClr val="7ab800"/>
                </a:solidFill>
                <a:latin typeface="Arial"/>
              </a:rPr>
              <a:t>SOUS-COMITE MEDICAL </a:t>
            </a: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2d2db9"/>
                </a:solidFill>
                <a:latin typeface="Arial"/>
              </a:rPr>
              <a:t>du 12 juin 2014</a:t>
            </a:r>
            <a:endParaRPr b="1" lang="en-US" sz="36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Nouveaux projets dans le départemen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413000"/>
            <a:ext cx="8280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cun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reçu pour le 93, suite à l’appel à projet (17 avril -17 mai 2014) pour instruction au 1er semestr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information : un projet de point fixe déposé par SOS sur le Nord-Est de Paris, dans le 19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1532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Calendrier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34100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mité de pilotage régional PDSA : 8/07/2014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avis sur les nouveaux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du dispositif de rémunération dégressive =&gt;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nsultation des instanc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ODAMUPS-TS, des Préfets, des CDOM, de l’URPS-Médecins et de la CSOS de la CRSA) sur nouveau cahier des charges =&gt; octo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Publication de l’arrêté du DGA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xant le cahier des charges régional =&gt;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vem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5. Plan canicule 2014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628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é depuis le 1er j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f instruction ministérielle relative au plan canicule 2014 du 6 mai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licitation des CDOM par l’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locale (possibilité de renforcement en cas de vague de chal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08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Ordre du jour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1280" y="1267920"/>
            <a:ext cx="8208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ilan dispositif PDSA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Evaluation - Tableaux de bord SI P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Information sur appel à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. Plan canic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1536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1. Bilan dispositif PDSA 2013 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8120" y="3068280"/>
            <a:ext cx="820908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contenu 3"/>
          <p:cNvSpPr/>
          <p:nvPr/>
        </p:nvSpPr>
        <p:spPr>
          <a:xfrm>
            <a:off x="324000" y="1125360"/>
            <a:ext cx="828036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41680" indent="-84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Faits marquants 2013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plan régional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a gouvernance territoriale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ation du dispositif de rémunération dégressive pour les gardes posté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positif de suivi et d’évaluation de la PDSA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veaux projets 2013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r le département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2 CMTG,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réation d’une 5</a:t>
            </a:r>
            <a:r>
              <a:rPr b="0" lang="fr-FR" sz="18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 MMG à Noisy le Sec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xtension du CT Noisy-le-Grand/Gournay par la création d’un point  fixe sur l’HPMV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2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outil de recueil de données standardisées, renseigné par tous les acteurs (régulateurs et effecteurs) de tous les départe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me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&gt; avril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provisoir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jusqu’en 12/2014 (données déclarati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intégré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en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vaux menés par le GCS D-SISIF pour l’ARS, en lien avec les acteurs présents au niveau régional (URPS-médecins, représentants des SAMU) et au niveau territorial (médecins régulateurs libéraux et hospitaliers, effecteurs fixes et mob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disposer d’indicateurs de suivi et d’évaluation de la PDSA, partagés entre l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ers Tableaux de bor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15 mai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4247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341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ontée en charge progre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loiement auprès de l’ensemble des acteurs du C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olidation de l’exploitation avec l’appui d’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ité d’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aluation du dispositif régional PDSA prévue au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ère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restitution sous forme de tableaux de bord synthétiques à diffusion restreinte dans un 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temps aux instances de la PDSA (SCM et CTM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régionales et par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catégorie d’acteur (régulation médicale, effecti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our des remarques : GCS DSIS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1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br>
              <a:rPr sz="29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Axes de suivi et d’évaluation privilégi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371240"/>
            <a:ext cx="78487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Régulation médicale, pivot du dispositif PDSA conforme aux recommandation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 régulé à un médecin de g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isions de la régul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vité de la régulation par profil de médecins aux horaire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Effection répondant aux besoin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post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rticulation des dispositifs d’ef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Régulation médicale au CRRA-C15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412640"/>
            <a:ext cx="784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23 629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entrants aux horaires de la PDSA / 1 933 136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8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décrochés / 78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84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’appels décrochés en moins de 60 secondes / 85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2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M vers un médecin régulateur / 55 % sur l’IDF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ers un médecin hospitalier / 45 % s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4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décisions apportées aux horaires de la PDSA ont été des conseils médicaux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9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nt été orientés vers un service d’urgence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nt des orientations vers une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55000"/>
              <a:buFont typeface="Calibri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Effection globale (mobile et posté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547280"/>
            <a:ext cx="8136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ion mobil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991 visit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ur 8 m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eurs posté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tous confondus)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805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ultations do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11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ées à la demande du CRAA-C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3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consultations se font le samedi, de 12h à 16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imanches et JF : la répartition est identique aux tranches d’horaire de la PDSA, soi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3 % à 3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Plate-forme d’appel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547280"/>
            <a:ext cx="80643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rogression des appels décrochés par effecteur :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els en janvier et près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0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déc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se en charge des appels décrochés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 un médecin présent sur la plate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APUIS, Stéphanie</cp:lastModifiedBy>
  <cp:lastPrinted>2014-03-12T12:36:01Z</cp:lastPrinted>
  <dcterms:modified xsi:type="dcterms:W3CDTF">2014-06-11T12:05:30Z</dcterms:modified>
  <cp:revision>1653</cp:revision>
  <dc:subject/>
  <dc:title>Présentation PowerPoint</dc:title>
</cp:coreProperties>
</file>