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E4AC-2B95-4B46-9E0C-6228F42863C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00BC-AAEB-49CC-A3EF-824D202AA0B8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BC41-B62B-486E-B6B3-B02AD5D19B40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4C7A-D091-4BCC-AB6E-0DEBA342241E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C90C-0901-45BD-B2E3-8E986FDC37A0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403E-AC72-4AB7-9FE0-11CF2C5DF3C1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8D85-6A63-4784-B90A-E2FAE10B2DA0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16F2-DC2D-4C2A-BEB9-6D0E19592108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2E22-7EB4-40D4-8B17-4CAB20104435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7B83-858F-4EC3-AAA5-11251FBE46B6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4BBA-8E4A-495F-887B-4550616DE57B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BE6A-33B8-4F7F-9A89-A63F2AA28FF7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B93E-2A08-415B-AB2F-8B021BD6F53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;  ; ce qui consomme une ressource rare dans un dispositif dont la mission principale n’est pas la médecine d'urgence (rôle dévolu au S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e qui consomme une ressource rare dans des dispositifs dont la mission principale n’est pas la médecine d'urgence (rôle dévolu au services des urgences publics et privés autorisés par l’ARS) ; ce qui, en outre, n’est pas sans ris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AB4B-4F8E-43FA-A323-F43372D53671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6CC5-EDE8-4B26-85D7-5D66930DBD10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A315-CE43-4A2D-973A-4B515F431362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DC14-3121-47B6-873F-B75AB745592A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3976-EC92-4721-B0B0-29C252F1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2A74-EE4B-4DF3-A1CC-6C929C64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A8767E-3895-4CEA-8055-74DC2313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ADB64D-A61C-4CD1-969A-013961F2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3572AC-4823-4BA9-85CE-C4E19963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71E6D6-A321-4745-9630-315D7612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744328-4FE5-4A80-BFB6-8F7F8FB3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0B845F-57E7-4C34-9CD4-16E80433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B97B92-33B2-4E2D-ABB4-0C5E697C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C793E2-A3D9-4AFC-B7E5-92DC56ABD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C8247F-3124-436C-80D4-98877BD9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2D6AAC-7B87-434A-8A5E-00734505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DA27-7E47-46AD-B2A0-44BE6FE1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C244E9-04CC-48F8-9E86-732461F6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A3B323-BC9A-400C-B70B-6F1F8AEC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D1D262-AFF1-479A-BBC9-A13B9DFA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0393BF-4ADF-4651-B403-398E9C1C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CD5977-D5AF-4F13-B524-43ADDC0D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E60578-4790-4648-8047-4B55AEC4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A6358F-2E8B-489C-9E48-C044F7DF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DDDF28-AF28-4067-896D-BA6BD0A6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8C3478-77F4-4736-BB29-C34FBE21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9F69AA-937B-46B8-9E47-BA5F165C7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FE86-51F6-48E3-8F52-4E02CB35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9702E7-479D-47C6-83BD-E179A8F38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54A21-CD44-49C3-BA21-4DADAD2E2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9932A-DADB-47AC-A43B-3EFFCFF9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BC348-46BC-4973-A982-B2A2C303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66249-2581-4BB5-86AC-6E76290D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793EB-34B2-4AE5-9BC1-47A175D4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FDFAB-3C70-4A03-A0E4-D87E2E4F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70B09-1174-403A-93A7-C07C0335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250CA-DE90-41F4-AB06-E08562A5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CCA9D-49A1-42D8-BADB-0CD27270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5A548-9C4F-482B-90EE-46C3F4372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DF835-6BEC-494B-AC00-C8573BD9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2A147-C34C-4FD0-81BF-17E324A4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BFABD-FAFF-44DA-AF5C-6EA52142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7B9B5-20ED-4CE1-BC68-35873B03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644CFA-47EC-4BEC-A71F-29D17EA5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E3DDA3-21BA-4B96-937F-78B9653E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06632-58B1-4FCE-9B1B-96E89E91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B485FC-088F-4C2D-9F13-EE5C2DD1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ACEB3-196C-42C8-BBFC-DBFC2FD1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5A97AE-E135-4DFD-8C62-1615BD9A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DE0CD-4FE2-4E96-92AF-379D1C32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E47253-F07E-4562-A2FD-40057444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224BCD-59AB-4989-B7F4-56B1F10C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189F89-9B1A-4BD8-9960-CE21710F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62E496-9262-4A4D-8D13-5683A8A6D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E8924-9E67-401D-8749-7993A0D9F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304F5-E14D-469D-8585-E1A6675E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2BBEC-6974-421D-8C74-EDEC1510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B09D1-4A35-4BBD-9DE1-E2816E4E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5210B-5D48-43BC-AA6A-3B94EAEA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B2A58-43A1-42C1-B029-7269041D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B8C1-6239-4C65-8C29-36D42CA0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D3E63-50BD-4A4F-BC04-A6AE8C31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92BFA-3F60-4AC3-A38A-9FA12136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B709D-07CB-49AD-9835-712A5C13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B81C9-90A7-4D55-94DE-7694AEF6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E09B2-1CA1-449F-B34E-A1ED52FB6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E55BE-C774-4CE6-8BE7-7A0FCEE4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B84DD-5077-42E2-A950-2F6986DF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51FFE-CF1F-431B-B031-01F4284C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13744-A251-47A4-974F-E8A4426D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1CCD9-00D4-4B2B-ADD4-E5DBBF3D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5809-E07C-4201-9A73-1B7E4F76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16DC1-0DD6-47DF-8B44-24AB11FA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FD0BD-2463-4280-9974-4C1C6AC8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F00C0-4470-4161-9181-682B2BA8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819DE-3398-44EE-AFFF-E7485C8D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8E5BA-7C48-4E8E-9454-45564D7C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E8CA4-9042-40B2-A8B7-D308B21F4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DB2BA-0E84-435C-986B-BD66F7F37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86EBDE-A104-4773-8430-4D8FC123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242492-D9D1-4AAB-8583-5DAF861A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F0120D-E269-4AB4-A508-7C2D3734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B6DE-E07D-4AE0-88D0-7B447A2B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9FB016-81BC-4C8E-8BD2-04E85A10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42CCDF-B685-44F4-82BF-5D6202D2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307AD8-4155-4635-BA3E-CE233C5F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116F8A-398F-496B-88D2-5FC28163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68E8EA-318C-4034-8477-C78DCB80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89003E-5D5E-41C1-8784-8AF1A121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B4CDF4-6A98-40DC-BC18-DC4B1F23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6F270C-8AC9-4223-9409-DDED1A731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74D574-44B3-4667-B901-C04144BB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83934-CA56-4AEC-8247-D8813582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9EB5-211A-4235-B05B-FDF3A057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0C81F-5060-4808-B5C4-F480FDA2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02D00-CB87-4EA1-B5B9-84EAEB57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DDBF4-D5A1-42BD-A2A6-A3DD4F95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76305-89AF-4032-9F11-905AE4BA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4AAF0-1B78-408B-B35F-7C236DE6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9FFC6-C9DC-4887-9C66-D3719A4D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F8943-2AE8-4E4B-8455-D6069B33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10EEA-9B8A-4D67-9566-71A30A39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514A1-F354-4DEB-9C81-A6D58F9F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8D34F-8ED1-4DC5-A4A0-B874E89EF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1D52-33D7-45B8-AFE5-3143D68F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8D313-750F-46A2-8800-E4E297ADE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7F117-C015-4CDD-87D5-A985432C2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21E55-6961-4B19-A4AE-9AC6E435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4C651-8539-4B96-9535-112FE1A4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3A3B0-DE68-4DC4-A29D-4BA12F6F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20998-9931-400C-BB76-5773D487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CC3BC-307A-4CCC-B9B0-E118E9EF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30183-60F4-4353-8C88-78679AC4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F89E2-3A8D-4286-8386-EA446D75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5F6E7-EAE9-42C7-AEC3-93156B3A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826E-8820-4B61-BDFF-66A1F99A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EAD63-516E-4687-A9F0-8D151EBD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178BD-49BA-4D04-8A21-4C54B43B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5C4B8-961F-49D7-A383-14657822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EC77B-EC81-40AF-9268-3F3DFCC3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5A59F-AD1E-4FBA-8846-4E9F8F3C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F78D0-0D90-4B3F-886D-655CE145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B4B1E-BB22-4B22-ACA4-326A1318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383A6-50F7-4A7C-BE9E-51BB46AC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AD937-4C12-4BDE-A19D-51F61762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3D83E-5E61-4294-9B23-40E6B868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496B-4E39-48B2-83BB-321A4D30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BFDFB-98BB-4445-A74D-0BCA41C4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EE383-F6A9-41AF-B155-BA98F9D2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BA102-4BC1-46F3-A43F-E8366CE8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99AE4-3607-460F-B86D-E2D736DB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A4002-057B-4583-BC72-CAA72590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1C2C2-55F9-4E3D-A26A-60A3FA05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49E80-5137-4917-A811-B93DD627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407CE-B752-4DD2-B988-1BFBE959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CE70E-2E19-42CE-A8C1-56185DD4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74B1E-343C-4017-9279-9C57FB9C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2C87-7B22-4A8D-858D-7EA7950B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189F1-A43F-4EC9-8839-83EC1DC2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04444-23F3-4C86-8AD7-BC9BDE7B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3FC2A-CD90-45C8-8206-208584B6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AA06D-6633-4FCC-876F-0C598B23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E25EF-D050-485C-84C3-8FB3291A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2F280-2073-41EE-86B5-30B5CE05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65AE6-AE8F-43EC-98B3-F14E5F07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FE8215-8B12-4E99-84FF-79CE86B1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6CE571-783F-4AB8-A18B-DF64622A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FE8561-AA8C-47A9-B65D-90A44873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292E-CD5D-4DA0-944B-96F0DD969065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DA0A-F78A-44BF-B5A4-31EC46A82E1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39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451C-6CA8-4CA3-8EDA-428339D90889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83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E4F2-C6A5-4DFD-A3FD-DE21113F7D1C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Arrondir un rectangle avec un coin diagonal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12DC-5604-4488-9BEE-D83ADC2D5E8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80BE-C6A7-4B61-82CD-6100CE8B04AC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7B3E-E46B-48F3-87D7-0D7614F56A6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771D-9166-4439-96DD-8CB9463913C6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FAE0-321D-43AC-ADAA-91B161E4595A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7526-701C-4870-A643-D7C40CE509B6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2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6F40-F961-4B7A-BA42-B1B5FEBD3577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sldNum" idx="2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9B79-6F78-4685-B53E-BFC046E6F6E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Titr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583480" cy="240192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301680" y="3881520"/>
            <a:ext cx="8391600" cy="277344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Marc GIROU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conférence territoriale du 95 , le 28 février 2013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ZoneTexte 3"/>
          <p:cNvSpPr/>
          <p:nvPr/>
        </p:nvSpPr>
        <p:spPr>
          <a:xfrm>
            <a:off x="2674800" y="3013200"/>
            <a:ext cx="587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évelopp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aisons de santé pluridisciplinair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oordonn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ngé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des généralistes non regroup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bdc097"/>
                </a:solidFill>
                <a:latin typeface="Calibri"/>
              </a:rPr>
              <a:t>CDSA = continuité des soins (hors PDS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388C-5225-4466-8325-F828A2A5E8F3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évelopper l’usage du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M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filière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(ex : AVC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artenaria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Samu-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EHPAD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, Samu-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HAD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7809-2E22-4918-8F31-ECEEB6D90A1E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326520" cy="115884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opérations hospitaliè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consultations avancé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équipe d’urgentistes de territoi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1DC4-4D59-433F-94A2-082088B7FD57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ccompagnement social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our les cas où les problèmes médicaux semblent conditionnés par la situation sociale (solitude, vulnérabilité…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95F6-0A30-44F7-9D9A-B442E2FD1212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Bon usage des ressourc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(dialogue / médecin régulateur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ouleur thoracique, AVC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C738-44EC-4F06-A91D-55487C8E9B7A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ecteur Est (Goness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mur pédiatri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édecins correspondants de Sam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6085-4665-4B73-AE90-EBE457F11CB0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326520" cy="115884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Travail d’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ingénieu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ariations quotidiennes liées à la circul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ariations liées à la charge de travail des équip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Saisonnalit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egistre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des cas graves pris en charge en plus de 30m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2991-D25A-4CB9-A081-9811940A943D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Territoir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bain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ou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uraux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pas certain que le déficit soit plus important en zone rur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Situation du Vexin frança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e territoire est, certes,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éficitai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mais il est bie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einturé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d’établissements de santé (pas tous dans le 95) : Pontoise, Osny, L’Isle-Adam, Beaumont, Méru, Gisors, Vernon, Mantes, Meulan, Evecquemo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exi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ériurbain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et Vexin authentiquement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ur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B76F-1676-42BA-B4E7-BD05EA7BA087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DSA = (pour l’essentiel) SOS Médeci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en PDSA =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élai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souvent dissuasif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’efficacité de la PDSA serait multipliée si les interventions de SOS Médecins étaient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ordonnée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ar le Centre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4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5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9DF7-AA5C-4601-981C-C54388DE705F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DSA = continuité des soins (hors PDS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cours au 15 inappropri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abinets médicaux :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ngés non coordonn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Périodes critiq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épondeur : renvoi au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Nombreux recours au 15 pou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etour d’exam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ontinuité du trait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Nombreux passages aux urge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BD1C-6F4D-418A-9370-89133D61E1DE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455400" cy="11588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a régulation médicale = outi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e progrès médical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’égalité social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’optimisation de l’emploi des ressources</a:t>
            </a:r>
            <a:br>
              <a:rPr sz="2400"/>
            </a:b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es généralistes libéraux participent à la régulation médic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epuis dix ans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’est u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uccè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mplémentarité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généralistes + urgentis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lle pourrait être plus employé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ccès à la PDSA insuffisamment régul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4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5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0113-714B-42D3-8301-63842DA37D5E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es consultations non programmées se développent dans des établissements privés avec d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gentist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es pompiers disposent d’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gentiste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temps-ple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upture du principe de complémentarité Samu-Sd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eci n’est pas sans ris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eci consomme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essource rare des urgentist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ans des dispositifs dont ce n’est pas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ission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rincipal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a médecine d'urgence est le rôle dévolu aux services d’urgence publics et privé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utorisé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ar l’A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C0AE-F92B-41D4-874E-624ADA30D623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Titr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418600" cy="541152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301680" y="3881520"/>
            <a:ext cx="839160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ZoneTexte 3"/>
          <p:cNvSpPr/>
          <p:nvPr/>
        </p:nvSpPr>
        <p:spPr>
          <a:xfrm>
            <a:off x="2674800" y="3013200"/>
            <a:ext cx="587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ncourager les généralistes à anticipe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les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situations d’urgence attendues ou prévisibles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mieux informer les patients de ce qui peut leur arriver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rédiger pour les malades chroniques des fiches de liais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les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situations de fin de vi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A045-7E02-42F9-91D9-513075359C3B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égulation médicale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u Centre 15 et notamment la participation d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généralis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ller plus loin dans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rescription téléphonique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ar le Centre 15 (selon recommandations HA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8CD0-157C-4E6F-8E23-E782EE771956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10:44Z</dcterms:created>
  <dc:creator>Marc GIROUD</dc:creator>
  <dc:description/>
  <dc:language>en-US</dc:language>
  <cp:lastModifiedBy>CHRD</cp:lastModifiedBy>
  <dcterms:modified xsi:type="dcterms:W3CDTF">2013-02-28T11:09:46Z</dcterms:modified>
  <cp:revision>13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