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move the slide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2C16F-AC45-4A51-B18C-FE0EB673348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BCFEC-9AB3-401E-85AA-A2C8B4D7D003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9385E-96BE-44DB-A29C-8435F2AFEF5A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4A861-D378-4A04-9711-F1DD70015E8F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8C75A-4CB2-4536-B825-98E1820F225E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DDC2A-5EB9-497B-B089-D56124824183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8F34D-33FF-4F7F-A43C-F0765996C853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6883D-1BA1-4DE3-B5D7-3B063E5CE916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240B9-05D4-4CE3-B364-6824E8238853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441B7-2627-49D3-AAB6-E14B04AA3351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F172C-C403-4483-B08F-14AA9D77D84C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4CCFB-389E-4BA8-9837-D76CB07152FB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B4A8B-5DDC-4270-AA6C-DAE0464F3449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;  ; ce qui consomme une ressource rare dans un dispositif dont la mission principale n’est pas la médecine d'urgence (rôle dévolu au Sam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e qui consomme une ressource rare dans des dispositifs dont la mission principale n’est pas la médecine d'urgence (rôle dévolu au services des urgences publics et privés autorisés par l’ARS) ; ce qui, en outre, n’est pas sans risq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CCB4A-8575-4ACC-8C7B-AE78462BBD90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B9CD7-6605-4DFE-B1F1-33C74107DF06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8C25E-E830-4228-82B2-0FDA91B57D57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7A960-7A61-43C5-82B6-63544F7FCDE6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5F76-DC6F-4C3B-90B3-82BC16EF3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B44F-2743-40A2-87A6-416721A8F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4C4CC9-AE55-4B15-817B-FD22C57E3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1338B3-B47A-4940-BBDF-F35536ECE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3A3233C-3D80-4F31-9CE1-D88CA8090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FBB0A5-7D75-4033-9281-721B8C87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6EE5D55-AF56-4091-BD1B-08414F7D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47CE72-7A54-4F31-B809-9738EB70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E51EE6C-084E-42CA-AE2B-22209A9F7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E4B840E-119D-4EA8-B375-810DBC414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6E4FB8-E369-496B-BEEE-098D0263F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88B79F8-E553-43D3-9DE3-794C4468B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EF5B-CF6C-45AA-AACA-65C92FB06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9090222-9654-48EF-9815-49F51EB2A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A9737AD-FB53-4291-AB14-540F4C531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B665991-D4D2-4C90-A1B7-E10DA9757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79E7F02-37CD-47E0-A621-8F1A77F3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70F7DCC-EB88-4E73-ABF9-4EC0B79E9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73D01E5-EC96-4A6D-958C-8AD905C3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8773B76-065B-4D9F-8025-AF56B745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75846FB-45FE-407B-A726-25E8F5E2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9B995A1-A6EA-4B30-A9FA-C6EC376D0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99AE28A-AF78-4FFC-8668-CF78121A0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F2F8-4791-45EB-828D-967FFC771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8BA4AC6-0110-4765-8E3D-6716CAC8F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B0F3F5-C0DD-48E5-91F8-DE0C04D0C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4D59B3-46A1-451F-9CD9-1BBEED658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26E402-6C50-4691-AF27-0786D534F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AC389B-F8AE-455E-B1BB-6E6BCCF5B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432403-E174-40CB-96D4-1B98D7296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2A56A2-4A5B-4CCE-BFA4-37C15886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A47DE0-EAAF-4937-AE60-4CA21152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416236-E004-466A-9EBE-5C719A96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31FCF3-6D7E-4904-B31E-4F4E2827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1DA4C1-8A53-4DAC-81DC-7A5C7DBC3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085D6F-6887-471B-9D2D-FE6A6874B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060869-4898-4281-8653-2035F9CE6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6D7191-E515-4072-94A3-A57E40498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51D85F-69D1-48DA-AC6F-A974D5BE8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32DC82-59B6-46C2-8D6C-9667C1314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CA89E7-85C0-472A-A778-B9936EF7E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2FE5EE-812C-40B9-9676-9F50E7D65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4FCD4D-0374-46A3-9BFB-728D27744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FE317F-AC50-4E3A-967D-E81BE9FD7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D08D92-0E61-4EA0-B455-C9C39BF7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EE1228-38CB-4AE8-8815-380FB1ED7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1F41F0-655B-4612-B8B4-BBD5FFA0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53CDAF-1B32-4078-A3C2-F8BA7D11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097916-E1DF-47EA-B941-127E52E32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733F0D-EC7F-49EB-B872-984FE790C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493C90-923F-4127-9A3B-68E89924B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98861F-2AF8-4643-A796-0F716763A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83A534-CB37-45DE-B2F4-0950A86F3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6E441F-542F-4D2B-ABC1-EC80D4F89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43DF41-A9B9-4AF5-A6F1-DE27B4F83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FE4E91-24D8-473D-A8D4-71D8D725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72E2-EF73-4E07-BDB8-CD52D4ED0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08D237-E85D-4C7F-9D9C-95D55F2E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4588B9-D5AF-454D-BCAE-A2EDAA50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2A063D-8724-4FB7-9FBA-2C509601D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B2D452-5911-483E-9CF8-DE5F3311D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29BE29-2758-4D07-AA99-9054DAEDE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82433-E8EB-45C4-9DC0-AFA06CDFA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8E6B8-5CAF-4F91-AB8D-5C0AB04A9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03AED-8CAC-424D-9679-7F9ADC608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924F6-D6E4-48AE-AE07-60786C84E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E2296-EE3E-4F56-A6F0-A1F8A8D43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3501-10C3-4F1D-8D89-360EB7008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A0CE5-2F8F-46FD-8071-A32076A72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45BB6-4B35-4032-9F4C-C081CDCA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7D9A5-6DC2-4217-BACF-98CAF077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DC1F9-F14B-4B9A-9FF0-978BF58B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AC8F3-5706-48D8-8A1C-14B7D7785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B0CB9-24AB-49B0-8B46-65946CFE6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B8A28-864F-4AC8-9797-0BB765318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73630A-173F-47D9-80F2-FB0375483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B13602-F262-4AF5-BB31-45495238B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5616A0-36F9-4237-B214-9A031C58F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F0E1-CC40-4D64-B7D4-CF7CA72B9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15CD1E-6047-447E-ABDD-DCAB42A7B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EA5688-8D5B-4F07-A9FE-EA193DE5C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BAD31C-3DE2-4ECA-9F70-EB6E0FDB7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EB531E-111C-47AB-A19F-501C5AB8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515FF4-2AB3-4759-9AF1-034CEF08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AB1D36-03E7-4A9A-AD08-9E5494E2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32F7BB-54B3-4AE5-81C7-98BEDD44B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317005-EC70-4AB6-A7D6-B3FA62901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F0A473-8201-4901-88AA-677A6E093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93423-2381-4894-9C31-8A2641EAD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88C8-03E8-488C-9ED3-E93204F4C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47635-865F-4E0A-BE9E-1DA27A3F0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E8BAF-88F1-4CE0-AC6D-6B2EB29EF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396E4-A856-4AF3-9BDE-2A66A9F77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2C216-2439-4FF5-B7E1-EF8F900D4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2AD49-B07E-43A7-9DCC-8EF69B567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7B12F-DBC8-4982-B5BF-F0BD6AEA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C5C5D-2DEB-4142-813D-29DBD070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6D582-06C7-4A91-B451-444A0679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36C4A-E105-4C2E-9080-42B2B6653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FA985-D86D-47C9-8380-5670959E7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6EAA-D91A-49AC-958D-7D6D76E01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BF211-8934-40F1-B49E-83B711C93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A451C-1469-4B4E-8F52-957388867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F0A28D-D14E-41EB-9055-34E6E6A78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0E60E-1692-4B02-95D8-E00F29015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58E9D-030D-427E-BD97-19F6F23C7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19A41-70E9-443F-94FE-DCF950685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25CE1-BE51-4A23-9D33-1899B00AC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23E77-5484-47DE-983D-E562CCC0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01E8A-94A9-4C89-A692-3F3B34D5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B392C6-326B-4569-866E-9AB1ED1D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58AD-5B8A-405A-B8F9-759082D8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FF49C3-F323-4658-8C93-970A71D52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31ADE-872C-434B-8645-771BB8EE4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33966-1D3A-4A08-AEE7-960C82EAD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95845-9C13-4532-B06C-5A6FDD8E0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C951A-CDBA-44B1-83FE-E058969D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6696C9-3DFA-4F90-89F2-504B2DF01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D4315C-A7B8-4096-B606-93D0CA086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AB7E56-D976-44BA-9404-55D64C1E1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C4C5F-EDE8-4034-9056-7E6BF491A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19314-8747-4E42-878F-C6B005F6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B01A-4D2F-435C-915E-265EC8F5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6EECC-DEAF-4EF9-9747-3707D0AB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0C568-0164-4D24-9D99-401FD8F0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A5932-CE09-4BAF-948E-6B8AFA4E0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21316-6487-48B2-9E08-C5649C602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1D7944-DDD5-4D43-B611-CD48767E9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0C4A76-A80F-4776-A5E8-7279CC29B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8AE5E3-ED35-4B02-9923-7A2A38A87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92B802-FD65-4017-8ADC-CB6AB21A1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EB33A2-1F96-4441-922F-3657199F1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373895-A847-4387-BA75-C508ED7F0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A0AC-314C-41B2-9D93-DFC5B8D6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33E439-73ED-4C1F-83B9-769E6A45A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C088AC-8813-42E7-8057-683FD6B8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460CF4-5E28-4AFD-B532-4EB76ED5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44EE61-AF16-42BE-8B6D-619FAD60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99EB40-96DD-4DA7-8C1D-705207668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6C16AB-5828-47B7-82E1-AD11FBDF3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1823A3-1505-44F0-93F7-51A3AB2C6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8C6882-9272-41BB-BF58-D71CC7793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3BBC69-E358-41F2-898A-CBCF16AD1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D00FCE-F816-4732-B621-FF3E4156B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2CEBC-2177-4A8C-AED8-6F2A6E8E0A68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sldNum" idx="29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AB793-5A98-4D1B-AC3F-1FFC15FDD32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ftr" idx="30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39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08F97-9369-4674-99F0-F771610B2CC8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83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34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35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36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55CE2-1368-4A4E-AFE8-63255AB4C7B2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Arrondir un rectangle avec un coin diagonal 6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16CAF-7ACC-4046-B68E-66ECF67BEAC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91" name="Rectangle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151F2-255F-4487-AC8C-9AAE8D19FC96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18BA5-2B05-4FBB-AA9C-8441070721C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178" name="Rectangle 9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FDB4B-0467-41E5-AA30-DE28B36435E3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23" name="Rectangle 9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01F91-A23D-44CB-8C6C-7C8E007DAB22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69" name="Rectangle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B4C25-7ADB-4B6B-AB7E-A8EA13BF1FD1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12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9271C-36C9-486D-9EAF-08D78E451956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sldNum" idx="26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D5B3C-B3AF-42EB-8199-3C8A05AA6FB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ftr" idx="27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Titre 1" descr=""/>
          <p:cNvPicPr/>
          <p:nvPr/>
        </p:nvPicPr>
        <p:blipFill>
          <a:blip r:embed="rId2"/>
          <a:stretch/>
        </p:blipFill>
        <p:spPr>
          <a:xfrm>
            <a:off x="457200" y="208080"/>
            <a:ext cx="8583480" cy="240192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301680" y="3881520"/>
            <a:ext cx="8391600" cy="277344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8dac2"/>
                </a:solidFill>
                <a:latin typeface="Calibri"/>
              </a:rPr>
              <a:t>Marc GIROU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8dac2"/>
                </a:solidFill>
                <a:latin typeface="Calibri"/>
              </a:rPr>
              <a:t>conférence territoriale du 95 , le 28 février 2013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8dac2"/>
                </a:solidFill>
                <a:latin typeface="Calibri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5" name="ZoneTexte 3"/>
          <p:cNvSpPr/>
          <p:nvPr/>
        </p:nvSpPr>
        <p:spPr>
          <a:xfrm>
            <a:off x="2674800" y="3013200"/>
            <a:ext cx="5878800" cy="368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Développer l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maisons de santé pluridisciplinaire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Coordonner l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ongés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des généralistes non regroupé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bdc097"/>
                </a:solidFill>
                <a:latin typeface="Calibri"/>
              </a:rPr>
              <a:t>CDSA = continuité des soins (hors PDSA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6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7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8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398A2-C7DC-4C42-A479-A84D99E2793D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Développer l’usage du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DMP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Renforcer l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filières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(ex : AVC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Renforcer l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partenaria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Samu-</a:t>
            </a:r>
            <a:r>
              <a:rPr b="0" lang="fr-FR" sz="2000" spc="-1" strike="noStrike">
                <a:solidFill>
                  <a:srgbClr val="ffff00"/>
                </a:solidFill>
                <a:latin typeface="Calibri"/>
              </a:rPr>
              <a:t>EHPAD</a:t>
            </a: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, Samu-</a:t>
            </a:r>
            <a:r>
              <a:rPr b="0" lang="fr-FR" sz="2000" spc="-1" strike="noStrike">
                <a:solidFill>
                  <a:srgbClr val="ffff00"/>
                </a:solidFill>
                <a:latin typeface="Calibri"/>
              </a:rPr>
              <a:t>HAD…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2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3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ECE3D-86D6-4F8B-8181-7BEE57179549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326520" cy="1158840"/>
          </a:xfrm>
          <a:prstGeom prst="rect">
            <a:avLst/>
          </a:prstGeom>
          <a:ln w="0">
            <a:noFill/>
          </a:ln>
        </p:spPr>
      </p:pic>
      <p:sp>
        <p:nvSpPr>
          <p:cNvPr id="585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Renforcer l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oopérations hospitalièr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consultations avancée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équipe d’urgentistes de territoir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7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8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0A9B8-A796-40DF-85BB-E3E9867D7E60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Accompagnement social 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pour les cas où les problèmes médicaux semblent conditionnés par la situation sociale (solitude, vulnérabilité…)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1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2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3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FDF5E-6ECD-4D16-A38C-C40F7042615A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Bon usage des ressourc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(dialogue / médecin régulateur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Douleur thoracique, AVC…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6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7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8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ADEEE-57EA-4C9E-8585-3C57F5DF9EBC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Secteur Est (Gonesse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Smur pédiatriqu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Médecins correspondants de Samu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2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3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109D1-E412-4B5B-A756-C6CC332547DE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326520" cy="115884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Travail d’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ingénieur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Variations quotidiennes liées à la circul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Variations liées à la charge de travail des équip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Saisonnalité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Registre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des cas graves pris en charge en plus de 30m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7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8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E246D-7BD2-4F93-AC02-EBF88D7270F3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Territoir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urbains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ou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ruraux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pas certain que le déficit soit plus important en zone rura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Situation du Vexin françai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le territoire est, certes,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déficitair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mais il est bien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einturé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d’établissements de santé (pas tous dans le 95) : Pontoise, Osny, L’Isle-Adam, Beaumont, Méru, Gisors, Vernon, Mantes, Meulan, Evecquemo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Vexin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périurbain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et Vexin authentiquement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rura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9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0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67D90-98A2-4E7C-AC11-2CF2426AB601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PDSA = (pour l’essentiel) SOS Médeci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en PDSA =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délais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souvent dissuasif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l’efficacité de la PDSA serait multipliée si les interventions de SOS Médecins étaient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oordonnées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par le Centre 15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3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4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5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0E75E-FA18-4F88-87E7-4E3C4D5511BC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CDSA = continuité des soins (hors PDSA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Recours au 15 inapproprié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Cabinets médicaux :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ongés non coordonné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Périodes critiqu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Répondeur : renvoi au 15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Nombreux recours au 15 pour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65736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retour d’exame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65736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continuité du traite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Nombreux passages aux urgenc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65736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8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9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0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356F4-D9B7-4336-8CD4-11B9F2273EC9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455400" cy="115884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La régulation médicale = outi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de progrès médical,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d’égalité sociale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d’optimisation de l’emploi des ressources</a:t>
            </a:r>
            <a:br>
              <a:rPr sz="2400"/>
            </a:b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Des généralistes libéraux participent à la régulation médica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depuis dix ans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c’est un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succè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omplémentarité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généralistes + urgentist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Elle pourrait être plus employé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accès à la PDSA insuffisamment régulé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4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5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861E3-3B4C-46C4-8896-5E36278CFD00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Des consultations non programmées se développent dans des établissements privés avec d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urgentiste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Les pompiers disposent d’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urgentistes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temps-plei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rupture du principe de complémentarité Samu-Sdi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Ceci n’est pas sans risqu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Ceci consomme la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ressource rare des urgentiste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dans des dispositifs dont ce n’est pas la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mission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principale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la médecine d'urgence est le rôle dévolu aux services d’urgence publics et privé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autorisés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par l’A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9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0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BBBB3-261C-47D5-AF79-16666D4EF468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Titre 1" descr=""/>
          <p:cNvPicPr/>
          <p:nvPr/>
        </p:nvPicPr>
        <p:blipFill>
          <a:blip r:embed="rId2"/>
          <a:stretch/>
        </p:blipFill>
        <p:spPr>
          <a:xfrm>
            <a:off x="457200" y="208080"/>
            <a:ext cx="8418600" cy="541152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301680" y="3881520"/>
            <a:ext cx="8391600" cy="27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3" name="ZoneTexte 3"/>
          <p:cNvSpPr/>
          <p:nvPr/>
        </p:nvSpPr>
        <p:spPr>
          <a:xfrm>
            <a:off x="2674800" y="3013200"/>
            <a:ext cx="5878800" cy="368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Encourager les généralistes à anticiper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les </a:t>
            </a:r>
            <a:r>
              <a:rPr b="0" lang="fr-FR" sz="2000" spc="-1" strike="noStrike">
                <a:solidFill>
                  <a:srgbClr val="ffff00"/>
                </a:solidFill>
                <a:latin typeface="Calibri"/>
              </a:rPr>
              <a:t>situations d’urgence attendues ou prévisibles</a:t>
            </a: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mieux informer les patients de ce qui peut leur arriver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rédiger pour les malades chroniques des fiches de liais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les </a:t>
            </a:r>
            <a:r>
              <a:rPr b="0" lang="fr-FR" sz="2000" spc="-1" strike="noStrike">
                <a:solidFill>
                  <a:srgbClr val="ffff00"/>
                </a:solidFill>
                <a:latin typeface="Calibri"/>
              </a:rPr>
              <a:t>situations de fin de vi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6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7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8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96189-469C-415E-B19D-012D9775F294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Renforcer la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régulation médicale 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au Centre 15 et notamment la participation d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généralist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Aller plus loin dans la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prescription téléphonique 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par le Centre 15 (selon recommandations HAS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1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2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3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C2642-1E65-41CC-BE0C-29D6D3C3278D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10:44Z</dcterms:created>
  <dc:creator>Marc GIROUD</dc:creator>
  <dc:description/>
  <dc:language>en-US</dc:language>
  <cp:lastModifiedBy>CHRD</cp:lastModifiedBy>
  <dcterms:modified xsi:type="dcterms:W3CDTF">2013-02-28T11:09:46Z</dcterms:modified>
  <cp:revision>133</cp:revision>
  <dc:subject/>
  <dc:title> les métiers de la santé  et l’urgence</dc:title>
</cp:coreProperties>
</file>