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92913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6312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3F4F8-139F-49B9-A02A-3E5DCDB720EB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218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26560" y="2971800"/>
            <a:ext cx="77058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Contrat Local de Santé de VILLIERS LE BEL</a:t>
            </a:r>
            <a:endParaRPr b="1" lang="en-US" sz="2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228240"/>
            <a:ext cx="815328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8686800" cy="459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Quelques données chiffrées 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 091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,8% d’étrang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,3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chômage autour de 20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,4% de bénéficiaires de la Couverture Maladie Universelle complémentaire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% des revenus entre 3 797 € et 25 674 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% de la population et 48,6% des enfants &lt; 17 ans dans foyer à bas revenu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cateur de Développement Humain (IDH2):0,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" dur="500"/>
                                        <p:tgtEl>
                                          <p:spTgt spid="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" dur="500"/>
                                        <p:tgtEl>
                                          <p:spTgt spid="8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" dur="500"/>
                                        <p:tgtEl>
                                          <p:spTgt spid="8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" dur="500"/>
                                        <p:tgtEl>
                                          <p:spTgt spid="8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6" dur="500"/>
                                        <p:tgtEl>
                                          <p:spTgt spid="8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1" dur="500"/>
                                        <p:tgtEl>
                                          <p:spTgt spid="8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6" dur="500"/>
                                        <p:tgtEl>
                                          <p:spTgt spid="8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189000"/>
            <a:ext cx="815328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VILLIERS LE BEL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79280" y="691920"/>
            <a:ext cx="8785440" cy="53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es leviers 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ynamique santé depuis plusieurs anné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rois quartiers Contrat Urbain de Cohésion Sociale (C.U.C.S.)dont un expériment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 Atelier Santé Ville depuis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nostic socio-sanitaire en 200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e Maison de Santé Pluridisciplinaire depuis 20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jet d’agenda 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99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Mai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blème de vieillissement de ses médecins généralistes</a:t>
            </a:r>
            <a:r>
              <a:rPr b="0" lang="en-US" sz="1800" spc="-1" strike="noStrike">
                <a:solidFill>
                  <a:srgbClr val="990033"/>
                </a:solidFill>
                <a:latin typeface="Arial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nsités de médecins généralistes, de spécialistes de premier recours et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irurgiens dentistes inférieures à celles du départem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aux de mortalité infantile de 4,4 pour 1000 naissan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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,6% de l’ensemble des résidences principales relevant du Parc Privé Potentiellement Indig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6040" indent="0">
              <a:spcBef>
                <a:spcPts val="451"/>
              </a:spcBef>
              <a:buNone/>
              <a:tabLst>
                <a:tab algn="l" pos="0"/>
                <a:tab algn="l" pos="185760"/>
                <a:tab algn="l" pos="893880"/>
                <a:tab algn="l" pos="1787400"/>
                <a:tab algn="l" pos="2681280"/>
                <a:tab algn="l" pos="3575160"/>
                <a:tab algn="l" pos="4468680"/>
                <a:tab algn="l" pos="5362560"/>
                <a:tab algn="l" pos="6256440"/>
                <a:tab algn="l" pos="7149960"/>
                <a:tab algn="l" pos="8043840"/>
                <a:tab algn="l" pos="8937720"/>
                <a:tab algn="l" pos="9831240"/>
                <a:tab algn="l" pos="107251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2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" dur="500"/>
                                        <p:tgtEl>
                                          <p:spTgt spid="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2" dur="500"/>
                                        <p:tgtEl>
                                          <p:spTgt spid="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0" dur="500"/>
                                        <p:tgtEl>
                                          <p:spTgt spid="8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5" dur="500"/>
                                        <p:tgtEl>
                                          <p:spTgt spid="88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29"/>
          <p:cNvSpPr/>
          <p:nvPr/>
        </p:nvSpPr>
        <p:spPr>
          <a:xfrm>
            <a:off x="3851280" y="189000"/>
            <a:ext cx="497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0" name="Rectangle 3"/>
          <p:cNvSpPr/>
          <p:nvPr/>
        </p:nvSpPr>
        <p:spPr>
          <a:xfrm>
            <a:off x="250920" y="856800"/>
            <a:ext cx="8640720" cy="48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63600" indent="-363600" algn="just">
              <a:spcBef>
                <a:spcPts val="1250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  <a:ea typeface="Times New Roman"/>
              </a:rPr>
              <a:t>Actions retenues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 1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:</a:t>
            </a:r>
            <a:r>
              <a:rPr b="1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Lutter contre la désertification médicale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1254240" indent="-711360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  <a:tab algn="l" pos="47052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Informer les médecins sur les possibilités d’installation sur la commune (fiche 1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002395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2 :</a:t>
            </a:r>
            <a:r>
              <a:rPr b="0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Mobiliser les acteurs pour réduire les inégalités sociales et territoriales de santé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       </a:t>
            </a:r>
            <a:r>
              <a:rPr b="1" lang="en-US" sz="1800" spc="-1" strike="noStrike">
                <a:solidFill>
                  <a:srgbClr val="990033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éaliser un outil à destination des professionnels de santé (fiche 2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Favoriser le travail en réseau des professionnels de santé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(fiche 3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3 : Améliorer la santé globale de la population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ctr">
              <a:spcBef>
                <a:spcPts val="1001"/>
              </a:spcBef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Conforter le travail de coordination et de prévention de l’Atelier Santé Ville (fiche 4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buClr>
                <a:srgbClr val="990033"/>
              </a:buClr>
              <a:buFont typeface="Arial"/>
              <a:buChar char="-"/>
              <a:tabLst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lnSpc>
                <a:spcPct val="100000"/>
              </a:lnSpc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Axe4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 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: Am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liorer la sant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é</a:t>
            </a:r>
            <a:r>
              <a:rPr b="1" lang="en-US" sz="1600" spc="-1" strike="noStrike">
                <a:solidFill>
                  <a:srgbClr val="006600"/>
                </a:solidFill>
                <a:latin typeface="Arial Gras"/>
                <a:ea typeface="Times New Roman"/>
              </a:rPr>
              <a:t> globale des jeunes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Renforcer et poursuivre les actions prévention et promotion de la santé actuellement                                                                    menées sur la commune (fiche 5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 algn="just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  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marL="363600" indent="-363600">
              <a:tabLst>
                <a:tab algn="l" pos="0"/>
                <a:tab algn="l" pos="444600"/>
                <a:tab algn="l" pos="1081080"/>
                <a:tab algn="l" pos="1085760"/>
                <a:tab algn="l" pos="1266840"/>
                <a:tab algn="l" pos="1447920"/>
                <a:tab algn="l" pos="1628640"/>
                <a:tab algn="l" pos="1809720"/>
                <a:tab algn="l" pos="1990800"/>
                <a:tab algn="l" pos="2171880"/>
                <a:tab algn="l" pos="2352600"/>
                <a:tab algn="l" pos="2533680"/>
                <a:tab algn="l" pos="2714760"/>
                <a:tab algn="l" pos="2895480"/>
                <a:tab algn="l" pos="3076560"/>
                <a:tab algn="l" pos="3257640"/>
                <a:tab algn="l" pos="3438360"/>
                <a:tab algn="l" pos="3619440"/>
                <a:tab algn="l" pos="3800520"/>
                <a:tab algn="l" pos="3981600"/>
                <a:tab algn="l" pos="4162320"/>
                <a:tab algn="l" pos="4343400"/>
                <a:tab algn="l" pos="4524480"/>
              </a:tabLst>
            </a:pP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         </a:t>
            </a:r>
            <a:r>
              <a:rPr b="0" lang="en-US" sz="1600" spc="-1" strike="noStrike">
                <a:solidFill>
                  <a:srgbClr val="000080"/>
                </a:solidFill>
                <a:latin typeface="Arial"/>
                <a:ea typeface="Times New Roman"/>
              </a:rPr>
              <a:t>-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Impulser une réflexion pour identifier les problématiques (fiche 6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6" dur="5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1" dur="5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1" dur="500"/>
                                        <p:tgtEl>
                                          <p:spTgt spid="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6" dur="500"/>
                                        <p:tgtEl>
                                          <p:spTgt spid="9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1" dur="500"/>
                                        <p:tgtEl>
                                          <p:spTgt spid="9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6" dur="500"/>
                                        <p:tgtEl>
                                          <p:spTgt spid="9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1" dur="500"/>
                                        <p:tgtEl>
                                          <p:spTgt spid="90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6" dur="500"/>
                                        <p:tgtEl>
                                          <p:spTgt spid="90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AutoShape 4">
            <a:hlinkClick r:id="" action="ppaction://hlinkshowjump?jump=nextslide"/>
          </p:cNvPr>
          <p:cNvSpPr/>
          <p:nvPr/>
        </p:nvSpPr>
        <p:spPr>
          <a:xfrm>
            <a:off x="1143000" y="2163600"/>
            <a:ext cx="7238880" cy="266760"/>
          </a:xfrm>
          <a:custGeom>
            <a:avLst/>
            <a:gdLst>
              <a:gd name="textAreaLeft" fmla="*/ 17280 w 7238880"/>
              <a:gd name="textAreaRight" fmla="*/ 7221600 w 7238880"/>
              <a:gd name="textAreaTop" fmla="*/ 17280 h 266760"/>
              <a:gd name="textAreaBottom" fmla="*/ 249480 h 266760"/>
            </a:gdLst>
            <a:ahLst/>
            <a:rect l="textAreaLeft" t="textAreaTop" r="textAreaRight" b="textAreaBottom"/>
            <a:pathLst>
              <a:path w="585383" h="21600">
                <a:moveTo>
                  <a:pt x="0" y="0"/>
                </a:moveTo>
                <a:lnTo>
                  <a:pt x="585383" y="0"/>
                </a:lnTo>
                <a:lnTo>
                  <a:pt x="585383" y="21600"/>
                </a:lnTo>
                <a:lnTo>
                  <a:pt x="0" y="21600"/>
                </a:lnTo>
                <a:close/>
              </a:path>
              <a:path fill="lightenLess" w="585383" h="21600">
                <a:moveTo>
                  <a:pt x="0" y="0"/>
                </a:moveTo>
                <a:lnTo>
                  <a:pt x="585383" y="0"/>
                </a:lnTo>
                <a:lnTo>
                  <a:pt x="583983" y="1400"/>
                </a:lnTo>
                <a:lnTo>
                  <a:pt x="1400" y="1400"/>
                </a:lnTo>
                <a:close/>
              </a:path>
              <a:path fill="darken" w="585383" h="21600">
                <a:moveTo>
                  <a:pt x="585383" y="0"/>
                </a:moveTo>
                <a:lnTo>
                  <a:pt x="585383" y="21600"/>
                </a:lnTo>
                <a:lnTo>
                  <a:pt x="583983" y="20200"/>
                </a:lnTo>
                <a:lnTo>
                  <a:pt x="583983" y="1400"/>
                </a:lnTo>
                <a:close/>
              </a:path>
              <a:path fill="darkenLess" w="585383" h="21600">
                <a:moveTo>
                  <a:pt x="5853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3983" y="20200"/>
                </a:lnTo>
                <a:close/>
              </a:path>
              <a:path fill="lighten" w="5853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85383" h="21600">
                <a:moveTo>
                  <a:pt x="285685" y="3794"/>
                </a:moveTo>
                <a:lnTo>
                  <a:pt x="299698" y="10800"/>
                </a:lnTo>
                <a:lnTo>
                  <a:pt x="285685" y="178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2" name="Text Box 1029"/>
          <p:cNvSpPr/>
          <p:nvPr/>
        </p:nvSpPr>
        <p:spPr>
          <a:xfrm>
            <a:off x="3850560" y="304920"/>
            <a:ext cx="497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9900"/>
                </a:solidFill>
                <a:latin typeface="Arial"/>
              </a:rPr>
              <a:t>Contrat Local de Santé 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de VILLIERS LE BEL</a:t>
            </a:r>
            <a:endParaRPr b="0" lang="en-US" sz="18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93" name="Rectangle 5"/>
          <p:cNvSpPr/>
          <p:nvPr/>
        </p:nvSpPr>
        <p:spPr>
          <a:xfrm>
            <a:off x="285840" y="1117080"/>
            <a:ext cx="8678880" cy="45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Actions retenues (suites) :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  <a:p>
            <a:pPr algn="just">
              <a:spcBef>
                <a:spcPts val="1001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</a:t>
            </a:r>
            <a:r>
              <a:rPr b="1" lang="en-US" sz="1600" spc="-1" strike="noStrike">
                <a:solidFill>
                  <a:srgbClr val="008000"/>
                </a:solidFill>
                <a:latin typeface="Arial"/>
                <a:ea typeface="Times New Roman"/>
              </a:rPr>
              <a:t>5: </a:t>
            </a: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Lutter contre la mortalité infantile</a:t>
            </a: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étecter les facteurs de causalité de la mortalité infantile (fiche 7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2" marL="812880" indent="-1890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nitier des actions de prévention et promotion de la santé en périnatalité (fiche 8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990033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buClr>
                <a:srgbClr val="002395"/>
              </a:buClr>
              <a:buFont typeface="Arial"/>
              <a:buChar char="-"/>
              <a:tabLst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  <a:ea typeface="Times New Roman"/>
              </a:rPr>
              <a:t>Axe 6: Réduire les inégalités sociales de santé en lien avec l’environnement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Formaliser les collaborations entre services de la municipalité et services de la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élégation territoriale (fiche 9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  <a:p>
            <a:pPr lvl="1" marL="351000" indent="93600">
              <a:lnSpc>
                <a:spcPct val="100000"/>
              </a:lnSpc>
              <a:tabLst>
                <a:tab algn="l" pos="0"/>
                <a:tab algn="l" pos="635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-  Aider à l’accompagnement à travers une action de prévention et de promotion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de la santé auprès des personnes occupants des logements reconnu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   insalubres (fiche 10)</a:t>
            </a:r>
            <a:endParaRPr b="0" lang="en-US" sz="16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3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8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8" dur="5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3" dur="500"/>
                                        <p:tgtEl>
                                          <p:spTgt spid="9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9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9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ean-Marc.PAGANI</cp:lastModifiedBy>
  <cp:lastPrinted>2011-11-03T10:08:07Z</cp:lastPrinted>
  <dcterms:modified xsi:type="dcterms:W3CDTF">2011-12-13T11:26:18Z</dcterms:modified>
  <cp:revision>50</cp:revision>
  <dc:subject/>
  <dc:title>ESSA</dc:title>
</cp:coreProperties>
</file>