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675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04920" y="228600"/>
            <a:ext cx="8153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4" descr="ARS-TERRITOIRE GRAPHIQUE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244000" y="6477120"/>
            <a:ext cx="7920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03DF3-C3A2-4A27-B600-30A11B543BE1}" type="slidenum">
              <a:rPr b="0" lang="en-US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" name="Text Box 7"/>
          <p:cNvSpPr/>
          <p:nvPr/>
        </p:nvSpPr>
        <p:spPr>
          <a:xfrm>
            <a:off x="366480" y="6461280"/>
            <a:ext cx="2575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Times New Roman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5" name="Text Box 8"/>
          <p:cNvSpPr/>
          <p:nvPr/>
        </p:nvSpPr>
        <p:spPr>
          <a:xfrm>
            <a:off x="3184560" y="6537240"/>
            <a:ext cx="183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2" descr="ARS-TERRITOIRE GRAPHIQUE"/>
          <p:cNvPicPr/>
          <p:nvPr/>
        </p:nvPicPr>
        <p:blipFill>
          <a:blip r:embed="rId2"/>
          <a:stretch/>
        </p:blipFill>
        <p:spPr>
          <a:xfrm>
            <a:off x="0" y="16344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43" name="Text Box 7"/>
          <p:cNvSpPr/>
          <p:nvPr/>
        </p:nvSpPr>
        <p:spPr>
          <a:xfrm>
            <a:off x="345960" y="6375240"/>
            <a:ext cx="3002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2395"/>
                </a:solidFill>
                <a:latin typeface="Arial"/>
              </a:rPr>
              <a:t>Conférence de Territoire du 15 décembre 2011</a:t>
            </a:r>
            <a:endParaRPr b="0" lang="en-US" sz="10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4" name="Picture 8" descr="ARS-PPT-LOGO"/>
          <p:cNvPicPr/>
          <p:nvPr/>
        </p:nvPicPr>
        <p:blipFill>
          <a:blip r:embed="rId3"/>
          <a:stretch/>
        </p:blipFill>
        <p:spPr>
          <a:xfrm>
            <a:off x="357120" y="1014480"/>
            <a:ext cx="2341800" cy="143820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2843280" y="1268280"/>
            <a:ext cx="619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806400"/>
                <a:tab algn="l" pos="1141560"/>
                <a:tab algn="l" pos="524340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Délégation territoriale du Val d’Oise</a:t>
            </a:r>
            <a:endParaRPr b="0" lang="en-US" sz="2000" spc="-1" strike="noStrike">
              <a:solidFill>
                <a:srgbClr val="002395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484280" indent="-154080">
              <a:spcBef>
                <a:spcPts val="425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905120">
              <a:spcBef>
                <a:spcPts val="425"/>
              </a:spcBef>
              <a:buClr>
                <a:srgbClr val="ffff99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676160" y="35809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trat Local de Santé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         de Sarcelles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6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764640"/>
            <a:ext cx="85341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Quelques données chiffré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700" spc="-1" strike="noStrike">
                <a:solidFill>
                  <a:srgbClr val="333333"/>
                </a:solidFill>
                <a:latin typeface="Arial"/>
              </a:rPr>
              <a:t>59 594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habitants (INSEE 2007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4,4% de moins de 20 a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Plus de 19% d’étrangers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69% d’employés et d’ouvriers, 6% de cad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4,6%  des personnes de 15 ans et + sans diplôme en 20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Taux de chômage de plus de 21%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12,5% de bénéficiaires de la Couverture Maladie Universelle complémentai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59,8% de foyers fiscaux non imposab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80% des revenus entre 3 925 € et 26 428 €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30% de la population et 43,1% des enfants&lt;17 ans dans foyer à bas revenu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33"/>
                </a:solidFill>
                <a:latin typeface="Wingdings"/>
                <a:ea typeface="Wingdings"/>
              </a:rPr>
              <a:t></a:t>
            </a:r>
            <a:r>
              <a:rPr b="0" lang="en-US" sz="18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333333"/>
                </a:solidFill>
                <a:latin typeface="Arial"/>
              </a:rPr>
              <a:t>Indicateur de Développement Humain (IDH2): 0,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51920" y="762120"/>
            <a:ext cx="8610840" cy="533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3333cc"/>
                </a:solidFill>
                <a:latin typeface="Arial"/>
              </a:rPr>
              <a:t>Un existant contrast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La densité de médecins généralistes est de 65,4 pour 100 000 habitants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mais la part des généralistes en secteur 1 est supérieure à la moyenne du département (87,5% contre 82,1%).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L’offre de soins hospitalière est globalement satisfaisante avec notamment, sur place, l’hôpital privé Nord Parisien et à proximité le CH de Goness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Des actions de prévention existent mais dispersé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	</a:t>
            </a:r>
            <a:r>
              <a:rPr b="0" lang="fr-FR" sz="1700" spc="-1" strike="noStrike">
                <a:solidFill>
                  <a:srgbClr val="3333cc"/>
                </a:solidFill>
                <a:latin typeface="Arial"/>
              </a:rPr>
              <a:t>ex: (CPAM / examens bucco-dentaires) - (dépistage organisé et individuel du cancer du sein)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6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6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50920" y="907560"/>
            <a:ext cx="820728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33"/>
                </a:solidFill>
                <a:latin typeface="Arial"/>
              </a:rPr>
              <a:t>Des besoins for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4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nnaître les caractéristiques de l’état de santé des Sarcello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ordonner et développer les actions de santé sur la commune et pour cela, créer un Atelier Santé Vill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Confirmer des ressentis des professionnels du secteur sanitaire, social et éducatif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3333cc"/>
                </a:solidFill>
                <a:latin typeface="Arial"/>
              </a:rPr>
              <a:t>Lutter contre l’habitat indigne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815328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16120" indent="0" algn="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1800" spc="-1" strike="noStrike">
                <a:solidFill>
                  <a:srgbClr val="7ab800"/>
                </a:solidFill>
                <a:latin typeface="Arial"/>
              </a:rPr>
              <a:t>Contrat Local de Santé de Sarcelles</a:t>
            </a:r>
            <a:endParaRPr b="1" lang="en-US" sz="1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24000" y="764640"/>
            <a:ext cx="88200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00"/>
                </a:solidFill>
                <a:latin typeface="Arial"/>
              </a:rPr>
              <a:t>Dés 2011 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Participation de l’ARS au financement d’un diagnostic (20.000 euros) (Action 1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6600"/>
                </a:solidFill>
                <a:latin typeface="Arial"/>
              </a:rPr>
              <a:t>Dés 2012 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Identifier les problématiques principales de santé et définir des actions (Action 2)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Trouver les ressources humaines et financières pour créer un ASV (Action 3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Impulser une réflexion pour identifier les problématiques spécifiques populationnelle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439560">
              <a:lnSpc>
                <a:spcPct val="80000"/>
              </a:lnSpc>
              <a:spcBef>
                <a:spcPts val="374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la souffrance psychique des jeunes et des enfants (Action 4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-439560">
              <a:lnSpc>
                <a:spcPct val="80000"/>
              </a:lnSpc>
              <a:spcBef>
                <a:spcPts val="374"/>
              </a:spcBef>
              <a:buClr>
                <a:srgbClr val="ccff66"/>
              </a:buClr>
              <a:buSzPct val="15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la prise en charge des femmes enceintes ou atteintes d’un cancer (Action 5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1" marL="13176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-698400">
              <a:lnSpc>
                <a:spcPct val="80000"/>
              </a:lnSpc>
              <a:spcBef>
                <a:spcPts val="374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3333cc"/>
                </a:solidFill>
                <a:latin typeface="Arial"/>
              </a:rPr>
              <a:t>Réduire les inégalités sociales de santé en lien avec l’environnement (Actions 6 et 7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69840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698400"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69840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2T14:29:05Z</dcterms:created>
  <dc:creator>Joelle.DEVOS</dc:creator>
  <dc:description/>
  <dc:language>en-US</dc:language>
  <cp:lastModifiedBy>Joelle.DEVOS</cp:lastModifiedBy>
  <cp:lastPrinted>2011-11-02T16:07:34Z</cp:lastPrinted>
  <dcterms:modified xsi:type="dcterms:W3CDTF">2011-12-14T10:17:56Z</dcterms:modified>
  <cp:revision>28</cp:revision>
  <dc:subject/>
  <dc:title>ESSA</dc:title>
</cp:coreProperties>
</file>