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074E-6C57-4B14-B78C-6D0EA7526440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971800"/>
            <a:ext cx="7705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e VILLIERS LE BEL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elques données chiffré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091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8% d’étr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,3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autour de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3 797 € et 25 674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% de la population et 48,6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0,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153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plusieur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quartiers Contrat Urbain de Cohésion Sociale (C.U.C.S.)dont un expéri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ison de Santé Pluridisciplinaire depui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’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4,4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6% de l’ensemble des résidences principales relevant du Parc Privé 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9"/>
          <p:cNvSpPr/>
          <p:nvPr/>
        </p:nvSpPr>
        <p:spPr>
          <a:xfrm>
            <a:off x="3851280" y="18900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856800"/>
            <a:ext cx="864072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 algn="just">
              <a:spcBef>
                <a:spcPts val="1250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tions retenues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 1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: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Lutter contre la désertification médic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254240" indent="-711360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former les médecins sur les possibilités d’installation sur la commune (fiche 1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002395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2 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éaliser un outil à destination des professionnels de santé (fiche 2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avoriser le travail en réseau des professionnels de santé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fiche 3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3 : Améliorer la santé globale de la populatio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ctr"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nforter le travail de coordination et de prévention de l’Atelier Santé Ville (fiche 4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990033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4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: Am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liorer la sant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 globale des jeun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nforcer et poursuivre les actions prévention et promotion de la santé actuellement                                                                    menées sur la commune (fiche 5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r une réflexion pour identifier les problématiques (fiche 6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3850560" y="3049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85840" y="1117080"/>
            <a:ext cx="867888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s retenues (suites)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5: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utter contre la mortalité infantile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tecter les facteurs de causalité de la mortalité infantile (fiche 7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er des actions de prévention et promotion de la santé en périnatalité (fiche 8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2395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6: Réduire les inégalités sociales de santé en lien avec l’environn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Formaliser les collaborations entre services de la municipalité et services de l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élégation territoriale (fiche 9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Aider à l’accompagnement à travers une action de prévention et de promo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 la santé auprès des personnes occupants des logements reconn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insalubres (fiche 10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2-13T11:26:18Z</dcterms:modified>
  <cp:revision>50</cp:revision>
  <dc:subject/>
  <dc:title>ESSA</dc:title>
</cp:coreProperties>
</file>