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65DC-3A06-47EE-A8C3-F6DAC378457D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6480" y="646128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300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3580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trat Local de Santé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  de Goussainville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                                           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ontrat Local de Santé de Goussainville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1066680"/>
            <a:ext cx="86598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Quelques données chiffré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 310 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,4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familles ont au moins 4 enfants de moins de 25 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 d’étranger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% d’employés et d’ouvriers, 6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ès de 35 % 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chômage : plus de 19% pour les femmes, celui des hommes :17,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,1% de bénéficiaires de la Couverture Maladie Universelle complément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% des revenus entre 4 967 € et 27 728 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,8% de la population; 36,5% des enfants &lt; 17 ans dans foyer à bas reven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cateur de Développement Humain (IDH2): 0,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5150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                                               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ontrat Local de Santé de Goussainville  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46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s Levier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onté d’impulser une dynamiqu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t de mise en place d’un Atelier Santé 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is de ses quartiers en Contrat Urbain de Cohésion Sociale (C.U.C.S.) avec un volet santé et Projet de Réussite Educ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Mai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ostic socio-sanitaire à réaliser pour identifier les problématiques priorit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mortalité infantile de 6,5 pour 1000 naiss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ème de vieillissement et d’implantation des médecins généraliste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                                            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ontrat Local de Santé de Goussainville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7640" y="990360"/>
            <a:ext cx="8807400" cy="46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Axes stratégiques partag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00"/>
                </a:solidFill>
                <a:latin typeface="Arial"/>
              </a:rPr>
              <a:t>Axe 1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méliorer la connaissance de l’état socio-sanitaire des Goussainvillo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our permettre la définition des beso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Réalisation d’un diagnostic territorial de santé </a:t>
            </a:r>
            <a:r>
              <a:rPr b="0" lang="fr-FR" sz="1400" spc="-1" strike="noStrike">
                <a:solidFill>
                  <a:srgbClr val="3333cc"/>
                </a:solidFill>
                <a:latin typeface="Arial"/>
              </a:rPr>
              <a:t>(subvention ARS : 25 000 €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Identification des problématiques et définition des axes stratégiques d’actions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00"/>
                </a:solidFill>
                <a:latin typeface="Arial"/>
              </a:rPr>
              <a:t>Axe 2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oordonner les actions de santé sur la commu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Mise en place d’un Atelier Santé Vil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00"/>
                </a:solidFill>
                <a:latin typeface="Arial"/>
              </a:rPr>
              <a:t>Axe 3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éduire les inégalités sociales de santé en lien avec l’environn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Formalisation des collaborations entre commune et DT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Action d’accompagnement des personnes habitant des logements reconnus insalub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"/>
              </a:rPr>
              <a:t>En cohérence avec les priorités de l’Agence Régionale de San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Joelle.DEVOS</cp:lastModifiedBy>
  <cp:lastPrinted>2011-11-02T16:07:34Z</cp:lastPrinted>
  <dcterms:modified xsi:type="dcterms:W3CDTF">2011-12-13T16:42:44Z</dcterms:modified>
  <cp:revision>21</cp:revision>
  <dc:subject/>
  <dc:title>ESSA</dc:title>
</cp:coreProperties>
</file>