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4C17-067B-46AC-8B33-ACC52F223124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6480" y="646128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321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560" y="2971800"/>
            <a:ext cx="7705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Contrat Local de Santé de VILLIERS LE BEL</a:t>
            </a:r>
            <a:endParaRPr b="1" lang="en-US" sz="2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VILLIERS LE BEL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868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Quelques données chiffrées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 091 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,8% d’étran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% d’employés et d’ouvriers, 6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,3% 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chômage autour de 20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,4% de bénéficiaires de la Couverture Maladie Universelle complémentaire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,8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% des revenus entre 3 797 € et 25 674 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% de la population et 48,6% des enfants &lt; 17 ans dans foyer à bas revenus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ur de Développement Humain (IDH2):0,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189000"/>
            <a:ext cx="81532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VILLIERS LE BEL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>
              <a:spcBef>
                <a:spcPts val="499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s leviers 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que santé depuis plusieurs a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is quartiers Contrat Urbain de Cohésion Sociale (C.U.C.S.)dont un expérimen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Atelier Santé Ville depuis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ostic socio-sanitaire en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 Maison de Santé Pluridisciplinaire depuis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t d’agenda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Mai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ème de vieillissement de ses médecins généralistes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tés de médecins généralistes, de spécialistes de premier recours et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rurgiens dentistes inférieures à celles du dépar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mortalité infantile de 4,4 pour 1000 naiss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,6% de l’ensemble des résidences principales relevant du Parc Privé Potentiellement Ind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29"/>
          <p:cNvSpPr/>
          <p:nvPr/>
        </p:nvSpPr>
        <p:spPr>
          <a:xfrm>
            <a:off x="3851280" y="189000"/>
            <a:ext cx="49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Contrat Local de Santé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de VILLIERS LE BEL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50920" y="856800"/>
            <a:ext cx="8640720" cy="48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3600" indent="-363600" algn="just">
              <a:spcBef>
                <a:spcPts val="1250"/>
              </a:spcBef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ctions retenues :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 Gras"/>
                <a:ea typeface="Times New Roman"/>
              </a:rPr>
              <a:t>Axe 1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 :</a:t>
            </a:r>
            <a:r>
              <a:rPr b="1" lang="en-US" sz="1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Lutter contre la désertification médicale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254240" indent="-711360">
              <a:lnSpc>
                <a:spcPct val="100000"/>
              </a:lnSpc>
              <a:tabLst>
                <a:tab algn="l" pos="0"/>
                <a:tab algn="l" pos="444600"/>
                <a:tab algn="l" pos="108108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Informer les médecins sur les possibilités d’installation sur la commune (fiche 1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buClr>
                <a:srgbClr val="002395"/>
              </a:buClr>
              <a:buFont typeface="Arial"/>
              <a:buChar char="-"/>
              <a:tabLst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Axe2 :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Mobiliser les acteurs pour réduire les inégalités sociales et territoriales de santé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Réaliser un outil à destination des professionnels de santé (fiche 2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Favoriser le travail en réseau des professionnels de santé</a:t>
            </a: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fiche 3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Axe 3 : Améliorer la santé globale de la population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ctr">
              <a:spcBef>
                <a:spcPts val="1001"/>
              </a:spcBef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Conforter le travail de coordination et de prévention de l’Atelier Santé Ville (fiche 4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buClr>
                <a:srgbClr val="990033"/>
              </a:buClr>
              <a:buFont typeface="Arial"/>
              <a:buChar char="-"/>
              <a:tabLst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lnSpc>
                <a:spcPct val="100000"/>
              </a:lnSpc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 Gras"/>
                <a:ea typeface="Times New Roman"/>
              </a:rPr>
              <a:t>Axe4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 </a:t>
            </a:r>
            <a:r>
              <a:rPr b="1" lang="en-US" sz="1600" spc="-1" strike="noStrike">
                <a:solidFill>
                  <a:srgbClr val="006600"/>
                </a:solidFill>
                <a:latin typeface="Arial Gras"/>
                <a:ea typeface="Times New Roman"/>
              </a:rPr>
              <a:t>: Am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é</a:t>
            </a:r>
            <a:r>
              <a:rPr b="1" lang="en-US" sz="1600" spc="-1" strike="noStrike">
                <a:solidFill>
                  <a:srgbClr val="006600"/>
                </a:solidFill>
                <a:latin typeface="Arial Gras"/>
                <a:ea typeface="Times New Roman"/>
              </a:rPr>
              <a:t>liorer la sant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é</a:t>
            </a:r>
            <a:r>
              <a:rPr b="1" lang="en-US" sz="1600" spc="-1" strike="noStrike">
                <a:solidFill>
                  <a:srgbClr val="006600"/>
                </a:solidFill>
                <a:latin typeface="Arial Gras"/>
                <a:ea typeface="Times New Roman"/>
              </a:rPr>
              <a:t> globale des jeune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Renforcer et poursuivre les actions prévention et promotion de la santé actuellement                                                                    menées sur la commune (fiche 5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  <a:ea typeface="Times New Roman"/>
              </a:rPr>
              <a:t>           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  <a:ea typeface="Times New Roman"/>
              </a:rPr>
              <a:t>         </a:t>
            </a:r>
            <a:r>
              <a:rPr b="0" lang="en-US" sz="1600" spc="-1" strike="noStrike">
                <a:solidFill>
                  <a:srgbClr val="000080"/>
                </a:solidFill>
                <a:latin typeface="Arial"/>
                <a:ea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mpulser une réflexion pour identifier les problématiques (fiche 6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4">
            <a:hlinkClick r:id="" action="ppaction://hlinkshowjump?jump=nextslide"/>
          </p:cNvPr>
          <p:cNvSpPr/>
          <p:nvPr/>
        </p:nvSpPr>
        <p:spPr>
          <a:xfrm>
            <a:off x="1143000" y="2163600"/>
            <a:ext cx="7238880" cy="266760"/>
          </a:xfrm>
          <a:custGeom>
            <a:avLst/>
            <a:gdLst>
              <a:gd name="textAreaLeft" fmla="*/ 17280 w 7238880"/>
              <a:gd name="textAreaRight" fmla="*/ 7221600 w 7238880"/>
              <a:gd name="textAreaTop" fmla="*/ 17280 h 266760"/>
              <a:gd name="textAreaBottom" fmla="*/ 249480 h 266760"/>
            </a:gdLst>
            <a:ahLst/>
            <a:rect l="textAreaLeft" t="textAreaTop" r="textAreaRight" b="textAreaBottom"/>
            <a:pathLst>
              <a:path w="585383" h="21600">
                <a:moveTo>
                  <a:pt x="0" y="0"/>
                </a:moveTo>
                <a:lnTo>
                  <a:pt x="585383" y="0"/>
                </a:lnTo>
                <a:lnTo>
                  <a:pt x="585383" y="21600"/>
                </a:lnTo>
                <a:lnTo>
                  <a:pt x="0" y="21600"/>
                </a:lnTo>
                <a:close/>
              </a:path>
              <a:path fill="lightenLess" w="585383" h="21600">
                <a:moveTo>
                  <a:pt x="0" y="0"/>
                </a:moveTo>
                <a:lnTo>
                  <a:pt x="585383" y="0"/>
                </a:lnTo>
                <a:lnTo>
                  <a:pt x="583983" y="1400"/>
                </a:lnTo>
                <a:lnTo>
                  <a:pt x="1400" y="1400"/>
                </a:lnTo>
                <a:close/>
              </a:path>
              <a:path fill="darken" w="585383" h="21600">
                <a:moveTo>
                  <a:pt x="585383" y="0"/>
                </a:moveTo>
                <a:lnTo>
                  <a:pt x="585383" y="21600"/>
                </a:lnTo>
                <a:lnTo>
                  <a:pt x="583983" y="20200"/>
                </a:lnTo>
                <a:lnTo>
                  <a:pt x="583983" y="1400"/>
                </a:lnTo>
                <a:close/>
              </a:path>
              <a:path fill="darkenLess" w="585383" h="21600">
                <a:moveTo>
                  <a:pt x="58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3983" y="20200"/>
                </a:lnTo>
                <a:close/>
              </a:path>
              <a:path fill="lighten" w="58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5383" h="21600">
                <a:moveTo>
                  <a:pt x="285685" y="3794"/>
                </a:moveTo>
                <a:lnTo>
                  <a:pt x="299698" y="10800"/>
                </a:lnTo>
                <a:lnTo>
                  <a:pt x="28568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2" name="Text Box 1029"/>
          <p:cNvSpPr/>
          <p:nvPr/>
        </p:nvSpPr>
        <p:spPr>
          <a:xfrm>
            <a:off x="3850560" y="304920"/>
            <a:ext cx="497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Contrat Local de Santé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de VILLIERS LE BEL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285840" y="1117080"/>
            <a:ext cx="8678880" cy="45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ons retenues (suites) :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Axe 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  <a:ea typeface="Times New Roman"/>
              </a:rPr>
              <a:t>5: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Lutter contre la mortalité infantile</a:t>
            </a: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lvl="2" marL="812880" indent="-189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étecter les facteurs de causalité de la mortalité infantile (fiche 7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2" marL="812880" indent="-189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er des actions de prévention et promotion de la santé en périnatalité (fiche 8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Arial"/>
              <a:buChar char="-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>
              <a:buClr>
                <a:srgbClr val="002395"/>
              </a:buClr>
              <a:buFont typeface="Arial"/>
              <a:buChar char="-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Axe 6: Réduire les inégalités sociales de santé en lien avec l’environnement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351000" indent="93600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351000" indent="93600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 Formaliser les collaborations entre services de la municipalité et services de l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délégation territoriale (fiche 9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351000" indent="93600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351000" indent="93600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 Aider à l’accompagnement à travers une action de prévention et de promo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de la santé auprès des personnes occupants des logements reconnu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insalubres (fiche 10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Jean-Marc.PAGANI</cp:lastModifiedBy>
  <cp:lastPrinted>2011-11-03T10:08:07Z</cp:lastPrinted>
  <dcterms:modified xsi:type="dcterms:W3CDTF">2011-12-13T11:26:18Z</dcterms:modified>
  <cp:revision>50</cp:revision>
  <dc:subject/>
  <dc:title>ESSA</dc:title>
</cp:coreProperties>
</file>