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957B1-43A3-42E2-ADA6-F726ECCE4DB5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293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4000" y="3580920"/>
            <a:ext cx="80787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de Magny-en-Vexin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78920" y="836280"/>
            <a:ext cx="8659800" cy="482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 508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,5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,9% des hommes et 6,8% des femmes de 80 ans et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pérance de vie  à la naissance inférieure de 5 à 6 ans à celle du Val d’Oi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% d’employés et d’ouvriers et 15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de 12% +-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,1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,7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8 469 € et 35 027 €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,7% de la population et 19,1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 0,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71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   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990360"/>
            <a:ext cx="8812440" cy="467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Des points forts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uhait d’impulser une dynamique sant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nnes densités de médecins généralistes et de chirurgiens dentis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us les généralistes en secteur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hôpital sur pla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990033"/>
                </a:solidFill>
                <a:latin typeface="Arial"/>
              </a:rPr>
              <a:t>Mais…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à établ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 de spécialistes de  premier recours inférieure à celle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,3 % de l’ensemble des résidences principales relevant du Parc Privé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402920" y="228600"/>
            <a:ext cx="705492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   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ontrat Local de Santé de Magny-en-Vexin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981000"/>
            <a:ext cx="86104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Premier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’amélioration de la connaissance de l’état socio-sanitaire de la population par l’élaboration d’un diagnostic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’ARS contribue par une aide financière de 25000 eur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cond axe stratégique :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la réduction des inégalités sociales de santé en lien avec l’environnem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1" dur="5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2T16:07:34Z</cp:lastPrinted>
  <dcterms:modified xsi:type="dcterms:W3CDTF">2011-12-14T10:16:27Z</dcterms:modified>
  <cp:revision>31</cp:revision>
  <dc:subject/>
  <dc:title>ESSA</dc:title>
</cp:coreProperties>
</file>