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244000" y="6477120"/>
            <a:ext cx="79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DEC8-9469-4B57-ACC1-A2708A36FD97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Sarcelle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59 594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lus de 19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6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aux de chômage de plus de 2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12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59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80% des revenus entre 3 925 € et 26 4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0% de la population et 43,1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ndicateur de Développement Humain (IDH2): 0,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610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Un existant contras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a densité de médecins généralistes est de 65,4 pour 100 000 habita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mais la part des généralistes en secteur 1 est supérieure à la moyenne du département (87,5% contre 82,1%)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’offre de soins hospitalière est globalement satisfaisante avec notamment, sur place, l’hôpital privé Nord Parisien et à proximité le CH de Gones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Des actions de prévention existent mais dispers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ex: (CPAM / examens bucco-dentaires) - (dépistage organisé et individuel du cancer du sein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Des besoins 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naître les caractéristiques de l’état de santé des Sarcello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ordonner et développer les actions de santé sur la commune et pour cela, créer un Atelier Santé Vi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firmer des ressentis des professionnels du secteur sanitaire, social et éducati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Lutter contre l’habitat indig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Dés 201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Participation de l’ARS au financement d’un diagnostic (20.000 euros) (Action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00"/>
                </a:solidFill>
                <a:latin typeface="Arial"/>
              </a:rPr>
              <a:t>Dés 2012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dentifier les problématiques principales de santé et définir des actions (Action 2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rouver les ressources humaines et financières pour créer un ASV (Action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mpulser une réflexion pour identifier les problématiques spécifiques populationnel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souffrance psychique des jeunes et des enfants (Action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prise en charge des femmes enceintes ou atteintes d’un cancer (Action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Réduire les inégalités sociales de santé en lien avec l’environnement (Actions 6 et 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4T10:17:56Z</dcterms:modified>
  <cp:revision>28</cp:revision>
  <dc:subject/>
  <dc:title>ESSA</dc:title>
</cp:coreProperties>
</file>