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244000" y="6477120"/>
            <a:ext cx="79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FCDA-6D74-4AB5-BA97-3DB2A861149C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Sarcelle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6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34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333333"/>
                </a:solidFill>
                <a:latin typeface="Arial"/>
              </a:rPr>
              <a:t>59 594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4,4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lus de 19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69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4,6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aux de chômage de plus de 21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12,5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59,8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80% des revenus entre 3 925 € et 26 428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0% de la population et 43,1% des enfants&lt;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Indicateur de Développement Humain (IDH2): 0,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6108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Un existant contras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La densité de médecins généralistes est de 65,4 pour 100 000 habitan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mais la part des généralistes en secteur 1 est supérieure à la moyenne du département (87,5% contre 82,1%)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L’offre de soins hospitalière est globalement satisfaisante avec notamment, sur place, l’hôpital privé Nord Parisien et à proximité le CH de Goness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Des actions de prévention existent mais dispersé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ex: (CPAM / examens bucco-dentaires) - (dépistage organisé et individuel du cancer du sein)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6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Des besoins 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nnaître les caractéristiques de l’état de santé des Sarcello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ordonner et développer les actions de santé sur la commune et pour cela, créer un Atelier Santé Vil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nfirmer des ressentis des professionnels du secteur sanitaire, social et éducati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Lutter contre l’habitat indign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820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Dés 2011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Participation de l’ARS au financement d’un diagnostic (20.000 euros) (Action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00"/>
                </a:solidFill>
                <a:latin typeface="Arial"/>
              </a:rPr>
              <a:t>Dés 2012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Identifier les problématiques principales de santé et définir des actions (Action 2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Trouver les ressources humaines et financières pour créer un ASV (Action 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Impulser une réflexion pour identifier les problématiques spécifiques populationnel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439560">
              <a:lnSpc>
                <a:spcPct val="80000"/>
              </a:lnSpc>
              <a:spcBef>
                <a:spcPts val="374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la souffrance psychique des jeunes et des enfants (Action 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439560">
              <a:lnSpc>
                <a:spcPct val="80000"/>
              </a:lnSpc>
              <a:spcBef>
                <a:spcPts val="374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la prise en charge des femmes enceintes ou atteintes d’un cancer (Action 5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Réduire les inégalités sociales de santé en lien avec l’environnement (Actions 6 et 7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984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oelle.DEVOS</cp:lastModifiedBy>
  <cp:lastPrinted>2011-11-02T16:07:34Z</cp:lastPrinted>
  <dcterms:modified xsi:type="dcterms:W3CDTF">2011-12-14T10:17:56Z</dcterms:modified>
  <cp:revision>28</cp:revision>
  <dc:subject/>
  <dc:title>ESSA</dc:title>
</cp:coreProperties>
</file>