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DCF8A3-221F-4E25-9869-1177C744A834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Goussainvill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1066680"/>
            <a:ext cx="8659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 310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,4%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 familles ont au moins 4 enfants de moins de 25 an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2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ès de 35 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: plus de 19% pour les femmes, celui des hommes :17,5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,1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4 967 € et 27 7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,8% de la population; 36,5% des enfants &lt; 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28600"/>
            <a:ext cx="85150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  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0" y="990360"/>
            <a:ext cx="91440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onté d’impulser une dynamique sant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e mise en place d’un Atelier Santé Vil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de ses quartiers en Contrat Urbain de Cohésion Sociale (C.U.C.S.) avec un volet santé et Projet de Réussite Educ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réaliser pour identifier les problématiques prioritai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6,5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et d’implantation des médecins généraliste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0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                                            </a:t>
            </a:r>
            <a:r>
              <a:rPr b="1" lang="en-US" sz="2000" spc="-1" strike="noStrike">
                <a:solidFill>
                  <a:srgbClr val="7ab800"/>
                </a:solidFill>
                <a:latin typeface="Arial"/>
              </a:rPr>
              <a:t>Contrat Local de Santé de Goussainville</a:t>
            </a:r>
            <a:endParaRPr b="1" lang="en-US" sz="20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07640" y="990360"/>
            <a:ext cx="880740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3333cc"/>
                </a:solidFill>
                <a:latin typeface="Arial"/>
              </a:rPr>
              <a:t>Axes stratégiques partagé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1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Améliorer la connaissance de l’état socio-sanitaire des Goussainvillo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pour permettre la définition des besoi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Réalisation d’un diagnostic territorial de santé </a:t>
            </a: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(subvention ARS : 25 000 €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Identification des problématiques et définition des axes stratégiques d’actions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2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Coordonner les actions de santé sur la commu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Mise en place d’un Atelier Santé Vil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6600"/>
                </a:solidFill>
                <a:latin typeface="Arial"/>
              </a:rPr>
              <a:t>Axe 3</a:t>
            </a: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 : </a:t>
            </a:r>
            <a:r>
              <a:rPr b="1" lang="fr-FR" sz="1400" spc="-1" strike="noStrike">
                <a:solidFill>
                  <a:srgbClr val="000000"/>
                </a:solidFill>
                <a:latin typeface="Arial"/>
              </a:rPr>
              <a:t>Réduire les inégalités sociales de santé en lien avec l’environnem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Formalisation des collaborations entre commune et DTA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34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3333cc"/>
                </a:solidFill>
                <a:latin typeface="Arial"/>
              </a:rPr>
              <a:t>Action d’accompagnement des personnes habitant des logements reconnus insalub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3333cc"/>
                </a:solidFill>
                <a:latin typeface="Arial"/>
              </a:rPr>
              <a:t>En cohérence avec les priorités de l’Agence Régionale de Santé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9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3T16:42:44Z</dcterms:modified>
  <cp:revision>21</cp:revision>
  <dc:subject/>
  <dc:title>ESSA</dc:title>
</cp:coreProperties>
</file>