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532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7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7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-181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52388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7896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6A32C-68B5-41A9-8675-7365681B1761}" type="slidenum">
              <a:rPr b="0" lang="fr-FR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9360"/>
            <a:ext cx="9144000" cy="683928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6320" y="2874600"/>
            <a:ext cx="611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51264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</a:tabLst>
            </a:pPr>
            <a:r>
              <a:rPr b="1" lang="en-US" sz="2900" spc="-1" strike="noStrike">
                <a:solidFill>
                  <a:srgbClr val="002395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002395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395280" y="1015920"/>
            <a:ext cx="2448000" cy="1405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6393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ab8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7ab800"/>
              </a:solidFill>
              <a:latin typeface="Arial"/>
            </a:endParaRPr>
          </a:p>
          <a:p>
            <a:pPr lvl="1" marL="788400" indent="0" algn="ctr"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22440" indent="683280" algn="ctr"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337120" indent="76032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3229200" indent="73368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3229200" indent="7336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229200" indent="7336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886200" y="6165720"/>
            <a:ext cx="12952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-152640" y="2742840"/>
            <a:ext cx="8901000" cy="21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nférence de Territoire du </a:t>
            </a:r>
            <a:endParaRPr b="0" lang="en-US" sz="2800" spc="-1" strike="noStrike">
              <a:solidFill>
                <a:srgbClr val="7ab8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15 décembre 2011</a:t>
            </a:r>
            <a:endParaRPr b="0" lang="en-US" sz="2800" spc="-1" strike="noStrike">
              <a:solidFill>
                <a:srgbClr val="7ab8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résentation de 5 Contrats Locaux de Santé  à l’avis de la CT</a:t>
            </a:r>
            <a:endParaRPr b="0" lang="en-US" sz="2800" spc="-1" strike="noStrike">
              <a:solidFill>
                <a:srgbClr val="7ab8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1532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800" spc="-1" strike="noStrike">
                <a:solidFill>
                  <a:srgbClr val="7ab800"/>
                </a:solidFill>
                <a:latin typeface="Arial"/>
              </a:rPr>
              <a:t>Les instances de suivi</a:t>
            </a:r>
            <a:endParaRPr b="1" lang="en-US" sz="2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640" y="981000"/>
            <a:ext cx="81360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 algn="just"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Un comité de pilotage regroupant les signataires, les partenaires institutionnels, et les autres partenaires inscrits comme pilote d’une 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Un comité technique regroup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-181080" algn="just">
              <a:spcBef>
                <a:spcPts val="499"/>
              </a:spcBef>
              <a:buClr>
                <a:srgbClr val="3333cc"/>
              </a:buClr>
              <a:buSzPct val="1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Les référents techniques de la collectivité (ou des communes) intéressées par les axes déclinés dans le C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-181080" algn="just">
              <a:spcBef>
                <a:spcPts val="499"/>
              </a:spcBef>
              <a:buClr>
                <a:srgbClr val="3333cc"/>
              </a:buClr>
              <a:buSzPct val="1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Le référent CLS de la DT/ARS (qui appartient au pôle santé publiq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-181080" algn="just">
              <a:spcBef>
                <a:spcPts val="499"/>
              </a:spcBef>
              <a:buClr>
                <a:srgbClr val="3333cc"/>
              </a:buClr>
              <a:buSzPct val="1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Les représentants des différents départements de la DT intéressés par les axes (offre de soins et médico-sociale, veille et sécurité des milieu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-181080" algn="just">
              <a:spcBef>
                <a:spcPts val="499"/>
              </a:spcBef>
              <a:buClr>
                <a:srgbClr val="3333cc"/>
              </a:buClr>
              <a:buSzPct val="1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Les partenaires et/ou acteurs de terrain intéressés à la démar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58816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800" spc="-1" strike="noStrike">
                <a:solidFill>
                  <a:srgbClr val="7ab800"/>
                </a:solidFill>
                <a:latin typeface="Arial"/>
              </a:rPr>
              <a:t>Les Contrats Locaux de Santé soumis à l’avis de la Conférence de Territoire</a:t>
            </a:r>
            <a:endParaRPr b="1" lang="en-US" sz="2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370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5 Contrats Locaux de Santé sont présenté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4 communes et une communauté d’agglomé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Goussainvi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agny en Vex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arc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Villiers le 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mmunauté d’agglomération Val et Forê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752480" indent="0" algn="just">
              <a:lnSpc>
                <a:spcPct val="100000"/>
              </a:lnSpc>
              <a:spcBef>
                <a:spcPts val="249"/>
              </a:spcBef>
              <a:spcAft>
                <a:spcPts val="2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1532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3200" spc="-1" strike="noStrike">
                <a:solidFill>
                  <a:srgbClr val="7ab800"/>
                </a:solidFill>
                <a:latin typeface="Arial"/>
              </a:rPr>
              <a:t>Les communes concernées</a:t>
            </a:r>
            <a:endParaRPr b="1" lang="en-US" sz="32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49636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4 communes volontaires et engagées dans une dynamique santé à des degrés diver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3 communes en Contrat Urbain de Cohésion Sociale, dont 2 sont en CUCS expérimental (Sarcelles et Villiers le Bel)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Les 4 communes présentent un indicateur de développement humain inférieur à 0,50 (s’échelonnant de 0,32 à 0,37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3200" spc="-1" strike="noStrike">
                <a:solidFill>
                  <a:srgbClr val="7ab800"/>
                </a:solidFill>
                <a:latin typeface="Arial"/>
              </a:rPr>
              <a:t>Une communauté d’agglomération</a:t>
            </a:r>
            <a:br>
              <a:rPr sz="3200"/>
            </a:br>
            <a:endParaRPr b="1" lang="en-US" sz="32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24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Arial"/>
              </a:rPr>
              <a:t>Communauté d’agglomération Val et Forêt constituée de 6 communes : Saint Leu, Saint Prix, Montlignon, le Plessis Bouchard, Ermont et Eaubon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Arial"/>
              </a:rPr>
              <a:t>Les communes d’Ermont et d’Eaubonne se sont intéressées dès la fin de l’année 2010 à la démarche, et ont amené la communauté d’agglomération à envisager un C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Arial"/>
              </a:rPr>
              <a:t>Un diagnostic a donc été réalisé au cours de l’année 2011 sur la totalité du territoire de la communauté d’agglomération, qui a officiellement sollicité le DGARS pour la signature d’un C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153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3200" spc="-1" strike="noStrike">
                <a:solidFill>
                  <a:srgbClr val="7ab800"/>
                </a:solidFill>
                <a:latin typeface="Arial"/>
              </a:rPr>
              <a:t>Une communauté d’agglomération</a:t>
            </a:r>
            <a:br>
              <a:rPr sz="3200"/>
            </a:br>
            <a:endParaRPr b="1" lang="en-US" sz="32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4978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 algn="just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Certaines communes engagées dans une dynamique santé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Des indicateurs globalement favorables, mais des difficultés particulières rencontrée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-181080" algn="just">
              <a:spcBef>
                <a:spcPts val="601"/>
              </a:spcBef>
              <a:buClr>
                <a:srgbClr val="3333cc"/>
              </a:buClr>
              <a:buSzPct val="1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Arial"/>
              </a:rPr>
              <a:t>Vieillissement important de la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-181080" algn="just">
              <a:spcBef>
                <a:spcPts val="601"/>
              </a:spcBef>
              <a:buClr>
                <a:srgbClr val="3333cc"/>
              </a:buClr>
              <a:buSzPct val="1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Arial"/>
              </a:rPr>
              <a:t>Deux communes en CUCS, 1 quartier en difficulté sur la ville de St Le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Mais trois des six communes seulement intéressées par les problématiques dégagées du diagnostic (Ermont, Eaubonne et Montlign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858852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3200" spc="-1" strike="noStrike">
                <a:solidFill>
                  <a:srgbClr val="7ab800"/>
                </a:solidFill>
                <a:latin typeface="Arial"/>
              </a:rPr>
              <a:t>Constat</a:t>
            </a: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7ab800"/>
                </a:solidFill>
                <a:latin typeface="Arial"/>
              </a:rPr>
              <a:t>global</a:t>
            </a:r>
            <a:endParaRPr b="1" lang="en-US" sz="32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7640" y="1125000"/>
            <a:ext cx="8807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3 diagnostics à initier sur les communes de Sarcelles, Goussainville et Magny en Vex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2 diagnostics déjà réalisés sur Villiers le Bel et la Communauté d’agglomér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Une aide financière de l’ARS pour les communes n’ayant pas de diagnostic suffisant pour connaître l’état de santé de leur population attribuée à partir des 115 000 € dégagés par l’ARS en fin d’année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153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3200" spc="-1" strike="noStrike">
                <a:solidFill>
                  <a:srgbClr val="7ab800"/>
                </a:solidFill>
                <a:latin typeface="Arial"/>
              </a:rPr>
              <a:t>Des axes stratégiques partagés</a:t>
            </a:r>
            <a:endParaRPr b="1" lang="en-US" sz="32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9898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es axes proposés par la collectivité et partagés, qui explorent l’ensemble du champ potentiel de l’ARS et qui répondent aux priorités déterminées par celle-ci sur les différents champs d’interven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 l’exception de la communauté d’agglomération, tous les projets  comportent l ’axe spécifique santé environnementa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3200" spc="-1" strike="noStrike">
                <a:solidFill>
                  <a:srgbClr val="7ab800"/>
                </a:solidFill>
                <a:latin typeface="Arial"/>
              </a:rPr>
              <a:t>Présentation des 5 CLS</a:t>
            </a:r>
            <a:endParaRPr b="1" lang="en-US" sz="32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agny en Vex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Villiers le 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Goussainvi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arc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mmunauté d’agglomération Val et Forê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1532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3200" spc="-1" strike="noStrike">
                <a:solidFill>
                  <a:srgbClr val="7ab800"/>
                </a:solidFill>
                <a:latin typeface="Arial"/>
              </a:rPr>
              <a:t>Suite de la démarche CLS dans le département</a:t>
            </a:r>
            <a:endParaRPr b="1" lang="en-US" sz="32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0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ur les 4 CLS présentés à la CT du 9 novembre 2011, trois ont été signés le 2 décembre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5 projets présentés à l’avis de la CT du 15 décembre, dont la signature devrait être effective à la fin de l’année 2011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’autres projets seront éventuellement présentés aux prochaines C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es diagnostics à init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es instances de suivi à mettre en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Une révision de ces contrats au moment de l’adoption définitive du P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0:10:18Z</dcterms:created>
  <dc:creator>Service Info</dc:creator>
  <dc:description/>
  <dc:language>en-US</dc:language>
  <cp:lastModifiedBy>CHRD</cp:lastModifiedBy>
  <cp:lastPrinted>2011-12-14T19:13:17Z</cp:lastPrinted>
  <dcterms:modified xsi:type="dcterms:W3CDTF">2011-12-15T11:03:11Z</dcterms:modified>
  <cp:revision>151</cp:revision>
  <dc:subject/>
  <dc:title>Présentation PowerPoint</dc:title>
</cp:coreProperties>
</file>