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1C47-3D6D-48A3-B614-E1347BAAD68F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5760" y="6461280"/>
            <a:ext cx="252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277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14240" y="30477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700"/>
            </a:b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de Cergy</a:t>
            </a:r>
            <a:endParaRPr b="1" lang="en-US" sz="2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Cergy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920" y="1066680"/>
            <a:ext cx="858816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 600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,4 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% d’étranger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 % d’employés et d’ouvriers, 17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,1 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de plus de 1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,6 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,1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 % des revenus entre 5 693 € et 34 560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,1% de la population et 29,4% des enfants &lt; 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 0,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ergy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907560"/>
            <a:ext cx="87631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s points fo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que santé depuis 2007avec la création de l ’Atelier Santé 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alisation en 2009 d’un diagnostic de santé  puis élaboration d ’un Plan Lo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 de ses quartiers sont en contrat Urbain de Cohésion Soc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onté de la commune de renforcer et poursuivre ses actions de prévention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appuyant sur la Maison Prévention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s fragilités constatées sur certaines populations, notamment les jeunes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té de médecins généralistes variable en fonction des quartie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ème de démographie médicale lié aux perspectives de développement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lle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515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Cergy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81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xes stratégiques partag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forcer les actions de préven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éliorer la santé mental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éserver et développer l’offre de soins sur la commun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biliser tous les acteurs pour réduire les inégalités sociales et territoriales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5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éduire les inégalités sociales de santé en lien avec l’environnemen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n cohérence avec les priorités de l’Agence Régionale de San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88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                                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Cergy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64480" cy="54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Enjeux partag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Renforcer la prévention et la promotion de la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forter l’ASV comme coordonateur (1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sitionner la Maison Prévention Santé comme lieu de référence (1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évelopper les actions de prévention et promotion de la santé pour favoriser les comportements favorables à la santé (4 actions) : nutrition, prévention des conduites à risque (addictions, IST, compétences psychosociales…), amélioration de la prise en charge des conduites à risque (travail en réseau – orientation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Prise en compte de la santé men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pérage précoce pour mieux prendre en compte la souffrance psychique (1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Préserver l’offre de soins ambulatoires sur la commun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formation pour amener les nouveaux professionnels de santé à s’installer sur Cergy (1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lexion sur l’opportunité de création d’une Maison de santé pluridisciplinaire et d’une Maison médicale de Garde pour assurer l’offre de soins (2 actions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>
            <a:hlinkClick r:id="" action="ppaction://hlinkshowjump?jump=nextslide"/>
          </p:cNvPr>
          <p:cNvSpPr/>
          <p:nvPr/>
        </p:nvSpPr>
        <p:spPr>
          <a:xfrm>
            <a:off x="3886200" y="114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0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5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500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6" dur="500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9" dur="500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659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                                 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Cergy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031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njeux partagés (su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31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Réduction des inégalités territoriales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ès aux soins pour les jeunes et les populations précaires (1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2800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er le travail en réseau des professionnels de santé (1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0">
              <a:spcBef>
                <a:spcPts val="2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Lutter contre l’habitat ind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aliser les collaborations entre les services de la municipalité et  les services de la DT (1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oelle.DEVOS</cp:lastModifiedBy>
  <dcterms:modified xsi:type="dcterms:W3CDTF">2011-11-08T11:39:00Z</dcterms:modified>
  <cp:revision>21</cp:revision>
  <dc:subject/>
  <dc:title>ESSA</dc:title>
</cp:coreProperties>
</file>