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86920" y="370692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967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3456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8220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8692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3456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8220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967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86920" y="370692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967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3456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8220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18692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3456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8220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967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D:\Mes documents\Lauranne\Dicom\ARS\ARS-PPT-ELEMTS-1\ARS-TERRITOIRE GRAPHIQUE.jpg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F5D3-1A1E-44FE-8438-9CCD19675AE1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3" descr="D:\Mes documents\Lauranne\Dicom\ARS\ARS-PPT\ARS-PPT ECRAN D'OUVERTUR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55640" y="2923920"/>
            <a:ext cx="76327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395"/>
                </a:solidFill>
                <a:latin typeface="Arial"/>
              </a:rPr>
              <a:t>La démarche PDS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395"/>
                </a:solidFill>
                <a:latin typeface="Arial"/>
              </a:rPr>
              <a:t>dans le Val d’O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357120" y="2000160"/>
            <a:ext cx="1127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395"/>
                </a:solidFill>
                <a:latin typeface="Calibri"/>
              </a:rPr>
              <a:t>Ile-de-France</a:t>
            </a:r>
            <a:endParaRPr b="0" lang="en-US" sz="11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835280" y="2135160"/>
            <a:ext cx="50227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2" name="Flèche droite 5"/>
          <p:cNvSpPr/>
          <p:nvPr/>
        </p:nvSpPr>
        <p:spPr>
          <a:xfrm>
            <a:off x="5003640" y="5180040"/>
            <a:ext cx="978120" cy="396720"/>
          </a:xfrm>
          <a:prstGeom prst="rightArrow">
            <a:avLst>
              <a:gd name="adj1" fmla="val 50000"/>
              <a:gd name="adj2" fmla="val 610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3" name="Flèche droite 6"/>
          <p:cNvSpPr/>
          <p:nvPr/>
        </p:nvSpPr>
        <p:spPr>
          <a:xfrm>
            <a:off x="5292720" y="5013360"/>
            <a:ext cx="977760" cy="396720"/>
          </a:xfrm>
          <a:prstGeom prst="rightArrow">
            <a:avLst>
              <a:gd name="adj1" fmla="val 50000"/>
              <a:gd name="adj2" fmla="val 6104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4" name="Flèche droite 7"/>
          <p:cNvSpPr/>
          <p:nvPr/>
        </p:nvSpPr>
        <p:spPr>
          <a:xfrm>
            <a:off x="6948360" y="1866960"/>
            <a:ext cx="978120" cy="396720"/>
          </a:xfrm>
          <a:prstGeom prst="rightArrow">
            <a:avLst>
              <a:gd name="adj1" fmla="val 50000"/>
              <a:gd name="adj2" fmla="val 610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11480" y="5084640"/>
            <a:ext cx="350028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onférence de Territoire 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9 novembre 2011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Une démarche conduite en 3 temps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6593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 état des lieux départe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e concertation avec les act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 propositions de réorgan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62120" y="990720"/>
            <a:ext cx="76327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395"/>
                </a:solidFill>
                <a:latin typeface="Arial"/>
              </a:rPr>
              <a:t>La concert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7120" y="2000160"/>
            <a:ext cx="1127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8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1835280" y="2135160"/>
            <a:ext cx="50227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1" name="Flèche droite 5"/>
          <p:cNvSpPr/>
          <p:nvPr/>
        </p:nvSpPr>
        <p:spPr>
          <a:xfrm>
            <a:off x="5003640" y="5180040"/>
            <a:ext cx="978120" cy="396720"/>
          </a:xfrm>
          <a:prstGeom prst="rightArrow">
            <a:avLst>
              <a:gd name="adj1" fmla="val 50000"/>
              <a:gd name="adj2" fmla="val 610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2" name="Flèche droite 6"/>
          <p:cNvSpPr/>
          <p:nvPr/>
        </p:nvSpPr>
        <p:spPr>
          <a:xfrm>
            <a:off x="5292720" y="5013360"/>
            <a:ext cx="977760" cy="396720"/>
          </a:xfrm>
          <a:prstGeom prst="rightArrow">
            <a:avLst>
              <a:gd name="adj1" fmla="val 50000"/>
              <a:gd name="adj2" fmla="val 6104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3" name="Flèche droite 7"/>
          <p:cNvSpPr/>
          <p:nvPr/>
        </p:nvSpPr>
        <p:spPr>
          <a:xfrm>
            <a:off x="6934320" y="1828800"/>
            <a:ext cx="977760" cy="396720"/>
          </a:xfrm>
          <a:prstGeom prst="rightArrow">
            <a:avLst>
              <a:gd name="adj1" fmla="val 50000"/>
              <a:gd name="adj2" fmla="val 6104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Les principes retenus pour la concertation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Le concept de territoire continue à faire sens et permet la fédération des acteur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=&gt; ce qui nous a amené à organiser des réunions par anciennes maill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La collaboration du SAMU est essentielle et structurant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=&gt; le SAMU a été associé à ces réun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Les fédérations hospitalières sont associé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=&gt; organisation des réunions départemental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Les réunions dans le Val d ’Ois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7902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=&gt; Réunions associant les directions d’établissements publics et privé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902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90200" indent="-79020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Réunion du 24 janvier 2011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: lancement de la démarch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902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90200" indent="-79020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Réunions de concertation par bassins territoriaux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365480" indent="-14148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e 26 avril 2011 : 95-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365480" indent="-14148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e 29 avril 2011 : 95-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365480" indent="-14148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e 6 mai 2011 : 95-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902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90200" indent="-79020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Réunion du 16 juin 2011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:  présentation des enquêtes et de l’état des lieux département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902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90200" indent="-790200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Réunion du 12 octobre 2011 :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onnées départementales, présentation du cahier des charges, de la procédure de sélection des sites et éléments sur le mode de finance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902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62120" y="990720"/>
            <a:ext cx="76327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395"/>
                </a:solidFill>
                <a:latin typeface="Arial"/>
              </a:rPr>
              <a:t>Les proposi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395"/>
                </a:solidFill>
                <a:latin typeface="Arial"/>
              </a:rPr>
              <a:t>de réorganis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357120" y="2000160"/>
            <a:ext cx="1127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8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835280" y="2135160"/>
            <a:ext cx="50227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1" name="Flèche droite 5"/>
          <p:cNvSpPr/>
          <p:nvPr/>
        </p:nvSpPr>
        <p:spPr>
          <a:xfrm>
            <a:off x="5003640" y="5180040"/>
            <a:ext cx="978120" cy="396720"/>
          </a:xfrm>
          <a:prstGeom prst="rightArrow">
            <a:avLst>
              <a:gd name="adj1" fmla="val 50000"/>
              <a:gd name="adj2" fmla="val 610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2" name="Flèche droite 6"/>
          <p:cNvSpPr/>
          <p:nvPr/>
        </p:nvSpPr>
        <p:spPr>
          <a:xfrm>
            <a:off x="5292720" y="5013360"/>
            <a:ext cx="977760" cy="396720"/>
          </a:xfrm>
          <a:prstGeom prst="rightArrow">
            <a:avLst>
              <a:gd name="adj1" fmla="val 50000"/>
              <a:gd name="adj2" fmla="val 6104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3" name="Flèche droite 7"/>
          <p:cNvSpPr/>
          <p:nvPr/>
        </p:nvSpPr>
        <p:spPr>
          <a:xfrm>
            <a:off x="6934320" y="1828800"/>
            <a:ext cx="977760" cy="396720"/>
          </a:xfrm>
          <a:prstGeom prst="rightArrow">
            <a:avLst>
              <a:gd name="adj1" fmla="val 50000"/>
              <a:gd name="adj2" fmla="val 6104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Les candidatures déposées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47124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3333cc"/>
                </a:solidFill>
                <a:uFillTx/>
                <a:latin typeface="Arial"/>
              </a:rPr>
              <a:t>Sur l’ex 95-1</a:t>
            </a: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 : garde alternée Groupement Hospitalier Eaubonne Montmorency/  Centre Hospitalier d’Argenteuil,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28296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e SAMU est favorable à cette organisation bi-site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28296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ette organisation est d’ores et déjà effective depuis le 1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er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octobre 2011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71240" indent="-47124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3333cc"/>
                </a:solidFill>
                <a:uFillTx/>
                <a:latin typeface="Arial"/>
              </a:rPr>
              <a:t>Sur le 95-2</a:t>
            </a: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 : le CH de Gonesse est reconnu comme « tête de réseau »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28296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es gardes se feront sur le site de Gonesse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28296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es deux établissements (Hôpital Privé Nord Parisien de Sarcelles et Gonesse) participent à la gouvernance afin d’assurer la fluidité du dispositif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71240" indent="-47124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3333cc"/>
                </a:solidFill>
                <a:uFillTx/>
                <a:latin typeface="Arial"/>
              </a:rPr>
              <a:t>Sur le 95-3</a:t>
            </a: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 : le CH de Pontoise est naturellement « tête de réseau »</a:t>
            </a:r>
            <a:r>
              <a:rPr b="0" lang="en-US" sz="17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la nuit : 15 235 passages aux urgences et 1 742 interventions)</a:t>
            </a:r>
            <a:r>
              <a:rPr b="0" lang="en-US" sz="17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28296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gnature d’un protocole d’accord entre le CH de Pontoise, le Centre Hospitalier Intercommunal des Portes de l’Oise (CHIPO) de Beaumont-sur-Oise, les Cliniques Ste Marie (Osny) et Conti (L’Isle-Adam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28296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es gardes se feront au CH de Pontoise avec la participation ponctuelle de médecins des autres établissements (CHIPO et des cliniques Ste Marie et Conti) à partir de 22h3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28296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a mise en œuvre de cette organisation est prévue pour janvier 20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71240"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71240"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1" lang="en-US" sz="1700" spc="-1" strike="noStrike">
                <a:solidFill>
                  <a:srgbClr val="009900"/>
                </a:solidFill>
                <a:latin typeface="Arial"/>
              </a:rPr>
              <a:t>Coopérations public / privé intéressantes pour les pati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712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Christine.LEFEBVRE</cp:lastModifiedBy>
  <cp:lastPrinted>2011-11-02T11:54:27Z</cp:lastPrinted>
  <dcterms:modified xsi:type="dcterms:W3CDTF">2011-11-10T10:59:05Z</dcterms:modified>
  <cp:revision>704</cp:revision>
  <dc:subject/>
  <dc:title>Présentation PowerPoint</dc:title>
</cp:coreProperties>
</file>