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792913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66696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1460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21932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66696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1460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4920" y="22032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7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66696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1460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21932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66696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1460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22032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7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900" spc="-1" strike="noStrike">
                <a:solidFill>
                  <a:srgbClr val="7ab800"/>
                </a:solidFill>
                <a:latin typeface="Arial"/>
              </a:rPr>
              <a:t>Click to edit the title text format</a:t>
            </a: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8960" indent="-858960">
              <a:spcBef>
                <a:spcPts val="4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257480" indent="-181080">
              <a:spcBef>
                <a:spcPts val="425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523880">
              <a:spcBef>
                <a:spcPts val="4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27018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5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6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3"/>
          <a:stretch/>
        </p:blipFill>
        <p:spPr>
          <a:xfrm>
            <a:off x="0" y="6095880"/>
            <a:ext cx="9144000" cy="381240"/>
          </a:xfrm>
          <a:prstGeom prst="rect">
            <a:avLst/>
          </a:prstGeom>
          <a:ln w="0">
            <a:noFill/>
          </a:ln>
        </p:spPr>
      </p:pic>
      <p:sp>
        <p:nvSpPr>
          <p:cNvPr id="3" name="Rectangle 10"/>
          <p:cNvSpPr/>
          <p:nvPr/>
        </p:nvSpPr>
        <p:spPr>
          <a:xfrm>
            <a:off x="8778960" y="647712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C37FD-01BC-4BF5-BB91-440B7052FFFF}" type="slidenum">
              <a:rPr b="0" lang="en-US" sz="1000" spc="-1" strike="noStrike">
                <a:solidFill>
                  <a:srgbClr val="002395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2"/>
          <a:stretch/>
        </p:blipFill>
        <p:spPr>
          <a:xfrm>
            <a:off x="0" y="9360"/>
            <a:ext cx="9144000" cy="683928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6320" y="2874600"/>
            <a:ext cx="611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51264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</a:tabLst>
            </a:pPr>
            <a:r>
              <a:rPr b="1" lang="en-US" sz="2900" spc="-1" strike="noStrike">
                <a:solidFill>
                  <a:srgbClr val="002395"/>
                </a:solidFill>
                <a:latin typeface="Arial"/>
              </a:rPr>
              <a:t>Click to edit the title text format</a:t>
            </a:r>
            <a:endParaRPr b="1" lang="en-US" sz="29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5960" y="6375240"/>
            <a:ext cx="898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395"/>
                </a:solidFill>
                <a:latin typeface="Arial"/>
              </a:rPr>
              <a:t>10/05/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95280" y="1015920"/>
            <a:ext cx="2448000" cy="14050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639360">
              <a:spcBef>
                <a:spcPts val="42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7ab800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7ab800"/>
              </a:solidFill>
              <a:latin typeface="Arial"/>
            </a:endParaRPr>
          </a:p>
          <a:p>
            <a:pPr lvl="1" marL="788400" indent="0" algn="ctr">
              <a:spcBef>
                <a:spcPts val="37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522440" indent="683280" algn="ctr"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2337120" indent="76032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3229200" indent="73368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3229200" indent="73368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3229200" indent="73368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886200" y="6165720"/>
            <a:ext cx="129528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-152640" y="2742840"/>
            <a:ext cx="8901000" cy="219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Conférence de Territoire du </a:t>
            </a:r>
            <a:endParaRPr b="0" lang="en-US" sz="3200" spc="-1" strike="noStrike">
              <a:solidFill>
                <a:srgbClr val="7ab8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9 novembre 2011</a:t>
            </a:r>
            <a:endParaRPr b="0" lang="en-US" sz="3200" spc="-1" strike="noStrike">
              <a:solidFill>
                <a:srgbClr val="7ab8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Présentation des CLS à l’avis de la CT</a:t>
            </a:r>
            <a:endParaRPr b="0" lang="en-US" sz="3200" spc="-1" strike="noStrike">
              <a:solidFill>
                <a:srgbClr val="7ab8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Arial"/>
              </a:rPr>
              <a:t>(Application de l’article R1434-7 du CSP)</a:t>
            </a:r>
            <a:endParaRPr b="0" lang="en-US" sz="2800" spc="-1" strike="noStrike">
              <a:solidFill>
                <a:srgbClr val="7ab8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79280" y="6114240"/>
            <a:ext cx="1728720" cy="477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23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395"/>
                </a:solidFill>
                <a:latin typeface="Arial"/>
              </a:rPr>
              <a:t>9 Novem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588160" cy="8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16120" indent="0" algn="ctr">
              <a:buNone/>
              <a:tabLst>
                <a:tab algn="l" pos="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800" spc="-1" strike="noStrike">
                <a:solidFill>
                  <a:srgbClr val="7ab800"/>
                </a:solidFill>
                <a:latin typeface="Arial"/>
              </a:rPr>
              <a:t>Les Contrats Locaux de Santé soumis à l’avis de la Conférence de Territoire</a:t>
            </a:r>
            <a:endParaRPr b="1" lang="en-US" sz="28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24000" y="1557360"/>
            <a:ext cx="8370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4 contrats locaux de Santé sont présenté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700"/>
              </a:spcBef>
              <a:buClr>
                <a:srgbClr val="3333cc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Argenteu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700"/>
              </a:spcBef>
              <a:buClr>
                <a:srgbClr val="3333cc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Cer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700"/>
              </a:spcBef>
              <a:buClr>
                <a:srgbClr val="3333cc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Erag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700"/>
              </a:spcBef>
              <a:buClr>
                <a:srgbClr val="3333cc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Garges-lès-Gones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752480" indent="0" algn="just">
              <a:lnSpc>
                <a:spcPct val="100000"/>
              </a:lnSpc>
              <a:spcBef>
                <a:spcPts val="249"/>
              </a:spcBef>
              <a:spcAft>
                <a:spcPts val="2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15328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16120" indent="0" algn="ctr">
              <a:buNone/>
              <a:tabLst>
                <a:tab algn="l" pos="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900" spc="-1" strike="noStrike">
                <a:solidFill>
                  <a:srgbClr val="7ab800"/>
                </a:solidFill>
                <a:latin typeface="Arial"/>
              </a:rPr>
              <a:t>Critères de choix</a:t>
            </a: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849636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8960" indent="-858960" algn="just">
              <a:spcBef>
                <a:spcPts val="601"/>
              </a:spcBef>
              <a:buClr>
                <a:srgbClr val="3333cc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4 communes volontaires pour contractuali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896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 algn="just">
              <a:spcBef>
                <a:spcPts val="601"/>
              </a:spcBef>
              <a:buClr>
                <a:srgbClr val="3333cc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4 communes engagées dans une dynamique de san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896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 algn="just">
              <a:spcBef>
                <a:spcPts val="601"/>
              </a:spcBef>
              <a:buClr>
                <a:srgbClr val="3333cc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4 communes en Contrat Urbain de Cohésion Soci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896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 algn="just">
              <a:spcBef>
                <a:spcPts val="601"/>
              </a:spcBef>
              <a:buClr>
                <a:srgbClr val="3333cc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2 communes présentant un indicateur de développement humain inférieur à 0,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-360" y="115920"/>
            <a:ext cx="858852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16120" indent="0" algn="ctr">
              <a:buNone/>
              <a:tabLst>
                <a:tab algn="l" pos="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3200" spc="-1" strike="noStrike">
                <a:solidFill>
                  <a:srgbClr val="7ab800"/>
                </a:solidFill>
                <a:latin typeface="Arial"/>
              </a:rPr>
              <a:t>Constat</a:t>
            </a:r>
            <a:r>
              <a:rPr b="1" lang="en-US" sz="2400" spc="-1" strike="noStrike">
                <a:solidFill>
                  <a:srgbClr val="7ab8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36240" y="1197000"/>
            <a:ext cx="869940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30360" indent="-4492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1 diagnostic finalisé pour deux communes (Cergy &amp; Eragn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3036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30360" indent="-4492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1 diagnostic à amorcer ou à compléter pour deux autres communes (respectivement Garges-lès-Gonesse et Argenteui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30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15328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16120" indent="0" algn="ctr">
              <a:buNone/>
              <a:tabLst>
                <a:tab algn="l" pos="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500" spc="-1" strike="noStrike">
                <a:solidFill>
                  <a:srgbClr val="7ab800"/>
                </a:solidFill>
                <a:latin typeface="Arial"/>
              </a:rPr>
              <a:t>Des axes stratégiques partagés</a:t>
            </a:r>
            <a:endParaRPr b="1" lang="en-US" sz="25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842472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0" algn="just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qui explorent l’ensemble du champ potentiel de l’ARS et qui répondent aux priorités déterminées par celle-ci sur les différents champs d’inter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algn="just">
              <a:lnSpc>
                <a:spcPct val="110000"/>
              </a:lnSpc>
              <a:spcBef>
                <a:spcPts val="675"/>
              </a:spcBef>
              <a:buClr>
                <a:srgbClr val="3333cc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En Prévention et Promotion de la Santé</a:t>
            </a:r>
            <a:r>
              <a:rPr b="0" lang="en-US" sz="27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61800" algn="just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En offre ambulatoire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algn="just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En organisation médico-socia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algn="just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En organisation hospitaliè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95280" y="404640"/>
            <a:ext cx="8153280" cy="10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16120" indent="0" algn="ctr">
              <a:buNone/>
              <a:tabLst>
                <a:tab algn="l" pos="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400" spc="-1" strike="noStrike">
                <a:solidFill>
                  <a:srgbClr val="7ab800"/>
                </a:solidFill>
                <a:latin typeface="Arial"/>
              </a:rPr>
              <a:t>Un axe spécifique permettant le lien entre  environnement et santé</a:t>
            </a: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39280" y="1844280"/>
            <a:ext cx="828036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Tous les CLS comportent cet axe, accepté par les communes rencontrées, mettant en exergue la volonté de l’ARS en matière de santé environnementa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4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295280" indent="-714240" algn="just">
              <a:spcBef>
                <a:spcPts val="700"/>
              </a:spcBef>
              <a:buClr>
                <a:srgbClr val="3333cc"/>
              </a:buClr>
              <a:buSzPct val="15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Lutte contre l’habitat indig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6T10:10:18Z</dcterms:created>
  <dc:creator>Service Info</dc:creator>
  <dc:description/>
  <dc:language>en-US</dc:language>
  <cp:lastModifiedBy>Ghislaine.OLIVIER</cp:lastModifiedBy>
  <cp:lastPrinted>2011-11-02T16:16:27Z</cp:lastPrinted>
  <dcterms:modified xsi:type="dcterms:W3CDTF">2011-11-08T11:21:26Z</dcterms:modified>
  <cp:revision>148</cp:revision>
  <dc:subject/>
  <dc:title>Présentation PowerPoint</dc:title>
</cp:coreProperties>
</file>