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C2A1-6830-4A7A-BC46-AB4EB7FF2F47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5760" y="6461280"/>
            <a:ext cx="252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77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3580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’Argenteuil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 algn="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Argenteuil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2 57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de 18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% d’employés et d’ouvriers, 11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%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de plus de 17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,3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4 658 € et 32 779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,7% de la population et 34% des enfants&lt;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Zones Urbaines Sensibles et 8 sites prioritaires. Près de 35% des habitants vivent sur les sites prioritaires de la Politique de la Vill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4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761760"/>
            <a:ext cx="85122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Un ancrage for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2007, la création d’un Atelier Santé Vi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2009, la signature de la Charte ville active Programme National Nutrition San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2011, la signature d’un avenant au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Contrat Urbain de Cohésion Sociale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expérimental sur le quartier Cité Joliot Curie – parmi les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13 quartiers e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UCS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t la présence de plusieurs centres de santé municipaux très act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 diagnostic santé réalisé en 2007 à complé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densités de médecins généralistes, de spécialistes de premier recours et de chirurgiens dentistes très inférieures à celles du département et de la rég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% de l’ensemble des résidences principales relèvent du Parc Privé Potentiellement  Indigne</a:t>
            </a:r>
            <a:r>
              <a:rPr b="1" lang="fr-FR" sz="16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395280" y="2602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 algn="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Argenteui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3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8" dur="500"/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8377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méliorer la connaissance de l’état de santé des Argenteuillais et faire émerger les besoins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: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nforcer les comportements favorables à la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3: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éserver l’offre de soins sur le territoi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 algn="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Argenteui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3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55640" y="907920"/>
            <a:ext cx="79437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ctions retenu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ouver les ressources humaines et financières pour réaliser un diagnostic (fiche 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dentifier les problématiques non explorées par le premier diagnostic (fiche 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nforcer les comportements favorables en matière de nutrition (fiche 3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former les médecins des possibilités d’installation sur la commune (fiche 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rmaliser les collaborations entre les services de la municipalité et ceux de la délégation territoriale (fiche 5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ider à l’accompagnement à travers une action de prévention et de promotion de la santé auprès des personnes occupants des logements reconnus insalubres (fiche 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395280" y="2602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 algn="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Argenteui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84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xe 1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852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xe 2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50028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xe 3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50864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xe 4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8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3" dur="5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Anne.GAMBLIN-SRECKI</cp:lastModifiedBy>
  <cp:lastPrinted>2011-11-02T16:07:34Z</cp:lastPrinted>
  <dcterms:modified xsi:type="dcterms:W3CDTF">2011-11-08T11:53:02Z</dcterms:modified>
  <cp:revision>22</cp:revision>
  <dc:subject/>
  <dc:title>ESSA</dc:title>
</cp:coreProperties>
</file>