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18700" cy="66167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1473480" cy="391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720" y="1548000"/>
            <a:ext cx="89258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720" y="3552480"/>
            <a:ext cx="89258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1473480" cy="391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720" y="1548000"/>
            <a:ext cx="43556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9520" y="1548000"/>
            <a:ext cx="43556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720" y="3552480"/>
            <a:ext cx="43556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9520" y="3552480"/>
            <a:ext cx="43556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1473480" cy="391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720" y="1548000"/>
            <a:ext cx="28738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3600" y="1548000"/>
            <a:ext cx="28738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1480" y="1548000"/>
            <a:ext cx="28738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720" y="3552480"/>
            <a:ext cx="28738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3600" y="3552480"/>
            <a:ext cx="28738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1480" y="3552480"/>
            <a:ext cx="28738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1473480" cy="391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720" y="1548000"/>
            <a:ext cx="8925840" cy="38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1473480" cy="391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720" y="1548000"/>
            <a:ext cx="8925840" cy="38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1473480" cy="391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720" y="1548000"/>
            <a:ext cx="4355640" cy="38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9520" y="1548000"/>
            <a:ext cx="4355640" cy="38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1473480" cy="391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266720" y="3215880"/>
            <a:ext cx="1473480" cy="13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1473480" cy="391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720" y="1548000"/>
            <a:ext cx="43556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9520" y="1548000"/>
            <a:ext cx="4355640" cy="38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720" y="3552480"/>
            <a:ext cx="43556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1473480" cy="391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720" y="1548000"/>
            <a:ext cx="4355640" cy="38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9520" y="1548000"/>
            <a:ext cx="43556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9520" y="3552480"/>
            <a:ext cx="43556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1473480" cy="391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720" y="1548000"/>
            <a:ext cx="43556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9520" y="1548000"/>
            <a:ext cx="43556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720" y="3552480"/>
            <a:ext cx="892584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1473480" cy="39135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720" y="1548000"/>
            <a:ext cx="8925840" cy="38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30360" y="457200"/>
            <a:ext cx="6858000" cy="17906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Les urgence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point de vue du SAMU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909800" y="2774880"/>
            <a:ext cx="6091200" cy="1797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marL="45720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 Daniel JANNIER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AMU de PAR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ôpital Ne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467480" y="2666880"/>
            <a:ext cx="2057400" cy="19987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20001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798040" cy="11160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2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Accueil hospitalier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1000" y="1879560"/>
            <a:ext cx="921672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problème non résolu car tout passe par les urgences comme en 19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ul les malades transportés par les Smurs bénéficient d’un accueil en spécial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 patients ne peuvent pas toujours regagner leur hopital de réfé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aval des urgences reste le problème prin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redéfinition de l’IAO ou du tri parait nécess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798040" cy="24066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2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Le régulateur du SAMU adresse  le malade </a:t>
            </a:r>
            <a:r>
              <a:rPr b="1" lang="en-US" sz="4000" spc="-1" strike="noStrike">
                <a:solidFill>
                  <a:srgbClr val="16e85c"/>
                </a:solidFill>
                <a:latin typeface="Arial"/>
              </a:rPr>
              <a:t>grave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 directement dans la bonne stru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0640" y="2948040"/>
            <a:ext cx="90799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çoit le bilan médi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termine les priorité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iente le patient vers le service adapt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érifie la disponibilité des soi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forme l'équipe d'accue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6400" y="587520"/>
            <a:ext cx="8818560" cy="10000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2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SAMU et économie de santé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214280" y="2300400"/>
            <a:ext cx="78933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mitation des transports injustifi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mitation des hospitalis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conomie des moyens coûte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mission directe adapté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in de tem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6000" y="2499840"/>
            <a:ext cx="9772920" cy="3675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274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seil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édecin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 garde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ecouristes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Ambulance           SMUR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 la PDS          Pompier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3080" y="2286000"/>
            <a:ext cx="5130720" cy="838080"/>
          </a:xfrm>
          <a:prstGeom prst="rect">
            <a:avLst/>
          </a:prstGeom>
          <a:solidFill>
            <a:srgbClr val="081d58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26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Régulation médical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294920" y="3505320"/>
            <a:ext cx="1676520" cy="1249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34760" y="3505320"/>
            <a:ext cx="1351080" cy="13348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571640" y="3581280"/>
            <a:ext cx="152280" cy="16765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3581280"/>
            <a:ext cx="1069920" cy="17128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3505320"/>
            <a:ext cx="1600200" cy="1676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94440" cy="11574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2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600" spc="-1" strike="noStrike">
                <a:solidFill>
                  <a:srgbClr val="fafd00"/>
                </a:solidFill>
                <a:latin typeface="Arial"/>
              </a:rPr>
              <a:t>Les moyens du SAMU</a:t>
            </a:r>
            <a:endParaRPr b="1" lang="en-US" sz="5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57240" y="304920"/>
            <a:ext cx="2895480" cy="7077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Le SMUR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70102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705720" cy="9507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L'action du SMUR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981080"/>
            <a:ext cx="965664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biliser les fonctions vi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rter un premier diagno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er les priorités thérapeu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mettre l'information à l’équipe d’accue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édicaliser le transport à l'hô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705720" cy="9507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Besoin des Smur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981080"/>
            <a:ext cx="9656640" cy="57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 structuration hospitaliè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smur st Antoine, smur hôtel die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égration des moyens de la bs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veloppement des TI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e a niveau des effectifs paramédica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vidualisation des bud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1360" y="499680"/>
            <a:ext cx="8064360" cy="9507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Transports sanitaires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981080"/>
            <a:ext cx="96566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uvelles nor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évelopper les transports dédiés a l’A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élioration de la qualité des personnel et des matéri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ers payant / téléchar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éliorer les conditions de circulation et d’accue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1360" y="499680"/>
            <a:ext cx="8064360" cy="9507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</a:rPr>
              <a:t>Visites a domicile</a:t>
            </a:r>
            <a:endParaRPr b="1" lang="en-US" sz="5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81080"/>
            <a:ext cx="9656640" cy="67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ntion avec SOS, UMP et G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priorisation a SOS, variable a l’U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sectorisation permettant de mobiliser les médecins instal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certitude de couverture des honora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’alternative publique autre que le Smur ou les Urg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7920" y="500040"/>
            <a:ext cx="8497800" cy="8539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Maisons médicales de garde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9360" y="1866960"/>
            <a:ext cx="936000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s employées mais en développ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ment cultur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édecins généralistes volontaires. Gestion principalement par la G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lèmes de locaux, de convention et d’accès (vs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680680" cy="711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ERVICE D'AIDE MEDICALE URGENT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2680" y="1652760"/>
            <a:ext cx="860580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sation informelle avant 19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i de 1986 , décret de 198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s missions du SAMU et du 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financement par la Sécurité Soci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décret sur les urgences 19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ication dans le schéma départem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permanence des so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82640" y="260280"/>
            <a:ext cx="6477120" cy="15112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La Cellule d’Urgence Médico-Psychologique (CUMP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9" name="Espace réservé du contenu 3" descr="IMG_0803.JPG"/>
          <p:cNvPicPr/>
          <p:nvPr/>
        </p:nvPicPr>
        <p:blipFill>
          <a:blip r:embed="rId1"/>
          <a:stretch/>
        </p:blipFill>
        <p:spPr>
          <a:xfrm>
            <a:off x="6407280" y="2165400"/>
            <a:ext cx="2595600" cy="3460680"/>
          </a:xfrm>
          <a:prstGeom prst="rect">
            <a:avLst/>
          </a:prstGeom>
          <a:ln w="0">
            <a:noFill/>
          </a:ln>
        </p:spPr>
      </p:pic>
      <p:sp>
        <p:nvSpPr>
          <p:cNvPr id="120" name="ZoneTexte 7"/>
          <p:cNvSpPr/>
          <p:nvPr/>
        </p:nvSpPr>
        <p:spPr>
          <a:xfrm>
            <a:off x="1530360" y="2241720"/>
            <a:ext cx="518148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spcAft>
                <a:spcPts val="29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ulager la souffrance psychique des patients et des interven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29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éduire les effets néfastes du st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29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ider la victime à faire le point sur l’évén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29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« Liquider l’expérience traumatique 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9120" y="336240"/>
            <a:ext cx="6933960" cy="5461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AMU et Social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22" name="Image 6" descr="logo_samusocial.gif"/>
          <p:cNvPicPr/>
          <p:nvPr/>
        </p:nvPicPr>
        <p:blipFill>
          <a:blip r:embed="rId1"/>
          <a:stretch/>
        </p:blipFill>
        <p:spPr>
          <a:xfrm>
            <a:off x="838080" y="1066680"/>
            <a:ext cx="6566040" cy="609840"/>
          </a:xfrm>
          <a:prstGeom prst="rect">
            <a:avLst/>
          </a:prstGeom>
          <a:ln w="0">
            <a:noFill/>
          </a:ln>
        </p:spPr>
      </p:pic>
      <p:sp>
        <p:nvSpPr>
          <p:cNvPr id="123" name="ZoneTexte 7"/>
          <p:cNvSpPr/>
          <p:nvPr/>
        </p:nvSpPr>
        <p:spPr>
          <a:xfrm>
            <a:off x="304920" y="2133720"/>
            <a:ext cx="681516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751"/>
              </a:spcBef>
              <a:spcAft>
                <a:spcPts val="24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quipes mobiles de lutte contre la tubercul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751"/>
              </a:spcBef>
              <a:spcAft>
                <a:spcPts val="24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entres d’hébergement d’urgence sim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751"/>
              </a:spcBef>
              <a:spcAft>
                <a:spcPts val="24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aude psychosoci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751"/>
              </a:spcBef>
              <a:spcAft>
                <a:spcPts val="24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ébergement d’urgence avec soins infirm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751"/>
              </a:spcBef>
              <a:spcAft>
                <a:spcPts val="24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rigé vers les  personnes sans domic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Espace réservé du contenu 6" descr="sta.jpg"/>
          <p:cNvPicPr/>
          <p:nvPr/>
        </p:nvPicPr>
        <p:blipFill>
          <a:blip r:embed="rId2"/>
          <a:stretch/>
        </p:blipFill>
        <p:spPr>
          <a:xfrm>
            <a:off x="7397640" y="1860480"/>
            <a:ext cx="2157480" cy="3068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8280" y="4172040"/>
            <a:ext cx="4943520" cy="527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édico social a domic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1640" y="4964040"/>
            <a:ext cx="90424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se en place d’une équipe mobile médico sociale en lien avec la mair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s les personnes isolées ou précaris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médecin délégu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E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9120" y="336240"/>
            <a:ext cx="6933960" cy="5461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L’Equipe Mobile d’urgenc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28" name="Espace réservé du contenu 6" descr="sta.jpg"/>
          <p:cNvPicPr/>
          <p:nvPr/>
        </p:nvPicPr>
        <p:blipFill>
          <a:blip r:embed="rId1"/>
          <a:stretch/>
        </p:blipFill>
        <p:spPr>
          <a:xfrm>
            <a:off x="7397640" y="1860480"/>
            <a:ext cx="2157480" cy="3068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1640" y="4964040"/>
            <a:ext cx="90424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200" y="1940040"/>
            <a:ext cx="6140520" cy="26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nnaitre les appe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% ont une composante médico-soci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écénat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ace avec l’action psychia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5029200" cy="8683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</a:rPr>
              <a:t>Conclusion</a:t>
            </a:r>
            <a:endParaRPr b="1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e forte coordination  SAMU - Hôpit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e réponse à géométrie variab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ur tous une très bonne accessibilité aux soins d’ur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e très forte implication des médeci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 téléphone à  la régulation du 1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r le terrain en SMU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iculté pour la PDS généraliste en visi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iculté pour le transport sanitaire de b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iculté pour l’adressage direct des patients intermédiair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t bien sur difficulté pour les Urgences hospitalièr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77720" y="417600"/>
            <a:ext cx="5683320" cy="7459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1800" rIns="9180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Missions du SAMU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9037440" cy="463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85840" indent="-285840">
              <a:lnSpc>
                <a:spcPct val="125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Écoute médicale perman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éclenche les moyens de soins adap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'assure de l'hospitalis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se le trans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Élabore les plans de secou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seigne la médecine d'urg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8880" y="779400"/>
            <a:ext cx="8415360" cy="758880"/>
          </a:xfrm>
          <a:prstGeom prst="rect">
            <a:avLst/>
          </a:prstGeom>
          <a:solidFill>
            <a:srgbClr val="081d58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1800" rIns="9180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DEFINITION DE L'URGENCE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1760" y="1992240"/>
            <a:ext cx="9640800" cy="13161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2840" bIns="42840" anchor="t">
            <a:normAutofit/>
          </a:bodyPr>
          <a:p>
            <a:pPr marL="285840" indent="0" algn="ct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U = G * S * T * V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740560" y="1111320"/>
            <a:ext cx="1774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968480" y="3409920"/>
            <a:ext cx="1778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860480" y="3505320"/>
            <a:ext cx="6184800" cy="22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 = gravi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= quantité de so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 = temps d’accès aux so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S = valence soci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7360" y="1544760"/>
            <a:ext cx="9183960" cy="45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87120" rIns="87120" tIns="42840" bIns="4284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bulanci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Infirmièr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Médec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urist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PULATIO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MPIER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MISSION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I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SPÉCIFIQU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PIT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489040" y="485640"/>
            <a:ext cx="4818240" cy="758880"/>
          </a:xfrm>
          <a:prstGeom prst="rect">
            <a:avLst/>
          </a:prstGeom>
          <a:solidFill>
            <a:srgbClr val="081d58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1800" rIns="9180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QUI APPELLE ?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3440" y="3560760"/>
            <a:ext cx="735120" cy="814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01960" y="2058840"/>
            <a:ext cx="1469880" cy="12495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41720" y="2940120"/>
            <a:ext cx="1909440" cy="6620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6840" y="3970440"/>
            <a:ext cx="198432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86280" y="1984320"/>
            <a:ext cx="0" cy="7365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473440" y="2058840"/>
            <a:ext cx="1616040" cy="12495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546880" y="2867040"/>
            <a:ext cx="1836720" cy="80964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621040" y="3970440"/>
            <a:ext cx="176220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9360" y="4484520"/>
            <a:ext cx="0" cy="441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14440" y="5072040"/>
            <a:ext cx="5069160" cy="809640"/>
          </a:xfrm>
          <a:prstGeom prst="rect">
            <a:avLst/>
          </a:prstGeom>
          <a:solidFill>
            <a:srgbClr val="0000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79720" y="5187960"/>
            <a:ext cx="50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2840" bIns="42840" anchor="t">
            <a:spAutoFit/>
          </a:bodyPr>
          <a:p>
            <a:pPr lvl="1" marL="441360" algn="ctr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Régulation médica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04280" y="514440"/>
            <a:ext cx="9183960" cy="602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87120" rIns="87120" tIns="42840" bIns="4284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I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PIT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7680" y="485640"/>
            <a:ext cx="7524720" cy="758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1800" rIns="9180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Qui appelle aujourd’hui ?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3440" y="3560760"/>
            <a:ext cx="735120" cy="81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27280" y="3235320"/>
            <a:ext cx="2644560" cy="6602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93760" y="4043520"/>
            <a:ext cx="227808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14440" y="4191120"/>
            <a:ext cx="2057400" cy="4413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60600" y="2425680"/>
            <a:ext cx="1911240" cy="1324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1838160"/>
            <a:ext cx="1249200" cy="1764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73440" y="3895560"/>
            <a:ext cx="1174680" cy="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9360" y="4484520"/>
            <a:ext cx="0" cy="441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14440" y="5072040"/>
            <a:ext cx="5069160" cy="809640"/>
          </a:xfrm>
          <a:prstGeom prst="rect">
            <a:avLst/>
          </a:prstGeom>
          <a:solidFill>
            <a:srgbClr val="0000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79720" y="5187960"/>
            <a:ext cx="50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2840" bIns="42840" anchor="t">
            <a:spAutoFit/>
          </a:bodyPr>
          <a:p>
            <a:pPr lvl="1" marL="441360" algn="ctr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Régulation médica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1200" y="1557360"/>
            <a:ext cx="2991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2840" bIns="42840" anchor="t">
            <a:spAutoFit/>
          </a:bodyPr>
          <a:p>
            <a:pPr lvl="2" marL="880920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mbulancier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7080" y="2071800"/>
            <a:ext cx="19371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2840" bIns="42840" anchor="t">
            <a:spAutoFit/>
          </a:bodyPr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Secouristes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0720" y="2808360"/>
            <a:ext cx="150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2840" bIns="42840" anchor="t">
            <a:spAutoFit/>
          </a:bodyPr>
          <a:p>
            <a:pPr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ompier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oli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8120" y="2720880"/>
            <a:ext cx="72648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2840" bIns="42840" anchor="t">
            <a:spAutoFit/>
          </a:bodyPr>
          <a:p>
            <a:pPr>
              <a:lnSpc>
                <a:spcPct val="90000"/>
              </a:lnSpc>
              <a:spcBef>
                <a:spcPts val="14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3440" y="3836880"/>
            <a:ext cx="150840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2840" bIns="42840" anchor="t">
            <a:spAutoFit/>
          </a:bodyPr>
          <a:p>
            <a:pPr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Médecin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9680" y="4498920"/>
            <a:ext cx="167148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2840" bIns="42840" anchor="t">
            <a:spAutoFit/>
          </a:bodyPr>
          <a:p>
            <a:pPr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nfirmiè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69080" y="3718080"/>
            <a:ext cx="242604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2840" bIns="42840" anchor="t">
            <a:spAutoFit/>
          </a:bodyPr>
          <a:p>
            <a:pPr algn="ctr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LES GEN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À 80 %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2800" y="184320"/>
            <a:ext cx="7543800" cy="5457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LA REGULATION : CRRA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5080" y="1174320"/>
            <a:ext cx="9524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jourd’hui 4 a 10 ARMs dev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a 3 médecins régulat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00 décrochés téléphon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0 dossiers médicau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égulateur généraliste le WE de jo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semaine uniquement de 20h a 24 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nuit hébergement du régulateur des U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Image 5" descr="regu js.jpg"/>
          <p:cNvPicPr/>
          <p:nvPr/>
        </p:nvPicPr>
        <p:blipFill>
          <a:blip r:embed="rId1"/>
          <a:stretch/>
        </p:blipFill>
        <p:spPr>
          <a:xfrm>
            <a:off x="7169040" y="1592280"/>
            <a:ext cx="23590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2800" y="184320"/>
            <a:ext cx="7543800" cy="5457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LA REGULATION : CRRA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35080" y="1174320"/>
            <a:ext cx="9524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 faudrait une regulation généralist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7h a 00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 samedi mat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 faut augmenter le nombre d’ARMs pour avoi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 réponse rapide (moins de 10 secondes 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 adapté (spécification des tac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ostes d’ARMs ont été attribués par le ministère et ont immédiatement disparus dans je ne sais quel plan équilibre 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Image 5" descr="regu js.jpg"/>
          <p:cNvPicPr/>
          <p:nvPr/>
        </p:nvPicPr>
        <p:blipFill>
          <a:blip r:embed="rId1"/>
          <a:stretch/>
        </p:blipFill>
        <p:spPr>
          <a:xfrm>
            <a:off x="7191360" y="1004760"/>
            <a:ext cx="23590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0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01760" y="0"/>
            <a:ext cx="7772400" cy="1028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L'auxiliaire de Régulation Médicale du SAMU (ARMs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34720" y="1860480"/>
            <a:ext cx="915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ectif: 5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és 10 (jour), 4 (nu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 SMS+ FAE (600 heures) Education Nationa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mière ligne de réponse au 1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ication de l’appelant et du pati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isation, cartograph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e rapide de la situation et hiérarchisation des app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es de service, procédures automatisé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s la responsabilité du médecin régulateu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ivi des appel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ivi des vecteurs engagé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Image 4" descr="regulation parm 5.jpg"/>
          <p:cNvPicPr/>
          <p:nvPr/>
        </p:nvPicPr>
        <p:blipFill>
          <a:blip r:embed="rId1"/>
          <a:stretch/>
        </p:blipFill>
        <p:spPr>
          <a:xfrm>
            <a:off x="7375680" y="2013120"/>
            <a:ext cx="223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18:22:21Z</dcterms:created>
  <dc:creator>SAMU</dc:creator>
  <dc:description/>
  <dc:language>en-US</dc:language>
  <cp:lastModifiedBy>537362</cp:lastModifiedBy>
  <dcterms:modified xsi:type="dcterms:W3CDTF">2013-05-23T16:10:26Z</dcterms:modified>
  <cp:revision>127</cp:revision>
  <dc:subject/>
  <dc:title>SAMU DE PARIS Repartition des Equipes</dc:title>
</cp:coreProperties>
</file>