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0615-6297-4102-8C4C-365D3D018F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BC12-AAA0-404D-8919-23730B9F61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8459-3B16-4F82-9DA3-BD64195C0D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A0E1-EBCE-4CEE-8AFD-F4025A467E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F4D4-CED8-481F-B484-23280C0941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2DC9-B9CE-47EF-BE03-20BA59080B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5957-C920-4CD9-82B9-133C5DF1F2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A8FD-07B4-48DE-8DDB-C8B4BD8B41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691D-2180-4138-8EA7-3B2FF48E5F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C543-DDD1-451B-A4C9-1E118298E7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AECA-FB3C-4147-9859-EAF9343CCA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1DB8-EF17-4C1B-B98A-008C7948CE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3228-BC0C-401D-A201-7CFC1DF2E0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458-C4F4-4AF5-A627-AA8B901B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D58-1859-425F-8261-D406A7B5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918-A2EF-4E52-B2A5-91A338AB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1F5-00A3-4EE8-8130-B0547F89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AA50-F0BB-4379-8EBA-396EEFFC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E0B4-7E45-4F4E-96A9-5B72604B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6B31-127B-4E1B-B3BB-08168D91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338B-6E79-4E30-981C-954F3555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CDCC-9232-441C-9353-C7B025C8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7E28-7D7F-4F58-8E0E-47D856AA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66CD-27F0-48C3-AE44-296218D4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86F-710D-43FE-B155-62784416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65C3-838F-4DB8-889C-8F10A89D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359A-5E46-4C85-9AC8-FE485C0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C51B-3309-4B3C-8D88-2CCD11B2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9B99-3400-4C3A-88B9-921E2E54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A595-8AB7-4316-AAEE-E3AEC5BC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AEBC-F370-4F04-84F3-653999A6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A452-EF8E-4A9A-ACFF-CC693924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D530-DE19-4BAA-8390-28C31CEA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6007-0BE9-4014-BA91-57BEA7B8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D7E2-D827-4C60-A3E0-DDEA7EA7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BAA-09EC-4269-A52F-D7B56400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2E94-52A7-4B79-B571-EAA07230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36682-FAEA-496A-9614-293D0AD1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AECB-BB31-48D5-B97C-41B74A3B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FC71-6807-4301-9103-0D578FDA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A3DB-70A2-414A-9B71-237D5FD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C9B3-1C5D-4C9D-9485-89BA2C55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F9E1-22D8-48C9-B19B-8B248611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EC9F-4B7B-439F-B583-3F97FF5E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F94F8-5384-4D59-BB1E-6D1730E9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2410-11AA-44FE-AE46-F90030E2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CC4-9B82-4456-A9C4-76B04173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C1A2-942E-4240-BBDC-09BACF0A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1DD9C-B7C1-44D1-8B82-948D31C6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16C9-EDDB-4610-BC9D-105A5B84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8EC9C-812C-4003-AA0B-5F5B14F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08AA-327B-4822-AD76-F8852A1A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971F-68A9-47F3-8249-C3DC120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E628A-3BB5-4A8F-B716-0F669AEE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24E19-5B00-4967-8C2A-F3137540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05781-5E18-4FA5-B940-D8A70BAA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39FAC-FACC-4EC0-95A3-4844DAD7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477-69B1-41F3-B5B6-B79B9F00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59A59-047F-4E1A-B3B2-EFCE59F6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C8240-E904-436D-97B4-0956DB19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6AF55-737C-4BE4-9266-CBFAD34A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47027-490D-4A98-944B-BC57CFD0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6A155-2DB3-443B-914C-94CF0B68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B3DA-DA57-48B5-94AB-1B5150A5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46E51-5E5D-4DB2-8EE1-69E91E57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7CF52-B0EE-45B0-97C4-ECEB29B8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08BA4-A03A-41FA-8C1C-2F4592B3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D072A-5DDC-48BA-A818-65FB673A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765-66FE-4BC6-9F76-3019929A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B194-CE68-4EEB-8F3D-C6C9986F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C740-4A2E-44FB-8B44-5A8E5A98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F5FEC-D22D-47C7-80FF-B400314B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32838-9C39-482A-A493-9DC3E32E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A2482-CA87-4572-801B-2119CBC9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EFC6B-DEAD-420C-89B8-C765E189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6CFCA-2A45-4EE1-92E2-A987E814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62CD1-B8F3-4637-AD7C-CF403AAD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5D270-B291-42E1-8808-A2B259F4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69BE1-9CA0-4DEC-8A16-7D4F836F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A89-F387-4635-BAAF-CF6594BA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6126-2870-42DA-B4A9-FD1F3285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B4A29-75FF-4B02-9FD8-9272A37D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ECC99-4B23-4DEC-861B-5E28E31F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0542C-F833-4FC6-9BB7-2510ECAD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032AE-C565-4942-8D8E-B96231D7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095A-04C0-4454-9237-00851B21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5BC2C-2FEB-4F61-94F2-848E34F8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7FFD2-6C04-43FA-B0EC-E53CA44C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8E3E7-7723-4352-81DD-1EF5B20A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E3B92-B22F-4231-A597-A770CCD5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939-78DE-40B7-A536-0A2066F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D97C1-2268-4945-9B6A-62138843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4127E-794D-458A-902C-267F2788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E9817-66A6-4DA1-BB4C-FF7E99B2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82B1C-37AD-48E8-BA42-0118F1C3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BB7AE-16AA-4726-B606-BF697B06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833D9-A9FB-4C09-BE69-D36EC213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4DA70-955E-45EE-999D-C8D3E92D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5D66A-E40E-4B2E-B9E8-712F627A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1EA65-4174-4A03-B85A-AD4DC536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D52E9-7E2B-4366-9219-950B99AD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DD4-22F1-4C2A-B1C1-47DC9F02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47D9B-1694-4171-A320-BAA77F89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C2BEC-A949-4123-BEDD-E964A27B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50DBA-5C76-427D-9358-C7FFDD6B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3B74B-0A27-4802-870D-0C1B2696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795FA-0583-49D9-8B62-58029769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43578-321D-4DA9-8294-F79CE053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F20A5-01FE-4449-9FF0-7B97BDF3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8611-2328-449D-9A19-5DD52D45F0F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28AC-867F-49BA-8E0D-C55494F7EE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le rect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e libre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e libre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e libre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e lib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necteur droit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2FFB-6DFB-4976-B037-E77FCB1A5FD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94A9-167F-4072-8195-A15E70CEA7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E4CA-6392-4E88-8F7F-26286F7A49D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06BB-7E2F-4AF8-8E1C-BD70607A51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EB24-AB8C-4B14-BCB0-839754D5769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FFA0-7980-4528-8EE6-C36EBC350F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B9F8-6CCE-40C8-940A-7A9A9BF61AC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449D-A07F-4419-BD08-F39CC97B1C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4FFA-8031-4D85-BED3-99852709BAD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B7C8-0F81-40F3-B2D3-6CB7214A99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F38C-65C6-4ADF-9CF3-4C3E7C17587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15D7-E0F3-43E7-8722-5E34911BBF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e libre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e libre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angle rect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le rect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necteur droit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3DE8-5A55-4F5D-98CE-86AD0982CA6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3BC4-4547-4E0D-B153-FD5F84EDB2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aecd"/>
                </a:solidFill>
                <a:latin typeface="Lucida Sans Unicode"/>
              </a:rPr>
              <a:t>Pharmacies de PAR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468360" y="476280"/>
            <a:ext cx="45720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«Je jure, en présence des maîtres de la faculté, d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seillers de l’ordre des pharmaciens et de m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disciples…de ne jamais oublier ma responsabilité et mes devoir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envers le malade et sa dignité humaine.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faecd"/>
                </a:solidFill>
                <a:latin typeface="Lucida Sans Unicode"/>
              </a:rPr>
              <a:t>-Extrait du Serment de Galien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Répartition des officines dans les secteu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Homogénéité des tours de garde entr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les pharmacies du secteu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Couverture cohérente sur l’ensemble de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Un atout Santé pour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n application du CODE de la SANTE PUBLIQU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t du CODE DU TRAVAIL, un système de garde pour en finir avec un système anarchique où chacun ouvrait quand il voulait…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339120"/>
            <a:ext cx="9144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10 pharmacies de garde d’urgence seront en servic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depuis1</a:t>
            </a:r>
            <a:r>
              <a:rPr b="1" lang="en-US" sz="1400" spc="-1" strike="noStrike" baseline="30000">
                <a:solidFill>
                  <a:srgbClr val="105766"/>
                </a:solidFill>
                <a:latin typeface="Arial"/>
                <a:ea typeface="Arial Unicode MS"/>
              </a:rPr>
              <a:t>er</a:t>
            </a: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 octobre 2011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pour répondre da façon optimale aux soins d’urgence sur Pari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1671840"/>
            <a:ext cx="91440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Titre 3"/>
          <p:cNvSpPr/>
          <p:nvPr/>
        </p:nvSpPr>
        <p:spPr>
          <a:xfrm>
            <a:off x="25092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Les pharmacies assurant le service de nuit, de 21H à 8H du matin sont en accès libre,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sans passage par le commissariat d’arrondissement.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 Ces pharmacies ont la possibilité d’effectuer leur garde à volets ouverts ou volets fermés. Dans ce dernier cas, le pharmacien mentionne son numéro de téléphone sur son officine pour répondre à toute urgence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Quelle que soit la solution choisie, ces pharmacies sont </a:t>
            </a: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clairement identifiables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(croix allumée, éclairage extérieur, …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a1f28"/>
                </a:solidFill>
                <a:latin typeface="Lucida Sans Unicode"/>
              </a:rPr>
              <a:t>Pour les patients un accès simple à l’information concernant les pharmacies de gardes 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ffichage sur les vitrines de toutes les pharmacies de Par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Resogarde : 3237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pplication smartphone : Mon Pharmacie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468360" y="692280"/>
            <a:ext cx="83516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« Les syndicats se sont engagés à maintenir la permanence d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accès aux soins su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ensemble du territoire de santé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  assurant  ce service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es pharmaciens parisiens , professionnels de la  Santé,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nt  tenu à réaffirmer leur implication  pleine  et entiè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ns la chaîne de Santé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re 1" descr=""/>
          <p:cNvPicPr/>
          <p:nvPr/>
        </p:nvPicPr>
        <p:blipFill>
          <a:blip r:embed="rId1"/>
          <a:stretch/>
        </p:blipFill>
        <p:spPr>
          <a:xfrm>
            <a:off x="208080" y="75564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914400" y="1773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1001 pharmacies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à votre servic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re 1" descr=""/>
          <p:cNvPicPr/>
          <p:nvPr/>
        </p:nvPicPr>
        <p:blipFill>
          <a:blip r:embed="rId2"/>
          <a:stretch/>
        </p:blipFill>
        <p:spPr>
          <a:xfrm>
            <a:off x="390600" y="471816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Image 4" descr="pharm.jpg"/>
          <p:cNvPicPr/>
          <p:nvPr/>
        </p:nvPicPr>
        <p:blipFill>
          <a:blip r:embed="rId3"/>
          <a:stretch/>
        </p:blipFill>
        <p:spPr>
          <a:xfrm>
            <a:off x="250920" y="2492280"/>
            <a:ext cx="1584360" cy="20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re 1" descr=""/>
          <p:cNvPicPr/>
          <p:nvPr/>
        </p:nvPicPr>
        <p:blipFill>
          <a:blip r:embed="rId1"/>
          <a:stretch/>
        </p:blipFill>
        <p:spPr>
          <a:xfrm>
            <a:off x="463680" y="542880"/>
            <a:ext cx="8242200" cy="1157400"/>
          </a:xfrm>
          <a:prstGeom prst="rect">
            <a:avLst/>
          </a:prstGeom>
          <a:ln w="0">
            <a:noFill/>
          </a:ln>
        </p:spPr>
      </p:pic>
      <p:sp>
        <p:nvSpPr>
          <p:cNvPr id="386" name="Sous-titre 2"/>
          <p:cNvSpPr/>
          <p:nvPr/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re 1" descr=""/>
          <p:cNvPicPr/>
          <p:nvPr/>
        </p:nvPicPr>
        <p:blipFill>
          <a:blip r:embed="rId2"/>
          <a:stretch/>
        </p:blipFill>
        <p:spPr>
          <a:xfrm>
            <a:off x="463680" y="3713040"/>
            <a:ext cx="8242200" cy="1150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Espace réservé du contenu 7" descr="paris cycle 1.jpg"/>
          <p:cNvPicPr/>
          <p:nvPr/>
        </p:nvPicPr>
        <p:blipFill>
          <a:blip r:embed="rId2"/>
          <a:stretch/>
        </p:blipFill>
        <p:spPr>
          <a:xfrm>
            <a:off x="3132000" y="2637000"/>
            <a:ext cx="3187800" cy="2552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610920" y="1341000"/>
            <a:ext cx="784836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"/>
          <p:cNvSpPr/>
          <p:nvPr/>
        </p:nvSpPr>
        <p:spPr>
          <a:xfrm>
            <a:off x="2017080" y="558972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Espace réservé du contenu 7" descr="paris cycle 2.jpg"/>
          <p:cNvPicPr/>
          <p:nvPr/>
        </p:nvPicPr>
        <p:blipFill>
          <a:blip r:embed="rId2"/>
          <a:stretch/>
        </p:blipFill>
        <p:spPr>
          <a:xfrm>
            <a:off x="313200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84360" y="1268280"/>
            <a:ext cx="7704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1476360" y="551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épartition homogè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Espace réservé du contenu 10" descr="paris cycle3.jpg"/>
          <p:cNvPicPr/>
          <p:nvPr/>
        </p:nvPicPr>
        <p:blipFill>
          <a:blip r:embed="rId2"/>
          <a:stretch/>
        </p:blipFill>
        <p:spPr>
          <a:xfrm>
            <a:off x="298764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755640" y="1341000"/>
            <a:ext cx="75614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5"/>
          <p:cNvSpPr/>
          <p:nvPr/>
        </p:nvSpPr>
        <p:spPr>
          <a:xfrm>
            <a:off x="1872720" y="551664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Espace réservé du contenu 5" descr="paris cycle 4.jpg"/>
          <p:cNvPicPr/>
          <p:nvPr/>
        </p:nvPicPr>
        <p:blipFill>
          <a:blip r:embed="rId2"/>
          <a:stretch/>
        </p:blipFill>
        <p:spPr>
          <a:xfrm>
            <a:off x="3059280" y="2276640"/>
            <a:ext cx="3187440" cy="2552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684360" y="14130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2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1856880" y="537372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us les secteurs sont desservi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re 1" descr=""/>
          <p:cNvPicPr/>
          <p:nvPr/>
        </p:nvPicPr>
        <p:blipFill>
          <a:blip r:embed="rId1"/>
          <a:stretch/>
        </p:blipFill>
        <p:spPr>
          <a:xfrm>
            <a:off x="-23760" y="396720"/>
            <a:ext cx="9186840" cy="1846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ous-titre 2"/>
          <p:cNvSpPr/>
          <p:nvPr/>
        </p:nvSpPr>
        <p:spPr>
          <a:xfrm>
            <a:off x="140328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65160"/>
                </a:solidFill>
                <a:latin typeface="Lucida Sans Unicode"/>
              </a:rPr>
              <a:t>De 8H00 à 21H00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Image 4" descr="Pharmacies_garde.jpg"/>
          <p:cNvPicPr/>
          <p:nvPr/>
        </p:nvPicPr>
        <p:blipFill>
          <a:blip r:embed="rId2"/>
          <a:stretch/>
        </p:blipFill>
        <p:spPr>
          <a:xfrm>
            <a:off x="3692520" y="5300640"/>
            <a:ext cx="1890720" cy="105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re 1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779760"/>
          </a:xfrm>
          <a:prstGeom prst="rect">
            <a:avLst/>
          </a:prstGeom>
          <a:ln w="0">
            <a:noFill/>
          </a:ln>
        </p:spPr>
      </p:pic>
      <p:pic>
        <p:nvPicPr>
          <p:cNvPr id="409" name="Espace réservé du contenu 3" descr="paris djf.jpg"/>
          <p:cNvPicPr/>
          <p:nvPr/>
        </p:nvPicPr>
        <p:blipFill>
          <a:blip r:embed="rId2"/>
          <a:stretch/>
        </p:blipFill>
        <p:spPr>
          <a:xfrm>
            <a:off x="2411280" y="1052640"/>
            <a:ext cx="4294440" cy="3435120"/>
          </a:xfrm>
          <a:prstGeom prst="rect">
            <a:avLst/>
          </a:prstGeom>
          <a:ln w="0">
            <a:noFill/>
          </a:ln>
        </p:spPr>
      </p:pic>
      <p:sp>
        <p:nvSpPr>
          <p:cNvPr id="410" name="Espace réservé du pied de page 8"/>
          <p:cNvSpPr/>
          <p:nvPr/>
        </p:nvSpPr>
        <p:spPr>
          <a:xfrm>
            <a:off x="62485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ZoneTexte 6"/>
          <p:cNvSpPr/>
          <p:nvPr/>
        </p:nvSpPr>
        <p:spPr>
          <a:xfrm>
            <a:off x="1979640" y="530064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 000 PARISIEN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ZoneTexte 7"/>
          <p:cNvSpPr/>
          <p:nvPr/>
        </p:nvSpPr>
        <p:spPr>
          <a:xfrm>
            <a:off x="1835280" y="465300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5 000 RESIDENTS  AU NIVEAU  NAT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ZoneTexte 10"/>
          <p:cNvSpPr/>
          <p:nvPr/>
        </p:nvSpPr>
        <p:spPr>
          <a:xfrm>
            <a:off x="46836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E REPARTITION HOMOGENE SUR TOUS LES SECTEUR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PARIS, ASSUREE PAR  DES  PHARMACIENS  VOLONTAI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8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7:27:35Z</dcterms:created>
  <dc:creator>ivaldi</dc:creator>
  <dc:description/>
  <dc:language>en-US</dc:language>
  <cp:lastModifiedBy>p3</cp:lastModifiedBy>
  <dcterms:modified xsi:type="dcterms:W3CDTF">2013-05-17T17:41:19Z</dcterms:modified>
  <cp:revision>75</cp:revision>
  <dc:subject/>
  <dc:title>GARDES D’URGENCE</dc:title>
</cp:coreProperties>
</file>