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4C905-822F-496A-9DDD-E6678E4F54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928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AE8F-13ED-4B57-8DF7-550D26D2E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196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D695-7CA6-4AB8-92C0-F137F8CA1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4728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492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1928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4728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492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9BF8A-F2A3-40E4-9CC9-823C35FEF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667C-6306-4383-9C2D-1BC0789008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AA6F-572E-4714-9282-37C551E9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F0F9-4CEB-42E1-84D7-C1477459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226C-F092-4AAC-A4EE-CB7E03B5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D171-42EB-4D0A-8E8F-C52BEB3E9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C097-2B82-4D4A-ABBC-550FD164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4B00-FD96-4573-97F4-8D18936D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06DBA-7D35-487B-AD26-8022AF221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0196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657A-2B2E-4183-A5BF-58C105BD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96FA-9894-4AEF-8A4F-4936D0DE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1928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B841-4CED-4E71-8057-269DDD9D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0196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E0A7-7E96-4A0F-BC8F-D386328F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4728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492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1928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4728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492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AB35-BAAC-417D-AFAE-E9535B5DA6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B064F-5ADF-47EB-9DF6-52B366FB9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946F2-9576-49E0-9977-87CD74D68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AEA9-5083-4006-8F08-74386FBD9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EB80E-9FAC-4698-BC96-CC4F1E6A4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5AF06-0B58-4345-9EFC-498FF6035E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196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679D3-726B-4EE7-A94D-5A9153377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C6B26-3271-40DF-874B-66ACA1146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"/>
          <p:cNvPicPr/>
          <p:nvPr/>
        </p:nvPicPr>
        <p:blipFill>
          <a:blip r:embed="rId2"/>
          <a:stretch/>
        </p:blipFill>
        <p:spPr>
          <a:xfrm>
            <a:off x="3289320" y="6159600"/>
            <a:ext cx="2565360" cy="68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519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77920">
              <a:spcBef>
                <a:spcPts val="499"/>
              </a:spcBef>
              <a:buClr>
                <a:srgbClr val="00519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303120">
              <a:spcBef>
                <a:spcPts val="499"/>
              </a:spcBef>
              <a:buClr>
                <a:srgbClr val="00519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55600" indent="-226800">
              <a:spcBef>
                <a:spcPts val="499"/>
              </a:spcBef>
              <a:buClr>
                <a:srgbClr val="00519e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97160" indent="-239760">
              <a:spcBef>
                <a:spcPts val="499"/>
              </a:spcBef>
              <a:buClr>
                <a:srgbClr val="00519e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97160" indent="-2397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97160" indent="-2397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52436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31B115A-61A3-4C2A-8746-DF6E99CAE13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719280" y="6246720"/>
            <a:ext cx="25574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4"/>
          <p:cNvSpPr/>
          <p:nvPr/>
        </p:nvSpPr>
        <p:spPr>
          <a:xfrm>
            <a:off x="712800" y="177840"/>
            <a:ext cx="3859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5" descr=""/>
          <p:cNvPicPr/>
          <p:nvPr/>
        </p:nvPicPr>
        <p:blipFill>
          <a:blip r:embed="rId3"/>
          <a:stretch/>
        </p:blipFill>
        <p:spPr>
          <a:xfrm>
            <a:off x="719280" y="0"/>
            <a:ext cx="2195280" cy="1062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6" descr=""/>
          <p:cNvPicPr/>
          <p:nvPr/>
        </p:nvPicPr>
        <p:blipFill>
          <a:blip r:embed="rId4"/>
          <a:stretch/>
        </p:blipFill>
        <p:spPr>
          <a:xfrm>
            <a:off x="0" y="6297480"/>
            <a:ext cx="576360" cy="1429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7" descr=""/>
          <p:cNvPicPr/>
          <p:nvPr/>
        </p:nvPicPr>
        <p:blipFill>
          <a:blip r:embed="rId5"/>
          <a:stretch/>
        </p:blipFill>
        <p:spPr>
          <a:xfrm>
            <a:off x="8567640" y="6297480"/>
            <a:ext cx="576360" cy="142920"/>
          </a:xfrm>
          <a:prstGeom prst="rect">
            <a:avLst/>
          </a:prstGeom>
          <a:ln w="0">
            <a:noFill/>
          </a:ln>
        </p:spPr>
      </p:pic>
      <p:sp>
        <p:nvSpPr>
          <p:cNvPr id="8" name="Rectangle 21"/>
          <p:cNvSpPr/>
          <p:nvPr/>
        </p:nvSpPr>
        <p:spPr>
          <a:xfrm>
            <a:off x="250920" y="6524640"/>
            <a:ext cx="3241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ésentation du projet Hôtel-Dieu conférence de territoire mars 201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19e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8" descr=""/>
          <p:cNvPicPr/>
          <p:nvPr/>
        </p:nvPicPr>
        <p:blipFill>
          <a:blip r:embed="rId2"/>
          <a:stretch/>
        </p:blipFill>
        <p:spPr>
          <a:xfrm>
            <a:off x="3029040" y="3187800"/>
            <a:ext cx="6114960" cy="2361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"/>
          <p:cNvPicPr/>
          <p:nvPr/>
        </p:nvPicPr>
        <p:blipFill>
          <a:blip r:embed="rId3"/>
          <a:stretch/>
        </p:blipFill>
        <p:spPr>
          <a:xfrm>
            <a:off x="719280" y="0"/>
            <a:ext cx="2195280" cy="106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"/>
          <p:cNvPicPr/>
          <p:nvPr/>
        </p:nvPicPr>
        <p:blipFill>
          <a:blip r:embed="rId4"/>
          <a:stretch/>
        </p:blipFill>
        <p:spPr>
          <a:xfrm>
            <a:off x="3289320" y="5934240"/>
            <a:ext cx="2565360" cy="682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712800" y="177840"/>
            <a:ext cx="3859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1"/>
          <p:cNvSpPr/>
          <p:nvPr/>
        </p:nvSpPr>
        <p:spPr>
          <a:xfrm>
            <a:off x="6372360" y="6524640"/>
            <a:ext cx="26272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8A0189C8-1434-432B-A072-ADE8139D7F9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519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77920">
              <a:spcBef>
                <a:spcPts val="499"/>
              </a:spcBef>
              <a:buClr>
                <a:srgbClr val="00519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303120">
              <a:spcBef>
                <a:spcPts val="499"/>
              </a:spcBef>
              <a:buClr>
                <a:srgbClr val="00519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55600" indent="-226800">
              <a:spcBef>
                <a:spcPts val="499"/>
              </a:spcBef>
              <a:buClr>
                <a:srgbClr val="00519e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97160" indent="-239760">
              <a:spcBef>
                <a:spcPts val="499"/>
              </a:spcBef>
              <a:buClr>
                <a:srgbClr val="00519e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97160" indent="-2397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97160" indent="-2397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2"/>
          </p:nvPr>
        </p:nvSpPr>
        <p:spPr>
          <a:xfrm>
            <a:off x="719280" y="5358960"/>
            <a:ext cx="7586640" cy="6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3"/>
          </p:nvPr>
        </p:nvSpPr>
        <p:spPr>
          <a:xfrm>
            <a:off x="250560" y="6524640"/>
            <a:ext cx="3313080" cy="2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ésentation du projet Hôtel-Dieu février 2013 v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0"/>
          <p:cNvSpPr/>
          <p:nvPr/>
        </p:nvSpPr>
        <p:spPr>
          <a:xfrm>
            <a:off x="250920" y="6524640"/>
            <a:ext cx="3313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ésentation du projet Hôtel-Dieu conférence de territoire mars  201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101080" cy="26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90720" indent="-99072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ésentation du projet de transformation de l’Hôtel-Dieu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90720" indent="-99072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0720" indent="-99072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s 20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0200" y="539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FD2960-ABAB-46EC-B936-D487E64D8BD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13" name="Arc 11"/>
          <p:cNvSpPr/>
          <p:nvPr/>
        </p:nvSpPr>
        <p:spPr>
          <a:xfrm rot="21391200">
            <a:off x="107640" y="2565360"/>
            <a:ext cx="2016000" cy="180036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1413000"/>
            <a:ext cx="6480000" cy="22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e de soins paramédicaux prioritairement réservé aux patients des consul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irm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nésithéra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été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ych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190800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2411280" y="3716280"/>
            <a:ext cx="468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e dent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05092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340000" y="4437000"/>
            <a:ext cx="446544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e de médica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en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gi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ucation thérapeu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>
            <a:off x="1979640" y="458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250920" y="303516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offre de soins adossée à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8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22" name="Oval 39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rc 40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41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42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43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BFC382E7-40CB-46E0-A5FA-1EC9BB40C2E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rc 11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900000" y="314172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s 4 princi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4429080" y="2133720"/>
            <a:ext cx="47149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ccompagner les transformations du système de so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voriser une synergie entre recherche, action et apprenti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voriser l’articulation entre soin et santé publ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écliner le projet en buts populatio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5"/>
          <p:cNvSpPr/>
          <p:nvPr/>
        </p:nvSpPr>
        <p:spPr>
          <a:xfrm>
            <a:off x="3492360" y="177336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4572000" y="3573360"/>
            <a:ext cx="41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projet pluridisciplin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7"/>
          <p:cNvSpPr/>
          <p:nvPr/>
        </p:nvSpPr>
        <p:spPr>
          <a:xfrm>
            <a:off x="4356000" y="364644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8"/>
          <p:cNvSpPr/>
          <p:nvPr/>
        </p:nvSpPr>
        <p:spPr>
          <a:xfrm>
            <a:off x="3924360" y="436572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4211640" y="4419720"/>
            <a:ext cx="46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projet interuniversi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22"/>
          <p:cNvSpPr/>
          <p:nvPr/>
        </p:nvSpPr>
        <p:spPr>
          <a:xfrm>
            <a:off x="2627280" y="508464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3"/>
          <p:cNvSpPr/>
          <p:nvPr/>
        </p:nvSpPr>
        <p:spPr>
          <a:xfrm>
            <a:off x="2987640" y="5084640"/>
            <a:ext cx="6048360" cy="10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lieu ou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À toutes les disciplines médicales ou non, aux professionnels et acteurs de santé, aux usa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À des partenariats français et internation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4"/>
          <p:cNvSpPr/>
          <p:nvPr/>
        </p:nvSpPr>
        <p:spPr>
          <a:xfrm>
            <a:off x="179280" y="189000"/>
            <a:ext cx="66247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41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40" name="Oval 42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rc 43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44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45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46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 Box 47"/>
          <p:cNvSpPr/>
          <p:nvPr/>
        </p:nvSpPr>
        <p:spPr>
          <a:xfrm>
            <a:off x="3745080" y="1616040"/>
            <a:ext cx="471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projet de recherche et d’enseignement au service de l’innovation p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01139C88-BFA3-4F04-A1EA-D591504D43F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48" name="Arc 11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3924360" y="1557360"/>
            <a:ext cx="33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ui à la recherche clinique, épidémiologique, bio-statis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5"/>
          <p:cNvSpPr/>
          <p:nvPr/>
        </p:nvSpPr>
        <p:spPr>
          <a:xfrm>
            <a:off x="3419640" y="1773360"/>
            <a:ext cx="21564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7"/>
          <p:cNvSpPr/>
          <p:nvPr/>
        </p:nvSpPr>
        <p:spPr>
          <a:xfrm>
            <a:off x="4356000" y="335772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8"/>
          <p:cNvSpPr/>
          <p:nvPr/>
        </p:nvSpPr>
        <p:spPr>
          <a:xfrm>
            <a:off x="2771640" y="508464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2"/>
          <p:cNvSpPr/>
          <p:nvPr/>
        </p:nvSpPr>
        <p:spPr>
          <a:xfrm>
            <a:off x="4643280" y="3284640"/>
            <a:ext cx="36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ui à la recherche en qualité, sécurité des soins, performances hospitaliè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4"/>
          <p:cNvSpPr/>
          <p:nvPr/>
        </p:nvSpPr>
        <p:spPr>
          <a:xfrm>
            <a:off x="3060720" y="5013360"/>
            <a:ext cx="60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ui à la recherche en promotion de la santé, optimisation des parcours santé et partenariat avec les usa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5"/>
          <p:cNvSpPr/>
          <p:nvPr/>
        </p:nvSpPr>
        <p:spPr>
          <a:xfrm>
            <a:off x="684360" y="316404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organisation en 3 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41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57" name="Oval 42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rc 43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44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45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46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068B7722-3A4D-4F78-A6F9-A820CA2D0F2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64" name="Arc 11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684360" y="314172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ntribuer au développ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5"/>
          <p:cNvSpPr/>
          <p:nvPr/>
        </p:nvSpPr>
        <p:spPr>
          <a:xfrm>
            <a:off x="3059280" y="162864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8"/>
          <p:cNvSpPr/>
          <p:nvPr/>
        </p:nvSpPr>
        <p:spPr>
          <a:xfrm>
            <a:off x="4137120" y="414972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0"/>
          <p:cNvSpPr/>
          <p:nvPr/>
        </p:nvSpPr>
        <p:spPr>
          <a:xfrm>
            <a:off x="3708360" y="907920"/>
            <a:ext cx="54356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la santé au trav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édecine du Personnel de l’AP-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tation de pathologies professionnelles et environnemen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ossées à la recherche (VIFASOM) et l’expertise (Institut interuniversitai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32"/>
          <p:cNvSpPr/>
          <p:nvPr/>
        </p:nvSpPr>
        <p:spPr>
          <a:xfrm>
            <a:off x="4356000" y="293832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5"/>
          <p:cNvSpPr/>
          <p:nvPr/>
        </p:nvSpPr>
        <p:spPr>
          <a:xfrm>
            <a:off x="4535640" y="2708280"/>
            <a:ext cx="46083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e la médecine lég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3 des 10 structures de référence régionales sont à l’AP-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centre inter-universitaire pour conforter l’enseignement et la   recherche en médecine lég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42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72" name="Oval 43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rc 44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5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46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47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Picture 48" descr=""/>
          <p:cNvPicPr/>
          <p:nvPr/>
        </p:nvPicPr>
        <p:blipFill>
          <a:blip r:embed="rId1"/>
          <a:stretch/>
        </p:blipFill>
        <p:spPr>
          <a:xfrm>
            <a:off x="1979640" y="5167440"/>
            <a:ext cx="225360" cy="225360"/>
          </a:xfrm>
          <a:prstGeom prst="rect">
            <a:avLst/>
          </a:prstGeom>
          <a:ln w="0">
            <a:noFill/>
          </a:ln>
        </p:spPr>
      </p:pic>
      <p:sp>
        <p:nvSpPr>
          <p:cNvPr id="278" name="ZoneTexte 1"/>
          <p:cNvSpPr/>
          <p:nvPr/>
        </p:nvSpPr>
        <p:spPr>
          <a:xfrm>
            <a:off x="4359240" y="4149720"/>
            <a:ext cx="46674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la médecine génér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jeu majeur de la réforme du système de so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ns le cadre d’une transformation des soins de premier rec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n développant un lieu d’enseignement et de recher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ZoneTexte 2"/>
          <p:cNvSpPr/>
          <p:nvPr/>
        </p:nvSpPr>
        <p:spPr>
          <a:xfrm>
            <a:off x="1979640" y="5300640"/>
            <a:ext cx="648000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 la recherche infirmi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infirmières et les autres professions para-médicales participent à la recherche clinique et en qualité hospitaliè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l faut développer la recherche sur les soins, les métiers et les organis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61099DA4-B1C4-422E-84A0-4A807906493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e centre d’enseignement </a:t>
            </a:r>
            <a:br>
              <a:rPr sz="2400"/>
            </a:b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aux métiers de la santé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82" name="Arc 3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612720" y="1828800"/>
            <a:ext cx="295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 regroupement d’activités d’enseignement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763640" y="3124080"/>
            <a:ext cx="25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nforcé par des activités à dévelo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3635280" y="191628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4789440" y="3090960"/>
            <a:ext cx="403056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es activités de recherche et d’enseignement innovan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imaux à l’école vétérinaire Maisons Al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jets anatom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mulation médico-chirurgi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eliers comportement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rtenariat avec le pôle santé publ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4356000" y="321300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4140360" y="1700280"/>
            <a:ext cx="302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ole de chirur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oles d’IADE et IB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8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90" name="Oval 39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rc 40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41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42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43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45"/>
          <p:cNvGrpSpPr/>
          <p:nvPr/>
        </p:nvGrpSpPr>
        <p:grpSpPr>
          <a:xfrm>
            <a:off x="4716360" y="3718080"/>
            <a:ext cx="73080" cy="1150920"/>
            <a:chOff x="4716360" y="3718080"/>
            <a:chExt cx="73080" cy="1150920"/>
          </a:xfrm>
        </p:grpSpPr>
        <p:sp>
          <p:nvSpPr>
            <p:cNvPr id="296" name="Oval 11"/>
            <p:cNvSpPr/>
            <p:nvPr/>
          </p:nvSpPr>
          <p:spPr>
            <a:xfrm>
              <a:off x="4716360" y="3718080"/>
              <a:ext cx="7164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2"/>
            <p:cNvSpPr/>
            <p:nvPr/>
          </p:nvSpPr>
          <p:spPr>
            <a:xfrm>
              <a:off x="4716360" y="4005360"/>
              <a:ext cx="7164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3"/>
            <p:cNvSpPr/>
            <p:nvPr/>
          </p:nvSpPr>
          <p:spPr>
            <a:xfrm>
              <a:off x="4718160" y="4275000"/>
              <a:ext cx="7128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4"/>
            <p:cNvSpPr/>
            <p:nvPr/>
          </p:nvSpPr>
          <p:spPr>
            <a:xfrm>
              <a:off x="4716360" y="45259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4"/>
            <p:cNvSpPr/>
            <p:nvPr/>
          </p:nvSpPr>
          <p:spPr>
            <a:xfrm>
              <a:off x="4716360" y="479736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C66F1781-0BA0-44E7-9D2D-829075575D5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e transfert du sièg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03" name="Arc 3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39640" y="3068640"/>
            <a:ext cx="3384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staller le siè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u sein de l’Hôtel-Di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5"/>
          <p:cNvSpPr/>
          <p:nvPr/>
        </p:nvSpPr>
        <p:spPr>
          <a:xfrm>
            <a:off x="4140360" y="242100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4067280" y="422100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427640" y="234936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projet managé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4356000" y="4221000"/>
            <a:ext cx="4248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e meilleure organisation spatiale sour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syner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310" name="Oval 33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rc 34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35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6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37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05C6AAD5-A382-4000-87DA-BB1295D6E52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Un musée transformé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17" name="Arc 3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539640" y="1916280"/>
            <a:ext cx="26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asser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5"/>
          <p:cNvSpPr/>
          <p:nvPr/>
        </p:nvSpPr>
        <p:spPr>
          <a:xfrm>
            <a:off x="2556000" y="1413000"/>
            <a:ext cx="21564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3708360" y="16844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s les professionnels et acteurs de san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7"/>
          <p:cNvSpPr/>
          <p:nvPr/>
        </p:nvSpPr>
        <p:spPr>
          <a:xfrm>
            <a:off x="3419640" y="1773360"/>
            <a:ext cx="21564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6"/>
          <p:cNvSpPr/>
          <p:nvPr/>
        </p:nvSpPr>
        <p:spPr>
          <a:xfrm>
            <a:off x="4140360" y="234936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7"/>
          <p:cNvSpPr/>
          <p:nvPr/>
        </p:nvSpPr>
        <p:spPr>
          <a:xfrm>
            <a:off x="4284720" y="220500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s le grand 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2916360" y="1341360"/>
            <a:ext cx="43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re hier et aujourd’hui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rchives historiqu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24"/>
          <p:cNvSpPr/>
          <p:nvPr/>
        </p:nvSpPr>
        <p:spPr>
          <a:xfrm>
            <a:off x="4284720" y="371628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5"/>
          <p:cNvSpPr/>
          <p:nvPr/>
        </p:nvSpPr>
        <p:spPr>
          <a:xfrm>
            <a:off x="4572000" y="364500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e librairie-bou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6"/>
          <p:cNvSpPr/>
          <p:nvPr/>
        </p:nvSpPr>
        <p:spPr>
          <a:xfrm>
            <a:off x="4284720" y="420372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espace de resta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7"/>
          <p:cNvSpPr/>
          <p:nvPr/>
        </p:nvSpPr>
        <p:spPr>
          <a:xfrm>
            <a:off x="3851280" y="4700520"/>
            <a:ext cx="4248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e billetterie commun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musée de l’AP-HP, tours de Notre-Dame, conciergerie et Sainte-Chapel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28"/>
          <p:cNvSpPr/>
          <p:nvPr/>
        </p:nvSpPr>
        <p:spPr>
          <a:xfrm>
            <a:off x="4067280" y="422100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29"/>
          <p:cNvSpPr/>
          <p:nvPr/>
        </p:nvSpPr>
        <p:spPr>
          <a:xfrm>
            <a:off x="3492360" y="465300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1"/>
          <p:cNvSpPr/>
          <p:nvPr/>
        </p:nvSpPr>
        <p:spPr>
          <a:xfrm>
            <a:off x="900000" y="3933720"/>
            <a:ext cx="29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Équilibré financièrement p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47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333" name="Oval 48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rc 49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50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51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52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24000" y="1484280"/>
            <a:ext cx="8496000" cy="4753080"/>
          </a:xfrm>
          <a:prstGeom prst="rect">
            <a:avLst/>
          </a:prstGeom>
          <a:solidFill>
            <a:srgbClr val="d2eb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730920" y="1628640"/>
            <a:ext cx="1944720" cy="4392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68360" y="1628640"/>
            <a:ext cx="5832360" cy="4392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64087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tel-Dieu de demain</a:t>
            </a:r>
            <a:br>
              <a:rPr sz="2400"/>
            </a:br>
            <a:r>
              <a:rPr b="0" i="1" lang="en-US" sz="2000" spc="-1" strike="noStrike">
                <a:solidFill>
                  <a:srgbClr val="00519e"/>
                </a:solidFill>
                <a:latin typeface="Arial"/>
              </a:rPr>
              <a:t>La gouvernance cible</a:t>
            </a:r>
            <a:endParaRPr b="0" lang="en-US" sz="2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979640" y="765000"/>
            <a:ext cx="4824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Site de l’Hôtel-Die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755640" y="2254320"/>
            <a:ext cx="3465000" cy="3695400"/>
            <a:chOff x="755640" y="2254320"/>
            <a:chExt cx="3465000" cy="3695400"/>
          </a:xfrm>
        </p:grpSpPr>
        <p:sp>
          <p:nvSpPr>
            <p:cNvPr id="344" name=""/>
            <p:cNvSpPr/>
            <p:nvPr/>
          </p:nvSpPr>
          <p:spPr>
            <a:xfrm>
              <a:off x="755640" y="2254320"/>
              <a:ext cx="3465000" cy="3695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 groupement de coopération sanitai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ur les activités de so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38160" y="3009600"/>
              <a:ext cx="1457280" cy="268812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ôle d’activités de sant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-H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87960" y="3009600"/>
              <a:ext cx="1549800" cy="268812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utres activités de sant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6983280" y="2206800"/>
            <a:ext cx="1549440" cy="7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iè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980400" y="3130560"/>
            <a:ext cx="1550880" cy="7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usé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980400" y="4054320"/>
            <a:ext cx="1550880" cy="7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c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00720" y="3022560"/>
            <a:ext cx="1550880" cy="2664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seign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t recherc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 santé publ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92360" y="1773360"/>
            <a:ext cx="33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ôtel-Dieu érigé en hô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981840" y="4978440"/>
            <a:ext cx="1550880" cy="7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ésidence étudia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77080" y="1773360"/>
            <a:ext cx="165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utres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ctiv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77"/>
          <p:cNvGrpSpPr/>
          <p:nvPr/>
        </p:nvGrpSpPr>
        <p:grpSpPr>
          <a:xfrm>
            <a:off x="7434720" y="189000"/>
            <a:ext cx="1601280" cy="675360"/>
            <a:chOff x="7434720" y="189000"/>
            <a:chExt cx="1601280" cy="675360"/>
          </a:xfrm>
        </p:grpSpPr>
        <p:sp>
          <p:nvSpPr>
            <p:cNvPr id="355" name="Arc 71"/>
            <p:cNvSpPr/>
            <p:nvPr/>
          </p:nvSpPr>
          <p:spPr>
            <a:xfrm rot="21391200">
              <a:off x="7451280" y="264600"/>
              <a:ext cx="720720" cy="57816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73"/>
            <p:cNvSpPr/>
            <p:nvPr/>
          </p:nvSpPr>
          <p:spPr>
            <a:xfrm>
              <a:off x="795672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74"/>
            <p:cNvSpPr/>
            <p:nvPr/>
          </p:nvSpPr>
          <p:spPr>
            <a:xfrm>
              <a:off x="8028000" y="69372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75"/>
            <p:cNvSpPr/>
            <p:nvPr/>
          </p:nvSpPr>
          <p:spPr>
            <a:xfrm>
              <a:off x="7956720" y="189000"/>
              <a:ext cx="79056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76"/>
            <p:cNvSpPr/>
            <p:nvPr/>
          </p:nvSpPr>
          <p:spPr>
            <a:xfrm>
              <a:off x="8172360" y="620640"/>
              <a:ext cx="86364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F464DAE3-7CE2-46CB-85F0-B752A0A7E87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es aspects économiques et financiers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62" name="Arc 3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900000" y="198900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 financement des trav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5"/>
          <p:cNvSpPr/>
          <p:nvPr/>
        </p:nvSpPr>
        <p:spPr>
          <a:xfrm>
            <a:off x="2700360" y="148428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4643280" y="3573360"/>
            <a:ext cx="432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it la nécessité de trouver un portage financier  proportionnel à la déc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7"/>
          <p:cNvSpPr/>
          <p:nvPr/>
        </p:nvSpPr>
        <p:spPr>
          <a:xfrm>
            <a:off x="4356000" y="357336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3419640" y="1125360"/>
            <a:ext cx="424944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’apport financier de l’AP-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oriser Victoria et St Martin pour financer les travaux de l’Hôtel-Di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4572000" y="1989000"/>
            <a:ext cx="4464000" cy="14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a règle des cessions en zone déficitaire en logements socia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5% des surfaces de Victoria et St Martin sont affectés à des logements sociau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montant de la cession ne sera évaluable qu’à l’issue des négociations relatives à la décote Dufl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3851280" y="206064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1"/>
          <p:cNvGrpSpPr/>
          <p:nvPr/>
        </p:nvGrpSpPr>
        <p:grpSpPr>
          <a:xfrm>
            <a:off x="7434720" y="189000"/>
            <a:ext cx="1601280" cy="675360"/>
            <a:chOff x="7434720" y="189000"/>
            <a:chExt cx="1601280" cy="675360"/>
          </a:xfrm>
        </p:grpSpPr>
        <p:sp>
          <p:nvSpPr>
            <p:cNvPr id="371" name="Arc 12"/>
            <p:cNvSpPr/>
            <p:nvPr/>
          </p:nvSpPr>
          <p:spPr>
            <a:xfrm rot="21391200">
              <a:off x="7451280" y="264600"/>
              <a:ext cx="720720" cy="57816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3"/>
            <p:cNvSpPr/>
            <p:nvPr/>
          </p:nvSpPr>
          <p:spPr>
            <a:xfrm>
              <a:off x="795672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4"/>
            <p:cNvSpPr/>
            <p:nvPr/>
          </p:nvSpPr>
          <p:spPr>
            <a:xfrm>
              <a:off x="8028000" y="69372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5"/>
            <p:cNvSpPr/>
            <p:nvPr/>
          </p:nvSpPr>
          <p:spPr>
            <a:xfrm>
              <a:off x="7956720" y="189000"/>
              <a:ext cx="79056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6"/>
            <p:cNvSpPr/>
            <p:nvPr/>
          </p:nvSpPr>
          <p:spPr>
            <a:xfrm>
              <a:off x="8172360" y="620640"/>
              <a:ext cx="86364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Text Box 17"/>
          <p:cNvSpPr/>
          <p:nvPr/>
        </p:nvSpPr>
        <p:spPr>
          <a:xfrm>
            <a:off x="395280" y="4365720"/>
            <a:ext cx="33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mpte de résultat au minimum neutre pour l’AP-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8"/>
          <p:cNvSpPr/>
          <p:nvPr/>
        </p:nvSpPr>
        <p:spPr>
          <a:xfrm>
            <a:off x="3633840" y="4724280"/>
            <a:ext cx="504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recherche d’équilibre pour les activités nouvelles avec la participation de partenaires exter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0"/>
          <p:cNvSpPr/>
          <p:nvPr/>
        </p:nvSpPr>
        <p:spPr>
          <a:xfrm>
            <a:off x="2268360" y="5356080"/>
            <a:ext cx="554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 activités existantes au minimum neutres pour l’AP-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21"/>
          <p:cNvSpPr/>
          <p:nvPr/>
        </p:nvSpPr>
        <p:spPr>
          <a:xfrm>
            <a:off x="3419640" y="479736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22"/>
          <p:cNvSpPr/>
          <p:nvPr/>
        </p:nvSpPr>
        <p:spPr>
          <a:xfrm>
            <a:off x="2050920" y="515772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A33F358F-5494-412D-8B6A-907365D99B7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e calendrier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83" name="Arc 3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2236680" y="429264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s trav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4427640" y="4149720"/>
            <a:ext cx="35179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étape : les activités de so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e finalisation des travaux fin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8"/>
          <p:cNvSpPr/>
          <p:nvPr/>
        </p:nvSpPr>
        <p:spPr>
          <a:xfrm>
            <a:off x="4067280" y="422100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3419640" y="4937040"/>
            <a:ext cx="446544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étape : les autres esp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e finalisation de l’ensemble du projet fin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1"/>
          <p:cNvSpPr/>
          <p:nvPr/>
        </p:nvSpPr>
        <p:spPr>
          <a:xfrm>
            <a:off x="3780000" y="206064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2987640" y="494172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4"/>
          <p:cNvSpPr/>
          <p:nvPr/>
        </p:nvSpPr>
        <p:spPr>
          <a:xfrm>
            <a:off x="579600" y="2013120"/>
            <a:ext cx="29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 plan local d’urban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5"/>
          <p:cNvSpPr/>
          <p:nvPr/>
        </p:nvSpPr>
        <p:spPr>
          <a:xfrm>
            <a:off x="4284720" y="2060640"/>
            <a:ext cx="45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ification du PLU fin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45"/>
          <p:cNvGrpSpPr/>
          <p:nvPr/>
        </p:nvGrpSpPr>
        <p:grpSpPr>
          <a:xfrm>
            <a:off x="7434720" y="189000"/>
            <a:ext cx="1601280" cy="675360"/>
            <a:chOff x="7434720" y="189000"/>
            <a:chExt cx="1601280" cy="675360"/>
          </a:xfrm>
        </p:grpSpPr>
        <p:sp>
          <p:nvSpPr>
            <p:cNvPr id="393" name="Arc 46"/>
            <p:cNvSpPr/>
            <p:nvPr/>
          </p:nvSpPr>
          <p:spPr>
            <a:xfrm rot="21391200">
              <a:off x="7451280" y="264600"/>
              <a:ext cx="720720" cy="57816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47"/>
            <p:cNvSpPr/>
            <p:nvPr/>
          </p:nvSpPr>
          <p:spPr>
            <a:xfrm>
              <a:off x="795672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48"/>
            <p:cNvSpPr/>
            <p:nvPr/>
          </p:nvSpPr>
          <p:spPr>
            <a:xfrm>
              <a:off x="8028000" y="69372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49"/>
            <p:cNvSpPr/>
            <p:nvPr/>
          </p:nvSpPr>
          <p:spPr>
            <a:xfrm>
              <a:off x="7956720" y="189000"/>
              <a:ext cx="79056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50"/>
            <p:cNvSpPr/>
            <p:nvPr/>
          </p:nvSpPr>
          <p:spPr>
            <a:xfrm>
              <a:off x="8172360" y="620640"/>
              <a:ext cx="86364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1E4F8B27-7667-40C7-A934-4FEE7F8A27D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Sommaire 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95" name="Oval 7"/>
          <p:cNvSpPr/>
          <p:nvPr/>
        </p:nvSpPr>
        <p:spPr>
          <a:xfrm>
            <a:off x="3635280" y="2506680"/>
            <a:ext cx="2305080" cy="561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rc 8"/>
          <p:cNvSpPr/>
          <p:nvPr/>
        </p:nvSpPr>
        <p:spPr>
          <a:xfrm rot="21391200">
            <a:off x="1763280" y="2428920"/>
            <a:ext cx="2195640" cy="22464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9"/>
          <p:cNvSpPr/>
          <p:nvPr/>
        </p:nvSpPr>
        <p:spPr>
          <a:xfrm>
            <a:off x="3564000" y="2708280"/>
            <a:ext cx="164880" cy="18576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3708360" y="3933720"/>
            <a:ext cx="165240" cy="18756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3448080" y="3803760"/>
            <a:ext cx="2995560" cy="561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e en œ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Espace réservé du numéro de diapositive 2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8C15E281-1136-4F46-B6F8-DDC07ADF629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8"/>
          <p:cNvGraphicFramePr/>
          <p:nvPr/>
        </p:nvGraphicFramePr>
        <p:xfrm>
          <a:off x="289080" y="1341360"/>
          <a:ext cx="8675640" cy="457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" y="1341360"/>
                    <a:ext cx="8675640" cy="45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10"/>
          <p:cNvSpPr/>
          <p:nvPr/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tel-Dieu de d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05" name="Oval 26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rc 28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9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1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2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numéro de diapositive 2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6FF356C1-B341-48CF-84A7-F80BBF45D18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tel-Dieu de d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21"/>
          <p:cNvGraphicFramePr/>
          <p:nvPr/>
        </p:nvGraphicFramePr>
        <p:xfrm>
          <a:off x="620640" y="1382760"/>
          <a:ext cx="7767720" cy="46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1382760"/>
                    <a:ext cx="776772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4" name="Group 23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15" name="Oval 24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rc 25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6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7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28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43934C30-FA32-4C82-A670-FEAEA491FB3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59752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22" name="Arc 11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971640" y="2852640"/>
            <a:ext cx="251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offre innovante dans ses objectifs et son orga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3132000" y="141300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ciliter l’accès aux populations frag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5"/>
          <p:cNvSpPr/>
          <p:nvPr/>
        </p:nvSpPr>
        <p:spPr>
          <a:xfrm>
            <a:off x="2771640" y="148428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4356000" y="2205000"/>
            <a:ext cx="410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épondre aux besoins sanitaires qui ont besoin d’être renforc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7"/>
          <p:cNvSpPr/>
          <p:nvPr/>
        </p:nvSpPr>
        <p:spPr>
          <a:xfrm>
            <a:off x="4140360" y="242100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8"/>
          <p:cNvSpPr/>
          <p:nvPr/>
        </p:nvSpPr>
        <p:spPr>
          <a:xfrm>
            <a:off x="4356000" y="364500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4535640" y="3500280"/>
            <a:ext cx="46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ipation de la médecine de ville et  des médecins de l’AP-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3924360" y="4581360"/>
            <a:ext cx="46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ipation des universi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2484360" y="5229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ipation des usa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4"/>
          <p:cNvSpPr/>
          <p:nvPr/>
        </p:nvSpPr>
        <p:spPr>
          <a:xfrm>
            <a:off x="3635280" y="465300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5"/>
          <p:cNvSpPr/>
          <p:nvPr/>
        </p:nvSpPr>
        <p:spPr>
          <a:xfrm>
            <a:off x="2195640" y="515772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61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35" name="Oval 62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rc 63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64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65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66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56593E6F-3A7F-4A43-AF3C-32AF2503D9E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42" name="Arc 11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324000" y="2924280"/>
            <a:ext cx="36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structure interuniversitaire de soins, d’enseignement et de recherche en santé publ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3995640" y="1628640"/>
            <a:ext cx="42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és de soins ambulatoires ouvertes sur la vi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5"/>
          <p:cNvSpPr/>
          <p:nvPr/>
        </p:nvSpPr>
        <p:spPr>
          <a:xfrm>
            <a:off x="3419640" y="1773360"/>
            <a:ext cx="21564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132000" y="494172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3492360" y="494172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seignement et recherche en santé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4"/>
          <p:cNvSpPr/>
          <p:nvPr/>
        </p:nvSpPr>
        <p:spPr>
          <a:xfrm>
            <a:off x="4211640" y="400536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5"/>
          <p:cNvSpPr/>
          <p:nvPr/>
        </p:nvSpPr>
        <p:spPr>
          <a:xfrm>
            <a:off x="4356000" y="285264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4643280" y="278136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MJ Cusco adossées à un SMUR H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7"/>
          <p:cNvSpPr/>
          <p:nvPr/>
        </p:nvSpPr>
        <p:spPr>
          <a:xfrm>
            <a:off x="4427640" y="400536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e de santé étudi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37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53" name="Oval 38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rc 39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40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41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42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20FA9659-0C2C-42AC-9679-B5060A86EB6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60" name="Arc 11"/>
          <p:cNvSpPr/>
          <p:nvPr/>
        </p:nvSpPr>
        <p:spPr>
          <a:xfrm rot="21391200">
            <a:off x="107640" y="2492280"/>
            <a:ext cx="2016000" cy="180036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250920" y="2863800"/>
            <a:ext cx="158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ccueil et orientation des activités ambulato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2268360" y="1700280"/>
            <a:ext cx="302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teur de consultations médicales sans rendez-v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2268360" y="2444760"/>
            <a:ext cx="3600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teur de consultations spécialis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 très spécialis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2341440" y="4492800"/>
            <a:ext cx="32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e de soins paramédica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2341440" y="5068800"/>
            <a:ext cx="32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e médica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9"/>
          <p:cNvSpPr/>
          <p:nvPr/>
        </p:nvSpPr>
        <p:spPr>
          <a:xfrm>
            <a:off x="5869080" y="1486080"/>
            <a:ext cx="3022560" cy="57456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magerie et télémédec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RM, scanner, salles conventionnelles, ostéodensitométrie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0"/>
          <p:cNvSpPr/>
          <p:nvPr/>
        </p:nvSpPr>
        <p:spPr>
          <a:xfrm>
            <a:off x="5867280" y="2249640"/>
            <a:ext cx="3024360" cy="50292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hographie multidisciplinai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1"/>
          <p:cNvSpPr/>
          <p:nvPr/>
        </p:nvSpPr>
        <p:spPr>
          <a:xfrm>
            <a:off x="5867280" y="4437000"/>
            <a:ext cx="3024360" cy="47160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preuves fonctionnel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spiratoires, urodynamiques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2"/>
          <p:cNvSpPr/>
          <p:nvPr/>
        </p:nvSpPr>
        <p:spPr>
          <a:xfrm>
            <a:off x="5867280" y="3716280"/>
            <a:ext cx="3024360" cy="47160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age ambulato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ppler, sommeil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3"/>
          <p:cNvSpPr/>
          <p:nvPr/>
        </p:nvSpPr>
        <p:spPr>
          <a:xfrm>
            <a:off x="5867280" y="2997360"/>
            <a:ext cx="3024360" cy="47124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osco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ns anesthésie génér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3"/>
          <p:cNvSpPr/>
          <p:nvPr/>
        </p:nvSpPr>
        <p:spPr>
          <a:xfrm>
            <a:off x="2124000" y="342900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5"/>
          <p:cNvSpPr/>
          <p:nvPr/>
        </p:nvSpPr>
        <p:spPr>
          <a:xfrm>
            <a:off x="5651640" y="981000"/>
            <a:ext cx="360360" cy="5184720"/>
          </a:xfrm>
          <a:custGeom>
            <a:avLst/>
            <a:gdLst>
              <a:gd name="textAreaLeft" fmla="*/ 105840 w 360360"/>
              <a:gd name="textAreaRight" fmla="*/ 360720 w 360360"/>
              <a:gd name="textAreaTop" fmla="*/ 216000 h 5184720"/>
              <a:gd name="textAreaBottom" fmla="*/ 4968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6"/>
          <p:cNvSpPr/>
          <p:nvPr/>
        </p:nvSpPr>
        <p:spPr>
          <a:xfrm>
            <a:off x="190800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8"/>
          <p:cNvSpPr/>
          <p:nvPr/>
        </p:nvSpPr>
        <p:spPr>
          <a:xfrm>
            <a:off x="1908000" y="189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9"/>
          <p:cNvSpPr/>
          <p:nvPr/>
        </p:nvSpPr>
        <p:spPr>
          <a:xfrm>
            <a:off x="1908000" y="46371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0"/>
          <p:cNvSpPr/>
          <p:nvPr/>
        </p:nvSpPr>
        <p:spPr>
          <a:xfrm>
            <a:off x="1908000" y="52308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2"/>
          <p:cNvSpPr/>
          <p:nvPr/>
        </p:nvSpPr>
        <p:spPr>
          <a:xfrm>
            <a:off x="5867280" y="5157720"/>
            <a:ext cx="3024360" cy="47160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e de prélè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72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79" name="Oval 73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rc 74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75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76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77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Line 48"/>
          <p:cNvSpPr/>
          <p:nvPr/>
        </p:nvSpPr>
        <p:spPr>
          <a:xfrm>
            <a:off x="1979640" y="39895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2340000" y="3828960"/>
            <a:ext cx="30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évention et dépi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2904A196-06C6-4711-92DA-F8A4B15C357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88" name="Arc 11"/>
          <p:cNvSpPr/>
          <p:nvPr/>
        </p:nvSpPr>
        <p:spPr>
          <a:xfrm rot="21391200">
            <a:off x="107640" y="2565360"/>
            <a:ext cx="2016000" cy="180036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250920" y="286380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offre de soins adossée à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2268360" y="2187720"/>
            <a:ext cx="6264360" cy="24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sultations médicales sans rendez-v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nsformation du SAU en un accueil  de médecine générale ouvert H24 adossée à un SMUR H24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n journé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ynéc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ntaire et odont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ss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Permanence d’Accès aux Soi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2"/>
          <p:cNvSpPr/>
          <p:nvPr/>
        </p:nvSpPr>
        <p:spPr>
          <a:xfrm>
            <a:off x="1908000" y="2386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51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93" name="Oval 52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rc 53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54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55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56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09639D-1B01-4242-A237-03A9894A02F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00" name="Arc 11"/>
          <p:cNvSpPr/>
          <p:nvPr/>
        </p:nvSpPr>
        <p:spPr>
          <a:xfrm rot="21391200">
            <a:off x="107640" y="2492280"/>
            <a:ext cx="2016000" cy="180036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2771640" y="1628640"/>
            <a:ext cx="597708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ltations de médecine spécialisée et très spécialisé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joritairement sur rendez-vous mais en préservant un accès possible sans rendez-vous de l’ordre de 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luant un nombre important de spécialités médi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évention - dépis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a prévention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cc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éparation au voy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ucation à la san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e dépistag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e gamme étendue de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5"/>
          <p:cNvSpPr/>
          <p:nvPr/>
        </p:nvSpPr>
        <p:spPr>
          <a:xfrm>
            <a:off x="2195640" y="184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250920" y="296388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offre de soins adossée à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34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05" name="Oval 35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rc 36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37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38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39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Line 15"/>
          <p:cNvSpPr/>
          <p:nvPr/>
        </p:nvSpPr>
        <p:spPr>
          <a:xfrm>
            <a:off x="2195640" y="36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3T14:10:09Z</dcterms:created>
  <dc:creator>direction de projet HDT</dc:creator>
  <dc:description/>
  <dc:language>en-US</dc:language>
  <cp:lastModifiedBy>111220</cp:lastModifiedBy>
  <dcterms:modified xsi:type="dcterms:W3CDTF">2013-03-20T18:18:12Z</dcterms:modified>
  <cp:revision>329</cp:revision>
  <dc:subject/>
  <dc:title>Diapositive 1</dc:title>
</cp:coreProperties>
</file>