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3103-2A82-4DAE-9080-852CC114A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104C-A7B1-49E0-9EF4-09359B46F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200F-02DE-4065-9AD8-0D3F064D1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CD87-CA1F-4E86-B39D-4BCAE24A7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D162-7D82-4E42-91D0-5332689387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C8A-FBA2-40AC-9E15-20514BD6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D8C-38E3-45FC-8D50-CFC69B9C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2C3-E38F-43D3-92AE-343CD107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EDB-3BF3-4A25-A762-75498A70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1657-06B6-4546-B629-C01E19DE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AE7-AF60-4CC3-8A28-93B7CD43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8234-1F6A-4FBC-8564-5AE2EC352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785-7845-438F-9DAB-56DB059B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C6D-D142-48BD-BC16-0A5878BB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F36-08C0-4C88-A6F5-E2A3CD33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AA1-425E-4C56-8B5A-F88853D2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4728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492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19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4728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492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915B-6EFC-4191-84E8-7B90C8E46B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4583-66FC-41DF-A9B9-65F839674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7770-352B-4AE2-BB4C-48357F6CC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43A8-B077-4730-AA0B-01C2DB680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5C5F-8951-41C6-9692-B77CDF95F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070F-6935-4C95-B609-A2D25E83D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196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036F-8244-4D9E-B23D-B413585BD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92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196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1928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B4597-9CBD-41F0-A822-3574175F6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"/>
          <p:cNvPicPr/>
          <p:nvPr/>
        </p:nvPicPr>
        <p:blipFill>
          <a:blip r:embed="rId2"/>
          <a:stretch/>
        </p:blipFill>
        <p:spPr>
          <a:xfrm>
            <a:off x="3289320" y="615960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52436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C41499-29DF-4301-BFE0-77953710AC2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719280" y="6246720"/>
            <a:ext cx="25574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12800" y="177840"/>
            <a:ext cx="3859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"/>
          <p:cNvPicPr/>
          <p:nvPr/>
        </p:nvPicPr>
        <p:blipFill>
          <a:blip r:embed="rId4"/>
          <a:stretch/>
        </p:blipFill>
        <p:spPr>
          <a:xfrm>
            <a:off x="0" y="6297480"/>
            <a:ext cx="576360" cy="1429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7" descr=""/>
          <p:cNvPicPr/>
          <p:nvPr/>
        </p:nvPicPr>
        <p:blipFill>
          <a:blip r:embed="rId5"/>
          <a:stretch/>
        </p:blipFill>
        <p:spPr>
          <a:xfrm>
            <a:off x="8567640" y="6297480"/>
            <a:ext cx="576360" cy="1429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1"/>
          <p:cNvSpPr/>
          <p:nvPr/>
        </p:nvSpPr>
        <p:spPr>
          <a:xfrm>
            <a:off x="250920" y="6524640"/>
            <a:ext cx="3241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519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519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"/>
          <p:cNvPicPr/>
          <p:nvPr/>
        </p:nvPicPr>
        <p:blipFill>
          <a:blip r:embed="rId2"/>
          <a:stretch/>
        </p:blipFill>
        <p:spPr>
          <a:xfrm>
            <a:off x="3029040" y="3187800"/>
            <a:ext cx="611496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"/>
          <p:cNvPicPr/>
          <p:nvPr/>
        </p:nvPicPr>
        <p:blipFill>
          <a:blip r:embed="rId3"/>
          <a:stretch/>
        </p:blipFill>
        <p:spPr>
          <a:xfrm>
            <a:off x="719280" y="0"/>
            <a:ext cx="2195280" cy="106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4"/>
          <a:stretch/>
        </p:blipFill>
        <p:spPr>
          <a:xfrm>
            <a:off x="3289320" y="5934240"/>
            <a:ext cx="2565360" cy="682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712800" y="177840"/>
            <a:ext cx="385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1"/>
          <p:cNvSpPr/>
          <p:nvPr/>
        </p:nvSpPr>
        <p:spPr>
          <a:xfrm>
            <a:off x="6372360" y="6524640"/>
            <a:ext cx="26272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3E0437-1D01-4B2D-A9DF-EEB56611073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192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519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277920">
              <a:spcBef>
                <a:spcPts val="499"/>
              </a:spcBef>
              <a:buClr>
                <a:srgbClr val="00519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303120">
              <a:spcBef>
                <a:spcPts val="499"/>
              </a:spcBef>
              <a:buClr>
                <a:srgbClr val="00519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55600" indent="-226800">
              <a:spcBef>
                <a:spcPts val="499"/>
              </a:spcBef>
              <a:buClr>
                <a:srgbClr val="00519e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97160" indent="-239760">
              <a:spcBef>
                <a:spcPts val="499"/>
              </a:spcBef>
              <a:buClr>
                <a:srgbClr val="00519e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97160" indent="-23976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719280" y="5358960"/>
            <a:ext cx="758664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3"/>
          </p:nvPr>
        </p:nvSpPr>
        <p:spPr>
          <a:xfrm>
            <a:off x="25056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résentation du projet Hôtel-Dieu février 2013 v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"/>
          <p:cNvSpPr/>
          <p:nvPr/>
        </p:nvSpPr>
        <p:spPr>
          <a:xfrm>
            <a:off x="250920" y="6524640"/>
            <a:ext cx="3313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sentation du projet Hôtel-Dieu conférence de territoire mars  201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101080" cy="26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ésentation du projet de transformation de l’Hôtel-Die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-99072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s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539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755F8B-8DE2-421B-8332-829683A7751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13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1413000"/>
            <a:ext cx="6480000" cy="22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soins paramédicaux prioritairement réservé aux patients des consul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ésithéra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été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ych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190800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411280" y="3716280"/>
            <a:ext cx="46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n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050920" y="39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340000" y="4437000"/>
            <a:ext cx="446544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e de médica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en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gi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ucation thérape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>
            <a:off x="197964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250920" y="303516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22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213A40-7B53-48D4-924E-2C4486C5D55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900000" y="314172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4 prin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4429080" y="2133720"/>
            <a:ext cx="4714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ccompagner les transformations du système de so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une synergie entre recherche, action et apprenti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voriser l’articulation entre soin et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écliner le projet en buts popul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5"/>
          <p:cNvSpPr/>
          <p:nvPr/>
        </p:nvSpPr>
        <p:spPr>
          <a:xfrm>
            <a:off x="3492360" y="1773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572000" y="3573360"/>
            <a:ext cx="41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pluridiscipli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7"/>
          <p:cNvSpPr/>
          <p:nvPr/>
        </p:nvSpPr>
        <p:spPr>
          <a:xfrm>
            <a:off x="4356000" y="36464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3924360" y="4365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4211640" y="441972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interunivers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2"/>
          <p:cNvSpPr/>
          <p:nvPr/>
        </p:nvSpPr>
        <p:spPr>
          <a:xfrm>
            <a:off x="262728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2987640" y="5084640"/>
            <a:ext cx="6048360" cy="10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lieu ou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toutes les disciplines médicales ou non, aux professionnels et acteurs de santé, aux usa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À des partenariats français et internatio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179280" y="189000"/>
            <a:ext cx="6624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40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47"/>
          <p:cNvSpPr/>
          <p:nvPr/>
        </p:nvSpPr>
        <p:spPr>
          <a:xfrm>
            <a:off x="3745080" y="1616040"/>
            <a:ext cx="47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de recherche et d’enseignement au service de l’innovation p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AB1AAD-FE7C-4E17-B127-568EADDFAB0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48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4360" y="1557360"/>
            <a:ext cx="33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clinique, épidémiologique, bio-statis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7"/>
          <p:cNvSpPr/>
          <p:nvPr/>
        </p:nvSpPr>
        <p:spPr>
          <a:xfrm>
            <a:off x="4356000" y="335772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2771640" y="5084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4643280" y="32846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qualité, sécurité des soins, performances hospitaliè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4"/>
          <p:cNvSpPr/>
          <p:nvPr/>
        </p:nvSpPr>
        <p:spPr>
          <a:xfrm>
            <a:off x="3060720" y="501336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ui à la recherche en promotion de la santé, optimisation des parcours santé et partenariat avec les us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684360" y="316404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rganisation en 3 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57" name="Oval 4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4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41B2C3-6ECA-4D0E-9527-F8E1846339C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64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684360" y="314172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tribuer au développ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5"/>
          <p:cNvSpPr/>
          <p:nvPr/>
        </p:nvSpPr>
        <p:spPr>
          <a:xfrm>
            <a:off x="3059280" y="1628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8"/>
          <p:cNvSpPr/>
          <p:nvPr/>
        </p:nvSpPr>
        <p:spPr>
          <a:xfrm>
            <a:off x="4137120" y="4149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3708360" y="907920"/>
            <a:ext cx="543564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 santé au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édecine du Personnel de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tion de pathologies professionnelles et environnem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ssées à la recherche (VIFASOM) et l’expertise (Institut interuniversitai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2"/>
          <p:cNvSpPr/>
          <p:nvPr/>
        </p:nvSpPr>
        <p:spPr>
          <a:xfrm>
            <a:off x="4356000" y="29383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4535640" y="2708280"/>
            <a:ext cx="460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 la médecine lég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des 10 structures de référence régionales sont à l’AP-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centre inter-universitaire pour conforter l’enseignement et la   recherche en médecine lég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72" name="Oval 4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rc 4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4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4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Picture 48" descr=""/>
          <p:cNvPicPr/>
          <p:nvPr/>
        </p:nvPicPr>
        <p:blipFill>
          <a:blip r:embed="rId1"/>
          <a:stretch/>
        </p:blipFill>
        <p:spPr>
          <a:xfrm>
            <a:off x="1979640" y="5167440"/>
            <a:ext cx="225360" cy="225360"/>
          </a:xfrm>
          <a:prstGeom prst="rect">
            <a:avLst/>
          </a:prstGeom>
          <a:ln w="0">
            <a:noFill/>
          </a:ln>
        </p:spPr>
      </p:pic>
      <p:sp>
        <p:nvSpPr>
          <p:cNvPr id="278" name="ZoneTexte 1"/>
          <p:cNvSpPr/>
          <p:nvPr/>
        </p:nvSpPr>
        <p:spPr>
          <a:xfrm>
            <a:off x="4359240" y="4149720"/>
            <a:ext cx="46674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a médecine génér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jeu majeur de la réforme du système de s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ns le cadre d’une transformation des soins de premier rec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 développant un lieu d’enseignement et de recher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oneTexte 2"/>
          <p:cNvSpPr/>
          <p:nvPr/>
        </p:nvSpPr>
        <p:spPr>
          <a:xfrm>
            <a:off x="1979640" y="5300640"/>
            <a:ext cx="648000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la recherche infirm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infirmières et les autres professions para-médicales participent à la recherche clinique et en qualité hospitaliè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faut développer la recherche sur les soins, les métiers et les organ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35DAF7-A665-4CC7-9758-829C00498A0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entre d’enseignement </a:t>
            </a:r>
            <a:br>
              <a:rPr sz="2400"/>
            </a:b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aux métiers de la sant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8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612720" y="1828800"/>
            <a:ext cx="295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regroupement d’activités d’enseignemen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763640" y="312408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nforcé par des activités à dével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3635280" y="191628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4789440" y="3090960"/>
            <a:ext cx="403056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es activités de recherche et d’enseignement innovan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imaux à l’école vétérinaire Maisons Al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jets anatom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mulation médico-chirurgi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eliers comportement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tenariat avec le pôle santé pu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356000" y="321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140360" y="1700280"/>
            <a:ext cx="302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 de chirur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oles d’IADE et IB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8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90" name="Oval 39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40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41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42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43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45"/>
          <p:cNvGrpSpPr/>
          <p:nvPr/>
        </p:nvGrpSpPr>
        <p:grpSpPr>
          <a:xfrm>
            <a:off x="4716360" y="3718080"/>
            <a:ext cx="73080" cy="1150920"/>
            <a:chOff x="4716360" y="3718080"/>
            <a:chExt cx="73080" cy="1150920"/>
          </a:xfrm>
        </p:grpSpPr>
        <p:sp>
          <p:nvSpPr>
            <p:cNvPr id="296" name="Oval 11"/>
            <p:cNvSpPr/>
            <p:nvPr/>
          </p:nvSpPr>
          <p:spPr>
            <a:xfrm>
              <a:off x="4716360" y="371808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2"/>
            <p:cNvSpPr/>
            <p:nvPr/>
          </p:nvSpPr>
          <p:spPr>
            <a:xfrm>
              <a:off x="4716360" y="4005360"/>
              <a:ext cx="7164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"/>
            <p:cNvSpPr/>
            <p:nvPr/>
          </p:nvSpPr>
          <p:spPr>
            <a:xfrm>
              <a:off x="4718160" y="4275000"/>
              <a:ext cx="7128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4"/>
            <p:cNvSpPr/>
            <p:nvPr/>
          </p:nvSpPr>
          <p:spPr>
            <a:xfrm>
              <a:off x="4716360" y="45259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4"/>
            <p:cNvSpPr/>
            <p:nvPr/>
          </p:nvSpPr>
          <p:spPr>
            <a:xfrm>
              <a:off x="4716360" y="479736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A88310-F39A-4112-A023-6910EAEE72A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transfert du sièg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0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39640" y="3068640"/>
            <a:ext cx="3384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aller le siè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u sein de l’Hôtel-Di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4427640" y="2349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jet managé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356000" y="4221000"/>
            <a:ext cx="424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meilleure organisation spatiale sour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syner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10" name="Oval 3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rc 3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3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362833-C0B9-4FAB-8A0F-AE7131079B0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Un musée transformé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17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539640" y="191628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sser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5"/>
          <p:cNvSpPr/>
          <p:nvPr/>
        </p:nvSpPr>
        <p:spPr>
          <a:xfrm>
            <a:off x="2556000" y="141300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3708360" y="16844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s professionnels et acteurs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6"/>
          <p:cNvSpPr/>
          <p:nvPr/>
        </p:nvSpPr>
        <p:spPr>
          <a:xfrm>
            <a:off x="4140360" y="2349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4284720" y="220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 le grand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2916360" y="1341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 hier et aujourd’hui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rchives historiqu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4284720" y="3716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4572000" y="364500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librairie-bout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4284720" y="4203720"/>
            <a:ext cx="37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espace de resta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3851280" y="4700520"/>
            <a:ext cx="424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 billetterie commun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musée de l’AP-HP, tours de Notre-Dame, conciergerie et Sainte-Chapel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2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29"/>
          <p:cNvSpPr/>
          <p:nvPr/>
        </p:nvSpPr>
        <p:spPr>
          <a:xfrm>
            <a:off x="349236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900000" y="3933720"/>
            <a:ext cx="29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Équilibré financièrement p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4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333" name="Oval 4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rc 4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5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5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5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24000" y="1484280"/>
            <a:ext cx="8496000" cy="4753080"/>
          </a:xfrm>
          <a:prstGeom prst="rect">
            <a:avLst/>
          </a:prstGeom>
          <a:solidFill>
            <a:srgbClr val="d2eb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30920" y="1628640"/>
            <a:ext cx="194472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68360" y="1628640"/>
            <a:ext cx="5832360" cy="4392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64087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br>
              <a:rPr sz="2400"/>
            </a:br>
            <a:r>
              <a:rPr b="0" i="1" lang="en-US" sz="2000" spc="-1" strike="noStrike">
                <a:solidFill>
                  <a:srgbClr val="00519e"/>
                </a:solidFill>
                <a:latin typeface="Arial"/>
              </a:rPr>
              <a:t>La gouvernance cible</a:t>
            </a:r>
            <a:endParaRPr b="0" lang="en-US" sz="20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79640" y="765000"/>
            <a:ext cx="4824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Site de l’Hôtel-Die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755640" y="2254320"/>
            <a:ext cx="3465000" cy="3695400"/>
            <a:chOff x="755640" y="2254320"/>
            <a:chExt cx="3465000" cy="3695400"/>
          </a:xfrm>
        </p:grpSpPr>
        <p:sp>
          <p:nvSpPr>
            <p:cNvPr id="344" name=""/>
            <p:cNvSpPr/>
            <p:nvPr/>
          </p:nvSpPr>
          <p:spPr>
            <a:xfrm>
              <a:off x="755640" y="2254320"/>
              <a:ext cx="3465000" cy="3695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 groupement de coopération sanitai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ur les activités de so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38160" y="3009600"/>
              <a:ext cx="145728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ôle d’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-H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87960" y="3009600"/>
              <a:ext cx="1549800" cy="26881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utres activités de san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983280" y="2206800"/>
            <a:ext cx="154944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iè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80400" y="313056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us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80400" y="405432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c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00720" y="3022560"/>
            <a:ext cx="1550880" cy="2664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seign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t recherch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 santé publ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1773360"/>
            <a:ext cx="33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ôtel-Dieu érigé en hô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81840" y="4978440"/>
            <a:ext cx="1550880" cy="755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ésidence étudia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77080" y="1773360"/>
            <a:ext cx="165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utres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tiv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77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55" name="Arc 71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7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7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7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FB23F4-0D19-47C4-8F23-EA14B8FB248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s aspects économiques et financiers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62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00000" y="198900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financement d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70036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4643280" y="3573360"/>
            <a:ext cx="432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it la nécessité de trouver un portage financier  proportionnel à la déc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7"/>
          <p:cNvSpPr/>
          <p:nvPr/>
        </p:nvSpPr>
        <p:spPr>
          <a:xfrm>
            <a:off x="4356000" y="357336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419640" y="1125360"/>
            <a:ext cx="424944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’apport financier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oriser Victoria et St Martin pour financer les travaux de l’Hôtel-Di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4572000" y="1989000"/>
            <a:ext cx="4464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 règle des cessions en zone déficitaire en logements soci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5% des surfaces de Victoria et St Martin sont affectés à des logements sociau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montant de la cession ne sera évaluable qu’à l’issue des négociations relatives à la décote Dufl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3851280" y="2060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1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71" name="Arc 12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3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4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6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17"/>
          <p:cNvSpPr/>
          <p:nvPr/>
        </p:nvSpPr>
        <p:spPr>
          <a:xfrm>
            <a:off x="395280" y="436572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te de résultat au minimum neutre pour l’AP-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3633840" y="4724280"/>
            <a:ext cx="504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recherche d’équilibre pour les activités nouvelles avec la participation de partenaires exter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268360" y="5356080"/>
            <a:ext cx="55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 activités existantes au minimum neutres pour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21"/>
          <p:cNvSpPr/>
          <p:nvPr/>
        </p:nvSpPr>
        <p:spPr>
          <a:xfrm>
            <a:off x="3419640" y="479736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22"/>
          <p:cNvSpPr/>
          <p:nvPr/>
        </p:nvSpPr>
        <p:spPr>
          <a:xfrm>
            <a:off x="2050920" y="5157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B79A8D-62ED-4491-979B-F87BB8C913B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e calendrier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383" name="Arc 3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2236680" y="429264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s trav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4427640" y="4149720"/>
            <a:ext cx="35179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ctivités de 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s travaux fin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8"/>
          <p:cNvSpPr/>
          <p:nvPr/>
        </p:nvSpPr>
        <p:spPr>
          <a:xfrm>
            <a:off x="4067280" y="42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419640" y="4937040"/>
            <a:ext cx="44654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étape : les autres esp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finalisation de l’ensemble du projet fin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3780000" y="206064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298764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4"/>
          <p:cNvSpPr/>
          <p:nvPr/>
        </p:nvSpPr>
        <p:spPr>
          <a:xfrm>
            <a:off x="579600" y="2013120"/>
            <a:ext cx="2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 plan local d’urb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5"/>
          <p:cNvSpPr/>
          <p:nvPr/>
        </p:nvSpPr>
        <p:spPr>
          <a:xfrm>
            <a:off x="4284720" y="206064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ification du PLU f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5"/>
          <p:cNvGrpSpPr/>
          <p:nvPr/>
        </p:nvGrpSpPr>
        <p:grpSpPr>
          <a:xfrm>
            <a:off x="7434720" y="189000"/>
            <a:ext cx="1601280" cy="675360"/>
            <a:chOff x="7434720" y="189000"/>
            <a:chExt cx="1601280" cy="675360"/>
          </a:xfrm>
        </p:grpSpPr>
        <p:sp>
          <p:nvSpPr>
            <p:cNvPr id="393" name="Arc 46"/>
            <p:cNvSpPr/>
            <p:nvPr/>
          </p:nvSpPr>
          <p:spPr>
            <a:xfrm rot="21391200">
              <a:off x="7451280" y="264600"/>
              <a:ext cx="720720" cy="57816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47"/>
            <p:cNvSpPr/>
            <p:nvPr/>
          </p:nvSpPr>
          <p:spPr>
            <a:xfrm>
              <a:off x="795672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8"/>
            <p:cNvSpPr/>
            <p:nvPr/>
          </p:nvSpPr>
          <p:spPr>
            <a:xfrm>
              <a:off x="8028000" y="69372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49"/>
            <p:cNvSpPr/>
            <p:nvPr/>
          </p:nvSpPr>
          <p:spPr>
            <a:xfrm>
              <a:off x="7956720" y="189000"/>
              <a:ext cx="79056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50"/>
            <p:cNvSpPr/>
            <p:nvPr/>
          </p:nvSpPr>
          <p:spPr>
            <a:xfrm>
              <a:off x="8172360" y="620640"/>
              <a:ext cx="86364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2E2460-3C94-4099-8E03-B410CB9F591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Sommaire 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95" name="Oval 7"/>
          <p:cNvSpPr/>
          <p:nvPr/>
        </p:nvSpPr>
        <p:spPr>
          <a:xfrm>
            <a:off x="3635280" y="2506680"/>
            <a:ext cx="230508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rc 8"/>
          <p:cNvSpPr/>
          <p:nvPr/>
        </p:nvSpPr>
        <p:spPr>
          <a:xfrm rot="21391200">
            <a:off x="1763280" y="2428920"/>
            <a:ext cx="2195640" cy="22464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9"/>
          <p:cNvSpPr/>
          <p:nvPr/>
        </p:nvSpPr>
        <p:spPr>
          <a:xfrm>
            <a:off x="3564000" y="2708280"/>
            <a:ext cx="164880" cy="1857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0"/>
          <p:cNvSpPr/>
          <p:nvPr/>
        </p:nvSpPr>
        <p:spPr>
          <a:xfrm>
            <a:off x="3708360" y="3933720"/>
            <a:ext cx="165240" cy="18756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3448080" y="3803760"/>
            <a:ext cx="2995560" cy="561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7DF5B9-868D-424B-8182-C9C8D07E0A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289080" y="1341360"/>
          <a:ext cx="8675640" cy="457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1341360"/>
                    <a:ext cx="867564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10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05" name="Oval 26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rc 28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9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2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A9ACBE-99D5-42C5-B8FD-52F28A64A8F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tel-Dieu de d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21"/>
          <p:cNvGraphicFramePr/>
          <p:nvPr/>
        </p:nvGraphicFramePr>
        <p:xfrm>
          <a:off x="620640" y="1382760"/>
          <a:ext cx="776772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382760"/>
                    <a:ext cx="776772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Group 23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15" name="Oval 24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25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6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7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FE6A37-1D70-4709-B7B3-C44A2C85A04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59752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2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971640" y="2852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innovante dans ses objectifs et son orga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3132000" y="141300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iliter l’accès aux populations frag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2771640" y="148428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4356000" y="2205000"/>
            <a:ext cx="410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épondre aux besoins sanitaires qui ont besoin d’être renforc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4140360" y="242100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8"/>
          <p:cNvSpPr/>
          <p:nvPr/>
        </p:nvSpPr>
        <p:spPr>
          <a:xfrm>
            <a:off x="4356000" y="364500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4535640" y="350028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 la médecine de ville et  des médecins de l’AP-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924360" y="4581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niversi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2484360" y="5229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tion des us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4"/>
          <p:cNvSpPr/>
          <p:nvPr/>
        </p:nvSpPr>
        <p:spPr>
          <a:xfrm>
            <a:off x="3635280" y="465300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2195640" y="5157720"/>
            <a:ext cx="21564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6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35" name="Oval 6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rc 6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462F7A-0009-4EF5-90EB-9170FE72563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42" name="Arc 11"/>
          <p:cNvSpPr/>
          <p:nvPr/>
        </p:nvSpPr>
        <p:spPr>
          <a:xfrm rot="21391200">
            <a:off x="179280" y="1527120"/>
            <a:ext cx="4321440" cy="373860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4000" y="2924280"/>
            <a:ext cx="36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structure interuniversitaire de soins, d’enseignement et de recherche en santé publ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995640" y="162864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ivités de soins ambulatoires ouvertes sur la vi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3419640" y="1773360"/>
            <a:ext cx="21564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132000" y="494172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3492360" y="494172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seignement et recherche en santé publ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4211640" y="4005360"/>
            <a:ext cx="216000" cy="21564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5"/>
          <p:cNvSpPr/>
          <p:nvPr/>
        </p:nvSpPr>
        <p:spPr>
          <a:xfrm>
            <a:off x="4356000" y="2852640"/>
            <a:ext cx="216000" cy="216000"/>
          </a:xfrm>
          <a:prstGeom prst="ellipse">
            <a:avLst/>
          </a:prstGeom>
          <a:solidFill>
            <a:srgbClr val="5da3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4643280" y="278136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MJ Cusco adossées à un SMUR 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4427640" y="400536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anté étud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7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53" name="Oval 38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rc 39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0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1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2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C3A81D-7FF1-48FD-A189-66901CDBFE9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6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250920" y="2863800"/>
            <a:ext cx="158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ueil et orientation des activités ambulato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2268360" y="170028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médicales sans rendez-v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2268360" y="2444760"/>
            <a:ext cx="3600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teur de consultations spécialis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 très spécialis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2341440" y="4492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de soins paramédic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2341440" y="506880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e médica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5869080" y="1486080"/>
            <a:ext cx="3022560" cy="57456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magerie et télémédec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RM, scanner, salles conventionnelles, ostéodensitométrie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5867280" y="2249640"/>
            <a:ext cx="3024360" cy="50292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hographie multidisciplinai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1"/>
          <p:cNvSpPr/>
          <p:nvPr/>
        </p:nvSpPr>
        <p:spPr>
          <a:xfrm>
            <a:off x="5867280" y="443700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preuves fonctionnel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spiratoires, urodynamiques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2"/>
          <p:cNvSpPr/>
          <p:nvPr/>
        </p:nvSpPr>
        <p:spPr>
          <a:xfrm>
            <a:off x="5867280" y="371628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age ambulato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ppler, sommeil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3"/>
          <p:cNvSpPr/>
          <p:nvPr/>
        </p:nvSpPr>
        <p:spPr>
          <a:xfrm>
            <a:off x="5867280" y="2997360"/>
            <a:ext cx="3024360" cy="47124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s anesthésie géné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3"/>
          <p:cNvSpPr/>
          <p:nvPr/>
        </p:nvSpPr>
        <p:spPr>
          <a:xfrm>
            <a:off x="2124000" y="342900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5651640" y="981000"/>
            <a:ext cx="360360" cy="5184720"/>
          </a:xfrm>
          <a:custGeom>
            <a:avLst/>
            <a:gdLst>
              <a:gd name="textAreaLeft" fmla="*/ 105840 w 360360"/>
              <a:gd name="textAreaRight" fmla="*/ 360720 w 360360"/>
              <a:gd name="textAreaTop" fmla="*/ 216000 h 5184720"/>
              <a:gd name="textAreaBottom" fmla="*/ 4968720 h 51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190800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1908000" y="189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1908000" y="4637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>
            <a:off x="1908000" y="5230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2"/>
          <p:cNvSpPr/>
          <p:nvPr/>
        </p:nvSpPr>
        <p:spPr>
          <a:xfrm>
            <a:off x="5867280" y="5157720"/>
            <a:ext cx="3024360" cy="471600"/>
          </a:xfrm>
          <a:prstGeom prst="roundRect">
            <a:avLst>
              <a:gd name="adj" fmla="val 16667"/>
            </a:avLst>
          </a:prstGeom>
          <a:solidFill>
            <a:srgbClr val="d2eb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e de prélè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72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79" name="Oval 73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rc 74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75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6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7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48"/>
          <p:cNvSpPr/>
          <p:nvPr/>
        </p:nvSpPr>
        <p:spPr>
          <a:xfrm>
            <a:off x="1979640" y="3989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340000" y="38289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évention et dépi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B3E9FB-97FB-414A-8E9E-6B3B48A02CB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188" name="Arc 11"/>
          <p:cNvSpPr/>
          <p:nvPr/>
        </p:nvSpPr>
        <p:spPr>
          <a:xfrm rot="21391200">
            <a:off x="107640" y="256536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50920" y="286380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268360" y="2187720"/>
            <a:ext cx="626436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sultations médicales sans rendez-v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formation du SAU en un accueil  de médecine générale ouvert H24 adossée à un SMUR H24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 jour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ynéc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ntaire et odont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ermanence d’Accès aux So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2"/>
          <p:cNvSpPr/>
          <p:nvPr/>
        </p:nvSpPr>
        <p:spPr>
          <a:xfrm>
            <a:off x="1908000" y="2386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1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193" name="Oval 52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rc 53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54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5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56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numéro de diapositive 3"/>
          <p:cNvSpPr/>
          <p:nvPr/>
        </p:nvSpPr>
        <p:spPr>
          <a:xfrm>
            <a:off x="7524720" y="6473880"/>
            <a:ext cx="9097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B56FC7-1DC4-4E11-B4E5-DC23B158663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8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19e"/>
                </a:solidFill>
                <a:latin typeface="Arial"/>
              </a:rPr>
              <a:t>L’Hôpital Universitaire de santé publique</a:t>
            </a:r>
            <a:endParaRPr b="0" lang="en-US" sz="2400" spc="-1" strike="noStrike">
              <a:solidFill>
                <a:srgbClr val="00519e"/>
              </a:solidFill>
              <a:latin typeface="Arial"/>
            </a:endParaRPr>
          </a:p>
        </p:txBody>
      </p:sp>
      <p:sp>
        <p:nvSpPr>
          <p:cNvPr id="200" name="Arc 11"/>
          <p:cNvSpPr/>
          <p:nvPr/>
        </p:nvSpPr>
        <p:spPr>
          <a:xfrm rot="21391200">
            <a:off x="107640" y="2492280"/>
            <a:ext cx="2016000" cy="1800360"/>
          </a:xfrm>
          <a:custGeom>
            <a:avLst/>
            <a:gdLst/>
            <a:ahLst/>
            <a:rect l="l" t="t" r="r" b="b"/>
            <a:pathLst>
              <a:path fill="none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</a:path>
              <a:path stroke="0" w="38551" h="43200">
                <a:moveTo>
                  <a:pt x="16950" y="0"/>
                </a:moveTo>
                <a:cubicBezTo>
                  <a:pt x="28880" y="0"/>
                  <a:pt x="-26985" y="9670"/>
                  <a:pt x="-26985" y="21600"/>
                </a:cubicBezTo>
                <a:cubicBezTo>
                  <a:pt x="-26985" y="-32007"/>
                  <a:pt x="28880" y="-22336"/>
                  <a:pt x="16951" y="-22336"/>
                </a:cubicBezTo>
                <a:cubicBezTo>
                  <a:pt x="10341" y="-22336"/>
                  <a:pt x="4096" y="-25362"/>
                  <a:pt x="0" y="-30549"/>
                </a:cubicBezTo>
                <a:lnTo>
                  <a:pt x="16951" y="21600"/>
                </a:lnTo>
                <a:lnTo>
                  <a:pt x="16950" y="0"/>
                </a:lnTo>
                <a:close/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771640" y="1628640"/>
            <a:ext cx="5977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ltations de médecine spécialisée et très spécialis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joritairement sur rendez-vous mais en préservant un accès possible sans rendez-vous de l’ordre de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cluant un nombre important de spécialités médic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vention - dépi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a prévention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éparation au voy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ucation à la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e dépistag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4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e gamme étendue d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5"/>
          <p:cNvSpPr/>
          <p:nvPr/>
        </p:nvSpPr>
        <p:spPr>
          <a:xfrm>
            <a:off x="219564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250920" y="296388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e offre de soins adossée à la recher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4"/>
          <p:cNvGrpSpPr/>
          <p:nvPr/>
        </p:nvGrpSpPr>
        <p:grpSpPr>
          <a:xfrm>
            <a:off x="7434720" y="189000"/>
            <a:ext cx="1674000" cy="675360"/>
            <a:chOff x="7434720" y="189000"/>
            <a:chExt cx="1674000" cy="675360"/>
          </a:xfrm>
        </p:grpSpPr>
        <p:sp>
          <p:nvSpPr>
            <p:cNvPr id="205" name="Oval 35"/>
            <p:cNvSpPr/>
            <p:nvPr/>
          </p:nvSpPr>
          <p:spPr>
            <a:xfrm>
              <a:off x="8029440" y="621000"/>
              <a:ext cx="1079280" cy="21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ise en œuv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rc 36"/>
            <p:cNvSpPr/>
            <p:nvPr/>
          </p:nvSpPr>
          <p:spPr>
            <a:xfrm rot="21391200">
              <a:off x="7451280" y="264960"/>
              <a:ext cx="720720" cy="577800"/>
            </a:xfrm>
            <a:custGeom>
              <a:avLst/>
              <a:gdLst/>
              <a:ahLst/>
              <a:rect l="l" t="t" r="r" b="b"/>
              <a:pathLst>
                <a:path fill="none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</a:path>
                <a:path stroke="0" w="38551" h="43200">
                  <a:moveTo>
                    <a:pt x="16950" y="0"/>
                  </a:moveTo>
                  <a:cubicBezTo>
                    <a:pt x="28880" y="0"/>
                    <a:pt x="-26985" y="9670"/>
                    <a:pt x="-26985" y="21600"/>
                  </a:cubicBezTo>
                  <a:cubicBezTo>
                    <a:pt x="-26985" y="-32007"/>
                    <a:pt x="28880" y="-22336"/>
                    <a:pt x="16951" y="-22336"/>
                  </a:cubicBezTo>
                  <a:cubicBezTo>
                    <a:pt x="10341" y="-22336"/>
                    <a:pt x="4096" y="-25362"/>
                    <a:pt x="0" y="-30549"/>
                  </a:cubicBezTo>
                  <a:lnTo>
                    <a:pt x="16951" y="21600"/>
                  </a:lnTo>
                  <a:lnTo>
                    <a:pt x="16950" y="0"/>
                  </a:lnTo>
                  <a:close/>
                </a:path>
              </a:pathLst>
            </a:custGeom>
            <a:noFill/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8099280" y="189000"/>
              <a:ext cx="865080" cy="21600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5da3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je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8"/>
            <p:cNvSpPr/>
            <p:nvPr/>
          </p:nvSpPr>
          <p:spPr>
            <a:xfrm>
              <a:off x="7956360" y="262080"/>
              <a:ext cx="71280" cy="7128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8027640" y="693720"/>
              <a:ext cx="71640" cy="71640"/>
            </a:xfrm>
            <a:prstGeom prst="ellipse">
              <a:avLst/>
            </a:prstGeom>
            <a:solidFill>
              <a:srgbClr val="5da3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Line 15"/>
          <p:cNvSpPr/>
          <p:nvPr/>
        </p:nvSpPr>
        <p:spPr>
          <a:xfrm>
            <a:off x="219564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3T14:10:09Z</dcterms:created>
  <dc:creator>direction de projet HDT</dc:creator>
  <dc:description/>
  <dc:language>en-US</dc:language>
  <cp:lastModifiedBy>111220</cp:lastModifiedBy>
  <dcterms:modified xsi:type="dcterms:W3CDTF">2013-03-20T18:18:12Z</dcterms:modified>
  <cp:revision>329</cp:revision>
  <dc:subject/>
  <dc:title>Diapositive 1</dc:title>
</cp:coreProperties>
</file>