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9486-2606-42DD-BF37-D72F0AB7C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AA91-3704-41CF-B6C8-24F0ACE8F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9AF1-EC9E-4367-8430-731176BB7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3D6A-2E9A-42AF-9403-DFFAC441F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AF9A-9737-4F8F-A411-FD41A491B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E0AA-1367-47BC-8AFE-4F15A6301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B8A5-4ACE-4FA7-BFE4-650E76011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47D1-B563-43B7-A9F8-C42BE638B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B235-464A-4783-8D52-D58C6F4D9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680A-09D1-4488-965A-52AA3685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0FFE-DEC4-4404-83B5-62E30C6D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E43D-53B6-4DA1-A350-B2CEE27BD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881D8-CA3C-4546-8C43-2D54CDEA0C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CONFÉRENCE DU TERRITOIRE DE SANTÉ 75</a:t>
            </a:r>
            <a:br>
              <a:rPr sz="4000"/>
            </a:br>
            <a:br>
              <a:rPr sz="4000"/>
            </a:br>
            <a:r>
              <a:rPr b="1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GROUPE DE TRAVAIL SUR LE HANDICAP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898989"/>
                </a:solidFill>
                <a:latin typeface="Calibri"/>
              </a:rPr>
              <a:t>Rapport d’étape du Group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898989"/>
                </a:solidFill>
                <a:latin typeface="Calibri"/>
              </a:rPr>
              <a:t>au 24 mai 201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Arial"/>
                <a:ea typeface="Arial"/>
              </a:rPr>
              <a:t>Innove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Création d’un « SIAO » Handic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Création de « MAIA » Handic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Création d’un référent « autisme 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619280" y="404640"/>
            <a:ext cx="626256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70c0"/>
                </a:solidFill>
                <a:latin typeface="Calibri"/>
              </a:rPr>
              <a:t>Parcours de vie</a:t>
            </a:r>
            <a:r>
              <a:rPr b="0" lang="fr-FR" sz="4400" spc="-1" strike="noStrike">
                <a:solidFill>
                  <a:srgbClr val="17375e"/>
                </a:solidFill>
                <a:latin typeface="Calibri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(handicap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fr-FR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1" lang="fr-FR" sz="4400" spc="-1" strike="noStrike">
                <a:solidFill>
                  <a:srgbClr val="953735"/>
                </a:solidFill>
                <a:latin typeface="Calibri"/>
              </a:rPr>
              <a:t>Parcours de santé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(sanitaire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fr-FR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1" lang="fr-FR" sz="4400" spc="-1" strike="noStrike">
                <a:solidFill>
                  <a:srgbClr val="00b050"/>
                </a:solidFill>
                <a:latin typeface="Calibri"/>
              </a:rPr>
              <a:t>Parcours de so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b050"/>
                </a:solidFill>
                <a:latin typeface="Calibri"/>
              </a:rPr>
              <a:t>                    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(médico-social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684360" y="765000"/>
            <a:ext cx="7719840" cy="52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8712000" cy="46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712000" cy="33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67708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Les priorités dégagées par le Groupe Handic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Ce sont des objectifs aisément identifiables, dont le suivi et la réalisation peuvent être facilement repérés dans le temp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1 – Les équipements médico-sociaux à Par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2 – Les missions de la MDP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3 – Les Personnes Agées et les Personnes Handicapé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4 – La spécificité du handicap psych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5 – Amélioration de l’information à destination des publics concerné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3T18:02:23Z</dcterms:created>
  <dc:creator>Pierre SACHET</dc:creator>
  <dc:description/>
  <dc:language>en-US</dc:language>
  <cp:lastModifiedBy>Pierre SACHET</cp:lastModifiedBy>
  <dcterms:modified xsi:type="dcterms:W3CDTF">2012-05-23T21:19:50Z</dcterms:modified>
  <cp:revision>13</cp:revision>
  <dc:subject/>
  <dc:title>CONFÉRENCE DU TERRITOIRE DE SANTÉ 75  GROUPE DE TRAVAIL SUR LE HANDICAP </dc:title>
</cp:coreProperties>
</file>