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20680" y="-360"/>
            <a:ext cx="292284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0288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38340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20680" y="9383400"/>
            <a:ext cx="292284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FEA5C8D-64C6-4621-8188-E3BAA38C15F8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95652B1-E00B-4545-B150-80D1B5F31B34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F9D8F93-2643-4AC2-AC87-36B32B5E7FFB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6661FC1-7CF6-4D0D-A8D5-0A1EB15413DF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0B63575-400D-496E-9B4C-387153202CB6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3E27-BAEE-476D-A44A-FDAD25347271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ARS-PPT ECRAN D'OUVERTURE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2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XX/XX/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6" descr="ARS_LOGOS_idf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205000"/>
            <a:ext cx="7058160" cy="13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Volet handicap du Schéma régional d’organisation médico-sociale de L’ARS</a:t>
            </a: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 </a:t>
            </a:r>
            <a:br>
              <a:rPr sz="2500"/>
            </a:b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58920" y="5444640"/>
            <a:ext cx="68421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férence de territoir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17 novembr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2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objectif n° 2 : Améliorer la qualité de la prise en charge et de l’accompagnement pour garantir l’adéquation du parcours de vie et de soins aux besoins des personne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630920" cy="35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s opérationnels sur des problématiques spécifiques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mpagnement à l’insertion sociale et professionnelle des personnes handicapées psychiqu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mpagnement à la perte d’autonomie (PHV : personnes handicapées vieillissant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tions spécifiques en faveur des personnes souffrant d’autisme et de troubles envahissants du développement (TE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s opérationnels communs aux trois population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PA- PH-P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velopper la bientraitanc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ormer les professionnels et accompagner les aidants familiau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 schéma médico-social un élément du Projet Régional de Santé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416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projet régional de santé (PRS)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it être arrêté fin 2012 (arrêté du DG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composé notamment du schéma médico-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t apporter une réponse aux enjeux stratégiques déterminés dans le PSR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rrêté du DGARS du 11 oct 201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amme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éduction des inégalités sociales et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mélioration de la qualité du service rendu aux Franciliens par le systèm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garantie de l’efficience des dé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les composantes du Projet Régional de Santé (PRS)</a:t>
            </a: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324000" y="5589720"/>
            <a:ext cx="3382920" cy="480960"/>
            <a:chOff x="324000" y="5589720"/>
            <a:chExt cx="3382920" cy="480960"/>
          </a:xfrm>
        </p:grpSpPr>
        <p:sp>
          <p:nvSpPr>
            <p:cNvPr id="95" name="Rectangle 10"/>
            <p:cNvSpPr/>
            <p:nvPr/>
          </p:nvSpPr>
          <p:spPr>
            <a:xfrm>
              <a:off x="324000" y="5680080"/>
              <a:ext cx="338292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cueil des avis                Recueil des proposi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1752840" y="5589720"/>
              <a:ext cx="195120" cy="4809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324000" y="5608440"/>
              <a:ext cx="183600" cy="366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" name="AutoShape 13"/>
          <p:cNvCxnSpPr/>
          <p:nvPr/>
        </p:nvCxnSpPr>
        <p:spPr>
          <a:xfrm>
            <a:off x="684000" y="2060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14"/>
          <p:cNvSpPr/>
          <p:nvPr/>
        </p:nvSpPr>
        <p:spPr>
          <a:xfrm>
            <a:off x="7093080" y="2276640"/>
            <a:ext cx="143964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MEDICO SO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580000" y="2276640"/>
            <a:ext cx="136836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ORGANISATION DES SO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4213080" y="2276640"/>
            <a:ext cx="122400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E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4067280" y="1773360"/>
            <a:ext cx="4680000" cy="21589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AS</a:t>
            </a: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4431600" y="270756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6507360" y="332676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5871600" y="277884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5618880" y="3264840"/>
            <a:ext cx="75096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UR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4284720" y="3084480"/>
            <a:ext cx="1068480" cy="7783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4067280" y="765000"/>
            <a:ext cx="468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S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4346280" y="1416960"/>
            <a:ext cx="10494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P 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5826960" y="1412280"/>
            <a:ext cx="147924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nseil de surveil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6"/>
          <p:cNvSpPr/>
          <p:nvPr/>
        </p:nvSpPr>
        <p:spPr>
          <a:xfrm>
            <a:off x="7776720" y="1372320"/>
            <a:ext cx="49464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4067280" y="4099320"/>
            <a:ext cx="4681440" cy="1866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4211640" y="4320720"/>
            <a:ext cx="151272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s territoriaux + C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4716720" y="483804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7524720" y="4509360"/>
            <a:ext cx="100980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I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1"/>
          <p:cNvSpPr/>
          <p:nvPr/>
        </p:nvSpPr>
        <p:spPr>
          <a:xfrm>
            <a:off x="7743600" y="485856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2"/>
          <p:cNvSpPr/>
          <p:nvPr/>
        </p:nvSpPr>
        <p:spPr>
          <a:xfrm>
            <a:off x="5940360" y="4512960"/>
            <a:ext cx="13683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s pluriannuel de gestion du ris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3"/>
          <p:cNvSpPr/>
          <p:nvPr/>
        </p:nvSpPr>
        <p:spPr>
          <a:xfrm>
            <a:off x="6084720" y="5299920"/>
            <a:ext cx="1143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mm Rég GD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4"/>
          <p:cNvSpPr/>
          <p:nvPr/>
        </p:nvSpPr>
        <p:spPr>
          <a:xfrm>
            <a:off x="324000" y="4797360"/>
            <a:ext cx="1800000" cy="580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P : commission perman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S : commission spécialisé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C : commission de coordin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T : conférence de territo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2"/>
          <p:cNvSpPr/>
          <p:nvPr/>
        </p:nvSpPr>
        <p:spPr>
          <a:xfrm>
            <a:off x="7456320" y="303948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3"/>
          <p:cNvSpPr/>
          <p:nvPr/>
        </p:nvSpPr>
        <p:spPr>
          <a:xfrm>
            <a:off x="7311240" y="256320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4"/>
          <p:cNvSpPr/>
          <p:nvPr/>
        </p:nvSpPr>
        <p:spPr>
          <a:xfrm>
            <a:off x="7165800" y="3355200"/>
            <a:ext cx="12276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Pdt 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nseils génér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476280"/>
            <a:ext cx="5040360" cy="554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18900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7524720" y="5433120"/>
            <a:ext cx="10098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 télémédec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4140360" y="5304600"/>
            <a:ext cx="1655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. Régional d’Accès à la prévention et aux So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4320" indent="-814320">
              <a:buSzPct val="100000"/>
              <a:buBlip>
                <a:blip r:embed="rId2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i="1" lang="en-US" sz="18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Le calendrier du PRS                                        </a:t>
            </a:r>
            <a:r>
              <a:rPr b="0" i="1" lang="en-US" sz="1400" spc="-1" strike="noStrike">
                <a:solidFill>
                  <a:srgbClr val="969696"/>
                </a:solidFill>
                <a:latin typeface="Arial"/>
                <a:ea typeface="ＭＳ Ｐゴシック"/>
              </a:rPr>
              <a:t>Document de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Sché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Région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6"/>
          <p:cNvSpPr/>
          <p:nvPr/>
        </p:nvSpPr>
        <p:spPr>
          <a:xfrm flipV="1">
            <a:off x="35463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9"/>
          <p:cNvSpPr/>
          <p:nvPr/>
        </p:nvSpPr>
        <p:spPr>
          <a:xfrm flipV="1">
            <a:off x="7920000" y="977760"/>
            <a:ext cx="233280" cy="25272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4386240" y="1046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6966000" y="795240"/>
            <a:ext cx="43164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l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8335800" y="793800"/>
            <a:ext cx="28764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6678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5022720" y="57780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5022720" y="793800"/>
            <a:ext cx="4320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an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454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é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8047080" y="7952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768672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7397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oû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389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610236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vr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574200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8623440" y="7952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é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3257640" y="773280"/>
            <a:ext cx="1128600" cy="2505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4386240" y="816120"/>
            <a:ext cx="636480" cy="2142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é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1093680" y="598320"/>
            <a:ext cx="3929040" cy="2178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S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0"/>
          <p:cNvSpPr/>
          <p:nvPr/>
        </p:nvSpPr>
        <p:spPr>
          <a:xfrm>
            <a:off x="1387440" y="2011320"/>
            <a:ext cx="2276640" cy="290520"/>
          </a:xfrm>
          <a:custGeom>
            <a:avLst/>
            <a:gdLst>
              <a:gd name="textAreaLeft" fmla="*/ 0 w 2276640"/>
              <a:gd name="textAreaRight" fmla="*/ 2277000 w 2276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e 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Ambulato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08000" y="5281560"/>
            <a:ext cx="1224000" cy="117468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0"/>
          <p:cNvSpPr/>
          <p:nvPr/>
        </p:nvSpPr>
        <p:spPr>
          <a:xfrm>
            <a:off x="5580000" y="380988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volet ambulato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8037360" y="1663560"/>
            <a:ext cx="574920" cy="427320"/>
          </a:xfrm>
          <a:custGeom>
            <a:avLst/>
            <a:gdLst>
              <a:gd name="textAreaLeft" fmla="*/ 0 w 574920"/>
              <a:gd name="textAreaRight" fmla="*/ 575280 w 57492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ur avis offic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u D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Schém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6"/>
          <p:cNvSpPr/>
          <p:nvPr/>
        </p:nvSpPr>
        <p:spPr>
          <a:xfrm flipV="1">
            <a:off x="27795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I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 Télémédeci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3678120" y="136836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8037360" y="127620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1376280" y="6018120"/>
            <a:ext cx="3005280" cy="14292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GD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I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ation  (CCM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87440" y="4964040"/>
            <a:ext cx="1525680" cy="211320"/>
          </a:xfrm>
          <a:custGeom>
            <a:avLst/>
            <a:gdLst>
              <a:gd name="textAreaLeft" fmla="*/ 0 w 1525680"/>
              <a:gd name="textAreaRight" fmla="*/ 1526040 w 152568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hier de charges PDS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cible PDS-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0"/>
          <p:cNvSpPr/>
          <p:nvPr/>
        </p:nvSpPr>
        <p:spPr>
          <a:xfrm>
            <a:off x="1376280" y="3308400"/>
            <a:ext cx="6640560" cy="252360"/>
          </a:xfrm>
          <a:custGeom>
            <a:avLst/>
            <a:gdLst>
              <a:gd name="textAreaLeft" fmla="*/ 0 w 6640560"/>
              <a:gd name="textAreaRight" fmla="*/ 6640920 w 66405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Etablissements de sant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0"/>
          <p:cNvSpPr/>
          <p:nvPr/>
        </p:nvSpPr>
        <p:spPr>
          <a:xfrm>
            <a:off x="5580000" y="242100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SRO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0"/>
          <p:cNvSpPr/>
          <p:nvPr/>
        </p:nvSpPr>
        <p:spPr>
          <a:xfrm>
            <a:off x="5580000" y="201132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Schéma de 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0"/>
          <p:cNvSpPr/>
          <p:nvPr/>
        </p:nvSpPr>
        <p:spPr>
          <a:xfrm>
            <a:off x="5745240" y="6284880"/>
            <a:ext cx="2631960" cy="14760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Programme de télémédec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du DG PS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Soins aux déten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0"/>
          <p:cNvSpPr/>
          <p:nvPr/>
        </p:nvSpPr>
        <p:spPr>
          <a:xfrm>
            <a:off x="1380960" y="4060800"/>
            <a:ext cx="1876680" cy="239760"/>
          </a:xfrm>
          <a:custGeom>
            <a:avLst/>
            <a:gdLst>
              <a:gd name="textAreaLeft" fmla="*/ 0 w 1876680"/>
              <a:gd name="textAreaRight" fmla="*/ 1877040 w 1876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Biologie médi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Bucco-denta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’Organisation médico soc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0"/>
          <p:cNvSpPr/>
          <p:nvPr/>
        </p:nvSpPr>
        <p:spPr>
          <a:xfrm>
            <a:off x="1360440" y="2932200"/>
            <a:ext cx="6559560" cy="290520"/>
          </a:xfrm>
          <a:custGeom>
            <a:avLst/>
            <a:gdLst>
              <a:gd name="textAreaLeft" fmla="*/ 0 w 6559560"/>
              <a:gd name="textAreaRight" fmla="*/ 6559920 w 65595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’Organisation des soins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3120" y="4964040"/>
            <a:ext cx="1452600" cy="23508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l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oû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alid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e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ation non-officiel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3120" y="486396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rtation offici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052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97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du D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0"/>
          <p:cNvSpPr/>
          <p:nvPr/>
        </p:nvSpPr>
        <p:spPr>
          <a:xfrm>
            <a:off x="5580000" y="360216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PDS-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0"/>
          <p:cNvSpPr/>
          <p:nvPr/>
        </p:nvSpPr>
        <p:spPr>
          <a:xfrm>
            <a:off x="5580000" y="4038480"/>
            <a:ext cx="2436840" cy="20484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Biologie médic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0"/>
          <p:cNvSpPr/>
          <p:nvPr/>
        </p:nvSpPr>
        <p:spPr>
          <a:xfrm>
            <a:off x="5575320" y="4335480"/>
            <a:ext cx="2441520" cy="15876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69120" bIns="691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Soins  déten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0"/>
          <p:cNvSpPr/>
          <p:nvPr/>
        </p:nvSpPr>
        <p:spPr>
          <a:xfrm>
            <a:off x="5580000" y="4599000"/>
            <a:ext cx="2436840" cy="1839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Bucco-denta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ＭＳ Ｐゴシック"/>
              </a:rPr>
              <a:t>Concert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ＭＳ Ｐゴシック"/>
              </a:rPr>
              <a:t>PS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0"/>
          <p:cNvSpPr/>
          <p:nvPr/>
        </p:nvSpPr>
        <p:spPr>
          <a:xfrm>
            <a:off x="1376280" y="5354640"/>
            <a:ext cx="3340080" cy="14292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A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0"/>
          <p:cNvSpPr/>
          <p:nvPr/>
        </p:nvSpPr>
        <p:spPr>
          <a:xfrm>
            <a:off x="2195640" y="5621400"/>
            <a:ext cx="1468440" cy="287280"/>
          </a:xfrm>
          <a:custGeom>
            <a:avLst/>
            <a:gdLst>
              <a:gd name="textAreaLeft" fmla="*/ 0 w 1468440"/>
              <a:gd name="textAreaRight" fmla="*/ 1468800 w 1468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Conce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0"/>
          <p:cNvSpPr/>
          <p:nvPr/>
        </p:nvSpPr>
        <p:spPr>
          <a:xfrm>
            <a:off x="4119480" y="5597640"/>
            <a:ext cx="531720" cy="277560"/>
          </a:xfrm>
          <a:custGeom>
            <a:avLst/>
            <a:gdLst>
              <a:gd name="textAreaLeft" fmla="*/ 0 w 531720"/>
              <a:gd name="textAreaRight" fmla="*/ 532080 w 53172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Arrêté du D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0"/>
          <p:cNvSpPr/>
          <p:nvPr/>
        </p:nvSpPr>
        <p:spPr>
          <a:xfrm>
            <a:off x="4365720" y="5908680"/>
            <a:ext cx="631800" cy="287280"/>
          </a:xfrm>
          <a:custGeom>
            <a:avLst/>
            <a:gdLst>
              <a:gd name="textAreaLeft" fmla="*/ 0 w 631800"/>
              <a:gd name="textAreaRight" fmla="*/ 632160 w 631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Valid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2913120" y="1211400"/>
            <a:ext cx="0" cy="388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N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rtation                non 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6"/>
          <p:cNvSpPr/>
          <p:nvPr/>
        </p:nvSpPr>
        <p:spPr>
          <a:xfrm flipV="1">
            <a:off x="31399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"/>
          <p:cNvSpPr/>
          <p:nvPr/>
        </p:nvSpPr>
        <p:spPr>
          <a:xfrm>
            <a:off x="3257640" y="132552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 SROM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9640" y="1267920"/>
            <a:ext cx="74170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 objectifs stratégiqu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ser et structurer une offre médico-sociale de proximité, accessible, adaptée et diversifié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éliorer la qualité de la prise en charge et de l’accompagnement pour garantir l’adéquation du parcours de vie et de soins aux besoins des person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r trois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handicapé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âgé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en difficulté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articulation avec les autres démarches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SROMS n’a pas vocation, à lui seul, à apporter, toutes les réponses aux problématiques qu’il va aborder.  Organisation nécessaire de la transversalité et la synergie avec les autres volets des schémas PRS ainsi qu’avec les schémas département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Méthodologie et calendrier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6000" y="1267920"/>
            <a:ext cx="74167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ité de pilotage du SRO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groupes de travail au niveau régional dont 4 pour les personnes handicapé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ment précoce du handic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ment à la scolarisation et à l ’insertion professionnel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icap psychi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nes handicapées vieilliss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vaux régionau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s – juin 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édaction du SROS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été 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ésentation aux partenaires région et départeme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utomne 2011, pour Paris le 18/11/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érimentation e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êté du DGARS (fin déc. 2012) après avis de la C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Le volet « Personnes Handicapées » du SROMS</a:t>
            </a: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Objectif I. Organiser et structurer une offre médico-sociale adaptée et de proximité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structurer l’offre pour réduire les inégalités territoriales et opérer des redéploiements de res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voriser les coopérations et les partenariats entre les acteurs concernés (ambulatoire, hospitalier, social, médico-so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nforcer une logique d’efficience :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fficience de la dép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fficience dans le positionnement de l’établissement dans la filiè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Objectif II. Améliorer la qualité de l’accompagnement pour assurer un parcours de vie et de soins répondant aux besoins des person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rganiser et renforcer la prévention tout au long du parcours de v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voriser l’accès et le maintien au logement des person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méliorer le soutien aux aidants (formation, reconnaissance de leur action, prise en compte de leur sant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méliorer la qualité des prestations pour garantir une prise en charge adaptée aux besoins et à la diversité des publ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velopper une démarche de bientrai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aloriser les métiers du médico-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objectif n° 1 : Organiser et structurer une offre médico-sociale de proximité, accessible, adaptée et diversifiée</a:t>
            </a:r>
            <a:r>
              <a:rPr b="1" lang="en-US" sz="25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53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s opératio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ugmenter, restructurer et diversifier l’offre d’accompagnement des personnes handicapé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2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voriser les actions innovantes et expérimentales pour être au plus près des besoins des personnes handicapées et de leur entou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3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ndre en compte de façon coordonnée les problématiques du logement, de l’habitat et du déplacement pour faciliter le quotidien des personnes handicapées en perte d’autonomie (Fiche concernant les 3 populations PA-PH-PD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fs opérationnels sur des problématiques spécif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poser des organisations innovantes d’information et de suivi de prises en charge des personnes handicapées psychiqu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ompagnement à la perte d’autonomie (PHV : personnes handicapées vieillissant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1532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8bc53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bc53f"/>
                </a:solidFill>
                <a:latin typeface="Arial"/>
              </a:rPr>
              <a:t>objectif n° 2 : Améliorer la qualité de la prise en charge et de l’accompagnement pour garantir l’adéquation du parcours de vie et de soins aux besoins des personne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80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s opérationnel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céder à l’évaluation des personnes tout au long du parcours de v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2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évelopper la formalisation des partenariats et des coopérations entre les différents acteu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évelopper la prévention et l’accès aux soins tout au long du parcours de v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4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voriser l’insertion professionnelle de la personne handicapée tout au long du parcours de vi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5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fficience de la dépense dans le secteur du handicap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BOUCOMONT</cp:lastModifiedBy>
  <dcterms:modified xsi:type="dcterms:W3CDTF">2011-11-16T09:17:39Z</dcterms:modified>
  <cp:revision>276</cp:revision>
  <dc:subject/>
  <dc:title>Présentation PowerPoint</dc:title>
</cp:coreProperties>
</file>