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D:\Mes documents\Lauranne\Dicom\ARS\ARS-PPT-ELEMTS-1\ARS-TERRITOIRE GRAPHIQUE.jpg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1001-27AE-48E2-8EC5-5E28FD3D3E3E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3" descr="D:\Mes documents\Lauranne\Dicom\ARS\ARS-PPT\ARS-PPT ECRAN D'OUVERTURE.jpg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28800" y="2874600"/>
            <a:ext cx="678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95256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002395"/>
                </a:solidFill>
                <a:latin typeface="Arial"/>
              </a:rPr>
              <a:t>Conférence de territoire 75</a:t>
            </a:r>
            <a:br>
              <a:rPr sz="2900"/>
            </a:br>
            <a:r>
              <a:rPr b="1" lang="fr-FR" sz="29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002395"/>
                </a:solidFill>
                <a:latin typeface="Arial"/>
              </a:rPr>
              <a:t>présentation calendrier PR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450880" y="4268880"/>
            <a:ext cx="5607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927000">
              <a:spcBef>
                <a:spcPts val="451"/>
              </a:spcBef>
              <a:buClr>
                <a:srgbClr val="7ab8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ab800"/>
                </a:solidFill>
                <a:latin typeface="Arial"/>
              </a:rPr>
              <a:t>15 septembre 20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3886200" y="6386400"/>
            <a:ext cx="18432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907560"/>
            <a:ext cx="38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les composantes du Projet Régional de Santé (PRS)</a:t>
            </a:r>
            <a:r>
              <a:rPr b="1" lang="fr-FR" sz="25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grpSp>
        <p:nvGrpSpPr>
          <p:cNvPr id="83" name="Group 9"/>
          <p:cNvGrpSpPr/>
          <p:nvPr/>
        </p:nvGrpSpPr>
        <p:grpSpPr>
          <a:xfrm>
            <a:off x="324000" y="5589720"/>
            <a:ext cx="3382920" cy="480960"/>
            <a:chOff x="324000" y="5589720"/>
            <a:chExt cx="3382920" cy="480960"/>
          </a:xfrm>
        </p:grpSpPr>
        <p:sp>
          <p:nvSpPr>
            <p:cNvPr id="84" name="Rectangle 10"/>
            <p:cNvSpPr/>
            <p:nvPr/>
          </p:nvSpPr>
          <p:spPr>
            <a:xfrm>
              <a:off x="324000" y="5680080"/>
              <a:ext cx="338292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Recueil des avis                Recueil des propositions</a:t>
              </a:r>
              <a:endParaRPr b="0" lang="en-US" sz="1000" spc="-1" strike="noStrike">
                <a:solidFill>
                  <a:srgbClr val="002395"/>
                </a:solidFill>
                <a:latin typeface="Arial"/>
              </a:endParaRPr>
            </a:p>
          </p:txBody>
        </p:sp>
        <p:sp>
          <p:nvSpPr>
            <p:cNvPr id="85" name="Oval 11"/>
            <p:cNvSpPr/>
            <p:nvPr/>
          </p:nvSpPr>
          <p:spPr>
            <a:xfrm>
              <a:off x="1752840" y="5589720"/>
              <a:ext cx="195120" cy="48096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2395"/>
                </a:solidFill>
                <a:latin typeface="Arial"/>
              </a:endParaRPr>
            </a:p>
          </p:txBody>
        </p:sp>
        <p:sp>
          <p:nvSpPr>
            <p:cNvPr id="86" name="Rectangle 12"/>
            <p:cNvSpPr/>
            <p:nvPr/>
          </p:nvSpPr>
          <p:spPr>
            <a:xfrm>
              <a:off x="324000" y="5608440"/>
              <a:ext cx="183600" cy="3668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2395"/>
                </a:solidFill>
                <a:latin typeface="Arial"/>
              </a:endParaRPr>
            </a:p>
          </p:txBody>
        </p:sp>
      </p:grpSp>
      <p:cxnSp>
        <p:nvCxnSpPr>
          <p:cNvPr id="87" name="AutoShape 13"/>
          <p:cNvCxnSpPr/>
          <p:nvPr/>
        </p:nvCxnSpPr>
        <p:spPr>
          <a:xfrm>
            <a:off x="684000" y="20602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Rectangle 14"/>
          <p:cNvSpPr/>
          <p:nvPr/>
        </p:nvSpPr>
        <p:spPr>
          <a:xfrm>
            <a:off x="7093080" y="2276640"/>
            <a:ext cx="143964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MEDICO SOCIAL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5580000" y="2276640"/>
            <a:ext cx="136836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ORGANISATION DES SOIN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0" name="Rectangle 16"/>
          <p:cNvSpPr/>
          <p:nvPr/>
        </p:nvSpPr>
        <p:spPr>
          <a:xfrm>
            <a:off x="4213080" y="2276640"/>
            <a:ext cx="122400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PREVENTIO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4067280" y="1773360"/>
            <a:ext cx="4680000" cy="21589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CHEMAS</a:t>
            </a: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2" name="Rectangle 18"/>
          <p:cNvSpPr/>
          <p:nvPr/>
        </p:nvSpPr>
        <p:spPr>
          <a:xfrm>
            <a:off x="4431600" y="270756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S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de la CRSA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3" name="Rectangle 19"/>
          <p:cNvSpPr/>
          <p:nvPr/>
        </p:nvSpPr>
        <p:spPr>
          <a:xfrm>
            <a:off x="6507360" y="3326760"/>
            <a:ext cx="3499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5871600" y="277884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S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de la CRSA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5" name="Oval 21"/>
          <p:cNvSpPr/>
          <p:nvPr/>
        </p:nvSpPr>
        <p:spPr>
          <a:xfrm>
            <a:off x="5618880" y="3264840"/>
            <a:ext cx="750960" cy="3477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URP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6" name="Oval 22"/>
          <p:cNvSpPr/>
          <p:nvPr/>
        </p:nvSpPr>
        <p:spPr>
          <a:xfrm>
            <a:off x="4284720" y="3084480"/>
            <a:ext cx="1068480" cy="7783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C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Préventio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7" name="Rectangle 23"/>
          <p:cNvSpPr/>
          <p:nvPr/>
        </p:nvSpPr>
        <p:spPr>
          <a:xfrm>
            <a:off x="4067280" y="765000"/>
            <a:ext cx="4680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SR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8" name="Rectangle 24"/>
          <p:cNvSpPr/>
          <p:nvPr/>
        </p:nvSpPr>
        <p:spPr>
          <a:xfrm>
            <a:off x="4346280" y="1416960"/>
            <a:ext cx="104940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P de la CRSA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9" name="Rectangle 25"/>
          <p:cNvSpPr/>
          <p:nvPr/>
        </p:nvSpPr>
        <p:spPr>
          <a:xfrm>
            <a:off x="5826960" y="1412280"/>
            <a:ext cx="147924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onseil de surveillanc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0" name="Oval 26"/>
          <p:cNvSpPr/>
          <p:nvPr/>
        </p:nvSpPr>
        <p:spPr>
          <a:xfrm>
            <a:off x="7776720" y="1372320"/>
            <a:ext cx="494640" cy="3477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1" name="Rectangle 27"/>
          <p:cNvSpPr/>
          <p:nvPr/>
        </p:nvSpPr>
        <p:spPr>
          <a:xfrm>
            <a:off x="4067280" y="4099320"/>
            <a:ext cx="4681440" cy="18666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ROGRAMME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2" name="Rectangle 28"/>
          <p:cNvSpPr/>
          <p:nvPr/>
        </p:nvSpPr>
        <p:spPr>
          <a:xfrm>
            <a:off x="4211640" y="4320720"/>
            <a:ext cx="1512720" cy="86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Programmes territoriaux + CL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3" name="Rectangle 29"/>
          <p:cNvSpPr/>
          <p:nvPr/>
        </p:nvSpPr>
        <p:spPr>
          <a:xfrm>
            <a:off x="4716720" y="4838040"/>
            <a:ext cx="3499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4" name="Rectangle 30"/>
          <p:cNvSpPr/>
          <p:nvPr/>
        </p:nvSpPr>
        <p:spPr>
          <a:xfrm>
            <a:off x="7524720" y="4509360"/>
            <a:ext cx="1009800" cy="70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PRIAC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5" name="Rectangle 31"/>
          <p:cNvSpPr/>
          <p:nvPr/>
        </p:nvSpPr>
        <p:spPr>
          <a:xfrm>
            <a:off x="7743600" y="4858560"/>
            <a:ext cx="5875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C M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6" name="Rectangle 32"/>
          <p:cNvSpPr/>
          <p:nvPr/>
        </p:nvSpPr>
        <p:spPr>
          <a:xfrm>
            <a:off x="5940360" y="4512960"/>
            <a:ext cx="1368360" cy="12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Programmes pluriannuel de gestion du risqu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7" name="Rectangle 33"/>
          <p:cNvSpPr/>
          <p:nvPr/>
        </p:nvSpPr>
        <p:spPr>
          <a:xfrm>
            <a:off x="6084720" y="5299920"/>
            <a:ext cx="114300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omm Rég GDR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8" name="Rectangle 34"/>
          <p:cNvSpPr/>
          <p:nvPr/>
        </p:nvSpPr>
        <p:spPr>
          <a:xfrm>
            <a:off x="324000" y="4797360"/>
            <a:ext cx="1800000" cy="5806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66699"/>
                </a:solidFill>
                <a:latin typeface="Arial"/>
              </a:rPr>
              <a:t>CP : commission permanent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66699"/>
                </a:solidFill>
                <a:latin typeface="Arial"/>
              </a:rPr>
              <a:t>CS : commission spécialisé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66699"/>
                </a:solidFill>
                <a:latin typeface="Arial"/>
              </a:rPr>
              <a:t>CC : commission de coordination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66699"/>
                </a:solidFill>
                <a:latin typeface="Arial"/>
              </a:rPr>
              <a:t>CT : conférence de territoir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9" name="Rectangle 42"/>
          <p:cNvSpPr/>
          <p:nvPr/>
        </p:nvSpPr>
        <p:spPr>
          <a:xfrm>
            <a:off x="7456320" y="3039480"/>
            <a:ext cx="5875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C M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0" name="Rectangle 43"/>
          <p:cNvSpPr/>
          <p:nvPr/>
        </p:nvSpPr>
        <p:spPr>
          <a:xfrm>
            <a:off x="7311240" y="256320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S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de la CRSA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1" name="Rectangle 44"/>
          <p:cNvSpPr/>
          <p:nvPr/>
        </p:nvSpPr>
        <p:spPr>
          <a:xfrm>
            <a:off x="7165800" y="3355200"/>
            <a:ext cx="122760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Pdt des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onseils généraux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2" name="Rectangle 47"/>
          <p:cNvSpPr/>
          <p:nvPr/>
        </p:nvSpPr>
        <p:spPr>
          <a:xfrm>
            <a:off x="3924360" y="476280"/>
            <a:ext cx="5040360" cy="554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3" name="Text Box 48"/>
          <p:cNvSpPr/>
          <p:nvPr/>
        </p:nvSpPr>
        <p:spPr>
          <a:xfrm>
            <a:off x="6156360" y="189000"/>
            <a:ext cx="576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PRS</a:t>
            </a:r>
            <a:endParaRPr b="0" lang="en-US" sz="14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4" name="Rectangle 30"/>
          <p:cNvSpPr/>
          <p:nvPr/>
        </p:nvSpPr>
        <p:spPr>
          <a:xfrm>
            <a:off x="7524720" y="5433120"/>
            <a:ext cx="100980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Programme télémédecin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5" name="Rectangle 30"/>
          <p:cNvSpPr/>
          <p:nvPr/>
        </p:nvSpPr>
        <p:spPr>
          <a:xfrm>
            <a:off x="4140360" y="5304600"/>
            <a:ext cx="165564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Prog. Régional d’Accès à la prévention et aux Soin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3200" spc="-1" strike="noStrike">
                <a:solidFill>
                  <a:srgbClr val="2d2db9"/>
                </a:solidFill>
                <a:latin typeface="Arial"/>
              </a:rPr>
              <a:t>Les 8 principes d’actions du PSRS</a:t>
            </a:r>
            <a:r>
              <a:rPr b="1" lang="fr-FR" sz="32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24000" y="1125360"/>
            <a:ext cx="840096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58960" indent="-85896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évention est préférable au soin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réduction des inégalités sociales et territoriales de santé passe par une mobilisation de tous les acteur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otection de la population impose une vigilance renforcée face aux risques sanitaire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structuration de l’offre de santé doit être réellement subordonnée aux besoin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hérence des parcours de santé des usagers requiert une approche intégrée entre prévention, soin et prise en charge médico-sociale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’amélioration de l’efficience et la garantie de la qualité des prises en charge vont de pair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 démocratie sanitaire effective passe par le développement de l’observation et de l’information en santé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réativité des acteurs locaux est un levier majeur du changement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403280" y="1268280"/>
            <a:ext cx="7561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432080" y="76320"/>
            <a:ext cx="75326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4320" indent="-814320">
              <a:buSzPct val="100000"/>
              <a:buBlip>
                <a:blip r:embed="rId1"/>
              </a:buBlip>
              <a:tabLst>
                <a:tab algn="l" pos="1022400"/>
                <a:tab algn="l" pos="1535040"/>
                <a:tab algn="l" pos="2048040"/>
                <a:tab algn="l" pos="2560680"/>
                <a:tab algn="l" pos="3073320"/>
                <a:tab algn="l" pos="3586320"/>
                <a:tab algn="l" pos="4098960"/>
                <a:tab algn="l" pos="4611600"/>
                <a:tab algn="l" pos="5124600"/>
                <a:tab algn="l" pos="5637240"/>
                <a:tab algn="l" pos="6149880"/>
                <a:tab algn="l" pos="6662880"/>
                <a:tab algn="l" pos="7175520"/>
                <a:tab algn="l" pos="7688160"/>
                <a:tab algn="l" pos="8201160"/>
                <a:tab algn="l" pos="8713800"/>
                <a:tab algn="l" pos="9226440"/>
                <a:tab algn="l" pos="9739440"/>
                <a:tab algn="l" pos="10252080"/>
                <a:tab algn="l" pos="10764720"/>
                <a:tab algn="l" pos="10782360"/>
              </a:tabLst>
            </a:pP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marL="814320" indent="-814320">
              <a:buSzPct val="100000"/>
              <a:buBlip>
                <a:blip r:embed="rId2"/>
              </a:buBlip>
              <a:tabLst>
                <a:tab algn="l" pos="1022400"/>
                <a:tab algn="l" pos="1535040"/>
                <a:tab algn="l" pos="2048040"/>
                <a:tab algn="l" pos="2560680"/>
                <a:tab algn="l" pos="3073320"/>
                <a:tab algn="l" pos="3586320"/>
                <a:tab algn="l" pos="4098960"/>
                <a:tab algn="l" pos="4611600"/>
                <a:tab algn="l" pos="5124600"/>
                <a:tab algn="l" pos="5637240"/>
                <a:tab algn="l" pos="6149880"/>
                <a:tab algn="l" pos="6662880"/>
                <a:tab algn="l" pos="7175520"/>
                <a:tab algn="l" pos="7688160"/>
                <a:tab algn="l" pos="8201160"/>
                <a:tab algn="l" pos="8713800"/>
                <a:tab algn="l" pos="9226440"/>
                <a:tab algn="l" pos="9739440"/>
                <a:tab algn="l" pos="10252080"/>
                <a:tab algn="l" pos="10764720"/>
                <a:tab algn="l" pos="10782360"/>
              </a:tabLst>
            </a:pPr>
            <a:r>
              <a:rPr b="1" i="1" lang="fr-FR" sz="1800" spc="-1" strike="noStrike">
                <a:solidFill>
                  <a:srgbClr val="002395"/>
                </a:solidFill>
                <a:latin typeface="Arial"/>
                <a:ea typeface="Arial"/>
              </a:rPr>
              <a:t> </a:t>
            </a:r>
            <a:r>
              <a:rPr b="1" i="1" lang="fr-FR" sz="1800" spc="-1" strike="noStrike">
                <a:solidFill>
                  <a:srgbClr val="002395"/>
                </a:solidFill>
                <a:latin typeface="Arial"/>
                <a:ea typeface="Arial"/>
              </a:rPr>
              <a:t>Le calendrier du PRS                                        </a:t>
            </a:r>
            <a:r>
              <a:rPr b="0" i="1" lang="fr-FR" sz="1400" spc="-1" strike="noStrike">
                <a:solidFill>
                  <a:srgbClr val="969696"/>
                </a:solidFill>
                <a:latin typeface="Arial"/>
                <a:ea typeface="Arial"/>
              </a:rPr>
              <a:t>Document de travail</a:t>
            </a:r>
            <a:endParaRPr b="0" lang="en-US" sz="14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98280" y="1797120"/>
            <a:ext cx="1224000" cy="3133800"/>
          </a:xfrm>
          <a:prstGeom prst="rect">
            <a:avLst/>
          </a:prstGeom>
          <a:solidFill>
            <a:srgbClr val="b2b2b2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Arial"/>
                <a:ea typeface="Arial"/>
              </a:rPr>
              <a:t>Schéma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Arial"/>
                <a:ea typeface="Arial"/>
              </a:rPr>
              <a:t>Régionaux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7885080" y="6524640"/>
            <a:ext cx="12589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2" name="Line 28"/>
          <p:cNvSpPr/>
          <p:nvPr/>
        </p:nvSpPr>
        <p:spPr>
          <a:xfrm>
            <a:off x="1360440" y="1033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3" name="Line 31"/>
          <p:cNvSpPr/>
          <p:nvPr/>
        </p:nvSpPr>
        <p:spPr>
          <a:xfrm>
            <a:off x="1770120" y="10112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4" name="AutoShape 46"/>
          <p:cNvSpPr/>
          <p:nvPr/>
        </p:nvSpPr>
        <p:spPr>
          <a:xfrm flipV="1">
            <a:off x="3546360" y="102312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5" name="AutoShape 49"/>
          <p:cNvSpPr/>
          <p:nvPr/>
        </p:nvSpPr>
        <p:spPr>
          <a:xfrm flipV="1">
            <a:off x="7920000" y="977760"/>
            <a:ext cx="233280" cy="25272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1er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6" name="AutoShape 51"/>
          <p:cNvSpPr/>
          <p:nvPr/>
        </p:nvSpPr>
        <p:spPr>
          <a:xfrm flipV="1">
            <a:off x="8721720" y="101052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7" name="Line 31"/>
          <p:cNvSpPr/>
          <p:nvPr/>
        </p:nvSpPr>
        <p:spPr>
          <a:xfrm>
            <a:off x="2085840" y="10112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8" name="Line 31"/>
          <p:cNvSpPr/>
          <p:nvPr/>
        </p:nvSpPr>
        <p:spPr>
          <a:xfrm>
            <a:off x="2440080" y="100188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9" name="Line 31"/>
          <p:cNvSpPr/>
          <p:nvPr/>
        </p:nvSpPr>
        <p:spPr>
          <a:xfrm>
            <a:off x="4386240" y="1046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6966000" y="795240"/>
            <a:ext cx="43164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Juille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8335800" y="793800"/>
            <a:ext cx="28764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No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2" name="Rectangle 19"/>
          <p:cNvSpPr/>
          <p:nvPr/>
        </p:nvSpPr>
        <p:spPr>
          <a:xfrm>
            <a:off x="667872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Jui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3" name="Rectangle 27"/>
          <p:cNvSpPr/>
          <p:nvPr/>
        </p:nvSpPr>
        <p:spPr>
          <a:xfrm>
            <a:off x="5022720" y="577800"/>
            <a:ext cx="3932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2012</a:t>
            </a:r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022720" y="793800"/>
            <a:ext cx="43200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Jan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545472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Fé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8047080" y="795240"/>
            <a:ext cx="28872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Oc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7686720" y="79380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ep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97640" y="795240"/>
            <a:ext cx="2890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Aoû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6389640" y="795240"/>
            <a:ext cx="2890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Mai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610236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Avril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5742000" y="79380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Mar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8623440" y="795240"/>
            <a:ext cx="33156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Déc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3257640" y="773280"/>
            <a:ext cx="1128600" cy="25056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No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4" name="Rectangle 16"/>
          <p:cNvSpPr/>
          <p:nvPr/>
        </p:nvSpPr>
        <p:spPr>
          <a:xfrm>
            <a:off x="4386240" y="816120"/>
            <a:ext cx="636480" cy="2142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Déc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5" name="Rectangle 27"/>
          <p:cNvSpPr/>
          <p:nvPr/>
        </p:nvSpPr>
        <p:spPr>
          <a:xfrm>
            <a:off x="1093680" y="598320"/>
            <a:ext cx="3929040" cy="2178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2011</a:t>
            </a:r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2440080" y="816120"/>
            <a:ext cx="817560" cy="2286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Oc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7" name="Line 28"/>
          <p:cNvSpPr/>
          <p:nvPr/>
        </p:nvSpPr>
        <p:spPr>
          <a:xfrm>
            <a:off x="6673680" y="1100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8" name="Line 28"/>
          <p:cNvSpPr/>
          <p:nvPr/>
        </p:nvSpPr>
        <p:spPr>
          <a:xfrm>
            <a:off x="7397640" y="10159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9" name="Line 28"/>
          <p:cNvSpPr/>
          <p:nvPr/>
        </p:nvSpPr>
        <p:spPr>
          <a:xfrm>
            <a:off x="6380280" y="1087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0" name="Line 28"/>
          <p:cNvSpPr/>
          <p:nvPr/>
        </p:nvSpPr>
        <p:spPr>
          <a:xfrm>
            <a:off x="7686720" y="105408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1" name="Line 28"/>
          <p:cNvSpPr/>
          <p:nvPr/>
        </p:nvSpPr>
        <p:spPr>
          <a:xfrm>
            <a:off x="6102360" y="1087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2" name="Line 28"/>
          <p:cNvSpPr/>
          <p:nvPr/>
        </p:nvSpPr>
        <p:spPr>
          <a:xfrm>
            <a:off x="8335800" y="10317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3" name="Line 28"/>
          <p:cNvSpPr/>
          <p:nvPr/>
        </p:nvSpPr>
        <p:spPr>
          <a:xfrm>
            <a:off x="5742000" y="11048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4" name="Line 28"/>
          <p:cNvSpPr/>
          <p:nvPr/>
        </p:nvSpPr>
        <p:spPr>
          <a:xfrm>
            <a:off x="5454720" y="1100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98280" y="1055520"/>
            <a:ext cx="1224000" cy="625680"/>
          </a:xfrm>
          <a:prstGeom prst="rect">
            <a:avLst/>
          </a:prstGeom>
          <a:solidFill>
            <a:srgbClr val="003399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Arial"/>
                <a:ea typeface="Arial"/>
              </a:rPr>
              <a:t>PSR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6" name="AutoShape 40"/>
          <p:cNvSpPr/>
          <p:nvPr/>
        </p:nvSpPr>
        <p:spPr>
          <a:xfrm>
            <a:off x="1387440" y="2011320"/>
            <a:ext cx="2276640" cy="290520"/>
          </a:xfrm>
          <a:custGeom>
            <a:avLst/>
            <a:gdLst>
              <a:gd name="textAreaLeft" fmla="*/ 0 w 2276640"/>
              <a:gd name="textAreaRight" fmla="*/ 2277000 w 2276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de Préventio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7" name="AutoShape 40"/>
          <p:cNvSpPr/>
          <p:nvPr/>
        </p:nvSpPr>
        <p:spPr>
          <a:xfrm>
            <a:off x="1376280" y="3876840"/>
            <a:ext cx="1536840" cy="16164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72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Volet Ambulatoir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08000" y="5281560"/>
            <a:ext cx="1224000" cy="1174680"/>
          </a:xfrm>
          <a:prstGeom prst="rect">
            <a:avLst/>
          </a:pr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500" spc="-1" strike="noStrike">
                <a:solidFill>
                  <a:srgbClr val="f8f8f8"/>
                </a:solidFill>
                <a:latin typeface="Arial"/>
                <a:ea typeface="Arial"/>
              </a:rPr>
              <a:t>Programmes</a:t>
            </a:r>
            <a:endParaRPr b="0" lang="en-US" sz="15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9" name="AutoShape 40"/>
          <p:cNvSpPr/>
          <p:nvPr/>
        </p:nvSpPr>
        <p:spPr>
          <a:xfrm>
            <a:off x="5580000" y="3809880"/>
            <a:ext cx="2436840" cy="14760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volet ambulatoir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0" name="AutoShape 40"/>
          <p:cNvSpPr/>
          <p:nvPr/>
        </p:nvSpPr>
        <p:spPr>
          <a:xfrm>
            <a:off x="8037360" y="1663560"/>
            <a:ext cx="574920" cy="427320"/>
          </a:xfrm>
          <a:custGeom>
            <a:avLst/>
            <a:gdLst>
              <a:gd name="textAreaLeft" fmla="*/ 0 w 574920"/>
              <a:gd name="textAreaRight" fmla="*/ 575280 w 57492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Concert.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pour avis officiel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1" name="AutoShape 40"/>
          <p:cNvSpPr/>
          <p:nvPr/>
        </p:nvSpPr>
        <p:spPr>
          <a:xfrm>
            <a:off x="8612280" y="4782960"/>
            <a:ext cx="531720" cy="714600"/>
          </a:xfrm>
          <a:custGeom>
            <a:avLst/>
            <a:gdLst>
              <a:gd name="textAreaLeft" fmla="*/ 0 w 531720"/>
              <a:gd name="textAreaRight" fmla="*/ 532080 w 53172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Arrêté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du DG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PRS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8f8f8"/>
                </a:solidFill>
                <a:latin typeface="Arial"/>
                <a:ea typeface="Arial"/>
              </a:rPr>
              <a:t>Schéma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8f8f8"/>
                </a:solidFill>
                <a:latin typeface="Arial"/>
                <a:ea typeface="Arial"/>
              </a:rPr>
              <a:t>Programme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2" name="AutoShape 46"/>
          <p:cNvSpPr/>
          <p:nvPr/>
        </p:nvSpPr>
        <p:spPr>
          <a:xfrm flipV="1">
            <a:off x="2779560" y="102312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3" name="AutoShape 40"/>
          <p:cNvSpPr/>
          <p:nvPr/>
        </p:nvSpPr>
        <p:spPr>
          <a:xfrm>
            <a:off x="1376280" y="5597640"/>
            <a:ext cx="531720" cy="268200"/>
          </a:xfrm>
          <a:custGeom>
            <a:avLst/>
            <a:gdLst>
              <a:gd name="textAreaLeft" fmla="*/ 0 w 531720"/>
              <a:gd name="textAreaRight" fmla="*/ 532080 w 53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PRIAC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4" name="AutoShape 40"/>
          <p:cNvSpPr/>
          <p:nvPr/>
        </p:nvSpPr>
        <p:spPr>
          <a:xfrm>
            <a:off x="1360440" y="6254640"/>
            <a:ext cx="3211560" cy="160560"/>
          </a:xfrm>
          <a:custGeom>
            <a:avLst/>
            <a:gdLst>
              <a:gd name="textAreaLeft" fmla="*/ 0 w 3211560"/>
              <a:gd name="textAreaRight" fmla="*/ 3211920 w 321156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0920" bIns="7092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Programme Télémédecine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5" name="Line 3"/>
          <p:cNvSpPr/>
          <p:nvPr/>
        </p:nvSpPr>
        <p:spPr>
          <a:xfrm>
            <a:off x="8872560" y="1284120"/>
            <a:ext cx="0" cy="3498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6" name="Line 3"/>
          <p:cNvSpPr/>
          <p:nvPr/>
        </p:nvSpPr>
        <p:spPr>
          <a:xfrm>
            <a:off x="3678120" y="1368360"/>
            <a:ext cx="0" cy="4967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5580000" y="1200240"/>
            <a:ext cx="0" cy="5364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8037360" y="1276200"/>
            <a:ext cx="9720" cy="49546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1376280" y="6018120"/>
            <a:ext cx="3005280" cy="142920"/>
          </a:xfrm>
          <a:custGeom>
            <a:avLst/>
            <a:gdLst>
              <a:gd name="textAreaLeft" fmla="*/ 0 w 3005280"/>
              <a:gd name="textAreaRight" fmla="*/ 3005640 w 30052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3280" bIns="532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PRGDR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0" name="AutoShape 40"/>
          <p:cNvSpPr/>
          <p:nvPr/>
        </p:nvSpPr>
        <p:spPr>
          <a:xfrm>
            <a:off x="6102360" y="5689440"/>
            <a:ext cx="833400" cy="133560"/>
          </a:xfrm>
          <a:custGeom>
            <a:avLst/>
            <a:gdLst>
              <a:gd name="textAreaLeft" fmla="*/ 0 w 833400"/>
              <a:gd name="textAreaRight" fmla="*/ 833760 w 83340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3920" bIns="4392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PRIAC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1" name="AutoShape 40"/>
          <p:cNvSpPr/>
          <p:nvPr/>
        </p:nvSpPr>
        <p:spPr>
          <a:xfrm>
            <a:off x="6935760" y="5640480"/>
            <a:ext cx="750960" cy="234720"/>
          </a:xfrm>
          <a:custGeom>
            <a:avLst/>
            <a:gdLst>
              <a:gd name="textAreaLeft" fmla="*/ 0 w 750960"/>
              <a:gd name="textAreaRight" fmla="*/ 751320 w 75096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Concertation  (CCMS)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2" name="AutoShape 40"/>
          <p:cNvSpPr/>
          <p:nvPr/>
        </p:nvSpPr>
        <p:spPr>
          <a:xfrm>
            <a:off x="1387440" y="4964040"/>
            <a:ext cx="1525680" cy="211320"/>
          </a:xfrm>
          <a:custGeom>
            <a:avLst/>
            <a:gdLst>
              <a:gd name="textAreaLeft" fmla="*/ 0 w 1525680"/>
              <a:gd name="textAreaRight" fmla="*/ 1526040 w 152568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Cahier de charges PDSA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3" name="AutoShape 40"/>
          <p:cNvSpPr/>
          <p:nvPr/>
        </p:nvSpPr>
        <p:spPr>
          <a:xfrm>
            <a:off x="1376280" y="3602160"/>
            <a:ext cx="1536840" cy="21096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cible PDS-ES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4" name="AutoShape 40"/>
          <p:cNvSpPr/>
          <p:nvPr/>
        </p:nvSpPr>
        <p:spPr>
          <a:xfrm>
            <a:off x="1376280" y="3308400"/>
            <a:ext cx="6640560" cy="252360"/>
          </a:xfrm>
          <a:custGeom>
            <a:avLst/>
            <a:gdLst>
              <a:gd name="textAreaLeft" fmla="*/ 0 w 6640560"/>
              <a:gd name="textAreaRight" fmla="*/ 6640920 w 66405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Volet Etablissements de santé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5" name="AutoShape 40"/>
          <p:cNvSpPr/>
          <p:nvPr/>
        </p:nvSpPr>
        <p:spPr>
          <a:xfrm>
            <a:off x="5580000" y="2421000"/>
            <a:ext cx="2457360" cy="29052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SROM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6" name="AutoShape 40"/>
          <p:cNvSpPr/>
          <p:nvPr/>
        </p:nvSpPr>
        <p:spPr>
          <a:xfrm>
            <a:off x="5580000" y="2011320"/>
            <a:ext cx="2457360" cy="29052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Schéma de préventio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7" name="AutoShape 40"/>
          <p:cNvSpPr/>
          <p:nvPr/>
        </p:nvSpPr>
        <p:spPr>
          <a:xfrm>
            <a:off x="5745240" y="6284880"/>
            <a:ext cx="2631960" cy="147600"/>
          </a:xfrm>
          <a:custGeom>
            <a:avLst/>
            <a:gdLst>
              <a:gd name="textAreaLeft" fmla="*/ 0 w 2631960"/>
              <a:gd name="textAreaRight" fmla="*/ 2631960 w 263196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Programme de télémédecin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8" name="AutoShape 40"/>
          <p:cNvSpPr/>
          <p:nvPr/>
        </p:nvSpPr>
        <p:spPr>
          <a:xfrm>
            <a:off x="2481120" y="1276200"/>
            <a:ext cx="432000" cy="428760"/>
          </a:xfrm>
          <a:custGeom>
            <a:avLst/>
            <a:gdLst>
              <a:gd name="textAreaLeft" fmla="*/ 0 w 432000"/>
              <a:gd name="textAreaRight" fmla="*/ 432360 w 43200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219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Arrêté du DG PSR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9" name="AutoShape 40"/>
          <p:cNvSpPr/>
          <p:nvPr/>
        </p:nvSpPr>
        <p:spPr>
          <a:xfrm>
            <a:off x="1376280" y="4335480"/>
            <a:ext cx="2287800" cy="210960"/>
          </a:xfrm>
          <a:custGeom>
            <a:avLst/>
            <a:gdLst>
              <a:gd name="textAreaLeft" fmla="*/ 0 w 2287800"/>
              <a:gd name="textAreaRight" fmla="*/ 2288160 w 228780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Volet Soins aux détenu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0" name="AutoShape 40"/>
          <p:cNvSpPr/>
          <p:nvPr/>
        </p:nvSpPr>
        <p:spPr>
          <a:xfrm>
            <a:off x="1380960" y="4060800"/>
            <a:ext cx="1876680" cy="239760"/>
          </a:xfrm>
          <a:custGeom>
            <a:avLst/>
            <a:gdLst>
              <a:gd name="textAreaLeft" fmla="*/ 0 w 1876680"/>
              <a:gd name="textAreaRight" fmla="*/ 1877040 w 18766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Volet Biologie médical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1" name="AutoShape 40"/>
          <p:cNvSpPr/>
          <p:nvPr/>
        </p:nvSpPr>
        <p:spPr>
          <a:xfrm>
            <a:off x="1376280" y="4599000"/>
            <a:ext cx="2287800" cy="183960"/>
          </a:xfrm>
          <a:custGeom>
            <a:avLst/>
            <a:gdLst>
              <a:gd name="textAreaLeft" fmla="*/ 0 w 2287800"/>
              <a:gd name="textAreaRight" fmla="*/ 2288160 w 22878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Volet Bucco-dentair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2" name="AutoShape 40"/>
          <p:cNvSpPr/>
          <p:nvPr/>
        </p:nvSpPr>
        <p:spPr>
          <a:xfrm>
            <a:off x="1360440" y="2421000"/>
            <a:ext cx="1870200" cy="315720"/>
          </a:xfrm>
          <a:custGeom>
            <a:avLst/>
            <a:gdLst>
              <a:gd name="textAreaLeft" fmla="*/ 0 w 1870200"/>
              <a:gd name="textAreaRight" fmla="*/ 1870560 w 187020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’Organisation médico social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3" name="AutoShape 40"/>
          <p:cNvSpPr/>
          <p:nvPr/>
        </p:nvSpPr>
        <p:spPr>
          <a:xfrm>
            <a:off x="1360440" y="2932200"/>
            <a:ext cx="6559560" cy="290520"/>
          </a:xfrm>
          <a:custGeom>
            <a:avLst/>
            <a:gdLst>
              <a:gd name="textAreaLeft" fmla="*/ 0 w 6559560"/>
              <a:gd name="textAreaRight" fmla="*/ 6559920 w 65595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’Organisation des soins :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4" name="AutoShape 70"/>
          <p:cNvSpPr/>
          <p:nvPr/>
        </p:nvSpPr>
        <p:spPr>
          <a:xfrm>
            <a:off x="2913120" y="4964040"/>
            <a:ext cx="1452600" cy="235080"/>
          </a:xfrm>
          <a:custGeom>
            <a:avLst/>
            <a:gdLst>
              <a:gd name="textAreaLeft" fmla="*/ 0 w 1452600"/>
              <a:gd name="textAreaRight" fmla="*/ 1452960 w 145260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1338120" y="808200"/>
            <a:ext cx="432000" cy="2156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Juille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1770120" y="816120"/>
            <a:ext cx="30960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Aoû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2079720" y="81612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ep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8" name="AutoShape 73"/>
          <p:cNvSpPr/>
          <p:nvPr/>
        </p:nvSpPr>
        <p:spPr>
          <a:xfrm>
            <a:off x="2098800" y="1704960"/>
            <a:ext cx="765000" cy="289080"/>
          </a:xfrm>
          <a:custGeom>
            <a:avLst/>
            <a:gdLst>
              <a:gd name="textAreaLeft" fmla="*/ 0 w 765000"/>
              <a:gd name="textAreaRight" fmla="*/ 765360 w 76500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Validation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Comex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9" name="Line 28"/>
          <p:cNvSpPr/>
          <p:nvPr/>
        </p:nvSpPr>
        <p:spPr>
          <a:xfrm>
            <a:off x="6966000" y="10303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0" name="AutoShape 48"/>
          <p:cNvSpPr/>
          <p:nvPr/>
        </p:nvSpPr>
        <p:spPr>
          <a:xfrm flipV="1">
            <a:off x="5454720" y="100116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1" name="AutoShape 73"/>
          <p:cNvSpPr/>
          <p:nvPr/>
        </p:nvSpPr>
        <p:spPr>
          <a:xfrm>
            <a:off x="2913120" y="1663560"/>
            <a:ext cx="266688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Concertation non-officielle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2" name="Text Box 78"/>
          <p:cNvSpPr/>
          <p:nvPr/>
        </p:nvSpPr>
        <p:spPr>
          <a:xfrm>
            <a:off x="2913120" y="4863960"/>
            <a:ext cx="1314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Concertation officielle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4705200" y="4994280"/>
            <a:ext cx="317520" cy="287280"/>
          </a:xfrm>
          <a:prstGeom prst="rect">
            <a:avLst/>
          </a:prstGeom>
          <a:solidFill>
            <a:srgbClr val="ff3300"/>
          </a:solidFill>
          <a:ln w="25560">
            <a:solidFill>
              <a:srgbClr val="003399"/>
            </a:solidFill>
            <a:miter/>
          </a:ln>
          <a:effectLst>
            <a:outerShdw dist="17819" dir="2700000" blurRad="0" rotWithShape="0">
              <a:srgbClr val="00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4" name="Text Box 80"/>
          <p:cNvSpPr/>
          <p:nvPr/>
        </p:nvSpPr>
        <p:spPr>
          <a:xfrm>
            <a:off x="4597560" y="4964040"/>
            <a:ext cx="5475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Arrêté du DG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5" name="AutoShape 40"/>
          <p:cNvSpPr/>
          <p:nvPr/>
        </p:nvSpPr>
        <p:spPr>
          <a:xfrm>
            <a:off x="5580000" y="3602160"/>
            <a:ext cx="2436840" cy="14760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PDS-E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6" name="AutoShape 40"/>
          <p:cNvSpPr/>
          <p:nvPr/>
        </p:nvSpPr>
        <p:spPr>
          <a:xfrm>
            <a:off x="5580000" y="4038480"/>
            <a:ext cx="2436840" cy="20484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  <a:ea typeface="Arial"/>
              </a:rPr>
              <a:t>Expérimentations Volet Biologie médica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7" name="AutoShape 40"/>
          <p:cNvSpPr/>
          <p:nvPr/>
        </p:nvSpPr>
        <p:spPr>
          <a:xfrm>
            <a:off x="5575320" y="4335480"/>
            <a:ext cx="2441520" cy="158760"/>
          </a:xfrm>
          <a:custGeom>
            <a:avLst/>
            <a:gdLst>
              <a:gd name="textAreaLeft" fmla="*/ 0 w 2441520"/>
              <a:gd name="textAreaRight" fmla="*/ 2441880 w 2441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69120" bIns="691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  <a:ea typeface="Arial"/>
              </a:rPr>
              <a:t>Expérimentations Volet Soins  détenu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8" name="AutoShape 40"/>
          <p:cNvSpPr/>
          <p:nvPr/>
        </p:nvSpPr>
        <p:spPr>
          <a:xfrm>
            <a:off x="5580000" y="4599000"/>
            <a:ext cx="2436840" cy="18396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  <a:ea typeface="Arial"/>
              </a:rPr>
              <a:t>Expérimentations Volet Bucco-dentair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9" name="AutoShape 73"/>
          <p:cNvSpPr/>
          <p:nvPr/>
        </p:nvSpPr>
        <p:spPr>
          <a:xfrm>
            <a:off x="1071720" y="1046160"/>
            <a:ext cx="607680" cy="289080"/>
          </a:xfrm>
          <a:custGeom>
            <a:avLst/>
            <a:gdLst>
              <a:gd name="textAreaLeft" fmla="*/ 0 w 607680"/>
              <a:gd name="textAreaRight" fmla="*/ 608040 w 60768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8f8f8"/>
          </a:solidFill>
          <a:ln w="936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993366"/>
                </a:solidFill>
                <a:latin typeface="Arial"/>
                <a:ea typeface="Arial"/>
              </a:rPr>
              <a:t>Concertation 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993366"/>
                </a:solidFill>
                <a:latin typeface="Arial"/>
                <a:ea typeface="Arial"/>
              </a:rPr>
              <a:t>PSR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0" name="AutoShape 40"/>
          <p:cNvSpPr/>
          <p:nvPr/>
        </p:nvSpPr>
        <p:spPr>
          <a:xfrm>
            <a:off x="1376280" y="5354640"/>
            <a:ext cx="3340080" cy="142920"/>
          </a:xfrm>
          <a:custGeom>
            <a:avLst/>
            <a:gdLst>
              <a:gd name="textAreaLeft" fmla="*/ 0 w 3340080"/>
              <a:gd name="textAreaRight" fmla="*/ 3340440 w 33400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3280" bIns="532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PRAPS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1" name="AutoShape 40"/>
          <p:cNvSpPr/>
          <p:nvPr/>
        </p:nvSpPr>
        <p:spPr>
          <a:xfrm>
            <a:off x="2195640" y="5621400"/>
            <a:ext cx="1468440" cy="287280"/>
          </a:xfrm>
          <a:custGeom>
            <a:avLst/>
            <a:gdLst>
              <a:gd name="textAreaLeft" fmla="*/ 0 w 1468440"/>
              <a:gd name="textAreaRight" fmla="*/ 1468800 w 1468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8f8f8"/>
                </a:solidFill>
                <a:latin typeface="Arial Black"/>
                <a:ea typeface="Arial"/>
              </a:rPr>
              <a:t>Concert.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8f8f8"/>
                </a:solidFill>
                <a:latin typeface="Arial Black"/>
                <a:ea typeface="Arial"/>
              </a:rPr>
              <a:t>officiel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2" name="AutoShape 40"/>
          <p:cNvSpPr/>
          <p:nvPr/>
        </p:nvSpPr>
        <p:spPr>
          <a:xfrm>
            <a:off x="4119480" y="5597640"/>
            <a:ext cx="531720" cy="277560"/>
          </a:xfrm>
          <a:custGeom>
            <a:avLst/>
            <a:gdLst>
              <a:gd name="textAreaLeft" fmla="*/ 0 w 531720"/>
              <a:gd name="textAreaRight" fmla="*/ 532080 w 53172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Arrêté du DG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3" name="AutoShape 40"/>
          <p:cNvSpPr/>
          <p:nvPr/>
        </p:nvSpPr>
        <p:spPr>
          <a:xfrm>
            <a:off x="4365720" y="5908680"/>
            <a:ext cx="631800" cy="287280"/>
          </a:xfrm>
          <a:custGeom>
            <a:avLst/>
            <a:gdLst>
              <a:gd name="textAreaLeft" fmla="*/ 0 w 631800"/>
              <a:gd name="textAreaRight" fmla="*/ 632160 w 6318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8f8f8"/>
                </a:solidFill>
                <a:latin typeface="Arial Black"/>
                <a:ea typeface="Arial"/>
              </a:rPr>
              <a:t>Validation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8f8f8"/>
                </a:solidFill>
                <a:latin typeface="Arial Black"/>
                <a:ea typeface="Arial"/>
              </a:rPr>
              <a:t>officiel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4" name="Line 3"/>
          <p:cNvSpPr/>
          <p:nvPr/>
        </p:nvSpPr>
        <p:spPr>
          <a:xfrm>
            <a:off x="2913120" y="1211400"/>
            <a:ext cx="0" cy="38876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5" name="Line 28"/>
          <p:cNvSpPr/>
          <p:nvPr/>
        </p:nvSpPr>
        <p:spPr>
          <a:xfrm>
            <a:off x="5022720" y="10447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6" name="Rectangle 92"/>
          <p:cNvSpPr/>
          <p:nvPr/>
        </p:nvSpPr>
        <p:spPr>
          <a:xfrm>
            <a:off x="1908000" y="5640480"/>
            <a:ext cx="287640" cy="1825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7" name="Text Box 93"/>
          <p:cNvSpPr/>
          <p:nvPr/>
        </p:nvSpPr>
        <p:spPr>
          <a:xfrm>
            <a:off x="1814400" y="5640480"/>
            <a:ext cx="7606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CNSA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8" name="Rectangle 94"/>
          <p:cNvSpPr/>
          <p:nvPr/>
        </p:nvSpPr>
        <p:spPr>
          <a:xfrm>
            <a:off x="5022720" y="6254640"/>
            <a:ext cx="719280" cy="2476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9" name="Text Box 95"/>
          <p:cNvSpPr/>
          <p:nvPr/>
        </p:nvSpPr>
        <p:spPr>
          <a:xfrm>
            <a:off x="4997520" y="6208560"/>
            <a:ext cx="86976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oncertation                non officiel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0" name="AutoShape 46"/>
          <p:cNvSpPr/>
          <p:nvPr/>
        </p:nvSpPr>
        <p:spPr>
          <a:xfrm flipV="1">
            <a:off x="3139920" y="101520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3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1" name="Line 3"/>
          <p:cNvSpPr/>
          <p:nvPr/>
        </p:nvSpPr>
        <p:spPr>
          <a:xfrm>
            <a:off x="3257640" y="1325520"/>
            <a:ext cx="0" cy="4967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2" name="Line 3"/>
          <p:cNvSpPr/>
          <p:nvPr/>
        </p:nvSpPr>
        <p:spPr>
          <a:xfrm>
            <a:off x="8623440" y="1200240"/>
            <a:ext cx="0" cy="3498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3" name="AutoShape 51"/>
          <p:cNvSpPr/>
          <p:nvPr/>
        </p:nvSpPr>
        <p:spPr>
          <a:xfrm flipV="1">
            <a:off x="8505720" y="101520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fr-FR" sz="1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r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4" name="Line 100"/>
          <p:cNvSpPr/>
          <p:nvPr/>
        </p:nvSpPr>
        <p:spPr>
          <a:xfrm>
            <a:off x="1376280" y="2754360"/>
            <a:ext cx="6640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1380960" y="4861080"/>
            <a:ext cx="66358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6" name="Line 102"/>
          <p:cNvSpPr/>
          <p:nvPr/>
        </p:nvSpPr>
        <p:spPr>
          <a:xfrm>
            <a:off x="8016840" y="2736720"/>
            <a:ext cx="0" cy="2127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7" name="Line 103"/>
          <p:cNvSpPr/>
          <p:nvPr/>
        </p:nvSpPr>
        <p:spPr>
          <a:xfrm>
            <a:off x="1374840" y="2749680"/>
            <a:ext cx="0" cy="2127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0" y="189000"/>
          <a:ext cx="9144000" cy="5867280"/>
        </p:xfrm>
        <a:graphic>
          <a:graphicData uri="http://schemas.openxmlformats.org/drawingml/2006/table">
            <a:tbl>
              <a:tblPr/>
              <a:tblGrid>
                <a:gridCol w="900000"/>
                <a:gridCol w="541440"/>
                <a:gridCol w="476280"/>
                <a:gridCol w="536400"/>
                <a:gridCol w="489240"/>
                <a:gridCol w="477720"/>
                <a:gridCol w="371520"/>
                <a:gridCol w="355680"/>
                <a:gridCol w="357120"/>
                <a:gridCol w="355680"/>
                <a:gridCol w="291960"/>
                <a:gridCol w="461880"/>
                <a:gridCol w="420840"/>
                <a:gridCol w="422280"/>
                <a:gridCol w="379440"/>
                <a:gridCol w="436320"/>
                <a:gridCol w="333360"/>
                <a:gridCol w="312840"/>
                <a:gridCol w="380880"/>
                <a:gridCol w="487440"/>
                <a:gridCol w="355680"/>
              </a:tblGrid>
              <a:tr h="2005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 d'envoi pour avis    non-officiel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ueil d'avis non -officiel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 d'envoi pour avis officiel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ueil d'avis officiel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rêté du     DG AR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SA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ferences         des territoire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ssion coordination Prevention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ssion coordination Méd-soc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ssion régionale GDR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RP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éfet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eil Général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AMUP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eils depart de l'ordre des médecin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ission paritaire régionale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mblée plénière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s Prévention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s                 Offre des soin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S                       Med-soc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S                 usagé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gridSpan="21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émas régionaux</a:t>
                      </a:r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EMA DE PREVENTION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nov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EMA MEDICOSOCIAL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-oct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ROS: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et hospitalier *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DS-E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oct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et ambulatoire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oct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posit°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et bucco-dentaire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nov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et Biologie médicale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-oct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et Soins aux détenu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nov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DS-A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oct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-déc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1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grammes Régionaux </a:t>
                      </a:r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RIAC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sept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nov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AP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GDR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s d'avi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-déc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élé-médecine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Rectangle 5366"/>
          <p:cNvSpPr/>
          <p:nvPr/>
        </p:nvSpPr>
        <p:spPr>
          <a:xfrm>
            <a:off x="2199240" y="6453360"/>
            <a:ext cx="4661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PRS : proposition du chemin critique de consultations officielles et non officielle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6T19:15:03Z</dcterms:created>
  <dc:creator>Service Info</dc:creator>
  <dc:description/>
  <dc:language>en-US</dc:language>
  <cp:lastModifiedBy>pia</cp:lastModifiedBy>
  <dcterms:modified xsi:type="dcterms:W3CDTF">2011-10-03T03:18:57Z</dcterms:modified>
  <cp:revision>94</cp:revision>
  <dc:subject/>
  <dc:title>Présentation PowerPoint</dc:title>
</cp:coreProperties>
</file>