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</p:sldIdLst>
  <p:sldSz cx="9144000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0" y="0"/>
            <a:ext cx="6742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G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dt" idx="2"/>
          </p:nvPr>
        </p:nvSpPr>
        <p:spPr>
          <a:xfrm>
            <a:off x="381960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03692A9-06B9-4A3C-B5F1-80ED5AC5FF25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Img"/>
          </p:nvPr>
        </p:nvSpPr>
        <p:spPr>
          <a:xfrm>
            <a:off x="904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 type="ftr" idx="3"/>
          </p:nvPr>
        </p:nvSpPr>
        <p:spPr>
          <a:xfrm>
            <a:off x="0" y="93801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 type="sldNum" idx="4"/>
          </p:nvPr>
        </p:nvSpPr>
        <p:spPr>
          <a:xfrm>
            <a:off x="3819600" y="93801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2228CCD-9024-4362-A353-9199E9C3D16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BE24C7D-293F-4004-BE9D-BF2C9C4F035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B634B24-65C3-43B4-85C2-680E1B9C9CF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B844D-3605-4366-BA7F-C539994258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C1674-D16C-4934-9AEE-211B74B672E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96CF2-200E-40A7-8B9F-902A52554FA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385F9-FE8C-43CF-A068-ED039AD43C0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C6F77-A477-4A0D-896B-2B1A214EEA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D798D-A26B-4DFF-806F-9AD40B242CD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91677-1404-494F-B8C4-A3AF29DA831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9C0BB-CCF6-4EFC-A233-CCB7EE38703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6A999-149C-47CE-AC03-7A7F5DB1307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23B6F-89C9-4139-A467-9C60BAD8C4B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7A0E8-98AE-4B8A-920B-03A5A14C291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34944-297F-48F2-8399-23EA35F9396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Logo ARS.png"/>
          <p:cNvPicPr/>
          <p:nvPr/>
        </p:nvPicPr>
        <p:blipFill>
          <a:blip r:embed="rId2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1" name="Connecteur droit 7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Connecteur droit 8"/>
          <p:cNvSpPr/>
          <p:nvPr/>
        </p:nvSpPr>
        <p:spPr>
          <a:xfrm>
            <a:off x="1403280" y="142920"/>
            <a:ext cx="0" cy="6215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ZoneTexte 9"/>
          <p:cNvSpPr/>
          <p:nvPr/>
        </p:nvSpPr>
        <p:spPr>
          <a:xfrm>
            <a:off x="142920" y="590400"/>
            <a:ext cx="118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Cellule Perform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6120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1"/>
          </p:nvPr>
        </p:nvSpPr>
        <p:spPr>
          <a:xfrm>
            <a:off x="8773920" y="6482880"/>
            <a:ext cx="369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F1C00-4C0F-407A-AA8A-2EB9C253C5F1}" type="slidenum">
              <a:rPr b="0" lang="fr-FR" sz="9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382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383" name="Connecteur droit 7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Connecteur droit 8"/>
          <p:cNvSpPr/>
          <p:nvPr/>
        </p:nvSpPr>
        <p:spPr>
          <a:xfrm>
            <a:off x="1403280" y="142920"/>
            <a:ext cx="0" cy="693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ZoneTexte 9"/>
          <p:cNvSpPr/>
          <p:nvPr/>
        </p:nvSpPr>
        <p:spPr>
          <a:xfrm>
            <a:off x="36360" y="590400"/>
            <a:ext cx="13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Direction générale adjoi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425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426" name="Connecteur droit 7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Connecteur droit 8"/>
          <p:cNvSpPr/>
          <p:nvPr/>
        </p:nvSpPr>
        <p:spPr>
          <a:xfrm>
            <a:off x="1403280" y="142920"/>
            <a:ext cx="0" cy="693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ZoneTexte 9"/>
          <p:cNvSpPr/>
          <p:nvPr/>
        </p:nvSpPr>
        <p:spPr>
          <a:xfrm>
            <a:off x="36360" y="590400"/>
            <a:ext cx="13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Direction générale adjoi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468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469" name="Connecteur droit 7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Connecteur droit 8"/>
          <p:cNvSpPr/>
          <p:nvPr/>
        </p:nvSpPr>
        <p:spPr>
          <a:xfrm>
            <a:off x="1403280" y="142920"/>
            <a:ext cx="0" cy="693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ZoneTexte 9"/>
          <p:cNvSpPr/>
          <p:nvPr/>
        </p:nvSpPr>
        <p:spPr>
          <a:xfrm>
            <a:off x="36360" y="590400"/>
            <a:ext cx="13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Direction générale adjoi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511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512" name="Connecteur droit 7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Connecteur droit 8"/>
          <p:cNvSpPr/>
          <p:nvPr/>
        </p:nvSpPr>
        <p:spPr>
          <a:xfrm>
            <a:off x="1403280" y="142920"/>
            <a:ext cx="0" cy="693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ZoneTexte 9"/>
          <p:cNvSpPr/>
          <p:nvPr/>
        </p:nvSpPr>
        <p:spPr>
          <a:xfrm>
            <a:off x="36360" y="590400"/>
            <a:ext cx="13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Direction générale adjoi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476280"/>
            <a:ext cx="9144000" cy="38088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9" descr=""/>
          <p:cNvPicPr/>
          <p:nvPr/>
        </p:nvPicPr>
        <p:blipFill>
          <a:blip r:embed="rId3"/>
          <a:stretch/>
        </p:blipFill>
        <p:spPr>
          <a:xfrm>
            <a:off x="468360" y="1197000"/>
            <a:ext cx="2448000" cy="14097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1476000" y="836280"/>
            <a:ext cx="7210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8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594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595" name="Connecteur droit 5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Connecteur droit 6"/>
          <p:cNvSpPr/>
          <p:nvPr/>
        </p:nvSpPr>
        <p:spPr>
          <a:xfrm>
            <a:off x="1403280" y="142920"/>
            <a:ext cx="0" cy="6215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ZoneTexte 7"/>
          <p:cNvSpPr/>
          <p:nvPr/>
        </p:nvSpPr>
        <p:spPr>
          <a:xfrm>
            <a:off x="142920" y="590400"/>
            <a:ext cx="118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Cellule Perform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1476000" y="836280"/>
            <a:ext cx="7210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43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44" name="Connecteur droit 7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Connecteur droit 8"/>
          <p:cNvSpPr/>
          <p:nvPr/>
        </p:nvSpPr>
        <p:spPr>
          <a:xfrm>
            <a:off x="1403280" y="142920"/>
            <a:ext cx="0" cy="693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ZoneTexte 9"/>
          <p:cNvSpPr/>
          <p:nvPr/>
        </p:nvSpPr>
        <p:spPr>
          <a:xfrm>
            <a:off x="36360" y="590400"/>
            <a:ext cx="13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Direction générale adjoi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476000" y="836280"/>
            <a:ext cx="7210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124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Connecteur droit 7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Connecteur droit 8"/>
          <p:cNvSpPr/>
          <p:nvPr/>
        </p:nvSpPr>
        <p:spPr>
          <a:xfrm>
            <a:off x="1403280" y="142920"/>
            <a:ext cx="0" cy="693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ZoneTexte 9"/>
          <p:cNvSpPr/>
          <p:nvPr/>
        </p:nvSpPr>
        <p:spPr>
          <a:xfrm>
            <a:off x="36360" y="590400"/>
            <a:ext cx="13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Direction générale adjoi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167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168" name="Connecteur droit 7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necteur droit 8"/>
          <p:cNvSpPr/>
          <p:nvPr/>
        </p:nvSpPr>
        <p:spPr>
          <a:xfrm>
            <a:off x="1403280" y="142920"/>
            <a:ext cx="0" cy="693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ZoneTexte 9"/>
          <p:cNvSpPr/>
          <p:nvPr/>
        </p:nvSpPr>
        <p:spPr>
          <a:xfrm>
            <a:off x="36360" y="590400"/>
            <a:ext cx="13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Direction générale adjoi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210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211" name="Connecteur droit 7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Connecteur droit 8"/>
          <p:cNvSpPr/>
          <p:nvPr/>
        </p:nvSpPr>
        <p:spPr>
          <a:xfrm>
            <a:off x="1403280" y="142920"/>
            <a:ext cx="0" cy="693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ZoneTexte 9"/>
          <p:cNvSpPr/>
          <p:nvPr/>
        </p:nvSpPr>
        <p:spPr>
          <a:xfrm>
            <a:off x="36360" y="590400"/>
            <a:ext cx="13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Direction générale adjoi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253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254" name="Connecteur droit 7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Connecteur droit 8"/>
          <p:cNvSpPr/>
          <p:nvPr/>
        </p:nvSpPr>
        <p:spPr>
          <a:xfrm>
            <a:off x="1403280" y="142920"/>
            <a:ext cx="0" cy="693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ZoneTexte 9"/>
          <p:cNvSpPr/>
          <p:nvPr/>
        </p:nvSpPr>
        <p:spPr>
          <a:xfrm>
            <a:off x="36360" y="590400"/>
            <a:ext cx="13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Direction générale adjoi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296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297" name="Connecteur droit 7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Connecteur droit 8"/>
          <p:cNvSpPr/>
          <p:nvPr/>
        </p:nvSpPr>
        <p:spPr>
          <a:xfrm>
            <a:off x="1403280" y="142920"/>
            <a:ext cx="0" cy="693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ZoneTexte 9"/>
          <p:cNvSpPr/>
          <p:nvPr/>
        </p:nvSpPr>
        <p:spPr>
          <a:xfrm>
            <a:off x="36360" y="590400"/>
            <a:ext cx="13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Direction générale adjoi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339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340" name="Connecteur droit 7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Connecteur droit 8"/>
          <p:cNvSpPr/>
          <p:nvPr/>
        </p:nvSpPr>
        <p:spPr>
          <a:xfrm>
            <a:off x="1403280" y="142920"/>
            <a:ext cx="0" cy="693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ZoneTexte 9"/>
          <p:cNvSpPr/>
          <p:nvPr/>
        </p:nvSpPr>
        <p:spPr>
          <a:xfrm>
            <a:off x="36360" y="590400"/>
            <a:ext cx="13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Direction générale adjoi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2626920" y="2130120"/>
            <a:ext cx="594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fr-FR" sz="2400" spc="-1" strike="noStrike">
                <a:solidFill>
                  <a:srgbClr val="002395"/>
                </a:solidFill>
                <a:latin typeface="Calibri"/>
              </a:rPr>
              <a:t>Le contrat pluriannuel d’objectifs et de moyens </a:t>
            </a:r>
            <a:r>
              <a:rPr b="1" lang="fr-FR" sz="2500" spc="-1" strike="noStrike">
                <a:solidFill>
                  <a:srgbClr val="002395"/>
                </a:solidFill>
                <a:latin typeface="Calibri"/>
              </a:rPr>
              <a:t> de l’ARS d’Ile de France</a:t>
            </a:r>
            <a:endParaRPr b="1" lang="en-US" sz="25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ubTitle"/>
          </p:nvPr>
        </p:nvSpPr>
        <p:spPr>
          <a:xfrm>
            <a:off x="3203640" y="3886200"/>
            <a:ext cx="6767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7ab800"/>
                </a:solidFill>
                <a:latin typeface="Calibri"/>
              </a:rPr>
              <a:t>Conférence de territoire 7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7ab800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7ab800"/>
                </a:solidFill>
                <a:latin typeface="Calibri"/>
              </a:rPr>
              <a:t>du 15 septembre 201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7"/>
          <p:cNvSpPr/>
          <p:nvPr/>
        </p:nvSpPr>
        <p:spPr>
          <a:xfrm>
            <a:off x="8582400" y="6475320"/>
            <a:ext cx="8344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25E7C-5609-4483-B772-3C53DD822252}" type="slidenum">
              <a:rPr b="1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/>
          </p:nvPr>
        </p:nvSpPr>
        <p:spPr>
          <a:xfrm>
            <a:off x="285840" y="609480"/>
            <a:ext cx="8400960" cy="57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ff"/>
                </a:solidFill>
                <a:latin typeface="Calibri"/>
              </a:rPr>
              <a:t>Le CPOM, c’est quoi?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Tel que défini dans la Loi, il fixe les objectifs chiffrés pluriannuels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es ARS sur leurs métiers et leur fonctionnement interne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l s’agit d’un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Calibri"/>
              </a:rPr>
              <a:t>contrat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igné entre l’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Etat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, représenté par le ministre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e la santé et des sports et le ministre du travail, de la solidarité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t de la fonction publique et le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DGARS.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our la période allant d’avril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2010 à 2013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ff"/>
                </a:solidFill>
                <a:latin typeface="Calibri"/>
              </a:rPr>
              <a:t>Un CPOM, pour quoi faire?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Garantir la cohérence du projet de l’ARS Ile de France par rapport aux priorités de santé définies au niveau nationa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Garantir de l’engagement de l’agence vis-à-vis de la population francilienne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écliner les orientations stratégiques de l’agence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éfinir des moyens de l’agence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285840" y="380520"/>
            <a:ext cx="840096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ff"/>
                </a:solidFill>
                <a:latin typeface="Calibri"/>
              </a:rPr>
              <a:t>Comment est articulé le CPOM de l’ARS d’Ile de France ?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’est un document unique contractuel comprenant les élément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uivants :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réambule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rticle 1 : Objectifs et indicateurs pluriannuels retenus au contr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rticle 2 : Objectifs de mise en place et de management retenus au contr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rticle 3 : Moyens des AR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rticle 4 : Modalités de suivi et d’évaluation du contr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rticle 5 : Dispositions relatives à l’amélioration continue du contr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rticle 6 : Annexe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ab800"/>
                </a:solidFill>
                <a:latin typeface="Calibri"/>
              </a:rPr>
              <a:t>Zoom sur l’article 1 : objectifs et indicateurs pluriannuels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ff"/>
                </a:solidFill>
                <a:latin typeface="Calibri"/>
              </a:rPr>
              <a:t>3 priorités nationales qui se déclinent en 9 objectifs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Améliorer l’espérance de vie en bonne sant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Réduire la mortalité prématurée évit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Développer la promotion de la santé et la prévention des maladi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Renforcer l’efficacité du dispositif de veille et de sécurité sanitai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Promouvoir l’égalité devant la sant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Réduire les inégalités territoriales et sociales de sant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Développer un système de qualité, accessible et efficien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Améliorer la qualité et l’efficience des soins et des services médico-sociau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Adapter l’offre de soins et des services médico-sociaux aux besoi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Optimiser l’organisation de la permanence des soins ambulatoi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Maitriser les dépenses de santé et rétablir durablement l’équilibre financier des EP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Développer les parcours de soins et de vie des personnes âgées et des personnes handicapé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ff"/>
                </a:solidFill>
                <a:latin typeface="Calibri"/>
              </a:rPr>
              <a:t>et en indicateurs communs ou spécifiques aux AR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Line 2"/>
          <p:cNvSpPr/>
          <p:nvPr/>
        </p:nvSpPr>
        <p:spPr>
          <a:xfrm flipV="1">
            <a:off x="3490920" y="155736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3"/>
          <p:cNvSpPr/>
          <p:nvPr/>
        </p:nvSpPr>
        <p:spPr>
          <a:xfrm>
            <a:off x="3490920" y="2852640"/>
            <a:ext cx="165564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4"/>
          <p:cNvSpPr/>
          <p:nvPr/>
        </p:nvSpPr>
        <p:spPr>
          <a:xfrm flipH="1">
            <a:off x="2555640" y="2852640"/>
            <a:ext cx="93492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5"/>
          <p:cNvSpPr/>
          <p:nvPr/>
        </p:nvSpPr>
        <p:spPr>
          <a:xfrm>
            <a:off x="971640" y="907920"/>
            <a:ext cx="548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Arial"/>
              </a:rPr>
              <a:t>1. RÉDUIRE LES INÉGALITÉS SOCIALES ET TERRITORIALES DE SA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6"/>
          <p:cNvSpPr/>
          <p:nvPr/>
        </p:nvSpPr>
        <p:spPr>
          <a:xfrm>
            <a:off x="1258920" y="3357720"/>
            <a:ext cx="331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Arial"/>
              </a:rPr>
              <a:t>2. AMÉLIORER LA QUALITÉ DU SERVICE RENDU PAR LE SYSTÈME DE SANT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7"/>
          <p:cNvSpPr/>
          <p:nvPr/>
        </p:nvSpPr>
        <p:spPr>
          <a:xfrm>
            <a:off x="5219640" y="3429000"/>
            <a:ext cx="280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Arial"/>
              </a:rPr>
              <a:t>3. RENFORCER L’EFFICIENCE DE L’ORGANISATION DE L’OFFRE DE SANT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8"/>
          <p:cNvSpPr/>
          <p:nvPr/>
        </p:nvSpPr>
        <p:spPr>
          <a:xfrm>
            <a:off x="3851280" y="1125360"/>
            <a:ext cx="5724360" cy="19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2.1-2.2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Prévalence de l’obésité et du surpoids parmi les enfants à l’entrée en C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2.3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Taux de participation au dépistage organisé du cancer colorectal chez les 50 à 74 ans</a:t>
            </a: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2.4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Taux de couverture vaccinale ROR des enfants de 24 mo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2.5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Taux de mortalité infanti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4.1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Part de la population vivant dans un bassin de vie dont la densité médicale de médecin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généralistes est inférieure à 30% de la moyenne nation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4.2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Nombre de logements ayant fait l'objet d'une évaluation sanitaire ayant condui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à une procédure d'insalubrité au titre du C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4.3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Participation au dépistage organisé du cancer du sein pour les femmes de 50 à 74 a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4.4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Nombre de contrats locaux de santé signés au titre l’Art. L.1434 (CSP) sur des territoi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prioritaires urbains (CUCS, ZEP) ou ruraux (isolé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4.5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Ecarts intra régionaux d’équipements en ESMS mesurés à partir de la dépens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d’assurance maladie rapportée à la population cible (personnes handicapées de 0 à 59 an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et personnes âgées de 75 ans et +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9"/>
          <p:cNvSpPr/>
          <p:nvPr/>
        </p:nvSpPr>
        <p:spPr>
          <a:xfrm>
            <a:off x="0" y="3813120"/>
            <a:ext cx="4714920" cy="27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1.1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Taux de mortalité prématurée évitab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1.2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Taux de décès par suicide pour 100 000 hab. standardisé par â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3.1</a:t>
            </a: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des plans nationaux de veille et sécurité sanitaire déclinés au niveau régional et ayant fait l’objet d’une révision dans l’anné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3.2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% d’unités de distribution d’eau alimentant en eau potable plus de 5 000 hab., présentant de manière récurrente des dépassements des limites de qualit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5.1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d’établissements de santé certifiés avec réserves (majeures ou n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5.2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d’ESMS ayant fait l’objet d’une évaluation exter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6.6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Taux de journées en HAD / 10 000 habitant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6.7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Nombre de structures d’exercice collectif en milieu ambulatoire / 100 000 hab. (maisons de santé, centres de santé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7.1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Part des patients relevant du niveau 1 de la CCMU (classification clinique des malades des urgences) dans les passages aux urgences pendant la P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9.1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Taux de réalisation en unités spécifiques pour malades Alzheimer (UHR-PASA) au regard de l’objectif régi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9.2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Taux de réalisation des places pour enfants et adultes atteints d’autisme ou de TED au regard de l’objectif régi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10"/>
          <p:cNvSpPr/>
          <p:nvPr/>
        </p:nvSpPr>
        <p:spPr>
          <a:xfrm>
            <a:off x="4643280" y="4076640"/>
            <a:ext cx="4969080" cy="200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5.3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Taux de réalisation du programme pluriannuel régional de gestion du risque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6.1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Taux de recours à la chirurgie (20 actes marqueurs) de la population domicilié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6.2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Taux de places installées sur places financées en ESMS par pub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6.3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Part des services dans l’offre globale médico-social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6.4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Taux de pratique de la chirurgie ambulatoire (17 gestes marqueur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6.5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Part des patients traités par dialyse péritonéale / part des patients dialysé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8.1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Montant du déficit cumulé brut des établissements publics de sant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8.2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Volume d’activité des établissements hospitaliers en MCO en nombre de séjou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8.3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Taux d’établissements publics dont le ratio ICR (indice de coût relatif) de chirurgie par salle d’interventions chirurgicales est supérieur à la médiane nationale 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8.4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Nombre d’établissements dont la marge brute d’exploitation est supérieure à 6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Picture 11" descr=""/>
          <p:cNvPicPr/>
          <p:nvPr/>
        </p:nvPicPr>
        <p:blipFill>
          <a:blip r:embed="rId1"/>
          <a:stretch/>
        </p:blipFill>
        <p:spPr>
          <a:xfrm>
            <a:off x="2556000" y="1628640"/>
            <a:ext cx="649080" cy="47160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12" descr=""/>
          <p:cNvPicPr/>
          <p:nvPr/>
        </p:nvPicPr>
        <p:blipFill>
          <a:blip r:embed="rId2"/>
          <a:stretch/>
        </p:blipFill>
        <p:spPr>
          <a:xfrm>
            <a:off x="2482920" y="1484280"/>
            <a:ext cx="576360" cy="41904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13" descr=""/>
          <p:cNvPicPr/>
          <p:nvPr/>
        </p:nvPicPr>
        <p:blipFill>
          <a:blip r:embed="rId3"/>
          <a:stretch/>
        </p:blipFill>
        <p:spPr>
          <a:xfrm>
            <a:off x="2193840" y="2131920"/>
            <a:ext cx="576360" cy="41904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14" descr=""/>
          <p:cNvPicPr/>
          <p:nvPr/>
        </p:nvPicPr>
        <p:blipFill>
          <a:blip r:embed="rId4"/>
          <a:stretch/>
        </p:blipFill>
        <p:spPr>
          <a:xfrm>
            <a:off x="1906560" y="1916280"/>
            <a:ext cx="576360" cy="41904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15" descr=""/>
          <p:cNvPicPr/>
          <p:nvPr/>
        </p:nvPicPr>
        <p:blipFill>
          <a:blip r:embed="rId5"/>
          <a:stretch/>
        </p:blipFill>
        <p:spPr>
          <a:xfrm>
            <a:off x="2698920" y="1413000"/>
            <a:ext cx="576000" cy="41904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16" descr=""/>
          <p:cNvPicPr/>
          <p:nvPr/>
        </p:nvPicPr>
        <p:blipFill>
          <a:blip r:embed="rId6"/>
          <a:stretch/>
        </p:blipFill>
        <p:spPr>
          <a:xfrm>
            <a:off x="2482920" y="2131920"/>
            <a:ext cx="576360" cy="41904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17" descr=""/>
          <p:cNvPicPr/>
          <p:nvPr/>
        </p:nvPicPr>
        <p:blipFill>
          <a:blip r:embed="rId7"/>
          <a:stretch/>
        </p:blipFill>
        <p:spPr>
          <a:xfrm>
            <a:off x="2266920" y="1700280"/>
            <a:ext cx="503280" cy="36648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8" descr=""/>
          <p:cNvPicPr/>
          <p:nvPr/>
        </p:nvPicPr>
        <p:blipFill>
          <a:blip r:embed="rId8"/>
          <a:stretch/>
        </p:blipFill>
        <p:spPr>
          <a:xfrm>
            <a:off x="8244000" y="3068640"/>
            <a:ext cx="649080" cy="47160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19" descr=""/>
          <p:cNvPicPr/>
          <p:nvPr/>
        </p:nvPicPr>
        <p:blipFill>
          <a:blip r:embed="rId9"/>
          <a:stretch/>
        </p:blipFill>
        <p:spPr>
          <a:xfrm>
            <a:off x="8244000" y="3429000"/>
            <a:ext cx="576000" cy="41904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20" descr=""/>
          <p:cNvPicPr/>
          <p:nvPr/>
        </p:nvPicPr>
        <p:blipFill>
          <a:blip r:embed="rId10"/>
          <a:stretch/>
        </p:blipFill>
        <p:spPr>
          <a:xfrm>
            <a:off x="7954920" y="3716280"/>
            <a:ext cx="576360" cy="41904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21" descr=""/>
          <p:cNvPicPr/>
          <p:nvPr/>
        </p:nvPicPr>
        <p:blipFill>
          <a:blip r:embed="rId11"/>
          <a:stretch/>
        </p:blipFill>
        <p:spPr>
          <a:xfrm>
            <a:off x="8531280" y="3933720"/>
            <a:ext cx="576360" cy="41904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22" descr=""/>
          <p:cNvPicPr/>
          <p:nvPr/>
        </p:nvPicPr>
        <p:blipFill>
          <a:blip r:embed="rId12"/>
          <a:stretch/>
        </p:blipFill>
        <p:spPr>
          <a:xfrm>
            <a:off x="8531280" y="3284640"/>
            <a:ext cx="576360" cy="41904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23" descr=""/>
          <p:cNvPicPr/>
          <p:nvPr/>
        </p:nvPicPr>
        <p:blipFill>
          <a:blip r:embed="rId13"/>
          <a:stretch/>
        </p:blipFill>
        <p:spPr>
          <a:xfrm>
            <a:off x="8244000" y="3716280"/>
            <a:ext cx="576000" cy="41904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24" descr=""/>
          <p:cNvPicPr/>
          <p:nvPr/>
        </p:nvPicPr>
        <p:blipFill>
          <a:blip r:embed="rId14"/>
          <a:stretch/>
        </p:blipFill>
        <p:spPr>
          <a:xfrm>
            <a:off x="8459640" y="3573360"/>
            <a:ext cx="503280" cy="36684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25" descr=""/>
          <p:cNvPicPr/>
          <p:nvPr/>
        </p:nvPicPr>
        <p:blipFill>
          <a:blip r:embed="rId15"/>
          <a:stretch/>
        </p:blipFill>
        <p:spPr>
          <a:xfrm>
            <a:off x="538200" y="2546280"/>
            <a:ext cx="649080" cy="47160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26" descr=""/>
          <p:cNvPicPr/>
          <p:nvPr/>
        </p:nvPicPr>
        <p:blipFill>
          <a:blip r:embed="rId16"/>
          <a:stretch/>
        </p:blipFill>
        <p:spPr>
          <a:xfrm>
            <a:off x="1187280" y="2925720"/>
            <a:ext cx="576360" cy="4190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27" descr=""/>
          <p:cNvPicPr/>
          <p:nvPr/>
        </p:nvPicPr>
        <p:blipFill>
          <a:blip r:embed="rId17"/>
          <a:stretch/>
        </p:blipFill>
        <p:spPr>
          <a:xfrm>
            <a:off x="538200" y="3141720"/>
            <a:ext cx="576360" cy="4190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8" descr=""/>
          <p:cNvPicPr/>
          <p:nvPr/>
        </p:nvPicPr>
        <p:blipFill>
          <a:blip r:embed="rId18"/>
          <a:stretch/>
        </p:blipFill>
        <p:spPr>
          <a:xfrm>
            <a:off x="611280" y="3068640"/>
            <a:ext cx="576000" cy="41904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29" descr=""/>
          <p:cNvPicPr/>
          <p:nvPr/>
        </p:nvPicPr>
        <p:blipFill>
          <a:blip r:embed="rId19"/>
          <a:stretch/>
        </p:blipFill>
        <p:spPr>
          <a:xfrm>
            <a:off x="1187280" y="2492280"/>
            <a:ext cx="576360" cy="41904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30" descr=""/>
          <p:cNvPicPr/>
          <p:nvPr/>
        </p:nvPicPr>
        <p:blipFill>
          <a:blip r:embed="rId20"/>
          <a:stretch/>
        </p:blipFill>
        <p:spPr>
          <a:xfrm>
            <a:off x="898560" y="2492280"/>
            <a:ext cx="576360" cy="41904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31" descr=""/>
          <p:cNvPicPr/>
          <p:nvPr/>
        </p:nvPicPr>
        <p:blipFill>
          <a:blip r:embed="rId21"/>
          <a:stretch/>
        </p:blipFill>
        <p:spPr>
          <a:xfrm>
            <a:off x="1546200" y="2708280"/>
            <a:ext cx="503280" cy="366840"/>
          </a:xfrm>
          <a:prstGeom prst="rect">
            <a:avLst/>
          </a:prstGeom>
          <a:ln w="0">
            <a:noFill/>
          </a:ln>
        </p:spPr>
      </p:pic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37072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ab8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7ab8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7ab800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7ab800"/>
                </a:solidFill>
                <a:latin typeface="Calibri"/>
              </a:rPr>
              <a:t>1- Les orientations de l’ARS IDF et les indicateurs CPOM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81" name="Text Box 34"/>
          <p:cNvSpPr/>
          <p:nvPr/>
        </p:nvSpPr>
        <p:spPr>
          <a:xfrm>
            <a:off x="4714920" y="5877000"/>
            <a:ext cx="3529080" cy="65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ff"/>
                </a:solidFill>
                <a:latin typeface="Calibri"/>
              </a:rPr>
              <a:t>30 indicateurs</a:t>
            </a:r>
            <a:r>
              <a:rPr b="1" lang="fr-FR" sz="11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ff"/>
                </a:solidFill>
                <a:latin typeface="Calibri"/>
              </a:rPr>
              <a:t>(en bleu les indicateurs prioritaires pour l’ARS d’IdF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à coins arrondis 5"/>
          <p:cNvSpPr/>
          <p:nvPr/>
        </p:nvSpPr>
        <p:spPr>
          <a:xfrm>
            <a:off x="971640" y="2789280"/>
            <a:ext cx="2663640" cy="107136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25560">
            <a:solidFill>
              <a:srgbClr val="333333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Travail du </a:t>
            </a:r>
            <a:r>
              <a:rPr b="1" lang="fr-FR" sz="1200" spc="-1" strike="noStrike">
                <a:solidFill>
                  <a:srgbClr val="7ab800"/>
                </a:solidFill>
                <a:latin typeface="Calibri"/>
              </a:rPr>
              <a:t>GT ISTS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identification de la grossesse/naissance comme vecteur d’inégalités sociales et territoriales de sant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AutoShape 2"/>
          <p:cNvSpPr/>
          <p:nvPr/>
        </p:nvSpPr>
        <p:spPr>
          <a:xfrm>
            <a:off x="108000" y="5084640"/>
            <a:ext cx="8983440" cy="649440"/>
          </a:xfrm>
          <a:prstGeom prst="rightArrow">
            <a:avLst>
              <a:gd name="adj1" fmla="val 50278"/>
              <a:gd name="adj2" fmla="val 757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ab800"/>
                </a:solidFill>
                <a:latin typeface="Calibri"/>
              </a:rPr>
              <a:t>Un exemple : réduire la mortalité infantile en Ile-de-France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85" name="Text Box 4"/>
          <p:cNvSpPr/>
          <p:nvPr/>
        </p:nvSpPr>
        <p:spPr>
          <a:xfrm>
            <a:off x="3924360" y="5716440"/>
            <a:ext cx="14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Rédaction de la stratég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5"/>
          <p:cNvSpPr/>
          <p:nvPr/>
        </p:nvSpPr>
        <p:spPr>
          <a:xfrm>
            <a:off x="360360" y="5661000"/>
            <a:ext cx="284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Diagnostic et identification des enjeu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12"/>
          <p:cNvSpPr/>
          <p:nvPr/>
        </p:nvSpPr>
        <p:spPr>
          <a:xfrm>
            <a:off x="358920" y="5408640"/>
            <a:ext cx="8065800" cy="0"/>
          </a:xfrm>
          <a:prstGeom prst="line">
            <a:avLst/>
          </a:prstGeom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à coins arrondis 5"/>
          <p:cNvSpPr/>
          <p:nvPr/>
        </p:nvSpPr>
        <p:spPr>
          <a:xfrm>
            <a:off x="258840" y="1771560"/>
            <a:ext cx="2297160" cy="100656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25560">
            <a:solidFill>
              <a:srgbClr val="333333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Diagnostic : Identification de fortes inégalités territor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à coins arrondis 5"/>
          <p:cNvSpPr/>
          <p:nvPr/>
        </p:nvSpPr>
        <p:spPr>
          <a:xfrm>
            <a:off x="5506920" y="3884760"/>
            <a:ext cx="1441440" cy="121428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25560">
            <a:solidFill>
              <a:srgbClr val="333333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7ab800"/>
                </a:solidFill>
                <a:latin typeface="Calibri"/>
              </a:rPr>
              <a:t>Schéma de prévention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fixation d’objectifs opératio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à coins arrondis 5"/>
          <p:cNvSpPr/>
          <p:nvPr/>
        </p:nvSpPr>
        <p:spPr>
          <a:xfrm>
            <a:off x="3780000" y="3284640"/>
            <a:ext cx="1549080" cy="133164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25560">
            <a:solidFill>
              <a:srgbClr val="333333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7ab800"/>
                </a:solidFill>
                <a:latin typeface="Calibri"/>
              </a:rPr>
              <a:t>PSRS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expression des orientations stratégiques et fixation des objectifs généra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à coins arrondis 5"/>
          <p:cNvSpPr/>
          <p:nvPr/>
        </p:nvSpPr>
        <p:spPr>
          <a:xfrm>
            <a:off x="7054920" y="3284640"/>
            <a:ext cx="1765080" cy="111600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25560">
            <a:solidFill>
              <a:srgbClr val="333333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7ab800"/>
                </a:solidFill>
                <a:latin typeface="Calibri"/>
              </a:rPr>
              <a:t>Programmes territoriaux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 et </a:t>
            </a:r>
            <a:r>
              <a:rPr b="1" lang="fr-FR" sz="1200" spc="-1" strike="noStrike">
                <a:solidFill>
                  <a:srgbClr val="7ab800"/>
                </a:solidFill>
                <a:latin typeface="Calibri"/>
              </a:rPr>
              <a:t>contrats locaux de santé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projets d’action territorialis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à coins arrondis 5"/>
          <p:cNvSpPr/>
          <p:nvPr/>
        </p:nvSpPr>
        <p:spPr>
          <a:xfrm>
            <a:off x="34920" y="1341360"/>
            <a:ext cx="1914480" cy="43344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25560">
            <a:solidFill>
              <a:srgbClr val="333333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Indicateur </a:t>
            </a:r>
            <a:r>
              <a:rPr b="1" lang="fr-FR" sz="1200" spc="-1" strike="noStrike">
                <a:solidFill>
                  <a:srgbClr val="7ab800"/>
                </a:solidFill>
                <a:latin typeface="Calibri"/>
              </a:rPr>
              <a:t>CP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à coins arrondis 5"/>
          <p:cNvSpPr/>
          <p:nvPr/>
        </p:nvSpPr>
        <p:spPr>
          <a:xfrm>
            <a:off x="5448240" y="2565360"/>
            <a:ext cx="1441440" cy="121464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25560">
            <a:solidFill>
              <a:srgbClr val="333333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7ab800"/>
                </a:solidFill>
                <a:latin typeface="Calibri"/>
              </a:rPr>
              <a:t>SROS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ixation d’objectifs opératio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4"/>
          <p:cNvSpPr/>
          <p:nvPr/>
        </p:nvSpPr>
        <p:spPr>
          <a:xfrm>
            <a:off x="6443640" y="5722920"/>
            <a:ext cx="144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Sélection des actions et mise en œuv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8:56:24Z</dcterms:created>
  <dc:creator>Céline</dc:creator>
  <dc:description/>
  <dc:language>en-US</dc:language>
  <cp:lastModifiedBy>pia</cp:lastModifiedBy>
  <dcterms:modified xsi:type="dcterms:W3CDTF">2011-10-03T03:19:15Z</dcterms:modified>
  <cp:revision>315</cp:revision>
  <dc:subject/>
  <dc:title>Diapositive 1</dc:title>
</cp:coreProperties>
</file>