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96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260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79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462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54687E5-93E0-4731-88A7-B72D9B1CAB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79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nombre de consult réalisées à la demande du CRRA-C15 est un chiffre déclaratif du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s de données sur le nb de consul et visites effectuées par le S.Ur, car incomplè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ffecteurs postés : la tranche 20h-0h : non communiqu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4660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89DB46F-5D80-445E-ADFD-6B9F8F6657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79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5% des appels décrochés pendant la PDSA ne sont pas significatifs ; les données communiquées par le S.Ur. sont incomplè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4660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657A7750-ACDB-4144-AA9F-CC91787EEC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50DD-8685-4914-94C6-5E9E18B8930C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7" descr="LOGO_ARS_IDF_territoire graphique_2"/>
          <p:cNvPicPr/>
          <p:nvPr/>
        </p:nvPicPr>
        <p:blipFill>
          <a:blip r:embed="rId1"/>
          <a:stretch/>
        </p:blipFill>
        <p:spPr>
          <a:xfrm>
            <a:off x="34920" y="127080"/>
            <a:ext cx="9144000" cy="1141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19162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fr-FR" sz="4400" spc="-1" strike="noStrike">
                <a:solidFill>
                  <a:srgbClr val="7ab800"/>
                </a:solidFill>
                <a:latin typeface="Arial"/>
              </a:rPr>
              <a:t>SOUS-COMITE MEDICAL </a:t>
            </a:r>
            <a:br>
              <a:rPr sz="2800"/>
            </a:br>
            <a:br>
              <a:rPr sz="2800"/>
            </a:br>
            <a:r>
              <a:rPr b="1" lang="fr-FR" sz="3600" spc="-1" strike="noStrike">
                <a:solidFill>
                  <a:srgbClr val="2d2db9"/>
                </a:solidFill>
                <a:latin typeface="Arial"/>
              </a:rPr>
              <a:t>du 12 juin 2014</a:t>
            </a:r>
            <a:endParaRPr b="1" lang="en-US" sz="36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. Nouveaux projets dans le départemen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8920" y="1413000"/>
            <a:ext cx="8280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9640" indent="-44460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cun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reçu pour le 93, suite à l’appel à projet (17 avril -17 mai 2014) pour instruction au 1er semestre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information : un projet de point fixe déposé par SOS sur le Nord-Est de Paris, dans le 19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2d2db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1532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. Calendrier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341000"/>
            <a:ext cx="8640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Comité de pilotage régional PDSA : 8/07/2014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avis sur les nouveaux pro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aluation du dispositif de rémunération dégressive =&gt;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emestr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Consultation des instanc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CODAMUPS-TS, des Préfets, des CDOM, de l’URPS-Médecins et de la CSOS de la CRSA) sur nouveau cahier des charges =&gt; octobr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Publication de l’arrêté du DGA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xant le cahier des charges régional =&gt; 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novembr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5. Plan canicule 2014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1628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tivé depuis le 1er j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Cf instruction ministérielle relative au plan canicule 2014 du 6 mai 20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llicitation des CDOM par l’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 locale (possibilité de renforcement en cas de vague de chale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08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Ordre du jour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1280" y="1267920"/>
            <a:ext cx="8208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ilan dispositif PDSA 20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Evaluation - Tableaux de bord SI PD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Information sur appel à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4. Plan canic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1536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1. Bilan dispositif PDSA 2013 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8120" y="3068280"/>
            <a:ext cx="820908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space réservé du contenu 3"/>
          <p:cNvSpPr/>
          <p:nvPr/>
        </p:nvSpPr>
        <p:spPr>
          <a:xfrm>
            <a:off x="324000" y="1125360"/>
            <a:ext cx="828036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41680" indent="-84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Faits marquants 2013</a:t>
            </a: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  <a:p>
            <a:pPr marL="841680" indent="-8416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plan régional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de la gouvernance territoriale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ation du dispositif de rémunération dégressive pour les gardes postées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positif de suivi et d’évaluation de la PDSA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uveaux projets 2013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41680" indent="-8416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ur le département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2 CMTG,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réation d’une 5</a:t>
            </a:r>
            <a:r>
              <a:rPr b="0" lang="fr-FR" sz="18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 MMG à Noisy le Sec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extension du CT Noisy-le-Grand/Gournay par la création d’un point  fixe sur l’HPMV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4600" indent="-1074600">
              <a:buSzPct val="100000"/>
              <a:buBlip>
                <a:blip r:embed="rId1"/>
              </a:buBlip>
              <a:tabLst>
                <a:tab algn="l" pos="895320"/>
                <a:tab algn="l" pos="107460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2. Evaluation et tableaux de bord SI PDSA </a:t>
            </a:r>
            <a:r>
              <a:rPr b="1" lang="fr-FR" sz="2200" spc="-1" strike="noStrike">
                <a:solidFill>
                  <a:srgbClr val="7ab800"/>
                </a:solidFill>
                <a:latin typeface="Arial"/>
                <a:ea typeface="ＭＳ Ｐゴシック"/>
              </a:rPr>
              <a:t>	</a:t>
            </a:r>
            <a:br>
              <a:rPr sz="2200"/>
            </a:b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196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 d’un outil de recueil de données standardisées, renseigné par tous les acteurs (régulateurs et effecteurs) de tous les départem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men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&gt; avril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til provisoir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jusqu’en 12/2014 (données déclarati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til intégré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 en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vaux menés par le GCS D-SISIF pour l’ARS, en lien avec les acteurs présents au niveau régional (URPS-médecins, représentants des SAMU) et au niveau territorial (médecins régulateurs libéraux et hospitaliers, effecteurs fixes et mob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disposer d’indicateurs de suivi et d’évaluation de la PDSA, partagés entre les a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ers Tableaux de bor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 15 mai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42472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4600" indent="-1074600">
              <a:buSzPct val="100000"/>
              <a:buBlip>
                <a:blip r:embed="rId1"/>
              </a:buBlip>
              <a:tabLst>
                <a:tab algn="l" pos="895320"/>
                <a:tab algn="l" pos="107460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. Evaluation et tableaux de bord SI PDSA </a:t>
            </a:r>
            <a:r>
              <a:rPr b="1" lang="fr-FR" sz="2200" spc="-1" strike="noStrike">
                <a:solidFill>
                  <a:srgbClr val="7ab800"/>
                </a:solidFill>
                <a:latin typeface="Arial"/>
                <a:ea typeface="ＭＳ Ｐゴシック"/>
              </a:rPr>
              <a:t>	</a:t>
            </a:r>
            <a:br>
              <a:rPr sz="2200"/>
            </a:b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341000"/>
            <a:ext cx="8569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ontée en charge progres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ploiement auprès de l’ensemble des acteurs du C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olidation de l’exploitation avec l’appui d’u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ité d’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valuation du dispositif régional PDSA prévue au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emestr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spcAft>
                <a:spcPts val="675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ère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restitution sous forme de tableaux de bord synthétiques à diffusion restreinte dans un 1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er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temps aux instances de la PDSA (SCM et CTM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régionales et par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catégorie d’acteur (régulation médicale, effectio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tour des remarques : GCS DSIS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712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4600" indent="-1074600">
              <a:buSzPct val="100000"/>
              <a:buBlip>
                <a:blip r:embed="rId1"/>
              </a:buBlip>
              <a:tabLst>
                <a:tab algn="l" pos="895320"/>
                <a:tab algn="l" pos="107460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. Evaluation et tableaux de bord SI PDSA </a:t>
            </a:r>
            <a:br>
              <a:rPr sz="2900"/>
            </a:b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Axes de suivi et d’évaluation privilégi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371240"/>
            <a:ext cx="78487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Régulation médicale, pivot du dispositif PDSA conforme aux recommandations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ès régulé à un médecin de g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isions de la régulation méd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tivité de la régulation par profil de médecins aux horaires de la PD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Effection répondant aux besoins de la PD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e de l’activité de l’effection post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e de l’activité de l’effection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e de l’articulation des dispositifs d’ef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 . Tableaux de bord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Volet Régulation médicale au CRRA-C15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412640"/>
            <a:ext cx="784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iffres cl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23 629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els entrants aux horaires de la PDSA / 1 933 136 po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8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els décrochés / 78 % po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84 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’appels décrochés en moins de 60 secondes / 85 % po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2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RM vers un médecin régulateur / 55 % sur l’IDF 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vers un médecin hospitalier / 45 % s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4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décisions apportées aux horaires de la PDSA ont été des conseils médicaux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9 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nt été orientés vers un service d’urgence 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nt des orientations vers une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55000"/>
              <a:buFont typeface="Calibri,Bold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 . Tableaux de bord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Volet Effection globale (mobile et posté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547280"/>
            <a:ext cx="81360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iffres cl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ffection mobil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1 991 visit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sur 8 m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ffecteurs posté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tous confondus)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 805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ultations don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11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alisées à la demande du CRAA-C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53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consultations se font le samedi, de 12h à 16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imanches et JF : la répartition est identique aux tranches d’horaire de la PDSA, soi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3 % à 3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 . Tableaux de bord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Volet Plate-forme d’appel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547280"/>
            <a:ext cx="80643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9640" indent="-44460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iffres c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progression des appels décrochés par effecteur :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5 00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els en janvier et près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0 00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déce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se en charge des appels décrochés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5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ar un médecin présent sur la platefor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APUIS, Stéphanie</cp:lastModifiedBy>
  <cp:lastPrinted>2014-03-12T12:36:01Z</cp:lastPrinted>
  <dcterms:modified xsi:type="dcterms:W3CDTF">2014-06-11T12:05:30Z</dcterms:modified>
  <cp:revision>1653</cp:revision>
  <dc:subject/>
  <dc:title>Présentation PowerPoint</dc:title>
</cp:coreProperties>
</file>