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204" name="PlaceHolder 1"/>
          <p:cNvSpPr>
            <a:spLocks noGrp="1"/>
          </p:cNvSpPr>
          <p:nvPr>
            <p:ph type="hdr"/>
          </p:nvPr>
        </p:nvSpPr>
        <p:spPr>
          <a:xfrm>
            <a:off x="-360" y="0"/>
            <a:ext cx="2948040" cy="49680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
          </p:nvPr>
        </p:nvSpPr>
        <p:spPr>
          <a:xfrm>
            <a:off x="3849840" y="0"/>
            <a:ext cx="2947680" cy="496800"/>
          </a:xfrm>
          <a:prstGeom prst="rect">
            <a:avLst/>
          </a:prstGeom>
          <a:noFill/>
          <a:ln w="0">
            <a:noFill/>
          </a:ln>
        </p:spPr>
        <p:txBody>
          <a:bodyPr lIns="88200" rIns="88200" tIns="43920" bIns="4392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8720" y="746280"/>
            <a:ext cx="4961160" cy="3720960"/>
          </a:xfrm>
          <a:prstGeom prst="rect">
            <a:avLst/>
          </a:prstGeom>
          <a:noFill/>
          <a:ln w="1260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207" name="PlaceHolder 4"/>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2"/>
          </p:nvPr>
        </p:nvSpPr>
        <p:spPr>
          <a:xfrm>
            <a:off x="-360" y="9431280"/>
            <a:ext cx="2948040" cy="49680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3"/>
          </p:nvPr>
        </p:nvSpPr>
        <p:spPr>
          <a:xfrm>
            <a:off x="3849840" y="9431280"/>
            <a:ext cx="2947680" cy="496800"/>
          </a:xfrm>
          <a:prstGeom prst="rect">
            <a:avLst/>
          </a:prstGeom>
          <a:noFill/>
          <a:ln w="0">
            <a:noFill/>
          </a:ln>
        </p:spPr>
        <p:txBody>
          <a:bodyPr lIns="88200" rIns="88200" tIns="43920" bIns="4392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0239-33CA-4893-915F-C4FCFFF46FB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9080" y="746280"/>
            <a:ext cx="4961160" cy="3720960"/>
          </a:xfrm>
          <a:prstGeom prst="rect">
            <a:avLst/>
          </a:prstGeom>
          <a:ln w="0">
            <a:noFill/>
          </a:ln>
        </p:spPr>
      </p:sp>
      <p:sp>
        <p:nvSpPr>
          <p:cNvPr id="2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5A9E-D381-4891-BE55-1CA5ECC0C99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0"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9080" y="746280"/>
            <a:ext cx="4961160" cy="3720960"/>
          </a:xfrm>
          <a:prstGeom prst="rect">
            <a:avLst/>
          </a:prstGeom>
          <a:ln w="0">
            <a:noFill/>
          </a:ln>
        </p:spPr>
      </p:sp>
      <p:sp>
        <p:nvSpPr>
          <p:cNvPr id="31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S portée par APF sur le site de l’hopital Raymond Poincaré à Garch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pécificité de 4 places d’A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M qui sera porté par l’ADAPEI 92 qui permettra de consolider l’offre Autisme sur le secteur Adultes.</a:t>
            </a:r>
            <a:endParaRPr b="0" lang="en-US" sz="1800" spc="-1" strike="noStrike">
              <a:solidFill>
                <a:srgbClr val="000000"/>
              </a:solidFill>
              <a:latin typeface="Calibri"/>
            </a:endParaRPr>
          </a:p>
        </p:txBody>
      </p:sp>
      <p:sp>
        <p:nvSpPr>
          <p:cNvPr id="31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E2FB-7E00-4710-BFEC-50868C6BE24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1160" cy="3720960"/>
          </a:xfrm>
          <a:prstGeom prst="rect">
            <a:avLst/>
          </a:prstGeom>
          <a:ln w="0">
            <a:noFill/>
          </a:ln>
        </p:spPr>
      </p:sp>
      <p:sp>
        <p:nvSpPr>
          <p:cNvPr id="31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AS de 22 places : 18 + 4AT  - pathologies neurologiques non dégénératives avec handicap lourd – structure unique en France –couverture régionale-  arrêté DGARS février 2014 – PERCE NEIGE à BB – ouverture attendue 1</a:t>
            </a:r>
            <a:r>
              <a:rPr b="0" lang="fr-FR" sz="1200" spc="-1" strike="noStrike" baseline="30000">
                <a:solidFill>
                  <a:srgbClr val="000000"/>
                </a:solidFill>
                <a:latin typeface="Calibri"/>
              </a:rPr>
              <a:t>ER</a:t>
            </a:r>
            <a:r>
              <a:rPr b="0" lang="fr-FR" sz="1200" spc="-1" strike="noStrike">
                <a:solidFill>
                  <a:srgbClr val="000000"/>
                </a:solidFill>
                <a:latin typeface="Calibri"/>
              </a:rPr>
              <a:t> TRIMESTRE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le de vie géronto: voir slide sui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SESSAD Autisme : Poursuite de l’effort sur l’autisme dans le département : 5 dossiers reçus en cours d’instruction – Commission le 17 mars dern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ommission a rendu un avis favorable au dossier des papillons blancs de saint –Cloud – Attente de </a:t>
            </a:r>
            <a:r>
              <a:rPr b="1" lang="fr-FR" sz="1200" spc="-1" strike="noStrike">
                <a:solidFill>
                  <a:srgbClr val="000000"/>
                </a:solidFill>
                <a:latin typeface="Calibri"/>
              </a:rPr>
              <a:t>l’arrete</a:t>
            </a:r>
            <a:r>
              <a:rPr b="0" lang="fr-FR" sz="1200" spc="-1" strike="noStrike">
                <a:solidFill>
                  <a:srgbClr val="000000"/>
                </a:solidFill>
                <a:latin typeface="Calibri"/>
              </a:rPr>
              <a:t> d’autorisation d’ici le 30 avril prochain par le D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 de mise en fonctionnement fin 2015 début 2016 avec une implantation à Gennevil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CAMSP : 1</a:t>
            </a:r>
            <a:r>
              <a:rPr b="0" lang="fr-FR" sz="1200" spc="-1" strike="noStrike" baseline="30000">
                <a:solidFill>
                  <a:srgbClr val="000000"/>
                </a:solidFill>
                <a:latin typeface="Calibri"/>
              </a:rPr>
              <a:t>er</a:t>
            </a:r>
            <a:r>
              <a:rPr b="0" lang="fr-FR" sz="1200" spc="-1" strike="noStrike">
                <a:solidFill>
                  <a:srgbClr val="000000"/>
                </a:solidFill>
                <a:latin typeface="Calibri"/>
              </a:rPr>
              <a:t> semestre 2015 – cahier des charges en cours de finalis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 de dédier un certain nombre de places issues du plan 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TEP+SESSAD :  2</a:t>
            </a:r>
            <a:r>
              <a:rPr b="0" lang="fr-FR" sz="1200" spc="-1" strike="noStrike" baseline="30000">
                <a:solidFill>
                  <a:srgbClr val="000000"/>
                </a:solidFill>
                <a:latin typeface="Calibri"/>
              </a:rPr>
              <a:t>ème</a:t>
            </a:r>
            <a:r>
              <a:rPr b="0" lang="fr-FR" sz="1200" spc="-1" strike="noStrike">
                <a:solidFill>
                  <a:srgbClr val="000000"/>
                </a:solidFill>
                <a:latin typeface="Calibri"/>
              </a:rPr>
              <a:t> semestre 2015 à installer dans le nord, puisqu'à ce jour, 1 seul ITEP dans le département, installé dans le sud à Chatil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SSAD TSL :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9953-5E65-42A8-85FE-6DF3C45340C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9080" y="746280"/>
            <a:ext cx="4961160" cy="3720960"/>
          </a:xfrm>
          <a:prstGeom prst="rect">
            <a:avLst/>
          </a:prstGeom>
          <a:ln w="0">
            <a:noFill/>
          </a:ln>
        </p:spPr>
      </p:sp>
      <p:sp>
        <p:nvSpPr>
          <p:cNvPr id="32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IDE de NUIT </a:t>
            </a:r>
            <a:r>
              <a:rPr b="0" lang="fr-FR" sz="700" spc="-1" strike="noStrike">
                <a:solidFill>
                  <a:srgbClr val="000000"/>
                </a:solidFill>
                <a:latin typeface="Calibri"/>
              </a:rPr>
              <a:t>: poursuite de l’expérimentation lancée en 2013 sur 3 EHPAD de Clamart et dont les objectifs de réduction des hospitalisations évitables et de retours anticipés portent d’ores et déjà ses fruit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valuation qualitative et financière attendue à la fin de cette expérimentation de 3 ans fin 2015 début 201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SSIAD renforcés </a:t>
            </a:r>
            <a:r>
              <a:rPr b="0" lang="fr-FR" sz="700" spc="-1" strike="noStrike">
                <a:solidFill>
                  <a:srgbClr val="000000"/>
                </a:solidFill>
                <a:latin typeface="Calibri"/>
              </a:rPr>
              <a: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dée de combler le vide entre SSIAD classique et HAD  . Patients refusés en SSIAD de droit commun et ne relevant pas de l’HAD</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cer la notion de coordination au sein du parcours de vie des PA à domicile (faciliter les sorties d’hospitalisation par exemple)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t de 20 places complémentaires pour le SSIAD SAPA de Courbevoie – Démarrage 201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AAP expérimental Pole de Services Intégrés à Domicile </a:t>
            </a:r>
            <a:r>
              <a:rPr b="0" lang="fr-FR" sz="700" spc="-1" strike="noStrike">
                <a:solidFill>
                  <a:srgbClr val="000000"/>
                </a:solidFill>
                <a:latin typeface="Calibri"/>
              </a:rPr>
              <a:t>: travaux en cours avec le CG sur l’élaboration du cahier des charges – Création de 25 à 3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xpérimentation destinée à  définir et à offrir un panier de services à domicile fixé à partir d’un travail d’évaluation par le « coordonnateur de parcours » pour étudier concrètement la mise en place de ce plan : portage de repas, blanchisserie, SAD,  SSIAD, , hospitalisation à domicile, prise en charge de la fin de vie si nécessair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tructures expérimentales Autisme : 2 IME et 1 SESSAD</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ME AVA  Suresnes 12 places – 2 à 14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Centre TEDYBEAR 30 places saint cloud – 4 à 10 ans </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SSAD 1ères classes Suresn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2 ESAT HLM : </a:t>
            </a:r>
            <a:r>
              <a:rPr b="0" lang="fr-FR" sz="700" spc="-1" strike="noStrike">
                <a:solidFill>
                  <a:srgbClr val="000000"/>
                </a:solidFill>
                <a:latin typeface="Calibri"/>
              </a:rPr>
              <a:t>ESAT positionne les PH sur des offres d’emploi en les accompagnant dans leurs différentes phases d’intégration sur le marché du travail, tout en leur proposant un accompagnement médico-social et dans leur formation continu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HLM Trajectoire emploi à Sèvres (ADAPEI)  40 places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ADAPT Chatillon 5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ESSAD PRO:  </a:t>
            </a:r>
            <a:r>
              <a:rPr b="0" lang="fr-FR" sz="700" spc="-1" strike="noStrike">
                <a:solidFill>
                  <a:srgbClr val="000000"/>
                </a:solidFill>
                <a:latin typeface="Calibri"/>
              </a:rPr>
              <a:t>son travail sur l’Accès à l’Autonomie et l’Accompagnement aux Parcours de Formation et à l’Insertion Professionnelle et Sociale des jeunes 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Le Cèdre Insertion Chatillon (APEI SUD 92) – 12 places jusqu’à 25 an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SESSAD pro Trajectoires Formation SEVRES (ADAPEI 92) – 30 places jusqu’à 25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ction PRO du SESSAD Les Tilleuls à Clichy – 9 places – capacité totale de 39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CRP Nanterre </a:t>
            </a:r>
            <a:r>
              <a:rPr b="0" lang="fr-FR" sz="700" spc="-1" strike="noStrike">
                <a:solidFill>
                  <a:srgbClr val="000000"/>
                </a:solidFill>
                <a:latin typeface="Calibri"/>
              </a:rPr>
              <a:t>(Auxilia): propose des formations à des personnes bénéficiant de la reconnaissance de travailleurs handicapés orientés par la CDA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La capacité autorisée de l’établissement est de 120.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2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67B5-0385-4D28-8D40-00262E86500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9080" y="746280"/>
            <a:ext cx="4961160" cy="3720960"/>
          </a:xfrm>
          <a:prstGeom prst="rect">
            <a:avLst/>
          </a:prstGeom>
          <a:ln w="0">
            <a:noFill/>
          </a:ln>
        </p:spPr>
      </p:sp>
      <p:sp>
        <p:nvSpPr>
          <p:cNvPr id="32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AP construit conjointement avec le CG qui illustre  la mise en œuvr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Idée d’offrir sur une même unité de lieu une offre de services la + complète possible à destination des PHV et des P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dossement de ces dispositifs à un EHPA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escription des pla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pour PHV</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ispositifs de maintien à domicil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C/ Dispositif caractéristiqu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arcours de vie</a:t>
            </a:r>
            <a:r>
              <a:rPr b="0" lang="fr-FR" sz="1100" spc="-1" strike="noStrike">
                <a:solidFill>
                  <a:srgbClr val="000000"/>
                </a:solidFill>
                <a:latin typeface="Calibri"/>
              </a:rPr>
              <a:t>: éviter les ruptures de prise en charge et disposer d’une prise en charge adaptée à chaque stade de son âge et de sa pathologie et/ou de sa déficie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orte dimension de </a:t>
            </a:r>
            <a:r>
              <a:rPr b="1" lang="fr-FR" sz="1100" spc="-1" strike="noStrike">
                <a:solidFill>
                  <a:srgbClr val="000000"/>
                </a:solidFill>
                <a:latin typeface="Calibri"/>
              </a:rPr>
              <a:t>maintien à domicile: </a:t>
            </a:r>
            <a:r>
              <a:rPr b="0" lang="fr-FR" sz="1100" spc="-1" strike="noStrike">
                <a:solidFill>
                  <a:srgbClr val="000000"/>
                </a:solidFill>
                <a:latin typeface="Calibri"/>
              </a:rPr>
              <a:t>priorité affirmé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 gérontologie/Handicap</a:t>
            </a:r>
            <a:r>
              <a:rPr b="0" lang="fr-FR" sz="1100" spc="-1" strike="noStrike">
                <a:solidFill>
                  <a:srgbClr val="000000"/>
                </a:solidFill>
                <a:latin typeface="Calibri"/>
              </a:rPr>
              <a:t>: proposition de mêmes activités sur un site uniqu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lien familial:  </a:t>
            </a:r>
            <a:r>
              <a:rPr b="0" lang="fr-FR" sz="1100" spc="-1" strike="noStrike">
                <a:solidFill>
                  <a:srgbClr val="000000"/>
                </a:solidFill>
                <a:latin typeface="Calibri"/>
              </a:rPr>
              <a:t>le « vivre ensemble » entre PHV et PA et notamment caractère innovant de ce dispositif destiné à travailler sur la dimension Intergénérationnelle entre parents PA et enfants PHV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Groupe HUMANIS </a:t>
            </a:r>
            <a:r>
              <a:rPr b="0" lang="fr-FR" sz="1100" spc="-1" strike="noStrike">
                <a:solidFill>
                  <a:srgbClr val="000000"/>
                </a:solidFill>
                <a:latin typeface="Calibri"/>
              </a:rPr>
              <a:t>retenu suite à l’AAP  dont la commission s’est tenue en février 2014</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Site de l’EHPAD La Chartraine à Anton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bjectif de mettre en fonctionnement les services (SSIAD et ESA) d’ici fin 2015 début 2016</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sera installée en 201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8BD9-E8B7-41E4-8FFC-BF2F4910A89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1160" cy="3720960"/>
          </a:xfrm>
          <a:prstGeom prst="rect">
            <a:avLst/>
          </a:prstGeom>
          <a:ln w="0">
            <a:noFill/>
          </a:ln>
        </p:spPr>
      </p:sp>
      <p:sp>
        <p:nvSpPr>
          <p:cNvPr id="33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se en œuvre du plan Alzheimer se poursuit avec la création de ses dispositifs pérenne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 Hauts de Seine : création de PA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8 labellisés dont 9 ouverts, 3 en cours de labellisation et une dizaine d’intention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inancement est accordé sur la base d’un cout forfaitaire à la place, il majore la tarification au GMPS de l’EHPAD pour l’ensemble de ses places autorisé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our un fonctionnement de 5/7j : 54 684 € (12 places) et  63 798€ (14 places), soit une majoration par place de 4 557€</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utien incitatif de l’ARSIF:</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RS IDF prévoit une majoration du financement pour un fonctionnement au moins 6/7j : 77 148€ (12 places) et  90 006€ (14 places), soit une majoration par place de 6 429€</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bellisés: avis favorable sur dossi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s d’ouverture 2015 : 4 nouveaux PASA</a:t>
            </a:r>
            <a:endParaRPr b="0" lang="en-US" sz="1200" spc="-1" strike="noStrike">
              <a:solidFill>
                <a:srgbClr val="000000"/>
              </a:solidFill>
              <a:latin typeface="Calibri"/>
            </a:endParaRPr>
          </a:p>
        </p:txBody>
      </p:sp>
      <p:sp>
        <p:nvSpPr>
          <p:cNvPr id="33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A89C-9DAD-41D1-9436-E888344D545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6280"/>
            <a:ext cx="4961160" cy="3720960"/>
          </a:xfrm>
          <a:prstGeom prst="rect">
            <a:avLst/>
          </a:prstGeom>
          <a:ln w="0">
            <a:noFill/>
          </a:ln>
        </p:spPr>
      </p:sp>
      <p:sp>
        <p:nvSpPr>
          <p:cNvPr id="33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C33B-42DC-430D-B63C-315E9B9F6BE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9080" y="746280"/>
            <a:ext cx="4961160" cy="3720960"/>
          </a:xfrm>
          <a:prstGeom prst="rect">
            <a:avLst/>
          </a:prstGeom>
          <a:ln w="0">
            <a:noFill/>
          </a:ln>
        </p:spPr>
      </p:sp>
      <p:sp>
        <p:nvSpPr>
          <p:cNvPr id="34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Structures spécialisées autis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M : Le cèdre Bleu ( APEI Chaville 27+ 9 place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Varebois à Courbevoie (PN – 2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lternat Antony (APRHAM- 19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Jacques Descamps (ACSC – 4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 Solfège (BB), La villa d’avray, EME</a:t>
            </a:r>
            <a:r>
              <a:rPr b="1" lang="fr-FR" sz="1600" spc="-1" strike="noStrike">
                <a:solidFill>
                  <a:srgbClr val="000000"/>
                </a:solidFill>
                <a:latin typeface="Calibri"/>
              </a:rPr>
              <a:t> Expérimental </a:t>
            </a:r>
            <a:r>
              <a:rPr b="0" lang="fr-FR" sz="1600" spc="-1" strike="noStrike">
                <a:solidFill>
                  <a:srgbClr val="000000"/>
                </a:solidFill>
                <a:latin typeface="Calibri"/>
              </a:rPr>
              <a:t>AVA (Suresnes), IME Au fil de l’Autre, IME Léonce Malecot (STEJE), IME Jeune Appedia, IME Alternance, IME Les Avelines, Centre TedyBear </a:t>
            </a:r>
            <a:r>
              <a:rPr b="1" lang="fr-FR" sz="1600" spc="-1" strike="noStrike">
                <a:solidFill>
                  <a:srgbClr val="000000"/>
                </a:solidFill>
                <a:latin typeface="Calibri"/>
              </a:rPr>
              <a:t>Expérimental</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Externalisé Chatenay M (APPEDIA – 39 places),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1ères classes </a:t>
            </a:r>
            <a:r>
              <a:rPr b="1" lang="fr-FR" sz="1600" spc="-1" strike="noStrike">
                <a:solidFill>
                  <a:srgbClr val="000000"/>
                </a:solidFill>
                <a:latin typeface="Calibri"/>
              </a:rPr>
              <a:t>Expérimental</a:t>
            </a:r>
            <a:r>
              <a:rPr b="0" lang="fr-FR" sz="1600" spc="-1" strike="noStrike">
                <a:solidFill>
                  <a:srgbClr val="000000"/>
                </a:solidFill>
                <a:latin typeface="Calibri"/>
              </a:rPr>
              <a:t>  (Suresnes 5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du Val D’or (Papillons blanc saint cloud – 25 places)</a:t>
            </a:r>
            <a:endParaRPr b="0" lang="en-US" sz="1600" spc="-1" strike="noStrike">
              <a:solidFill>
                <a:srgbClr val="000000"/>
              </a:solidFill>
              <a:latin typeface="Calibri"/>
            </a:endParaRPr>
          </a:p>
        </p:txBody>
      </p:sp>
      <p:sp>
        <p:nvSpPr>
          <p:cNvPr id="34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C6AD-8AC2-456E-9E24-88425F0FF26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6280"/>
            <a:ext cx="4961160" cy="3720960"/>
          </a:xfrm>
          <a:prstGeom prst="rect">
            <a:avLst/>
          </a:prstGeom>
          <a:ln w="0">
            <a:noFill/>
          </a:ln>
        </p:spPr>
      </p:sp>
      <p:sp>
        <p:nvSpPr>
          <p:cNvPr id="34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Enveloppe nationale de 205 M€</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2 M€ pour l’IDF</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1 </a:t>
            </a:r>
            <a:r>
              <a:rPr b="0" lang="fr-FR" sz="1700" spc="-1" strike="noStrike">
                <a:solidFill>
                  <a:srgbClr val="000000"/>
                </a:solidFill>
                <a:latin typeface="Calibri"/>
              </a:rPr>
              <a:t>: CMP et secteur libéral avec financement limité au renforcement des CAMSP et/ou CMP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ahier des charges régional en cours de rédaction – objectif 2015</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Projet de création d’une Unité d’enseignement en maternelle à la rentrée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1" lang="fr-FR" sz="1700" spc="-1" strike="noStrike">
                <a:solidFill>
                  <a:srgbClr val="000000"/>
                </a:solidFill>
                <a:latin typeface="Calibri"/>
              </a:rPr>
              <a:t>Objectif 2</a:t>
            </a:r>
            <a:r>
              <a:rPr b="0" lang="fr-FR" sz="1700" spc="-1" strike="noStrike">
                <a:solidFill>
                  <a:srgbClr val="000000"/>
                </a:solidFill>
                <a:latin typeface="Calibri"/>
              </a:rPr>
              <a:t>: Accord de principe du Conseil Général 92 pour la création de places de FAM et de SAMSAH</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3</a:t>
            </a:r>
            <a:r>
              <a:rPr b="0" lang="fr-FR" sz="1700" spc="-1" strike="noStrike">
                <a:solidFill>
                  <a:srgbClr val="000000"/>
                </a:solidFill>
                <a:latin typeface="Calibri"/>
              </a:rPr>
              <a:t>: Développement des places d’accueil temporaire (situations complexes) : 2,7M€ à répartir en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5</a:t>
            </a:r>
            <a:r>
              <a:rPr b="0" lang="fr-FR" sz="1700" spc="-1" strike="noStrike">
                <a:solidFill>
                  <a:srgbClr val="000000"/>
                </a:solidFill>
                <a:latin typeface="Calibri"/>
              </a:rPr>
              <a:t>: référentiel en cours de test dans le 78 destiné à adapter les pratiques professionnelles de terrain au regard des RB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endParaRPr b="0" lang="en-US" sz="17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5DFD-DD39-430B-AC2A-774F1ADC623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1160" cy="3720960"/>
          </a:xfrm>
          <a:prstGeom prst="rect">
            <a:avLst/>
          </a:prstGeom>
          <a:ln w="0">
            <a:noFill/>
          </a:ln>
        </p:spPr>
      </p:sp>
      <p:sp>
        <p:nvSpPr>
          <p:cNvPr id="35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appui et en complément de la déclinaison du Plan Autisme, l’ARS a souhaité engager, sous forme d’expérimentation une démarche partagée de concertation avec la double nécessité/obje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organiser les réponses sur les territo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es coopérations entre les partenaires et acteurs de l’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stat d’absence d’évaluation des besoins  sur le terrain, absence de données fiables disponi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sion confiée au CREHAI et au CRA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a:t>
            </a:r>
            <a:r>
              <a:rPr b="0" lang="fr-FR" sz="1200" spc="-1" strike="noStrike" baseline="30000">
                <a:solidFill>
                  <a:srgbClr val="000000"/>
                </a:solidFill>
                <a:latin typeface="Calibri"/>
              </a:rPr>
              <a:t>ère</a:t>
            </a:r>
            <a:r>
              <a:rPr b="0" lang="fr-FR" sz="1200" spc="-1" strike="noStrike">
                <a:solidFill>
                  <a:srgbClr val="000000"/>
                </a:solidFill>
                <a:latin typeface="Calibri"/>
              </a:rPr>
              <a:t> phase de diagnostic territorial  partagé : souhait de coupler le diagnostic à la démarche de concertation qui préfigure les futures TCS et TCT à mettre en place à l’avenir( modèle MAIA) – avril à j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a:t>
            </a:r>
            <a:r>
              <a:rPr b="0" lang="fr-FR" sz="1200" spc="-1" strike="noStrike" baseline="30000">
                <a:solidFill>
                  <a:srgbClr val="000000"/>
                </a:solidFill>
                <a:latin typeface="Calibri"/>
              </a:rPr>
              <a:t>ème</a:t>
            </a:r>
            <a:r>
              <a:rPr b="0" lang="fr-FR" sz="1200" spc="-1" strike="noStrike">
                <a:solidFill>
                  <a:srgbClr val="000000"/>
                </a:solidFill>
                <a:latin typeface="Calibri"/>
              </a:rPr>
              <a:t> phase : réunions thématiques à partir de septemb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férence finale  pour le 92 janvier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s D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unir un socle de connaissances  partag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Expérimenter de nouvelles pratiques et initier une dynamique de changement dans les pratiques professionnelles (modèle TCS et TCT)</a:t>
            </a:r>
            <a:endParaRPr b="0" lang="en-US" sz="1200" spc="-1" strike="noStrike">
              <a:solidFill>
                <a:srgbClr val="000000"/>
              </a:solidFill>
              <a:latin typeface="Calibri"/>
            </a:endParaRPr>
          </a:p>
        </p:txBody>
      </p:sp>
      <p:sp>
        <p:nvSpPr>
          <p:cNvPr id="35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59E8-71BC-452C-89FA-9562F926F39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9080" y="746280"/>
            <a:ext cx="4961160" cy="3720960"/>
          </a:xfrm>
          <a:prstGeom prst="rect">
            <a:avLst/>
          </a:prstGeom>
          <a:ln w="0">
            <a:noFill/>
          </a:ln>
        </p:spPr>
      </p:sp>
      <p:sp>
        <p:nvSpPr>
          <p:cNvPr id="35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S et plus particulièrement le SROMS souligne la triple nécessité 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offre médico-sociale (ouvertures, A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ééquilibrer territoria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vilégier l’accompagnement à dom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t dans ce contexte que le chantier de restructuration a été lancé avec l’année 2014 qui a été consacrée à la définition et au ciblage desdites restructu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écessité d’adapter l’offre aux nouveaux besoins de prise en charge : vieillissement PA, évolution de la prévalence de certaines défici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gique d’efficience qui dicte l’action de l’Agence dans un contexte de fortes contraintes budgétaires</a:t>
            </a:r>
            <a:endParaRPr b="0" lang="en-US" sz="1200" spc="-1" strike="noStrike">
              <a:solidFill>
                <a:srgbClr val="000000"/>
              </a:solidFill>
              <a:latin typeface="Calibri"/>
            </a:endParaRPr>
          </a:p>
        </p:txBody>
      </p:sp>
      <p:sp>
        <p:nvSpPr>
          <p:cNvPr id="35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0818-AA3B-4337-967D-BC5B4B70479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6280"/>
            <a:ext cx="4961160" cy="3720960"/>
          </a:xfrm>
          <a:prstGeom prst="rect">
            <a:avLst/>
          </a:prstGeom>
          <a:ln w="0">
            <a:noFill/>
          </a:ln>
        </p:spPr>
      </p:sp>
      <p:sp>
        <p:nvSpPr>
          <p:cNvPr id="2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Espace réservé du pied de page 3"/>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4" name="Espace réservé du numéro de diapositive 4"/>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BFF3-A225-42AF-AC05-B63979B516D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5"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6280"/>
            <a:ext cx="4961160" cy="3720960"/>
          </a:xfrm>
          <a:prstGeom prst="rect">
            <a:avLst/>
          </a:prstGeom>
          <a:ln w="0">
            <a:noFill/>
          </a:ln>
        </p:spPr>
      </p:sp>
      <p:sp>
        <p:nvSpPr>
          <p:cNvPr id="36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u niveau régional, 429 arrêtés de transfert d’autorisation, de transformation des modalités d’accueil, de modification d’agrément, d’extension ou réduction de capacités ont été pris ces 3 dernières années.</a:t>
            </a:r>
            <a:endParaRPr b="0" lang="en-US" sz="1200" spc="-1" strike="noStrike">
              <a:solidFill>
                <a:srgbClr val="000000"/>
              </a:solidFill>
              <a:latin typeface="Calibri"/>
            </a:endParaRPr>
          </a:p>
        </p:txBody>
      </p:sp>
      <p:sp>
        <p:nvSpPr>
          <p:cNvPr id="36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3212-84A2-47FD-A637-BFA7F10ED39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1160" cy="3720960"/>
          </a:xfrm>
          <a:prstGeom prst="rect">
            <a:avLst/>
          </a:prstGeom>
          <a:ln w="0">
            <a:noFill/>
          </a:ln>
        </p:spPr>
      </p:sp>
      <p:sp>
        <p:nvSpPr>
          <p:cNvPr id="3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F4D9-D9C1-487B-9C7A-17DCF99393C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9080" y="746280"/>
            <a:ext cx="4961160" cy="3720960"/>
          </a:xfrm>
          <a:prstGeom prst="rect">
            <a:avLst/>
          </a:prstGeom>
          <a:ln w="0">
            <a:noFill/>
          </a:ln>
        </p:spPr>
      </p:sp>
      <p:sp>
        <p:nvSpPr>
          <p:cNvPr id="3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3655-BFBF-4CF8-B809-DB1D259873A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49240" y="746280"/>
            <a:ext cx="4961160" cy="3720960"/>
          </a:xfrm>
          <a:prstGeom prst="rect">
            <a:avLst/>
          </a:prstGeom>
          <a:ln w="0">
            <a:noFill/>
          </a:ln>
        </p:spPr>
      </p:sp>
      <p:sp>
        <p:nvSpPr>
          <p:cNvPr id="377" name="PlaceHolder 2"/>
          <p:cNvSpPr>
            <a:spLocks noGrp="1"/>
          </p:cNvSpPr>
          <p:nvPr>
            <p:ph type="body"/>
          </p:nvPr>
        </p:nvSpPr>
        <p:spPr>
          <a:xfrm>
            <a:off x="849240" y="4660560"/>
            <a:ext cx="5437440" cy="4467240"/>
          </a:xfrm>
          <a:prstGeom prst="rect">
            <a:avLst/>
          </a:prstGeom>
          <a:noFill/>
          <a:ln w="0">
            <a:noFill/>
          </a:ln>
        </p:spPr>
        <p:txBody>
          <a:bodyPr lIns="88200" rIns="88200" tIns="43920" bIns="43920" anchor="t">
            <a:no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2 opérations de rapprochement de petites unités à des EHPAD</a:t>
            </a: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5 opérations de redéploiements avec la création de nouveaux établissements</a:t>
            </a:r>
            <a:endParaRPr b="0" lang="en-US" sz="16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90%</a:t>
            </a:r>
            <a:endParaRPr b="0" lang="en-US" sz="1600" spc="-1" strike="noStrike">
              <a:solidFill>
                <a:srgbClr val="000000"/>
              </a:solidFill>
              <a:latin typeface="Calibri"/>
            </a:endParaRPr>
          </a:p>
          <a:p>
            <a:pPr lvl="2">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80%</a:t>
            </a:r>
            <a:endParaRPr b="0" lang="en-US" sz="1600" spc="-1" strike="noStrike">
              <a:solidFill>
                <a:srgbClr val="000000"/>
              </a:solidFill>
              <a:latin typeface="Calibri"/>
            </a:endParaRPr>
          </a:p>
          <a:p>
            <a:pPr lvl="2"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EHPAD ont bénéficié de crédits de soutien à l’investissement/travaux (financement des frais financiers) depuis 2012, pour un total d’environ 4 000 000€</a:t>
            </a:r>
            <a:endParaRPr b="0" lang="en-US" sz="16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J : Opérations de redéploiement : 13 arrêtés de suppression et 6 arrêtés d’extension</a:t>
            </a: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FA24-908A-435E-AE90-47303DB9C62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7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1160" cy="3720960"/>
          </a:xfrm>
          <a:prstGeom prst="rect">
            <a:avLst/>
          </a:prstGeom>
          <a:ln w="0">
            <a:noFill/>
          </a:ln>
        </p:spPr>
      </p:sp>
      <p:sp>
        <p:nvSpPr>
          <p:cNvPr id="3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5 ESMS présentent une activité inférieure à 90%,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ont 4 ont une activité inférieure à 80 %,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5 ESMS ont présenté un </a:t>
            </a:r>
            <a:r>
              <a:rPr b="1" lang="fr-FR" sz="1200" spc="-1" strike="noStrike">
                <a:solidFill>
                  <a:srgbClr val="000000"/>
                </a:solidFill>
                <a:latin typeface="Calibri"/>
              </a:rPr>
              <a:t>déficit</a:t>
            </a:r>
            <a:r>
              <a:rPr b="0" lang="fr-FR" sz="1200" spc="-1" strike="noStrike">
                <a:solidFill>
                  <a:srgbClr val="000000"/>
                </a:solidFill>
                <a:latin typeface="Calibri"/>
              </a:rPr>
              <a:t> représentant + de 10% de leur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 ESMS a présenté un </a:t>
            </a:r>
            <a:r>
              <a:rPr b="1" lang="fr-FR" sz="1200" spc="-1" strike="noStrike">
                <a:solidFill>
                  <a:srgbClr val="000000"/>
                </a:solidFill>
                <a:latin typeface="Calibri"/>
              </a:rPr>
              <a:t>excédent</a:t>
            </a:r>
            <a:r>
              <a:rPr b="0" lang="fr-FR" sz="1200" spc="-1" strike="noStrike">
                <a:solidFill>
                  <a:srgbClr val="000000"/>
                </a:solidFill>
                <a:latin typeface="Calibri"/>
              </a:rPr>
              <a:t> représentant + de 20% de se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 ESMS 25% plus cher que le coût moyen</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établissements accompagnés au titre du PAI (délocalisation et regroupement),</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ESMS ont bénéficié de crédits de  soutien à l’investissement/travaux en 2014, pour un total de 2 243 253,15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2 gestionnaires gèrent moins de 5 structures en France</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 modifications d’agréments 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 fusions entre gestionnaires et reprise de gestion sur le secteur PH en 2014/2015</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832A-94E1-4EF1-BE0B-A0520AE3F46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9080" y="746280"/>
            <a:ext cx="4961160" cy="3720960"/>
          </a:xfrm>
          <a:prstGeom prst="rect">
            <a:avLst/>
          </a:prstGeom>
          <a:ln w="0">
            <a:noFill/>
          </a:ln>
        </p:spPr>
      </p:sp>
      <p:sp>
        <p:nvSpPr>
          <p:cNvPr id="38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09D7-C7C4-4163-8536-208B24E2FDF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9080" y="746280"/>
            <a:ext cx="4961160" cy="3720960"/>
          </a:xfrm>
          <a:prstGeom prst="rect">
            <a:avLst/>
          </a:prstGeom>
          <a:ln w="0">
            <a:noFill/>
          </a:ln>
        </p:spPr>
      </p:sp>
      <p:sp>
        <p:nvSpPr>
          <p:cNvPr id="3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Les résultats de ces évaluations (internes et externes) sont transmis à l’autorité ayant délivré l’autorisation selon des délais prévus par le Code de l’action sociale et des familles. Par ailleurs, les évaluations internes reposent sur une démarche continue qui doit être retracée chaque année dans le rapport d'activité des ESMS</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6E86-1B30-437C-B913-B3DC7B4ADD6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1160" cy="3720960"/>
          </a:xfrm>
          <a:prstGeom prst="rect">
            <a:avLst/>
          </a:prstGeom>
          <a:ln w="0">
            <a:noFill/>
          </a:ln>
        </p:spPr>
      </p:sp>
      <p:sp>
        <p:nvSpPr>
          <p:cNvPr id="3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Plus des 2/3 des structures devaient réglementairement nous transmettre leur rapport avant le 3 février dernie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aux de réception de 80% à ce jou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3AD5-7E61-49A9-913D-8DA145DBCDA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9080" y="746280"/>
            <a:ext cx="4961160" cy="3720960"/>
          </a:xfrm>
          <a:prstGeom prst="rect">
            <a:avLst/>
          </a:prstGeom>
          <a:ln w="0">
            <a:noFill/>
          </a:ln>
        </p:spPr>
      </p:sp>
      <p:sp>
        <p:nvSpPr>
          <p:cNvPr id="40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D094-39E6-4B9B-B00F-F28D7CCBAF1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9080" y="746280"/>
            <a:ext cx="4961160" cy="3720960"/>
          </a:xfrm>
          <a:prstGeom prst="rect">
            <a:avLst/>
          </a:prstGeom>
          <a:ln w="0">
            <a:noFill/>
          </a:ln>
        </p:spPr>
      </p:sp>
      <p:sp>
        <p:nvSpPr>
          <p:cNvPr id="27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égalités territoriales de santé : réponse essentiellement donnée par les AAP-créations de pla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lan de restructuration : vieillissement de la population, évolution de la prévalence de certaines déficien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gique d’efficience: tenir compte des contraintes budgétaires afin d’optimiser les prises en charge</a:t>
            </a:r>
            <a:endParaRPr b="0" lang="en-US" sz="1800" spc="-1" strike="noStrike">
              <a:solidFill>
                <a:srgbClr val="000000"/>
              </a:solidFill>
              <a:latin typeface="Calibri"/>
            </a:endParaRPr>
          </a:p>
        </p:txBody>
      </p:sp>
      <p:sp>
        <p:nvSpPr>
          <p:cNvPr id="27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BBEA-1D9B-4A0C-ABA3-33FABFFF6BC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1120" y="746280"/>
            <a:ext cx="4960800" cy="3720960"/>
          </a:xfrm>
          <a:prstGeom prst="rect">
            <a:avLst/>
          </a:prstGeom>
          <a:ln w="0">
            <a:noFill/>
          </a:ln>
        </p:spPr>
      </p:sp>
      <p:sp>
        <p:nvSpPr>
          <p:cNvPr id="2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xe 2 d’ordre qualitatif sur la prise en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vention – GD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ion de parcours de san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tractualisation- Conventionn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spection – Contrô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aidants (mesures Alzheimer – HT…..)</a:t>
            </a:r>
            <a:endParaRPr b="0" lang="en-US" sz="1200" spc="-1" strike="noStrike">
              <a:solidFill>
                <a:srgbClr val="000000"/>
              </a:solidFill>
              <a:latin typeface="Calibri"/>
            </a:endParaRPr>
          </a:p>
        </p:txBody>
      </p:sp>
      <p:sp>
        <p:nvSpPr>
          <p:cNvPr id="28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F7D8-70C3-420D-841F-4CB19B97EA9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1160" cy="3720960"/>
          </a:xfrm>
          <a:prstGeom prst="rect">
            <a:avLst/>
          </a:prstGeom>
          <a:ln w="0">
            <a:noFill/>
          </a:ln>
        </p:spPr>
      </p:sp>
      <p:sp>
        <p:nvSpPr>
          <p:cNvPr id="28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ructures de répit : AJ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2 : 18,75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DF : 21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SIAD : AAC en 2013 avec  43 places supplémentaires autorisées dans le 92 à BB et boucle Nord</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ficit de prise en  charge sur des déficiences particulières dans le 92:</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olutions apportées à travers créations de places et AAP</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70D2-0B9F-4792-AEB9-C3949761727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9080" y="746280"/>
            <a:ext cx="4961160" cy="3720960"/>
          </a:xfrm>
          <a:prstGeom prst="rect">
            <a:avLst/>
          </a:prstGeom>
          <a:ln w="0">
            <a:noFill/>
          </a:ln>
        </p:spPr>
      </p:sp>
      <p:sp>
        <p:nvSpPr>
          <p:cNvPr id="2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1 ESAT pour 2114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3 FAM dont  4 Autistes  pour 376 places ( dont 129 places sur l’autism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6 MAS pour 255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 GEM</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CRP de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SAMSAH pour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HPAD: 10 366 places HP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OTAL DE 300 structures  dans le 92 ; une des offres les + importantes quantitativement de la région</a:t>
            </a:r>
            <a:endParaRPr b="0" lang="en-US" sz="1600" spc="-1" strike="noStrike">
              <a:solidFill>
                <a:srgbClr val="000000"/>
              </a:solidFill>
              <a:latin typeface="Calibri"/>
            </a:endParaRPr>
          </a:p>
        </p:txBody>
      </p:sp>
      <p:sp>
        <p:nvSpPr>
          <p:cNvPr id="29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638C-E1B5-4226-8855-2EE87AE3575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9080" y="746280"/>
            <a:ext cx="4961160" cy="3720960"/>
          </a:xfrm>
          <a:prstGeom prst="rect">
            <a:avLst/>
          </a:prstGeom>
          <a:ln w="0">
            <a:noFill/>
          </a:ln>
        </p:spPr>
      </p:sp>
      <p:sp>
        <p:nvSpPr>
          <p:cNvPr id="2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Ouvertures PH:</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AS Hôpital Nord à Villeneuve La Garenne : février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AM de Billancourt 36 places à Boulogne (12 pour polyhandicapés et </a:t>
            </a:r>
            <a:r>
              <a:rPr b="1" lang="fr-FR" sz="1600" spc="-1" strike="noStrike">
                <a:solidFill>
                  <a:srgbClr val="000000"/>
                </a:solidFill>
                <a:latin typeface="Calibri"/>
              </a:rPr>
              <a:t>24 mentaux vieillissants</a:t>
            </a:r>
            <a:r>
              <a:rPr b="0" lang="fr-FR" sz="1600" spc="-1" strike="noStrike">
                <a:solidFill>
                  <a:srgbClr val="000000"/>
                </a:solidFill>
                <a:latin typeface="Calibri"/>
              </a:rPr>
              <a:t>) : PRBS – sept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ort sur l’autisme sur les 2 champs enfants et adultes et sans attendre les mesures du nouveau Plan Autisme </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xtension FAM Le Cèdre Bleu à Chaville : APEI SEVRES CHAVILLE VILLE D’AVRAY – avril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Solfège à Boulogne : 12-20 ans UGECAMIF – nov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entre TeadyBear à Saint Cloud  : Accueil de jour pour les 4-10 ans – structure expérimentale – particularité fonds privés  - pas AAP – juillet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PRO Le cèdre insertion à Chatillon (12 places)</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0A72-35DF-4A91-9A1A-98697BB94B7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1160" cy="3720960"/>
          </a:xfrm>
          <a:prstGeom prst="rect">
            <a:avLst/>
          </a:prstGeom>
          <a:ln w="0">
            <a:noFill/>
          </a:ln>
        </p:spPr>
      </p:sp>
      <p:sp>
        <p:nvSpPr>
          <p:cNvPr id="30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éation de + de 530 places qui consolide l’offre dptale ce qui justifie l’absence d’AAP sur le secteur</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mite à ce développement de l’offre: ouverture de structures à caractère privé lucratif, question posée de l’accessibilité économique.</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D71A-EFB3-4B13-BAE7-19B47AEC5A1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9080" y="746280"/>
            <a:ext cx="4961160" cy="3720960"/>
          </a:xfrm>
          <a:prstGeom prst="rect">
            <a:avLst/>
          </a:prstGeom>
          <a:ln w="0">
            <a:noFill/>
          </a:ln>
        </p:spPr>
      </p:sp>
      <p:sp>
        <p:nvSpPr>
          <p:cNvPr id="30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6291-D322-49B2-A78E-593FCAD10A1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8"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0"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2"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3"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5"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6"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7"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9"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0"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5"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7"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8"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9"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0"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1"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2"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0" descr=""/>
          <p:cNvPicPr/>
          <p:nvPr/>
        </p:nvPicPr>
        <p:blipFill>
          <a:blip r:embed="rId2"/>
          <a:stretch/>
        </p:blipFill>
        <p:spPr>
          <a:xfrm>
            <a:off x="468360" y="1204920"/>
            <a:ext cx="2448000" cy="1401840"/>
          </a:xfrm>
          <a:prstGeom prst="rect">
            <a:avLst/>
          </a:prstGeom>
          <a:ln w="0">
            <a:noFill/>
          </a:ln>
        </p:spPr>
      </p:pic>
      <p:pic>
        <p:nvPicPr>
          <p:cNvPr id="39" name="Picture 11" descr=""/>
          <p:cNvPicPr/>
          <p:nvPr/>
        </p:nvPicPr>
        <p:blipFill>
          <a:blip r:embed="rId3"/>
          <a:stretch/>
        </p:blipFill>
        <p:spPr>
          <a:xfrm>
            <a:off x="0" y="476280"/>
            <a:ext cx="9144000" cy="384120"/>
          </a:xfrm>
          <a:prstGeom prst="rect">
            <a:avLst/>
          </a:prstGeom>
          <a:ln w="0">
            <a:noFill/>
          </a:ln>
        </p:spPr>
      </p:pic>
      <p:sp>
        <p:nvSpPr>
          <p:cNvPr id="4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79"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80" name="Picture 9" descr=""/>
          <p:cNvPicPr/>
          <p:nvPr/>
        </p:nvPicPr>
        <p:blipFill>
          <a:blip r:embed="rId2"/>
          <a:stretch/>
        </p:blipFill>
        <p:spPr>
          <a:xfrm>
            <a:off x="287280" y="142920"/>
            <a:ext cx="919080" cy="525240"/>
          </a:xfrm>
          <a:prstGeom prst="rect">
            <a:avLst/>
          </a:prstGeom>
          <a:ln w="0">
            <a:noFill/>
          </a:ln>
        </p:spPr>
      </p:pic>
      <p:pic>
        <p:nvPicPr>
          <p:cNvPr id="81" name="Picture 10" descr=""/>
          <p:cNvPicPr/>
          <p:nvPr/>
        </p:nvPicPr>
        <p:blipFill>
          <a:blip r:embed="rId3"/>
          <a:stretch/>
        </p:blipFill>
        <p:spPr>
          <a:xfrm>
            <a:off x="0" y="6416640"/>
            <a:ext cx="9144000" cy="384120"/>
          </a:xfrm>
          <a:prstGeom prst="rect">
            <a:avLst/>
          </a:prstGeom>
          <a:ln w="0">
            <a:noFill/>
          </a:ln>
        </p:spPr>
      </p:pic>
      <p:sp>
        <p:nvSpPr>
          <p:cNvPr id="8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8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21" name="Picture 9" descr=""/>
          <p:cNvPicPr/>
          <p:nvPr/>
        </p:nvPicPr>
        <p:blipFill>
          <a:blip r:embed="rId2"/>
          <a:stretch/>
        </p:blipFill>
        <p:spPr>
          <a:xfrm>
            <a:off x="287280" y="142920"/>
            <a:ext cx="919080" cy="525240"/>
          </a:xfrm>
          <a:prstGeom prst="rect">
            <a:avLst/>
          </a:prstGeom>
          <a:ln w="0">
            <a:noFill/>
          </a:ln>
        </p:spPr>
      </p:pic>
      <p:pic>
        <p:nvPicPr>
          <p:cNvPr id="122" name="Picture 10" descr=""/>
          <p:cNvPicPr/>
          <p:nvPr/>
        </p:nvPicPr>
        <p:blipFill>
          <a:blip r:embed="rId3"/>
          <a:stretch/>
        </p:blipFill>
        <p:spPr>
          <a:xfrm>
            <a:off x="0" y="6416640"/>
            <a:ext cx="9144000" cy="384120"/>
          </a:xfrm>
          <a:prstGeom prst="rect">
            <a:avLst/>
          </a:prstGeom>
          <a:ln w="0">
            <a:noFill/>
          </a:ln>
        </p:spPr>
      </p:pic>
      <p:sp>
        <p:nvSpPr>
          <p:cNvPr id="123" name="Connecteur droit 6"/>
          <p:cNvSpPr/>
          <p:nvPr/>
        </p:nvSpPr>
        <p:spPr>
          <a:xfrm>
            <a:off x="287280" y="928800"/>
            <a:ext cx="0" cy="548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124"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25"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63" name="Picture 9" descr=""/>
          <p:cNvPicPr/>
          <p:nvPr/>
        </p:nvPicPr>
        <p:blipFill>
          <a:blip r:embed="rId2"/>
          <a:stretch/>
        </p:blipFill>
        <p:spPr>
          <a:xfrm>
            <a:off x="287280" y="142920"/>
            <a:ext cx="919080" cy="525240"/>
          </a:xfrm>
          <a:prstGeom prst="rect">
            <a:avLst/>
          </a:prstGeom>
          <a:ln w="0">
            <a:noFill/>
          </a:ln>
        </p:spPr>
      </p:pic>
      <p:pic>
        <p:nvPicPr>
          <p:cNvPr id="164" name="Picture 10" descr=""/>
          <p:cNvPicPr/>
          <p:nvPr/>
        </p:nvPicPr>
        <p:blipFill>
          <a:blip r:embed="rId3"/>
          <a:stretch/>
        </p:blipFill>
        <p:spPr>
          <a:xfrm>
            <a:off x="0" y="6416640"/>
            <a:ext cx="9144000" cy="384120"/>
          </a:xfrm>
          <a:prstGeom prst="rect">
            <a:avLst/>
          </a:prstGeom>
          <a:ln w="0">
            <a:noFill/>
          </a:ln>
        </p:spPr>
      </p:pic>
      <p:sp>
        <p:nvSpPr>
          <p:cNvPr id="165"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66"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2840" y="2971800"/>
            <a:ext cx="7283520" cy="14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Mise en œuvre du SROMS 2013-2017</a:t>
            </a:r>
            <a:br>
              <a:rPr sz="3600"/>
            </a:br>
            <a:endParaRPr b="1" lang="en-US" sz="3600" spc="-1" strike="noStrike">
              <a:solidFill>
                <a:srgbClr val="7ab800"/>
              </a:solidFill>
              <a:latin typeface="Arial"/>
            </a:endParaRPr>
          </a:p>
        </p:txBody>
      </p:sp>
      <p:sp>
        <p:nvSpPr>
          <p:cNvPr id="211" name="PlaceHolder 2"/>
          <p:cNvSpPr>
            <a:spLocks noGrp="1"/>
          </p:cNvSpPr>
          <p:nvPr>
            <p:ph type="subTitle"/>
          </p:nvPr>
        </p:nvSpPr>
        <p:spPr>
          <a:xfrm>
            <a:off x="2437920" y="5105160"/>
            <a:ext cx="5410440" cy="5331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Conférence de Territoire</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Hauts-de-Seine</a:t>
            </a:r>
            <a:r>
              <a:rPr b="1" lang="fr-FR" sz="2400" spc="-1" strike="noStrike">
                <a:solidFill>
                  <a:srgbClr val="9bbb59"/>
                </a:solidFill>
                <a:latin typeface="Calibri"/>
              </a:rPr>
              <a:t> </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10 avril 2015</a:t>
            </a:r>
            <a:endParaRPr b="1" lang="en-US" sz="2400" spc="-1" strike="noStrike">
              <a:solidFill>
                <a:srgbClr val="1f497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8" name=""/>
          <p:cNvSpPr txBox="1"/>
          <p:nvPr/>
        </p:nvSpPr>
        <p:spPr>
          <a:xfrm>
            <a:off x="395280" y="883800"/>
            <a:ext cx="8748720" cy="5715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en 2015-2016 :</a:t>
            </a:r>
            <a:endParaRPr b="1" lang="en-US" sz="3200" spc="-1" strike="noStrike">
              <a:solidFill>
                <a:srgbClr val="1f497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Villa Borghèse à Courbevoie  (Avril 2015)</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a:t>
            </a:r>
            <a:r>
              <a:rPr b="1" lang="fr-FR" sz="2400" spc="-1" strike="noStrike">
                <a:solidFill>
                  <a:srgbClr val="1f497d"/>
                </a:solidFill>
                <a:latin typeface="Arial"/>
              </a:rPr>
              <a:t>   </a:t>
            </a:r>
            <a:r>
              <a:rPr b="1" lang="fr-FR" sz="2400" spc="-1" strike="noStrike">
                <a:solidFill>
                  <a:srgbClr val="1f497d"/>
                </a:solidFill>
                <a:latin typeface="Arial"/>
              </a:rPr>
              <a:t>103 lits d’hébergement permanen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5 lits d’hébergement temporair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6 places d’accueil de jour.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 PASA</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andicap moteur à Garches : 30 places (septembre 2015)</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Autisme Vaucresson : 32 places ( mars 2016)</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30" name=""/>
          <p:cNvSpPr txBox="1"/>
          <p:nvPr/>
        </p:nvSpPr>
        <p:spPr>
          <a:xfrm>
            <a:off x="250920" y="944640"/>
            <a:ext cx="8750160" cy="5643360"/>
          </a:xfrm>
          <a:prstGeom prst="rect">
            <a:avLst/>
          </a:prstGeom>
          <a:noFill/>
          <a:ln w="0">
            <a:noFill/>
          </a:ln>
        </p:spPr>
        <p:txBody>
          <a:bodyPr anchor="t">
            <a:normAutofit/>
          </a:bodyPr>
          <a:p>
            <a:pPr marL="343080" indent="-343080">
              <a:spcBef>
                <a:spcPts val="77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u="sng">
                <a:solidFill>
                  <a:srgbClr val="1f497d"/>
                </a:solidFill>
                <a:uFillTx/>
                <a:latin typeface="Arial"/>
              </a:rPr>
              <a:t>Les appels à projets:</a:t>
            </a:r>
            <a:endParaRPr b="1" lang="en-US" sz="31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4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de 22 places (locked-in-syndrom) à Boulogne-Billancour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 à </a:t>
            </a:r>
            <a:r>
              <a:rPr b="1" lang="fr-FR" sz="2400" spc="-1" strike="noStrike">
                <a:solidFill>
                  <a:srgbClr val="1f497d"/>
                </a:solidFill>
                <a:latin typeface="Arial"/>
              </a:rPr>
              <a:t>	</a:t>
            </a:r>
            <a:r>
              <a:rPr b="1" lang="fr-FR" sz="2400" spc="-1" strike="noStrike">
                <a:solidFill>
                  <a:srgbClr val="1f497d"/>
                </a:solidFill>
                <a:latin typeface="Arial"/>
              </a:rPr>
              <a:t>Antony</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5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Autisme/TED de 50 places (nor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AMSP de 100 places (su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ITEP de 38 places + SESSAD TCC de 30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TSL de 42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Un territoire dynamique et innovant</a:t>
            </a:r>
            <a:endParaRPr b="1" lang="en-US" sz="2800" spc="-1" strike="noStrike">
              <a:solidFill>
                <a:srgbClr val="7ab800"/>
              </a:solidFill>
              <a:latin typeface="Arial"/>
            </a:endParaRPr>
          </a:p>
        </p:txBody>
      </p:sp>
      <p:sp>
        <p:nvSpPr>
          <p:cNvPr id="232"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IDE de nuit en EHPAD</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SSIAD renforcé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onjoint expérimental « Pôle de services intégrés » à Domicile</a:t>
            </a:r>
            <a:endParaRPr b="1" lang="en-US" sz="2400" spc="-1" strike="noStrike">
              <a:solidFill>
                <a:srgbClr val="1f497d"/>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autisme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 ESAT « Hors les mur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rofessionnel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Un Centre de Rééducation Professionnell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Dispositif spécifique Hauts-de-Seine :</a:t>
            </a:r>
            <a:endParaRPr b="1" lang="en-US" sz="3200" spc="-1" strike="noStrike">
              <a:solidFill>
                <a:srgbClr val="7ab800"/>
              </a:solidFill>
              <a:latin typeface="Arial"/>
            </a:endParaRPr>
          </a:p>
        </p:txBody>
      </p:sp>
      <p:sp>
        <p:nvSpPr>
          <p:cNvPr id="234" name=""/>
          <p:cNvSpPr txBox="1"/>
          <p:nvPr/>
        </p:nvSpPr>
        <p:spPr>
          <a:xfrm>
            <a:off x="259920" y="890280"/>
            <a:ext cx="875052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utorisation conjointe du Pôle de vie gérontologique à Antony :</a:t>
            </a:r>
            <a:endParaRPr b="1" lang="en-US" sz="24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1" lang="fr-FR" sz="2000" spc="-1" strike="noStrike">
                <a:solidFill>
                  <a:srgbClr val="1f497d"/>
                </a:solidFill>
                <a:latin typeface="Arial"/>
              </a:rPr>
              <a:t>35 places de FAM dont 5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0 places d’AJ</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3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30 places SSIAD PA</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20 places SSIAD PH</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 Equipe Spécialisée Alzheimer (10 places)</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	</a:t>
            </a:r>
            <a:r>
              <a:rPr b="1" lang="fr-FR" sz="2000" spc="-1" strike="noStrike">
                <a:solidFill>
                  <a:srgbClr val="1f497d"/>
                </a:solidFill>
                <a:latin typeface="Arial"/>
              </a:rPr>
              <a:t>1 PASA</a:t>
            </a:r>
            <a:endParaRPr b="0" lang="en-US" sz="2000" spc="-1" strike="noStrike">
              <a:solidFill>
                <a:srgbClr val="1f497d"/>
              </a:solidFill>
              <a:latin typeface="Arial"/>
            </a:endParaRPr>
          </a:p>
          <a:p>
            <a:pPr lvl="2" marL="1341360" indent="-4269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arcours de vie et de soins individualis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à domicil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cloisonnement de la gérontologie et du handicap</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du lien familial</a:t>
            </a:r>
            <a:endParaRPr b="1" lang="en-US" sz="2400" spc="-1" strike="noStrike">
              <a:solidFill>
                <a:srgbClr val="1f497d"/>
              </a:solidFill>
              <a:latin typeface="Arial"/>
            </a:endParaRPr>
          </a:p>
          <a:p>
            <a:pPr lvl="2" marL="1341360" indent="-42696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développement de l’offre pour personnes âgées</a:t>
            </a:r>
            <a:endParaRPr b="1" lang="en-US" sz="2800" spc="-1" strike="noStrike">
              <a:solidFill>
                <a:srgbClr val="7ab800"/>
              </a:solidFill>
              <a:latin typeface="Arial"/>
            </a:endParaRPr>
          </a:p>
        </p:txBody>
      </p:sp>
      <p:sp>
        <p:nvSpPr>
          <p:cNvPr id="236" name=""/>
          <p:cNvSpPr txBox="1"/>
          <p:nvPr/>
        </p:nvSpPr>
        <p:spPr>
          <a:xfrm>
            <a:off x="272520" y="980640"/>
            <a:ext cx="8372520" cy="5499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ise en œuvre du plan national Alzheimer 2008-2012 </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endParaRPr b="1" lang="en-US" sz="2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p:txBody>
      </p:sp>
      <p:graphicFrame>
        <p:nvGraphicFramePr>
          <p:cNvPr id="237" name=""/>
          <p:cNvGraphicFramePr/>
          <p:nvPr/>
        </p:nvGraphicFramePr>
        <p:xfrm>
          <a:off x="249120" y="1844640"/>
          <a:ext cx="8732880" cy="4162320"/>
        </p:xfrm>
        <a:graphic>
          <a:graphicData uri="http://schemas.openxmlformats.org/drawingml/2006/table">
            <a:tbl>
              <a:tblPr/>
              <a:tblGrid>
                <a:gridCol w="2017800"/>
                <a:gridCol w="1474920"/>
                <a:gridCol w="1747800"/>
                <a:gridCol w="1746360"/>
                <a:gridCol w="1746000"/>
              </a:tblGrid>
              <a:tr h="67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esu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68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ateformes d’accompagnement et de répi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105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5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7 labellisé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t 67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 labellisés dont10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H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CC</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G:\ETAB_MEDICO_SOCIAUX\POLE P-AGEES\1-SYNTHESE 92\SUIVI DES ETABLISSEMENTS\Cartographie EHPAD et SSIAD\Carte SSIAD (+ Territoires ESA) DT92.png"/>
          <p:cNvPicPr/>
          <p:nvPr/>
        </p:nvPicPr>
        <p:blipFill>
          <a:blip r:embed="rId1"/>
          <a:stretch/>
        </p:blipFill>
        <p:spPr>
          <a:xfrm>
            <a:off x="2147760" y="0"/>
            <a:ext cx="484848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Offre existante dans le secteur de l’Autisme</a:t>
            </a:r>
            <a:endParaRPr b="1" lang="en-US" sz="2400" spc="-1" strike="noStrike">
              <a:solidFill>
                <a:srgbClr val="7ab800"/>
              </a:solidFill>
              <a:latin typeface="Arial"/>
            </a:endParaRPr>
          </a:p>
        </p:txBody>
      </p:sp>
      <p:sp>
        <p:nvSpPr>
          <p:cNvPr id="240" name=""/>
          <p:cNvSpPr txBox="1"/>
          <p:nvPr/>
        </p:nvSpPr>
        <p:spPr>
          <a:xfrm>
            <a:off x="250920" y="872640"/>
            <a:ext cx="8750160" cy="5715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4 FAM pour 129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9 IME pour 185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our 114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2 IME + 1 SESSAD)</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e nombreuses prises en charge dans des établissements n’ayant pas d’agrément spécifique (agrément handicap déficience intellectuelle en général).</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	</a:t>
            </a:r>
            <a:r>
              <a:rPr b="1" lang="fr-FR" sz="2400" spc="-1" strike="noStrike">
                <a:solidFill>
                  <a:srgbClr val="7ab800"/>
                </a:solidFill>
                <a:latin typeface="Arial"/>
              </a:rPr>
              <a:t>   </a:t>
            </a:r>
            <a:br>
              <a:rPr sz="2400"/>
            </a:br>
            <a:br>
              <a:rPr sz="2400"/>
            </a:br>
            <a:br>
              <a:rPr sz="2400"/>
            </a:br>
            <a:r>
              <a:rPr b="1" lang="fr-FR" sz="2400" spc="-1" strike="noStrike">
                <a:solidFill>
                  <a:srgbClr val="7ab800"/>
                </a:solidFill>
                <a:latin typeface="Arial"/>
              </a:rPr>
              <a:t>Principaux axes du Plan Autisme 2013-2017</a:t>
            </a:r>
            <a:br>
              <a:rPr sz="2400"/>
            </a:br>
            <a:br>
              <a:rPr sz="2400"/>
            </a:br>
            <a:br>
              <a:rPr sz="2400"/>
            </a:br>
            <a:endParaRPr b="1" lang="en-US" sz="2400" spc="-1" strike="noStrike">
              <a:solidFill>
                <a:srgbClr val="7ab800"/>
              </a:solidFill>
              <a:latin typeface="Arial"/>
            </a:endParaRPr>
          </a:p>
        </p:txBody>
      </p:sp>
      <p:graphicFrame>
        <p:nvGraphicFramePr>
          <p:cNvPr id="242" name=""/>
          <p:cNvGraphicFramePr/>
          <p:nvPr/>
        </p:nvGraphicFramePr>
        <p:xfrm>
          <a:off x="376200" y="1628640"/>
          <a:ext cx="8750160" cy="4729320"/>
        </p:xfrm>
        <a:graphic>
          <a:graphicData uri="http://schemas.openxmlformats.org/drawingml/2006/table">
            <a:tbl>
              <a:tblPr/>
              <a:tblGrid>
                <a:gridCol w="3382920"/>
                <a:gridCol w="5367240"/>
              </a:tblGrid>
              <a:tr h="432000">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5 axes :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des objectifs prioritaires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28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Diagnostiquer et intervenir précocement (tryptique : repérage, diagnostic et interventions  dès 18 moi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se en place de plateformes de diagnostic de proximité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Unités d’enseignement en maternell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44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Accompagner tout  au long  de la  vi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volution de l’offre  </a:t>
                      </a:r>
                      <a:r>
                        <a:rPr b="0" lang="fr-FR" sz="1400" spc="-1" strike="noStrike">
                          <a:solidFill>
                            <a:srgbClr val="0000ff"/>
                          </a:solidFill>
                          <a:latin typeface="Arial"/>
                        </a:rPr>
                        <a:t>: </a:t>
                      </a:r>
                      <a:r>
                        <a:rPr b="0" lang="fr-FR" sz="1400" spc="-1" strike="noStrike">
                          <a:solidFill>
                            <a:srgbClr val="000000"/>
                          </a:solidFill>
                          <a:latin typeface="Arial"/>
                        </a:rPr>
                        <a:t> adaptation des organisations et des pratiques professionnelles médico-sociales et </a:t>
                      </a:r>
                      <a:r>
                        <a:rPr b="0" lang="fr-FR" sz="1400" spc="-1" strike="noStrike">
                          <a:solidFill>
                            <a:srgbClr val="000000"/>
                          </a:solidFill>
                          <a:latin typeface="Arial"/>
                        </a:rPr>
                        <a:t>sanitaires au regard des recommandations de bonnes pratiques professionnelles (RBP).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offre</a:t>
                      </a:r>
                      <a:r>
                        <a:rPr b="0" lang="fr-FR" sz="1400" spc="-1" strike="noStrike">
                          <a:solidFill>
                            <a:srgbClr val="0000ff"/>
                          </a:solidFill>
                          <a:latin typeface="Arial"/>
                        </a:rPr>
                        <a:t> :  </a:t>
                      </a:r>
                      <a:r>
                        <a:rPr b="0" lang="fr-FR" sz="1400" spc="-1" strike="noStrike">
                          <a:solidFill>
                            <a:srgbClr val="000000"/>
                          </a:solidFill>
                          <a:latin typeface="Arial"/>
                        </a:rPr>
                        <a:t>secteur</a:t>
                      </a:r>
                      <a:r>
                        <a:rPr b="0" lang="fr-FR" sz="1400" spc="-1" strike="noStrike">
                          <a:solidFill>
                            <a:srgbClr val="0000ff"/>
                          </a:solidFill>
                          <a:latin typeface="Arial"/>
                        </a:rPr>
                        <a:t> </a:t>
                      </a:r>
                      <a:r>
                        <a:rPr b="0" lang="fr-FR" sz="1400" spc="-1" strike="noStrike">
                          <a:solidFill>
                            <a:srgbClr val="000000"/>
                          </a:solidFill>
                          <a:latin typeface="Arial"/>
                        </a:rPr>
                        <a:t>adulte compte</a:t>
                      </a:r>
                      <a:r>
                        <a:rPr b="0" lang="fr-FR" sz="1400" spc="-1" strike="noStrike">
                          <a:solidFill>
                            <a:srgbClr val="0000ff"/>
                          </a:solidFill>
                          <a:latin typeface="Arial"/>
                        </a:rPr>
                        <a:t> </a:t>
                      </a:r>
                      <a:r>
                        <a:rPr b="0" lang="fr-FR" sz="1400" spc="-1" strike="noStrike">
                          <a:solidFill>
                            <a:srgbClr val="000000"/>
                          </a:solidFill>
                          <a:latin typeface="Arial"/>
                        </a:rPr>
                        <a:t>tenu</a:t>
                      </a:r>
                      <a:r>
                        <a:rPr b="0" lang="fr-FR" sz="1400" spc="-1" strike="noStrike">
                          <a:solidFill>
                            <a:srgbClr val="0000ff"/>
                          </a:solidFill>
                          <a:latin typeface="Arial"/>
                        </a:rPr>
                        <a:t> </a:t>
                      </a:r>
                      <a:r>
                        <a:rPr b="0" lang="fr-FR" sz="1400" spc="-1" strike="noStrike">
                          <a:solidFill>
                            <a:srgbClr val="000000"/>
                          </a:solidFill>
                          <a:latin typeface="Arial"/>
                        </a:rPr>
                        <a:t>des</a:t>
                      </a:r>
                      <a:r>
                        <a:rPr b="0" lang="fr-FR" sz="1400" spc="-1" strike="noStrike">
                          <a:solidFill>
                            <a:srgbClr val="0000ff"/>
                          </a:solidFill>
                          <a:latin typeface="Arial"/>
                        </a:rPr>
                        <a:t> </a:t>
                      </a:r>
                      <a:r>
                        <a:rPr b="0" lang="fr-FR" sz="1400" spc="-1" strike="noStrike">
                          <a:solidFill>
                            <a:srgbClr val="000000"/>
                          </a:solidFill>
                          <a:latin typeface="Arial"/>
                        </a:rPr>
                        <a:t>taux</a:t>
                      </a:r>
                      <a:r>
                        <a:rPr b="0" lang="fr-FR" sz="1400" spc="-1" strike="noStrike">
                          <a:solidFill>
                            <a:srgbClr val="0000ff"/>
                          </a:solidFill>
                          <a:latin typeface="Arial"/>
                        </a:rPr>
                        <a:t> </a:t>
                      </a:r>
                      <a:r>
                        <a:rPr b="0" lang="fr-FR" sz="1400" spc="-1" strike="noStrike">
                          <a:solidFill>
                            <a:srgbClr val="000000"/>
                          </a:solidFill>
                          <a:latin typeface="Arial"/>
                        </a:rPr>
                        <a:t>d’équipement ( Crédits pour les créations de places MAS/FAM/SAMSAH)</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outenir les famille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e places d’accueil temporai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Poursuivre la recherch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lien avec l’université</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5776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ensibiliser et former l’ensemble des acteur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ans le cadre de l’adaptation de l’offre, référentiel qualité national qui vise à permettre à la structure d’élaborer un plan d’actions d’amélioration de la qualité (test en régions Ile de France et Limousin en cours  ) - formations à mettre en œuv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720" y="-360"/>
            <a:ext cx="918036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Focus : Démarche d’Evaluation Concertée Territoriale (DECT) </a:t>
            </a:r>
            <a:br>
              <a:rPr sz="2400"/>
            </a:br>
            <a:endParaRPr b="1" lang="en-US" sz="2400" spc="-1" strike="noStrike">
              <a:solidFill>
                <a:srgbClr val="7ab800"/>
              </a:solidFill>
              <a:latin typeface="Arial"/>
            </a:endParaRPr>
          </a:p>
        </p:txBody>
      </p:sp>
      <p:sp>
        <p:nvSpPr>
          <p:cNvPr id="244" name=""/>
          <p:cNvSpPr txBox="1"/>
          <p:nvPr/>
        </p:nvSpPr>
        <p:spPr>
          <a:xfrm>
            <a:off x="179280" y="765000"/>
            <a:ext cx="4392720" cy="54007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Réponse aux enjeux et nécessités </a:t>
            </a:r>
            <a:r>
              <a:rPr b="1" lang="fr-FR" sz="1200" spc="-1" strike="noStrike">
                <a:solidFill>
                  <a:srgbClr val="000000"/>
                </a:solidFill>
                <a:latin typeface="Arial"/>
              </a:rPr>
              <a:t>: </a:t>
            </a: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mpliquer usagers et partenaire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évaluer des besoin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éorganiser les réponses au niveau territorial en réduisant les segmentation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Méthodologie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stitution d’un COPIL départemental et organisation de conférences territoriales pluri acteur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ueil de l’analyse des pilotes des politiques publiques : CG, DT ARS, MDPH, EN…</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cus groupes famille, psychiatrie, ESM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hase « réunions thématiques » réunissant tous les partenaires:</a:t>
            </a:r>
            <a:endParaRPr b="1" lang="en-US" sz="14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iptyque,</a:t>
            </a:r>
            <a:endParaRPr b="0" lang="en-US" sz="12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rticulation des soins et de l’accompagnement médico-social  dans le parcours de vie de la personne </a:t>
            </a:r>
            <a:endParaRPr b="0" lang="en-US" sz="1200" spc="-1" strike="noStrike">
              <a:solidFill>
                <a:srgbClr val="1f497d"/>
              </a:solidFill>
              <a:latin typeface="Arial"/>
            </a:endParaRPr>
          </a:p>
          <a:p>
            <a:pPr lvl="1" marL="132876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colarisation, troubles sévères du comportement, soins somatiques</a:t>
            </a:r>
            <a:r>
              <a:rPr b="0" lang="fr-FR" sz="900" spc="-1" strike="noStrike">
                <a:solidFill>
                  <a:srgbClr val="000000"/>
                </a:solidFill>
                <a:latin typeface="Arial"/>
              </a:rPr>
              <a:t>…</a:t>
            </a:r>
            <a:endParaRPr b="0" lang="en-US" sz="900" spc="-1" strike="noStrike">
              <a:solidFill>
                <a:srgbClr val="1f497d"/>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f497d"/>
              </a:solidFill>
              <a:latin typeface="Arial"/>
            </a:endParaRPr>
          </a:p>
        </p:txBody>
      </p:sp>
      <p:sp>
        <p:nvSpPr>
          <p:cNvPr id="245" name=""/>
          <p:cNvSpPr txBox="1"/>
          <p:nvPr/>
        </p:nvSpPr>
        <p:spPr>
          <a:xfrm>
            <a:off x="4859280" y="765000"/>
            <a:ext cx="4284720" cy="54007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Calendrier par 3 vagues finalisation  et restitution régionale : fin juin 2016.</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77 et 78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 de restitution des premiers résultats : septembre 2014</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roupes de travail sur les thématiques « triptyque » et « situations complexes » démarrent début octobr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s de restitution en janvier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1 et 93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PIL 1 : fin septembre 2014 pour un démarrage de la démarch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2 et 94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rs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5 et 75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ptembre 2015</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 de la DECT au plan régional : juin 2016</a:t>
            </a: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ab800"/>
                </a:solidFill>
                <a:latin typeface="Arial"/>
              </a:rPr>
              <a:t>Adaptation de l’offre : Plan de restructuration</a:t>
            </a:r>
            <a:endParaRPr b="1" lang="en-US" sz="2600" spc="-1" strike="noStrike">
              <a:solidFill>
                <a:srgbClr val="7ab800"/>
              </a:solidFill>
              <a:latin typeface="Arial"/>
            </a:endParaRPr>
          </a:p>
        </p:txBody>
      </p:sp>
      <p:sp>
        <p:nvSpPr>
          <p:cNvPr id="247" name=""/>
          <p:cNvSpPr txBox="1"/>
          <p:nvPr/>
        </p:nvSpPr>
        <p:spPr>
          <a:xfrm>
            <a:off x="267840" y="980640"/>
            <a:ext cx="8750520" cy="5499000"/>
          </a:xfrm>
          <a:prstGeom prst="rect">
            <a:avLst/>
          </a:prstGeom>
          <a:noFill/>
          <a:ln w="0">
            <a:noFill/>
          </a:ln>
        </p:spPr>
        <p:txBody>
          <a:bodyPr anchor="t">
            <a:normAutofit/>
          </a:bodyPr>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e vieillissement de la population, l’évolution de la prévalence de certaines déficiences et de certaines maladies chroniques ainsi que la mutation des modalités de prise en charge attendues font apparaître la nécessité d’ajuster l’offre médico-sociale afin de répondre aux enjeux de la recherche de parcours de vie et de soins coordonnés des personnes handicapées et des personnes âgée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Par ailleurs, les exigences permanentes d’amélioration de la qualité des services rendus supposent une réinterrogation des modes de fonctionnement des établissements et services médico-sociaux (ESM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a nécessaire optimisation de la gestion des structures au service de la population et les contraintes financières croissantes peuvent mettre sous tension le secteur médico-social, voire mettre en péril la pérennité de certaines structures.</a:t>
            </a: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Présentation</a:t>
            </a:r>
            <a:endParaRPr b="1" lang="en-US" sz="2800" spc="-1" strike="noStrike">
              <a:solidFill>
                <a:srgbClr val="7ab800"/>
              </a:solidFill>
              <a:latin typeface="Arial"/>
            </a:endParaRPr>
          </a:p>
        </p:txBody>
      </p:sp>
      <p:sp>
        <p:nvSpPr>
          <p:cNvPr id="213" name=""/>
          <p:cNvSpPr txBox="1"/>
          <p:nvPr/>
        </p:nvSpPr>
        <p:spPr>
          <a:xfrm>
            <a:off x="267840" y="980640"/>
            <a:ext cx="8750520" cy="5499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 développement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adaptation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s évaluations externes</a:t>
            </a:r>
            <a:endParaRPr b="1" lang="en-US" sz="2400" spc="-1" strike="noStrike">
              <a:solidFill>
                <a:srgbClr val="1f497d"/>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démarche articulée et concertée</a:t>
            </a:r>
            <a:endParaRPr b="1" lang="en-US" sz="2800" spc="-1" strike="noStrike">
              <a:solidFill>
                <a:srgbClr val="7ab800"/>
              </a:solidFill>
              <a:latin typeface="Arial"/>
            </a:endParaRPr>
          </a:p>
        </p:txBody>
      </p:sp>
      <p:sp>
        <p:nvSpPr>
          <p:cNvPr id="249" name=""/>
          <p:cNvSpPr txBox="1"/>
          <p:nvPr/>
        </p:nvSpPr>
        <p:spPr>
          <a:xfrm>
            <a:off x="268200" y="980640"/>
            <a:ext cx="8516880" cy="5499000"/>
          </a:xfrm>
          <a:prstGeom prst="rect">
            <a:avLst/>
          </a:prstGeom>
          <a:noFill/>
          <a:ln w="0">
            <a:noFill/>
          </a:ln>
        </p:spPr>
        <p:txBody>
          <a:bodyPr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tte démarche est menée en parallèle de la poursuite du développement de l’offre via les appels à projets.</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 n’est pas une démarche nouvelle, les évolutions du dispositif sont continues. </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s évolutions sont basées sur un diagnostic de fonctionnement des ESMS, qui seront de plus en plus documentés grâce aux rapports d’évaluation interne et externe. </a:t>
            </a:r>
            <a:endParaRPr b="1" lang="en-US" sz="2200" spc="-1" strike="noStrike">
              <a:solidFill>
                <a:srgbClr val="1f497d"/>
              </a:solidFill>
              <a:latin typeface="Arial"/>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es discussions ont été organisées avec les Fédérations afin de leur faire partager les objectifs de cette démarche.</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démarche d’adaptation sera menée conjointement avec les Conseils Généraux pour les ESMS à autorisation partagée.</a:t>
            </a:r>
            <a:endParaRPr b="1" lang="en-US" sz="2200" spc="-1" strike="noStrike">
              <a:solidFill>
                <a:srgbClr val="1f497d"/>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volonté de lancer une dynamique d’adaptation de l’offre </a:t>
            </a:r>
            <a:endParaRPr b="1" lang="en-US" sz="2800" spc="-1" strike="noStrike">
              <a:solidFill>
                <a:srgbClr val="7ab800"/>
              </a:solidFill>
              <a:latin typeface="Arial"/>
            </a:endParaRPr>
          </a:p>
        </p:txBody>
      </p:sp>
      <p:sp>
        <p:nvSpPr>
          <p:cNvPr id="251" name=""/>
          <p:cNvSpPr txBox="1"/>
          <p:nvPr/>
        </p:nvSpPr>
        <p:spPr>
          <a:xfrm>
            <a:off x="267840" y="907920"/>
            <a:ext cx="8372520" cy="5834160"/>
          </a:xfrm>
          <a:prstGeom prst="rect">
            <a:avLst/>
          </a:prstGeom>
          <a:noFill/>
          <a:ln w="0">
            <a:noFill/>
          </a:ln>
        </p:spPr>
        <p:txBody>
          <a:bodyPr anchor="t">
            <a:normAutofit/>
          </a:bodyPr>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particularité de la démarche engagée est la volonté de repérer des structures en situation de risque de fragilité afin d’inciter celles-ci à évoluer et d’anticiper les difficultés importante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e but est de mobiliser l’ensemble du secteur afin qu’il s’interroge sur les mutations à venir et de l’encourager à s’engager dans des rapprochements, mutualisations, coopération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ifférents critères permettent de s’interroger sur la nécessaire évolution d’un ESMS :</a:t>
            </a:r>
            <a:endParaRPr b="1" lang="en-US" sz="22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taille de l’ESMS ou la taille du gestionnaire,</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e niveau d’activité,</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vétusté du bâti,</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dotation financière et les difficultés budgétaires</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a:t>
            </a:r>
            <a:endParaRPr b="0" lang="en-US" sz="1900" spc="-1" strike="noStrike">
              <a:solidFill>
                <a:srgbClr val="1f497d"/>
              </a:solidFill>
              <a:latin typeface="Arial"/>
            </a:endParaRPr>
          </a:p>
          <a:p>
            <a:pPr marL="343080" indent="-34308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1f497d"/>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96720" y="-11520"/>
            <a:ext cx="777564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Une adaptation de l’offre à multiples formes</a:t>
            </a:r>
            <a:endParaRPr b="1" lang="en-US" sz="2800" spc="-1" strike="noStrike">
              <a:solidFill>
                <a:srgbClr val="7ab800"/>
              </a:solidFill>
              <a:latin typeface="Arial"/>
            </a:endParaRPr>
          </a:p>
        </p:txBody>
      </p:sp>
      <p:sp>
        <p:nvSpPr>
          <p:cNvPr id="253" name=""/>
          <p:cNvSpPr txBox="1"/>
          <p:nvPr/>
        </p:nvSpPr>
        <p:spPr>
          <a:xfrm>
            <a:off x="267840" y="776160"/>
            <a:ext cx="8372520" cy="56772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s évolutions des ESMS peuvent présenter différentes modalité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Modification de l’agrément.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rapprochement/ mutualisations de moyens (entre ESMS ou entre gestionnaires).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Projets de reconstruction ou de remise au normes. …</a:t>
            </a:r>
            <a:endParaRPr b="0" lang="en-US" sz="2000" spc="-1" strike="noStrike">
              <a:solidFill>
                <a:srgbClr val="1f497d"/>
              </a:solidFill>
              <a:latin typeface="Arial"/>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RS se rapprochera également de certains établissement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lerte sur l’activité.</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Demande de plan d’économie/de retour à l’équilibre.</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t>
            </a:r>
            <a:endParaRPr b="0" lang="en-US" sz="2000" spc="-1" strike="noStrike">
              <a:solidFill>
                <a:srgbClr val="1f497d"/>
              </a:solidFill>
              <a:latin typeface="Arial"/>
            </a:endParaRPr>
          </a:p>
          <a:p>
            <a:pPr marL="343080" indent="-34308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A</a:t>
            </a:r>
            <a:endParaRPr b="1" lang="en-US" sz="3200" spc="-1" strike="noStrike">
              <a:solidFill>
                <a:srgbClr val="7ab800"/>
              </a:solidFill>
              <a:latin typeface="Arial"/>
            </a:endParaRPr>
          </a:p>
        </p:txBody>
      </p:sp>
      <p:sp>
        <p:nvSpPr>
          <p:cNvPr id="255" name=""/>
          <p:cNvSpPr txBox="1"/>
          <p:nvPr/>
        </p:nvSpPr>
        <p:spPr>
          <a:xfrm>
            <a:off x="109440" y="872640"/>
            <a:ext cx="9034560" cy="571500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Taille critique/ Seuil de viabilité des structures</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Accompagnement des EHPAD publics : vétusté des locaux, difficultés financières, gouvernance,…. </a:t>
            </a: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Sous activité de certains SSIAD</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Opérations immobilières lourdes </a:t>
            </a:r>
            <a:endParaRPr b="1" lang="en-US" sz="2000" spc="-1" strike="noStrike">
              <a:solidFill>
                <a:srgbClr val="1f497d"/>
              </a:solidFill>
              <a:latin typeface="Arial"/>
            </a:endParaRPr>
          </a:p>
          <a:p>
            <a:pPr lvl="2"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Restructurations de l’offre : mise en conformité des Accueils de jour (décret 2011) </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endParaRPr b="1" lang="en-US" sz="2000" spc="-1" strike="noStrike">
              <a:solidFill>
                <a:srgbClr val="1f497d"/>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H</a:t>
            </a:r>
            <a:endParaRPr b="1" lang="en-US" sz="3200" spc="-1" strike="noStrike">
              <a:solidFill>
                <a:srgbClr val="7ab800"/>
              </a:solidFill>
              <a:latin typeface="Arial"/>
            </a:endParaRPr>
          </a:p>
        </p:txBody>
      </p:sp>
      <p:sp>
        <p:nvSpPr>
          <p:cNvPr id="257" name=""/>
          <p:cNvSpPr txBox="1"/>
          <p:nvPr/>
        </p:nvSpPr>
        <p:spPr>
          <a:xfrm>
            <a:off x="109440" y="872640"/>
            <a:ext cx="90345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ctivité PH (moyenne 2011 à 2013)</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sultats financier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pérations immobilières lourd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odifications d’agrément/Reprises de gestion</a:t>
            </a:r>
            <a:endParaRPr b="1" lang="en-US" sz="2400" spc="-1" strike="noStrike">
              <a:solidFill>
                <a:srgbClr val="1f497d"/>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7ab800"/>
                </a:solidFill>
                <a:latin typeface="Arial"/>
                <a:ea typeface="Arial"/>
              </a:rPr>
              <a:t>L’adaptation de l’offre médico sociale dans les Hauts-de-Seine</a:t>
            </a:r>
            <a:endParaRPr b="1" lang="en-US" sz="3200" spc="-1" strike="noStrike">
              <a:solidFill>
                <a:srgbClr val="7ab800"/>
              </a:solidFill>
              <a:latin typeface="Arial"/>
            </a:endParaRPr>
          </a:p>
        </p:txBody>
      </p:sp>
      <p:sp>
        <p:nvSpPr>
          <p:cNvPr id="259" name=""/>
          <p:cNvSpPr txBox="1"/>
          <p:nvPr/>
        </p:nvSpPr>
        <p:spPr>
          <a:xfrm>
            <a:off x="250920" y="872640"/>
            <a:ext cx="875016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	</a:t>
            </a:r>
            <a:r>
              <a:rPr b="1" lang="fr-FR" sz="2800" spc="-1" strike="noStrike" u="sng">
                <a:solidFill>
                  <a:srgbClr val="1f497d"/>
                </a:solidFill>
                <a:uFillTx/>
                <a:latin typeface="Arial"/>
              </a:rPr>
              <a:t>Les projets 2015-2017 :</a:t>
            </a:r>
            <a:r>
              <a:rPr b="1" lang="fr-FR" sz="2800" spc="-1" strike="noStrike">
                <a:solidFill>
                  <a:srgbClr val="1f497d"/>
                </a:solidFill>
                <a:latin typeface="Arial"/>
              </a:rPr>
              <a:t> </a:t>
            </a:r>
            <a:endParaRPr b="1" lang="en-US" sz="28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Une 40</a:t>
            </a:r>
            <a:r>
              <a:rPr b="1" lang="fr-FR" sz="2400" spc="-1" strike="noStrike" baseline="30000">
                <a:solidFill>
                  <a:srgbClr val="1f497d"/>
                </a:solidFill>
                <a:latin typeface="Arial"/>
              </a:rPr>
              <a:t>aine</a:t>
            </a:r>
            <a:r>
              <a:rPr b="1" lang="fr-FR" sz="2400" spc="-1" strike="noStrike">
                <a:solidFill>
                  <a:srgbClr val="1f497d"/>
                </a:solidFill>
                <a:latin typeface="Arial"/>
              </a:rPr>
              <a:t> de projets de restructuration d’ESMS est envisagée (extension, regroupement et mutualisation des moyens…) sur les 2 secteurs PA et PH</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32000" y="7560"/>
            <a:ext cx="781200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Evaluations externes</a:t>
            </a:r>
            <a:endParaRPr b="1" lang="en-US" sz="2800" spc="-1" strike="noStrike">
              <a:solidFill>
                <a:srgbClr val="7ab800"/>
              </a:solidFill>
              <a:latin typeface="Arial"/>
            </a:endParaRPr>
          </a:p>
        </p:txBody>
      </p:sp>
      <p:sp>
        <p:nvSpPr>
          <p:cNvPr id="261" name=""/>
          <p:cNvSpPr txBox="1"/>
          <p:nvPr/>
        </p:nvSpPr>
        <p:spPr>
          <a:xfrm>
            <a:off x="267840" y="980640"/>
            <a:ext cx="8750520" cy="54990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Times New Roman"/>
              </a:rPr>
              <a:t>La loi 2002-02 pose le principe d’une évaluation continue des activités des établissements et services sociaux et médico-sociaux. </a:t>
            </a:r>
            <a:r>
              <a:rPr b="0" lang="fr-FR" sz="2400" spc="-1" strike="noStrike">
                <a:solidFill>
                  <a:srgbClr val="1f497d"/>
                </a:solidFill>
                <a:latin typeface="Arial"/>
                <a:ea typeface="Times New Roman"/>
              </a:rPr>
              <a:t>Dans le cadre de cette démarche, deux éléments sont obligatoires : l’évaluation interne et l’évaluation externe.</a:t>
            </a:r>
            <a:endParaRPr b="1" lang="en-US" sz="2400" spc="-1" strike="noStrike">
              <a:solidFill>
                <a:srgbClr val="1f497d"/>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 code de l’action sociale et des familles prévoit que le renouvellement de l’autorisation est exclusivement subordonné aux résultats de l'évaluation externe.</a:t>
            </a:r>
            <a:endParaRPr b="1" lang="en-US" sz="2400" spc="-1" strike="noStrike">
              <a:solidFill>
                <a:srgbClr val="1f497d"/>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2480" y="115920"/>
            <a:ext cx="777564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Calendrier actuel lié au renouvellement des autorisations</a:t>
            </a:r>
            <a:endParaRPr b="1" lang="en-US" sz="2800" spc="-1" strike="noStrike">
              <a:solidFill>
                <a:srgbClr val="7ab800"/>
              </a:solidFill>
              <a:latin typeface="Arial"/>
            </a:endParaRPr>
          </a:p>
        </p:txBody>
      </p:sp>
      <p:graphicFrame>
        <p:nvGraphicFramePr>
          <p:cNvPr id="263" name=""/>
          <p:cNvGraphicFramePr/>
          <p:nvPr/>
        </p:nvGraphicFramePr>
        <p:xfrm>
          <a:off x="271440" y="1125360"/>
          <a:ext cx="8713800" cy="5102280"/>
        </p:xfrm>
        <a:graphic>
          <a:graphicData uri="http://schemas.openxmlformats.org/drawingml/2006/table">
            <a:tbl>
              <a:tblPr/>
              <a:tblGrid>
                <a:gridCol w="3957840"/>
                <a:gridCol w="1463400"/>
                <a:gridCol w="3292560"/>
              </a:tblGrid>
              <a:tr h="324000">
                <a:tc grid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 </a:t>
                      </a:r>
                      <a:r>
                        <a:rPr b="1" lang="fr-FR" sz="1400" spc="-1" strike="noStrike">
                          <a:solidFill>
                            <a:srgbClr val="ffffff"/>
                          </a:solidFill>
                          <a:latin typeface="Arial"/>
                        </a:rPr>
                        <a:t>Pour les ESMS autorisés avant 20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r>
              <a:tr h="5572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product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transmiss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févr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écret 14/11/201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2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injonction de 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renouvellement tacite à cette date avec prise d’effet au 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élai de</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dépôt : pas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élai de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ponse au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réponse : acceptation du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Pour les ESMS,</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renouvellement effectif de l’autorisation</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renouvellement d’autorisation</a:t>
            </a:r>
            <a:endParaRPr b="1" lang="en-US" sz="2800" spc="-1" strike="noStrike">
              <a:solidFill>
                <a:srgbClr val="7ab800"/>
              </a:solidFill>
              <a:latin typeface="Arial"/>
            </a:endParaRPr>
          </a:p>
        </p:txBody>
      </p:sp>
      <p:sp>
        <p:nvSpPr>
          <p:cNvPr id="265" name=""/>
          <p:cNvSpPr txBox="1"/>
          <p:nvPr/>
        </p:nvSpPr>
        <p:spPr>
          <a:xfrm>
            <a:off x="267840" y="980640"/>
            <a:ext cx="8750520" cy="5499000"/>
          </a:xfrm>
          <a:prstGeom prst="rect">
            <a:avLst/>
          </a:prstGeom>
          <a:noFill/>
          <a:ln w="0">
            <a:noFill/>
          </a:ln>
        </p:spPr>
        <p:txBody>
          <a:bodyPr anchor="t">
            <a:normAutofit/>
          </a:bodyPr>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nouvelle autorisation prendra effet au 3 janvier 2017.</a:t>
            </a:r>
            <a:endParaRPr b="1" lang="en-US" sz="2400" spc="-1" strike="noStrike">
              <a:solidFill>
                <a:srgbClr val="1f497d"/>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ans le cas très exceptionnel de non renouvellement de l’autorisation, l’ESMS devra fermer au 3 janvier 2017.</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Normalement une prochaine disposition législative devrait faire disparaitre l’obligation systématique d’une visite de conformité pour valider le renouvellement d’autorisation.</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mise en œuvre des préconisations et des propositions présentes dans le rapport d’évaluation externe ont vocation à être vérifiés lors de futures visites ou d’inspections au sein de l’ESMS </a:t>
            </a:r>
            <a:endParaRPr b="1" lang="en-US" sz="24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5"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1</a:t>
            </a:r>
            <a:r>
              <a:rPr b="1" lang="fr-FR" sz="2400" spc="-1" strike="noStrike">
                <a:solidFill>
                  <a:srgbClr val="1f497d"/>
                </a:solidFill>
                <a:latin typeface="Arial"/>
              </a:rPr>
              <a:t>: Organiser une offre médico-sociale adaptée </a:t>
            </a:r>
            <a:r>
              <a:rPr b="1" lang="fr-FR" sz="2400" spc="-1" strike="noStrike">
                <a:solidFill>
                  <a:srgbClr val="1f497d"/>
                </a:solidFill>
                <a:latin typeface="Arial"/>
              </a:rPr>
              <a:t>	</a:t>
            </a:r>
            <a:r>
              <a:rPr b="1" lang="fr-FR" sz="2400" spc="-1" strike="noStrike">
                <a:solidFill>
                  <a:srgbClr val="1f497d"/>
                </a:solidFill>
                <a:latin typeface="Arial"/>
              </a:rPr>
              <a:t>et de proximit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duire les inégalités territoriales pour une accessibilité de proximité par une diversification de l’offre et une création de places dans les territoires sous doté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structurer l’offre pour suivre l’évolution démographique et les aspirations nouvelles des population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nforcer une logique d’efficience du système</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7"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2</a:t>
            </a:r>
            <a:r>
              <a:rPr b="1" lang="fr-FR" sz="2400" spc="-1" strike="noStrike">
                <a:solidFill>
                  <a:srgbClr val="1f497d"/>
                </a:solidFill>
                <a:latin typeface="Arial"/>
              </a:rPr>
              <a:t> : Améliorer la qualité de l’accompagnement </a:t>
            </a:r>
            <a:r>
              <a:rPr b="1" lang="fr-FR" sz="2400" spc="-1" strike="noStrike">
                <a:solidFill>
                  <a:srgbClr val="1f497d"/>
                </a:solidFill>
                <a:latin typeface="Arial"/>
              </a:rPr>
              <a:t>	</a:t>
            </a:r>
            <a:r>
              <a:rPr b="1" lang="fr-FR" sz="2400" spc="-1" strike="noStrike">
                <a:solidFill>
                  <a:srgbClr val="1f497d"/>
                </a:solidFill>
                <a:latin typeface="Arial"/>
              </a:rPr>
              <a:t>pour assurer un parcours de vie et de santé </a:t>
            </a:r>
            <a:r>
              <a:rPr b="1" lang="fr-FR" sz="2400" spc="-1" strike="noStrike">
                <a:solidFill>
                  <a:srgbClr val="1f497d"/>
                </a:solidFill>
                <a:latin typeface="Arial"/>
              </a:rPr>
              <a:t>	</a:t>
            </a:r>
            <a:r>
              <a:rPr b="1" lang="fr-FR" sz="2400" spc="-1" strike="noStrike">
                <a:solidFill>
                  <a:srgbClr val="1f497d"/>
                </a:solidFill>
                <a:latin typeface="Arial"/>
              </a:rPr>
              <a:t>répondant aux besoins des personnes</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rganiser et renforcer la prévention tout au long du parcours de vi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voriser les coopérations et les partenariats entre les acteurs concernés pour une prise en charge globale et sans ruptur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a qualité des prestations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velopper une démarche de bientraitanc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e soutien aux aidants</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priorités des Hauts de Seine</a:t>
            </a:r>
            <a:endParaRPr b="1" lang="en-US" sz="3200" spc="-1" strike="noStrike">
              <a:solidFill>
                <a:srgbClr val="7ab800"/>
              </a:solidFill>
              <a:latin typeface="Arial"/>
            </a:endParaRPr>
          </a:p>
        </p:txBody>
      </p:sp>
      <p:sp>
        <p:nvSpPr>
          <p:cNvPr id="219" name=""/>
          <p:cNvSpPr txBox="1"/>
          <p:nvPr/>
        </p:nvSpPr>
        <p:spPr>
          <a:xfrm>
            <a:off x="250920" y="872640"/>
            <a:ext cx="8750160" cy="5715000"/>
          </a:xfrm>
          <a:prstGeom prst="rect">
            <a:avLst/>
          </a:prstGeom>
          <a:noFill/>
          <a:ln w="0">
            <a:noFill/>
          </a:ln>
        </p:spPr>
        <p:txBody>
          <a:bodyPr anchor="t">
            <a:norm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Personnes Agées</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activité dans structures de répi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équipement en places de SSIAD</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dépistage et prise en charge précoce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ESSAD </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ITEP (enfants et adolescents présentant d’importants troubles du comport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tructures pour l’autisme et les troubles envahissants du développ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Etablissements pour PH vieillissantes</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 </a:t>
            </a:r>
            <a:endParaRPr b="1" lang="en-US" sz="2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1f497d"/>
                </a:solidFill>
                <a:latin typeface="Arial"/>
              </a:rPr>
              <a:t>	</a:t>
            </a: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offre médico-sociale dans les Hauts-de-Seine </a:t>
            </a:r>
            <a:endParaRPr b="1" lang="en-US" sz="2800" spc="-1" strike="noStrike">
              <a:solidFill>
                <a:srgbClr val="7ab800"/>
              </a:solidFill>
              <a:latin typeface="Arial"/>
            </a:endParaRPr>
          </a:p>
        </p:txBody>
      </p:sp>
      <p:sp>
        <p:nvSpPr>
          <p:cNvPr id="221" name=""/>
          <p:cNvSpPr txBox="1"/>
          <p:nvPr/>
        </p:nvSpPr>
        <p:spPr>
          <a:xfrm>
            <a:off x="283680" y="991800"/>
            <a:ext cx="8517240" cy="54990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Handicap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34 ESM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63 ESMS sur le secteur Adultes dont 31 ES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représentant 3 08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71 ESMS sur le secteur de l’Enfance pour 3 523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Ag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67 ESM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11 EHPAD pour 10 366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AJ dont 2 autonomes pour 237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SSIAD pour 2 230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3" name=""/>
          <p:cNvSpPr txBox="1"/>
          <p:nvPr/>
        </p:nvSpPr>
        <p:spPr>
          <a:xfrm>
            <a:off x="283680" y="991800"/>
            <a:ext cx="8517240" cy="5499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H en 2014 :</a:t>
            </a: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ôpital Nord à Villeneuve La Garenne (55 places</a:t>
            </a:r>
            <a:r>
              <a:rPr b="1" lang="fr-FR" sz="2400" spc="-1" strike="noStrike">
                <a:solidFill>
                  <a:srgbClr val="1f497d"/>
                </a:solidFill>
                <a:latin typeface="Arial"/>
                <a:ea typeface="Times New Roman"/>
              </a:rPr>
              <a:t> pour cérébro-lésés)</a:t>
            </a:r>
            <a:r>
              <a:rPr b="1" lang="fr-FR" sz="2400" spc="-1" strike="noStrike">
                <a:solidFill>
                  <a:srgbClr val="1f497d"/>
                </a:solidFill>
                <a:latin typeface="Arial"/>
              </a:rPr>
              <a: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de Billancourt 36 places à Boulogne (12 pour polyhandicapés et 24 mentaux vieillissant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Le Cèdre Bleu à Chaville (extension de 9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IME Solfège à Boulogne (20 places pour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entre expérimental de jour TedyBear à Saint Cloud (30 places pour jeunes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SESSAD PRO Le cèdre insertion à Chatillon (12 places)</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25"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A en 2014 </a:t>
            </a:r>
            <a:r>
              <a:rPr b="1" lang="fr-FR" sz="2400" spc="-1" strike="noStrike" u="sng">
                <a:solidFill>
                  <a:srgbClr val="0070c0"/>
                </a:solidFill>
                <a:uFillTx/>
                <a:latin typeface="Arial"/>
              </a:rPr>
              <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Empereur à Garches (création de 121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Solemnes à Courbevoie (création de 87 places d’HP et 6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Garenne à La Garenne-Colombes (création de 99 places et 4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Alphonse Daudet à Clamart (création de 92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Impérial à Colombes (transfert de 12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Tournelle à La Garenne-Colombes (création de 122 places et 5 places d’HT + 1 PASA + 1 UHR)</a:t>
            </a:r>
            <a:endParaRPr b="1" lang="en-US" sz="24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G:\ETAB_MEDICO_SOCIAUX\POLE P-AGEES\1-SYNTHESE 92\SUIVI DES ETABLISSEMENTS\Cartographie EHPAD et SSIAD\Carte EHPAD (+ Territoires MAIA) DT92.png"/>
          <p:cNvPicPr/>
          <p:nvPr/>
        </p:nvPicPr>
        <p:blipFill>
          <a:blip r:embed="rId1"/>
          <a:stretch/>
        </p:blipFill>
        <p:spPr>
          <a:xfrm>
            <a:off x="2232000" y="19080"/>
            <a:ext cx="484992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DEJEAN, Olivier</cp:lastModifiedBy>
  <cp:lastPrinted>2015-04-08T17:23:35Z</cp:lastPrinted>
  <dcterms:modified xsi:type="dcterms:W3CDTF">2015-04-09T12:30:12Z</dcterms:modified>
  <cp:revision>1075</cp:revision>
  <dc:subject/>
  <dc:title>Diapositive 1</dc:title>
</cp:coreProperties>
</file>