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move the slide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F6DF-9EBC-49DC-AD45-9724C639FAE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3216-1035-4FF4-A30F-885397C09BE3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20E7-556C-4D1B-9B16-F80861B4B224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A100-9FA5-4375-85B6-3CC51D44A653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855A-8152-43EA-8030-DB27892790E5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98E8-B727-40E8-8AF6-3F6FA9DE6E45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BF39-CDB5-478B-B38D-F7559552A481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CEC2-B5D7-41F8-BB4D-3A6979E9EC74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BD35-FA69-48F8-B05B-DEB7A0AE2843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74AD-0ECE-41DC-913D-22F4AD914FB0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0EBC-2C98-46B8-83A7-EF56FEA43853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77C6-5307-4021-B790-1CAED007D9B0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5AAB-E61D-438B-9A54-E3A0020FFD77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;  ; ce qui consomme une ressource rare dans un dispositif dont la mission principale n’est pas la médecine d'urgence (rôle dévolu au Sam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e qui consomme une ressource rare dans des dispositifs dont la mission principale n’est pas la médecine d'urgence (rôle dévolu au services des urgences publics et privés autorisés par l’ARS) ; ce qui, en outre, n’est pas sans ris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C97B-7A6E-4575-B8E1-F82FA388B8CC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A1EA-5171-4B99-97F2-E8E63A3954B8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37F4-5AE7-41DE-9904-8D2DE2D3F4EA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0BCB-27D6-4C2F-A462-DD3FBFE4678C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DE66-F038-4DE5-9E34-0A56220CF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4105-FB6A-43CA-9EFC-F8B15C2F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B30CCE-2901-4E86-AC4E-9ED26134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08F406-5B86-4B0B-A383-68EB9A94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57C12E-4A93-4D12-B044-55C1670D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098CAF-0210-4BF8-BFB6-7049FFC9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0C72CA-EEBC-44B5-A355-5BD05BD7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4E0DDF-B4CC-45B5-9F70-EE780E56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F47262-78EE-4901-9568-21402B8C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995E39-8320-4D95-92A9-711100A34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60E345-1622-40BF-8C68-30007E12D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B5B189F-617A-4BE0-9EA0-E7360755C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5EF8-5F5E-46EB-84A8-C6A07AB97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BF24E5-A542-4F14-B114-8D66DD9F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A79E7D-4431-46E1-959B-C5B23F53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8221DC-DB2B-48F1-984E-9CA2B927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745EFE-04AF-43EB-93DD-CE6930A3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160FF3-C7B8-4591-9200-6072DFAE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DB279C-20FA-4A7A-9A8C-BC35F124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B1AA209-6F49-44AF-9B36-65CDAB22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0D5F9A-7B74-4576-A345-34834307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C996F6-8DAD-4A52-9D0A-5C622489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4EAAD8A-65CC-4124-99CF-AFA0FB04B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3F67-C25B-4928-BCFA-7DCAD3648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832A24-BA73-46F0-A80A-794828A0B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7C290-D8ED-43F3-893E-F1AE31166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099D29-3DE2-4716-A1C7-E1D26F46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62EE56-D8AA-403D-8E0A-9F71A54A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1396B-8F45-49CE-A655-ACE69CCD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BCE57-923C-485A-B16E-615F2BF7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C8CC8-BAF8-467A-A9A0-8F1AEE30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ECA3E3-CBF1-4782-AD97-C3B345C9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B3CA3-F8F3-473E-843E-033DCC69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ACD074-8806-4F66-A2E8-E5F46D4F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B56650-78CC-4741-99A5-20B0151D0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B485FF-C16C-42FF-B234-D23D1A7E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D7659-508F-4C9B-AB70-DFDD90104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265A28-468C-4B44-BA52-474C4BCC5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F6F9C6-712F-49F8-9995-E2C554AE1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804D89-D4BB-4BA3-BD90-6C6E01FD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35B73F-764A-421B-A87A-2755B113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57A9FC-9042-4AD2-B1E7-D2A5C78B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91512E-CD6A-44BC-A8F9-73B47733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643535-1FF8-414E-9581-900D22CA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1129EE-D22C-47DA-9A3E-6CD5F683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983DBD-8A22-4DC5-A2A0-17EDC4D2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2B3EDB-F444-4B99-9882-616D4831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114161-1BA7-4B9E-825E-6A0CA93F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FD3A71-D87A-4726-8A9D-7DDD1F51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27BB04-A292-498F-AB72-022CDB4C3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999A47-BAEF-475E-A491-D1A24A645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1DD20-E3CA-475C-B686-DEF41BF3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EE6C5-878C-4C44-9603-5D733511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36493A-F6A1-414C-83D5-DCB13DCA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58D9B-8A47-43AC-9404-4A70847C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A3A381-FA48-4A0A-B13C-EC0A6708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FA23-C5AC-4CC5-8F56-A8FBFCAB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79AB6-8C5C-4082-8A71-BEA56591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86666-C8B0-4FEE-B748-B555DF44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BE237-F41E-45AD-9803-1B061157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45D76-8DE6-4B2D-A34A-A9C2E1046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0E3D5-7D6E-43A6-B5B8-751BE85F3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43FB6-19B3-4A7F-8AD6-2607DE082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ED89C-A660-49A2-9794-BDAF1DB2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370FB-B489-4B1F-90F3-20300FA1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7A65F-1F7D-497C-9DE6-5FA55185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9302D-A7A6-4A9A-BA02-CEEB874B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8EFC-1CE4-4740-962B-DE41F954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537F0-053C-439A-83FA-903286D0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3A7A3-5A26-43E0-8548-48DA4F5F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36397-5469-492E-B7A2-826E7DB8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67542-91DD-47FF-AE0C-C78A4BE2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75667-390D-4D50-A006-40CBD516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FFB99-21DA-405C-90DC-51DBE4320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F1C3C-AB72-4B5F-BD2C-8507A9460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C7C6A9-620E-4399-A873-E466DEFB2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99FEFD-469D-4FF0-B616-B91F5ED5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4A9C37-1C9E-4797-BB0C-BEB9D728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D005-5DC5-4F77-96BF-AC32C2C63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63C0CA-4980-4B31-B0C2-9D397624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F706A1-11CD-45F4-823E-3B8ACED9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15D4F5-E0EC-4119-9526-B07C98C1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66F4B4-9F93-4833-A3A7-E7F00D53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6DFF81-14FE-4C61-BA51-002AEDC8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ECD2E6-EFEF-4B88-9F2D-5260E8BF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3072BD-C3AD-4BC0-8525-36D16D63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852E01-42F7-4EDB-971E-0882982EB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DC8749-6A50-4108-BD18-01EB97867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4969D-6E64-4376-8BB5-577BE7F15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91B6-B875-40A5-84B4-1AC4E7C2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6FEEA-8274-470F-833F-717DACD7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8F389-272A-4FF4-B23C-C83B9DD1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FEE90-85FA-45CF-BA28-AB1C69ED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A9221-B3F1-4435-A199-B3F8FD20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C569F-B258-4341-9B18-C61BA570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30ED6-1989-4869-AF20-33F8ED9B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FFB70-DEA0-4B71-97D3-C3D1D99D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CE989-A964-4BED-B124-D8ED6BC5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5AC70-650C-4D89-B144-647D39E6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1D20A-E707-4422-818E-F79BA482B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B07B-C2C3-420E-98B6-0BC79663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C758B-53E9-4B2A-9EDB-3A22F4984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D2689-9D2C-4576-A78F-EA11A7DB5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A9D45-24B6-4FDB-BBC3-9E6C04B2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41F8F-4A10-444A-93DB-4A8ADE0A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2CCA2-E528-479C-88D9-C059B214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5C98E-D209-4CB0-A2B5-CDFDBEA6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37C07-90D8-4C55-8D86-AEC2DE9E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8691F-486D-450C-89C6-863218B0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A39CA-3FEE-4A32-8ECB-7E8AC859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07009-4C3A-458D-836E-150E73C1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0573-2117-42FC-8DC3-A33D2835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5F6B6-B2AA-4104-B679-236D9DCF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98CF7-F861-4555-8439-872E73F91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1B4D4-F15C-4B50-B9A2-70CD0B427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3FFAA-94AB-4DA4-BF23-122D04659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CC953-6CAD-4B43-BA85-BFC33651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75576-B99D-4B3A-9587-CC7B1F32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43DA0-60FE-4024-B922-2BCBAD42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5AF75-47F8-4080-9205-10C1A2EA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27C7B-EAEB-43A7-952B-B9B5D46E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C36D6-89EA-47EB-9AF3-5AF6CB89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F893-3D1D-466E-97A4-559B194F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D1061-88B2-47D5-9197-2F4426ED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70911-7816-4ABF-A237-0C9FE16F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19F6D-13BE-4943-A234-A621F1C6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15E8D-F5BD-4B94-873A-72FEDB709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5604F-6B53-4BF1-B330-209A86093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26AA6-9B1E-4BA9-851B-E0C3D4B6A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C54A0-F179-4446-AE78-FCE0CC9E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C3926-9B8E-4912-95AB-38876888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4AB0D-B02A-452A-B513-384E914C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F4342-B37A-4804-A5E9-B17CB311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2468-4BC6-4820-98D8-CCA8B38B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13A98-8513-4297-AC1A-1EA371EF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F4471-0F07-4656-BCF2-209943AA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3044A-EFE8-4ED1-993E-EDE65485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2768F-3DF2-4A08-8070-2848E419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4E212-1986-4350-ABDC-0DA40A33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E4015-F777-46B2-9C77-8EC5C0099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29B04-3EFC-4449-8DAC-283FBBD78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C6329F-D593-40AD-BA8B-ACEC24D86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0E3A19-3C6C-4B68-849D-DED4595D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5163B5-4C5F-471C-841D-DE8DDA3D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2727-21F9-404B-9E1C-62386E87E8CA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29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D0FF-DC10-42CA-A812-562834AB507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30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39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F97F-EB6E-4D56-8420-59E8BA83D8A8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83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F2D5-04B2-4AD8-8291-7D8DF4EA903C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Arrondir un rectangle avec un coin diagonal 6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EEE6-46BD-4534-8626-7EF97C4C24C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91" name="Rectangle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D3C0-BAE0-493B-AAC7-3D7F9B49904B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E7DB-49D2-4226-94E8-6420B801004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178" name="Rectangle 9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8DF1-7490-44A5-A4E7-EA319C243F55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23" name="Rectangle 9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91DD-666F-4333-A427-48A8CB919A1A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69" name="Rectangle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4E6E-0D76-4368-A49C-C3B2D0E15924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12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F455-E9AE-428A-8232-54676DEA75E6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sldNum" idx="26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F0F9-F767-44CF-B916-D53F80755B0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ftr" idx="27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Titre 1" descr=""/>
          <p:cNvPicPr/>
          <p:nvPr/>
        </p:nvPicPr>
        <p:blipFill>
          <a:blip r:embed="rId2"/>
          <a:stretch/>
        </p:blipFill>
        <p:spPr>
          <a:xfrm>
            <a:off x="457200" y="208080"/>
            <a:ext cx="8583480" cy="240192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301680" y="3881520"/>
            <a:ext cx="8391600" cy="277344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8dac2"/>
                </a:solidFill>
                <a:latin typeface="Calibri"/>
              </a:rPr>
              <a:t>Marc GIROU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8dac2"/>
                </a:solidFill>
                <a:latin typeface="Calibri"/>
              </a:rPr>
              <a:t>conférence territoriale du 95 , le 28 février 2013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8dac2"/>
                </a:solidFill>
                <a:latin typeface="Calibri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ZoneTexte 3"/>
          <p:cNvSpPr/>
          <p:nvPr/>
        </p:nvSpPr>
        <p:spPr>
          <a:xfrm>
            <a:off x="2674800" y="3013200"/>
            <a:ext cx="587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évelopp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maisons de santé pluridisciplinair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oordonn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ngé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des généralistes non regroupé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bdc097"/>
                </a:solidFill>
                <a:latin typeface="Calibri"/>
              </a:rPr>
              <a:t>CDSA = continuité des soins (hors PDS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9165-43E7-442B-9F5D-31508C6F9AC8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évelopper l’usage du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M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filière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(ex : AVC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partenaria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Samu-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EHPAD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, Samu-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HAD…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08EB-BC12-4818-ACF0-656544368565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326520" cy="115884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opérations hospitalièr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consultations avancée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équipe d’urgentistes de territoi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393C-2094-442C-AA6A-3BEB4D5ADF9F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Accompagnement social 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our les cas où les problèmes médicaux semblent conditionnés par la situation sociale (solitude, vulnérabilité…)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4608-FDAF-48BD-B048-FF93FB04285B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Bon usage des ressourc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(dialogue / médecin régulateur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ouleur thoracique, AVC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B46D-EB66-47C6-89AD-3863586AA810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Secteur Est (Gonesse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Smur pédiatriqu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Médecins correspondants de Sam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DF3B-030E-4070-B6F7-05D95A001708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326520" cy="115884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Travail d’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ingénieu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Variations quotidiennes liées à la circul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Variations liées à la charge de travail des équip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Saisonnalité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egistre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des cas graves pris en charge en plus de 30m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4172-2820-4E34-89E1-6B3A52B5E95E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Territoir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urbain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ou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uraux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pas certain que le déficit soit plus important en zone rura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Situation du Vexin frança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le territoire est, certes,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éficitai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mais il est bien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einturé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d’établissements de santé (pas tous dans le 95) : Pontoise, Osny, L’Isle-Adam, Beaumont, Méru, Gisors, Vernon, Mantes, Meulan, Evecquemo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Vexin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périurbain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et Vexin authentiquement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ur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9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0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994C-3B91-45FB-9D8B-CF49C56E19A5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DSA = (pour l’essentiel) SOS Médeci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en PDSA =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élais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souvent dissuasif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l’efficacité de la PDSA serait multipliée si les interventions de SOS Médecins étaient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ordonnées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par le Centre 1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4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5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B878-CC62-44AA-9050-8DE1971331F7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DSA = continuité des soins (hors PDS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cours au 15 inapproprié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Cabinets médicaux :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ngés non coordonné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Périodes critiq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Répondeur : renvoi au 1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Nombreux recours au 15 pou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65736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retour d’exame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65736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continuité du trait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Nombreux passages aux urgen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65736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9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0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7F3F-12A8-4FC2-8063-008C6C11D510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455400" cy="11588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La régulation médicale = outi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e progrès médical,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’égalité social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’optimisation de l’emploi des ressources</a:t>
            </a:r>
            <a:br>
              <a:rPr sz="2400"/>
            </a:b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es généralistes libéraux participent à la régulation médica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epuis dix ans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c’est un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succè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mplémentarité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généralistes + urgentist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Elle pourrait être plus employé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accès à la PDSA insuffisamment régulé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4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5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326C-FBB9-48D4-BB9E-FC09A991CB79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es consultations non programmées se développent dans des établissements privés avec d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urgentist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Les pompiers disposent d’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urgentiste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temps-plei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rupture du principe de complémentarité Samu-Sd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eci n’est pas sans risqu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eci consomme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essource rare des urgentist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ans des dispositifs dont ce n’est pas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mission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principal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la médecine d'urgence est le rôle dévolu aux services d’urgence publics et privé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autorisés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par l’A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9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0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DA8E-53E4-43CD-B16B-D581BF6B6A9C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Titre 1" descr=""/>
          <p:cNvPicPr/>
          <p:nvPr/>
        </p:nvPicPr>
        <p:blipFill>
          <a:blip r:embed="rId2"/>
          <a:stretch/>
        </p:blipFill>
        <p:spPr>
          <a:xfrm>
            <a:off x="457200" y="208080"/>
            <a:ext cx="8418600" cy="541152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301680" y="3881520"/>
            <a:ext cx="8391600" cy="27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ZoneTexte 3"/>
          <p:cNvSpPr/>
          <p:nvPr/>
        </p:nvSpPr>
        <p:spPr>
          <a:xfrm>
            <a:off x="2674800" y="3013200"/>
            <a:ext cx="587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Encourager les généralistes à anticipe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les 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situations d’urgence attendues ou prévisibles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mieux informer les patients de ce qui peut leur arriver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rédiger pour les malades chroniques des fiches de liais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les 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situations de fin de vi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5E81-271C-4787-9F73-8B0DB4B923EA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égulation médicale 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au Centre 15 et notamment la participation d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généralist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Aller plus loin dans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prescription téléphonique 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ar le Centre 15 (selon recommandations HA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FCBB-FCA1-42DE-BEA1-7548EA24E3C6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10:44Z</dcterms:created>
  <dc:creator>Marc GIROUD</dc:creator>
  <dc:description/>
  <dc:language>en-US</dc:language>
  <cp:lastModifiedBy>CHRD</cp:lastModifiedBy>
  <dcterms:modified xsi:type="dcterms:W3CDTF">2013-02-28T11:09:46Z</dcterms:modified>
  <cp:revision>133</cp:revision>
  <dc:subject/>
  <dc:title> les métiers de la santé  et l’urgence</dc:title>
</cp:coreProperties>
</file>