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40E8-D4BD-4FC7-AFAA-9B3875C23C3B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420640"/>
            <a:ext cx="835164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br>
              <a:rPr sz="2700"/>
            </a:br>
            <a:br>
              <a:rPr sz="27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la communauté d’agglomération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 Val-et-Forêt</a:t>
            </a:r>
            <a:br>
              <a:rPr sz="2800"/>
            </a:br>
            <a:br>
              <a:rPr sz="2800"/>
            </a:b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Composée des villes d’</a:t>
            </a:r>
            <a:r>
              <a:rPr b="1" lang="fr-FR" sz="1800" spc="-1" strike="noStrike">
                <a:solidFill>
                  <a:srgbClr val="7ab800"/>
                </a:solidFill>
                <a:latin typeface="Arial"/>
              </a:rPr>
              <a:t>Eaubonne, d’Ermont, de Montlignon, </a:t>
            </a:r>
            <a:br>
              <a:rPr sz="1800"/>
            </a:b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Saint-Prix, du Plessis-Bouchard et de Saint-Leu-la-Forêt</a:t>
            </a:r>
            <a:r>
              <a:rPr b="1" lang="fr-FR" sz="1800" spc="-1" strike="noStrike">
                <a:solidFill>
                  <a:srgbClr val="7ab800"/>
                </a:solidFill>
                <a:latin typeface="Arial"/>
              </a:rPr>
              <a:t> </a:t>
            </a:r>
            <a:br>
              <a:rPr sz="1800"/>
            </a:br>
            <a:br>
              <a:rPr sz="2800"/>
            </a:br>
            <a:br>
              <a:rPr sz="2800"/>
            </a:b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3 685 habitants (INSEE 2007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dices de vieillissement supérieurs au départemen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: 71.4 pour Ermont, 72.1 pour Montlignon et de 89.9 pour la commune d’Eaubonne /  52.1 pour le Val d’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is des quartiers avec une population très jeu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s quartiers « des Chênes » et « les Espérances » (Ermont) par une surreprésentation des jeunes : 30% de la population a moins de 20 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 quartier des Dures Terres (Eaubonne) a 26.5% de sa population âgée de moins de 20 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Ermont, 17.1% des familles sont monoparentale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contre 15.9% pour le Val d’Oise. 18% de la population ermontoise vit sous le seuil de bas reven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ur la CAVF, la densité de médecins généralistes est supérieure à la moyenne du département (8.9 pour 10 000 habitants) mais inférieure en ce qui concerne Ermont (8 pour 10 000 habitants) où seulement 67.9% des généralistes sont en secteur 1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Eaubonne, 53.8% des généralistes ont 55 ans et plus contre 45.7% pour le Val d’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dicateur de Développement Humain (IDH2)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65 pour Montlignon, 0.61 pour Eaubonne et 0.59 pour Ermont, mais de fortes disparités infracommun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33cc"/>
                </a:solidFill>
                <a:uFillTx/>
                <a:latin typeface="Arial"/>
              </a:rPr>
              <a:t>ASPECTS QUALITATIF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Cinq quartiers en Contrat Urbain de Cohésion Socia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Eaubonne (2) et Ermont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Une population très âgée pour Montlignon (prés de 10% de la population a plus de 80 an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Problème de démographie médicale et d’organisation de l’offre de soi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Une offre de prévention ponctuelle et non coordonnée (actions collectives)  et un déficit en consultation de préven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Un parcours de vie des personnes âgées en perte d’autonomie à articuler avec les différents acteurs intervenant dans  le champ sanitaire et soci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964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s enjeux repérés par l’ensemble des acteurs locaux so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a promotion d’une offre de soins de proximité innovante et accessible à tous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 Informer les professionnels de santé sur les possibilités d’installation sur le territoire(fiche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 Développer des mesures d’aide à l’installation des jeunes médecins portées par la CAVF (sur le plan professionnel et personnel) (fiche 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 développement de l’offre de prévention à destination des personnes et groupes vulnérables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Favoriser l’accessibilité de structures proposant des soins et des consultations de prévention (fiche 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Généraliser des actions collectives ciblées et coordonnées sur des problématiques ou populations ciblée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fiche 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 renforcement des mesures d’accompagnement médico-social des personnes en perte d’aut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Mettre en place  une commission inter secteur pour traiter des situations complexes (fiche 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Anne.GAMBLIN-SRECKI</cp:lastModifiedBy>
  <cp:lastPrinted>2011-11-02T16:07:34Z</cp:lastPrinted>
  <dcterms:modified xsi:type="dcterms:W3CDTF">2011-12-14T13:09:11Z</dcterms:modified>
  <cp:revision>26</cp:revision>
  <dc:subject/>
  <dc:title>ESSA</dc:title>
</cp:coreProperties>
</file>