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D940-9D72-4714-8C2D-1AB5096CD00D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Goussainvill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066680"/>
            <a:ext cx="8659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 31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,4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familles ont au moins 4 enfants de moins de 25 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ès de 35 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: plus de 19% pour les femmes, celui des hommes :17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4 967 € et 27 728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,8% de la population; 36,5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  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 Levier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onté d’impulser une dynamiqu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 de mise en place d’un 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is de ses quartiers en Contrat Urbain de Cohésion Sociale (C.U.C.S.) avec un volet santé et Projet de Réussite Edu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réaliser pour identifier les problématiques priori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6,5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et d’implantation d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7640" y="990360"/>
            <a:ext cx="88074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méliorer la connaissance de l’état socio-sanitaire des Goussainvill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our permettre la définition des beso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Réalisation d’un diagnostic territorial de santé </a:t>
            </a: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(subvention ARS : 25 000 €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Identification des problématiques et définition des axes stratégiques d’action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ordonner les actions de santé sur la comm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Mise en place d’un Atelier Santé Vil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Formalisation des collaborations entre commune et DT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Action d’accompagnement des personnes habitant des logements reconnus insalu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cp:lastPrinted>2011-11-02T16:07:34Z</cp:lastPrinted>
  <dcterms:modified xsi:type="dcterms:W3CDTF">2011-12-13T16:42:44Z</dcterms:modified>
  <cp:revision>21</cp:revision>
  <dc:subject/>
  <dc:title>ESSA</dc:title>
</cp:coreProperties>
</file>