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6A9E-5053-4BDF-8EF1-8A5295E53AE4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21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2971800"/>
            <a:ext cx="7705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 de VILLIERS LE BEL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VILLIERS LE BE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Quelques données chiffrée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091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8% d’étran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,3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autour de 2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,4% de bénéficiaires de la Couverture Maladie Universelle complémentaire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,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3 797 € et 25 674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% de la population et 48,6% des enfants &lt; 17 ans dans foyer à bas revenu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0,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89000"/>
            <a:ext cx="81532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VILLIERS LE BE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 leviers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plusieur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is quartiers Contrat Urbain de Cohésion Sociale (C.U.C.S.)dont un expéri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elier Santé Ville depui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e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Maison de Santé Pluridisciplinaire depuis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 d’agenda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de ses médecins généraliste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s de médecins généralistes, de spécialistes de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4,4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6% de l’ensemble des résidences principales relevant du Parc Privé 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29"/>
          <p:cNvSpPr/>
          <p:nvPr/>
        </p:nvSpPr>
        <p:spPr>
          <a:xfrm>
            <a:off x="3851280" y="18900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de VILLIERS LE BE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50920" y="856800"/>
            <a:ext cx="864072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 algn="just">
              <a:spcBef>
                <a:spcPts val="1250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ctions retenues 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Axe 1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 :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Lutter contre la désertification médicale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254240" indent="-711360">
              <a:lnSpc>
                <a:spcPct val="100000"/>
              </a:lnSpc>
              <a:tabLst>
                <a:tab algn="l" pos="0"/>
                <a:tab algn="l" pos="444600"/>
                <a:tab algn="l" pos="108108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former les médecins sur les possibilités d’installation sur la commune (fiche 1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buClr>
                <a:srgbClr val="002395"/>
              </a:buClr>
              <a:buFont typeface="Arial"/>
              <a:buChar char="-"/>
              <a:tabLst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2 :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Mobiliser les acteurs pour réduire les inégalités sociales et territoriales de santé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éaliser un outil à destination des professionnels de santé (fiche 2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avoriser le travail en réseau des professionnels de santé</a:t>
            </a: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fiche 3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3 : Améliorer la santé globale de la population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ctr">
              <a:spcBef>
                <a:spcPts val="1001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onforter le travail de coordination et de prévention de l’Atelier Santé Ville (fiche 4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buClr>
                <a:srgbClr val="990033"/>
              </a:buClr>
              <a:buFont typeface="Arial"/>
              <a:buChar char="-"/>
              <a:tabLst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Axe4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 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: Am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é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liorer la sant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é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 globale des jeun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nforcer et poursuivre les actions prévention et promotion de la santé actuellement                                                                    menées sur la commune (fiche 5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r une réflexion pour identifier les problématiques (fiche 6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>
            <a:hlinkClick r:id="" action="ppaction://hlinkshowjump?jump=nextslide"/>
          </p:cNvPr>
          <p:cNvSpPr/>
          <p:nvPr/>
        </p:nvSpPr>
        <p:spPr>
          <a:xfrm>
            <a:off x="1143000" y="2163600"/>
            <a:ext cx="7238880" cy="266760"/>
          </a:xfrm>
          <a:custGeom>
            <a:avLst/>
            <a:gdLst>
              <a:gd name="textAreaLeft" fmla="*/ 17280 w 7238880"/>
              <a:gd name="textAreaRight" fmla="*/ 7221600 w 72388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585383" h="21600">
                <a:moveTo>
                  <a:pt x="0" y="0"/>
                </a:moveTo>
                <a:lnTo>
                  <a:pt x="585383" y="0"/>
                </a:lnTo>
                <a:lnTo>
                  <a:pt x="585383" y="21600"/>
                </a:lnTo>
                <a:lnTo>
                  <a:pt x="0" y="21600"/>
                </a:lnTo>
                <a:close/>
              </a:path>
              <a:path fill="lightenLess" w="585383" h="21600">
                <a:moveTo>
                  <a:pt x="0" y="0"/>
                </a:moveTo>
                <a:lnTo>
                  <a:pt x="585383" y="0"/>
                </a:lnTo>
                <a:lnTo>
                  <a:pt x="583983" y="1400"/>
                </a:lnTo>
                <a:lnTo>
                  <a:pt x="1400" y="1400"/>
                </a:lnTo>
                <a:close/>
              </a:path>
              <a:path fill="darken" w="585383" h="21600">
                <a:moveTo>
                  <a:pt x="585383" y="0"/>
                </a:moveTo>
                <a:lnTo>
                  <a:pt x="585383" y="21600"/>
                </a:lnTo>
                <a:lnTo>
                  <a:pt x="583983" y="20200"/>
                </a:lnTo>
                <a:lnTo>
                  <a:pt x="583983" y="1400"/>
                </a:lnTo>
                <a:close/>
              </a:path>
              <a:path fill="darkenLess" w="585383" h="21600">
                <a:moveTo>
                  <a:pt x="58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983" y="20200"/>
                </a:lnTo>
                <a:close/>
              </a:path>
              <a:path fill="lighten" w="58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383" h="21600">
                <a:moveTo>
                  <a:pt x="285685" y="3794"/>
                </a:moveTo>
                <a:lnTo>
                  <a:pt x="299698" y="10800"/>
                </a:lnTo>
                <a:lnTo>
                  <a:pt x="2856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Text Box 1029"/>
          <p:cNvSpPr/>
          <p:nvPr/>
        </p:nvSpPr>
        <p:spPr>
          <a:xfrm>
            <a:off x="3850560" y="304920"/>
            <a:ext cx="49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de VILLIERS LE BE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85840" y="1117080"/>
            <a:ext cx="867888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ons retenues (suites) 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5: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Lutter contre la mortalité infantile</a:t>
            </a: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lvl="2" marL="81288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étecter les facteurs de causalité de la mortalité infantile (fiche 7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81288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er des actions de prévention et promotion de la santé en périnatalité (fiche 8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002395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6: Réduire les inégalités sociales de santé en lien avec l’environnemen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Formaliser les collaborations entre services de la municipalité et services de l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délégation territoriale (fiche 9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Aider à l’accompagnement à travers une action de prévention et de promo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de la santé auprès des personnes occupants des logements reconnu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insalubres (fiche 10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3T10:08:07Z</cp:lastPrinted>
  <dcterms:modified xsi:type="dcterms:W3CDTF">2011-12-13T11:26:18Z</dcterms:modified>
  <cp:revision>50</cp:revision>
  <dc:subject/>
  <dc:title>ESSA</dc:title>
</cp:coreProperties>
</file>