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535D-E82D-45FF-B6B7-684FC53FE1ED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5 décembre 2011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ésentation de 5 Contrats Locaux de Santé  à l’avis de la CT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instances de suivi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de pilotage regroupant les signataires, les partenaires institutionnels, et les autres partenaires inscrits comme pilote d’un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technique regroup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éférents techniques de la collectivité (ou des communes) intéressées par les axes déclinés dans le 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 référent CLS de la DT/ARS (qui appartient au pôle santé publ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eprésentants des différents départements de la DT intéressés par les axes (offre de soins et médico-sociale, veille et sécurité des milie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partenaires et/ou acteurs de terrain intéressés à la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 Contrats Locaux de Santé sont présent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et une communauté d’agglom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Les communes concerné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volontaires et engagées dans une dynamique santé à des degrés div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communes en Contrat Urbain de Cohésion Sociale, dont 2 sont en CUCS expérimental (Sarcelles et Villiers le Bel)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4 communes présentent un indicateur de développement humain inférieur à 0,50 (s’échelonnant de 0,32 à 0,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Communauté d’agglomération Val et Forêt constituée de 6 communes : Saint Leu, Saint Prix, Montlignon, le Plessis Bouchard, Ermont et Eaubo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Les communes d’Ermont et d’Eaubonne se sont intéressées dès la fin de l’année 2010 à la démarche, et ont amené la communauté d’agglomération à envisager 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 diagnostic a donc été réalisé au cours de l’année 2011 sur la totalité du territoire de la communauté d’agglomération, qui a officiellement sollicité le DGARS pour la signature d’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ertaines communes engagées dans une dynamique san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es indicateurs globalement favorables, mais des difficultés particulières rencontré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Vieillissement important de l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Deux communes en CUCS, 1 quartier en difficulté sur la ville de St L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Mais trois des six communes seulement intéressées par les problématiques dégagées du diagnostic (Ermont, Eaubonne et Montlign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global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807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diagnostics à initier sur les communes de Sarcelles, Goussainville et Magny en Vex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diagnostics déjà réalisés sur Villiers le Bel et la Communauté d’agglomé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aide financière de l’ARS pour les communes n’ayant pas de diagnostic suffisant pour connaître l’état de santé de leur population attribuée à partir des 115 000 € dégagés par l’ARS en fin d’anné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989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 axes proposés par la collectivité et partagés, qui explorent l’ensemble du champ potentiel de l’ARS et qui répondent aux priorités déterminées par celle-ci sur les différents champs d’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’exception de la communauté d’agglomération, tous les projets  comportent l ’axe spécifique santé environne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Présentation des 5 CL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Suite de la démarche CLS dans le département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r les 4 CLS présentés à la CT du 9 novembre 2011, trois ont été signés le 2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 projets présentés à l’avis de la CT du 15 décembre, dont la signature devrait être effective à la fin de l’année 201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’autres projets seront éventuellement présentés aux prochaines 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diagnostics à ini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instances de suivi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e révision de ces contrats au moment de l’adoption définitive du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D</cp:lastModifiedBy>
  <cp:lastPrinted>2011-12-14T19:13:17Z</cp:lastPrinted>
  <dcterms:modified xsi:type="dcterms:W3CDTF">2011-12-15T11:03:11Z</dcterms:modified>
  <cp:revision>151</cp:revision>
  <dc:subject/>
  <dc:title>Présentation PowerPoint</dc:title>
</cp:coreProperties>
</file>