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ARS-TERRITOIRE GRAPHIQUE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6312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31692-B626-4132-8DA7-2D7C093BDD30}" type="slidenum">
              <a:rPr b="0" lang="en-US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366480" y="6461280"/>
            <a:ext cx="257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Times New Roman"/>
              </a:rPr>
              <a:t>Conférence de Territoire du 15 déc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5" name="Text Box 8"/>
          <p:cNvSpPr/>
          <p:nvPr/>
        </p:nvSpPr>
        <p:spPr>
          <a:xfrm>
            <a:off x="3184560" y="653724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16344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345960" y="6375240"/>
            <a:ext cx="300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</a:rPr>
              <a:t>Conférence de Territoire du 15 déc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pic>
        <p:nvPicPr>
          <p:cNvPr id="44" name="Picture 8" descr="ARS-PPT-LOGO"/>
          <p:cNvPicPr/>
          <p:nvPr/>
        </p:nvPicPr>
        <p:blipFill>
          <a:blip r:embed="rId3"/>
          <a:stretch/>
        </p:blipFill>
        <p:spPr>
          <a:xfrm>
            <a:off x="357120" y="1014480"/>
            <a:ext cx="2341800" cy="14382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0"/>
          <p:cNvSpPr/>
          <p:nvPr/>
        </p:nvSpPr>
        <p:spPr>
          <a:xfrm>
            <a:off x="2843280" y="1268280"/>
            <a:ext cx="619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806400"/>
                <a:tab algn="l" pos="114156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élégation territoriale du Val d’Oise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000" y="2420640"/>
            <a:ext cx="835164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51264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	</a:t>
            </a:r>
            <a:br>
              <a:rPr sz="2700"/>
            </a:br>
            <a:br>
              <a:rPr sz="2700"/>
            </a:b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ontrat Local de Santé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        de la communauté d’agglomération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de Val-et-Forêt</a:t>
            </a:r>
            <a:br>
              <a:rPr sz="2800"/>
            </a:br>
            <a:br>
              <a:rPr sz="2800"/>
            </a:br>
            <a:r>
              <a:rPr b="0" lang="fr-FR" sz="1800" spc="-1" strike="noStrike">
                <a:solidFill>
                  <a:srgbClr val="7ab800"/>
                </a:solidFill>
                <a:latin typeface="Arial"/>
              </a:rPr>
              <a:t>Composée des villes d’</a:t>
            </a:r>
            <a:r>
              <a:rPr b="1" lang="fr-FR" sz="1800" spc="-1" strike="noStrike">
                <a:solidFill>
                  <a:srgbClr val="7ab800"/>
                </a:solidFill>
                <a:latin typeface="Arial"/>
              </a:rPr>
              <a:t>Eaubonne, d’Ermont, de Montlignon, </a:t>
            </a:r>
            <a:br>
              <a:rPr sz="1800"/>
            </a:br>
            <a:r>
              <a:rPr b="0" lang="fr-FR" sz="1800" spc="-1" strike="noStrike">
                <a:solidFill>
                  <a:srgbClr val="7ab800"/>
                </a:solidFill>
                <a:latin typeface="Arial"/>
              </a:rPr>
              <a:t>Saint-Prix, du Plessis-Bouchard et de Saint-Leu-la-Forêt</a:t>
            </a:r>
            <a:r>
              <a:rPr b="1" lang="fr-FR" sz="1800" spc="-1" strike="noStrike">
                <a:solidFill>
                  <a:srgbClr val="7ab800"/>
                </a:solidFill>
                <a:latin typeface="Arial"/>
              </a:rPr>
              <a:t> </a:t>
            </a:r>
            <a:br>
              <a:rPr sz="1800"/>
            </a:br>
            <a:br>
              <a:rPr sz="2800"/>
            </a:br>
            <a:br>
              <a:rPr sz="2800"/>
            </a:br>
            <a:endParaRPr b="1" lang="en-US" sz="18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                                           </a:t>
            </a: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Contrat Local de Santé de Val-et-Forêt</a:t>
            </a: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8920" y="83664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Arial"/>
              </a:rPr>
              <a:t>Quelques données chiffrées 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63600" indent="-319320">
              <a:lnSpc>
                <a:spcPct val="80000"/>
              </a:lnSpc>
              <a:spcBef>
                <a:spcPts val="326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83 685 habitants (INSEE 2007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3600" indent="-319320">
              <a:lnSpc>
                <a:spcPct val="80000"/>
              </a:lnSpc>
              <a:spcBef>
                <a:spcPts val="326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ndices de vieillissement supérieurs au département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: 71.4 pour Ermont, 72.1 pour Montlignon et de 89.9 pour la commune d’Eaubonne /  52.1 pour le Val d’Oi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3600" indent="-319320">
              <a:lnSpc>
                <a:spcPct val="80000"/>
              </a:lnSpc>
              <a:spcBef>
                <a:spcPts val="326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ais des quartiers avec une population très jeu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es quartiers « des Chênes » et « les Espérances » (Ermont) par une surreprésentation des jeunes : 30% de la population a moins de 20 a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e quartier des Dures Terres (Eaubonne) a 26.5% de sa population âgée de moins de 20 a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3600" indent="-319320">
              <a:lnSpc>
                <a:spcPct val="80000"/>
              </a:lnSpc>
              <a:spcBef>
                <a:spcPts val="326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 Ermont, 17.1% des familles sont monoparentales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contre 15.9% pour le Val d’Oise. 18% de la population ermontoise vit sous le seuil de bas revenu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3600" indent="-319320">
              <a:lnSpc>
                <a:spcPct val="80000"/>
              </a:lnSpc>
              <a:spcBef>
                <a:spcPts val="326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our la CAVF, la densité de médecins généralistes est supérieure à la moyenne du département (8.9 pour 10 000 habitants) mais inférieure en ce qui concerne Ermont (8 pour 10 000 habitants) où seulement 67.9% des généralistes sont en secteur 1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3600" indent="-319320">
              <a:lnSpc>
                <a:spcPct val="80000"/>
              </a:lnSpc>
              <a:spcBef>
                <a:spcPts val="326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 Eaubonne, 53.8% des généralistes ont 55 ans et plus contre 45.7% pour le Val d’Oi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3600" indent="-319320">
              <a:lnSpc>
                <a:spcPct val="80000"/>
              </a:lnSpc>
              <a:spcBef>
                <a:spcPts val="326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ndicateur de Développement Humain (IDH2):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.65 pour Montlignon, 0.61 pour Eaubonne et 0.59 pour Ermont, mais de fortes disparités infracommunal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5150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                                               </a:t>
            </a: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Contrat Local de Santé de Val-et-Forêt</a:t>
            </a: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 u="sng">
                <a:solidFill>
                  <a:srgbClr val="0033cc"/>
                </a:solidFill>
                <a:uFillTx/>
                <a:latin typeface="Arial"/>
              </a:rPr>
              <a:t>ASPECTS QUALITATIF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Cinq quartiers en Contrat Urbain de Cohésion Sociale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Eaubonne (2) et Ermont (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Une population très âgée pour Montlignon (prés de 10% de la population a plus de 80 an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Problème de démographie médicale et d’organisation de l’offre de soi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Une offre de prévention ponctuelle et non coordonnée (actions collectives)  et un déficit en consultation de préven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Arial"/>
              </a:rPr>
              <a:t>Un parcours de vie des personnes âgées en perte d’autonomie à articuler avec les différents acteurs intervenant dans  le champ sanitaire et socia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                                            </a:t>
            </a: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Contrat Local de Santé de Val-et-Forêt</a:t>
            </a: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89647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96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Les enjeux repérés par l’ensemble des acteurs locaux so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9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9640">
              <a:spcBef>
                <a:spcPts val="4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La promotion d’une offre de soins de proximité innovante et accessible à tous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96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-  Informer les professionnels de santé sur les possibilités d’installation sur le territoire(fiche 1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96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-  Développer des mesures d’aide à l’installation des jeunes médecins portées par la CAVF (sur le plan professionnel et personnel) (fiche 2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96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9640"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Le développement de l’offre de prévention à destination des personnes et groupes vulnérables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96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- Favoriser l’accessibilité de structures proposant des soins et des consultations de prévention (fiche 3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96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- Généraliser des actions collectives ciblées et coordonnées sur des problématiques ou populations ciblées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fiche 4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96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9640"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Le renforcement des mesures d’accompagnement médico-social des personnes en perte d’autonom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96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- Mettre en place  une commission inter secteur pour traiter des situations complexes (fiche 5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96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96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4:29:05Z</dcterms:created>
  <dc:creator>Joelle.DEVOS</dc:creator>
  <dc:description/>
  <dc:language>en-US</dc:language>
  <cp:lastModifiedBy>Anne.GAMBLIN-SRECKI</cp:lastModifiedBy>
  <cp:lastPrinted>2011-11-02T16:07:34Z</cp:lastPrinted>
  <dcterms:modified xsi:type="dcterms:W3CDTF">2011-12-14T13:09:11Z</dcterms:modified>
  <cp:revision>26</cp:revision>
  <dc:subject/>
  <dc:title>ESSA</dc:title>
</cp:coreProperties>
</file>