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3AF9-4876-44C5-A46D-2E1354C43560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240" y="3047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700"/>
            </a:b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de Cerg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588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 6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,4 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 % d’employés et d’ouvriers, 17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6 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,1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% des revenus entre 5 693 € et 34 56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% de la population et 29,4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90756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7avec la création de l ’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ation en 2009 d’un diagnostic de santé  puis élaboration d ’un Plan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de ses quartiers sont en contrat Urbain de Cohésion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e la commune de renforcer et poursuivre ses actions de préventi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appuyant sur la Maison Prévention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 fragilités constatées sur certaines populations, notamment les jeune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médecins généralistes variable en fonction des quarti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démographie médicale lié aux perspectives de développement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l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forcer les actions de pré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liorer la santé ment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server et développer l’offre de soins sur la com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ser tous les acteurs pour réduire l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5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6448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Enjeux partag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Renforcer la prévention et la promotion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forter l’ASV comme coordonateur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ner la Maison Prévention Santé comme lieu de référence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les actions de prévention et promotion de la santé pour favoriser les comportements favorables à la santé (4 actions) : nutrition, prévention des conduites à risque (addictions, IST, compétences psychosociales…), amélioration de la prise en charge des conduites à risque (travail en réseau – orientati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ise en compte de la santé m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pérage précoce pour mieux prendre en compte la souffrance psychique (1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éserver l’offre de soins ambulatoires sur la comm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formation pour amener les nouveaux professionnels de santé à s’installer sur Cergy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lexion sur l’opportunité de création d’une Maison de santé pluridisciplinaire et d’une Maison médicale de Garde pour assurer l’offre de soins (2 actions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3886200" y="114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59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jeux partagés (su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éduction des inégalités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ès aux soins pour les jeunes et les populations précaires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er le travail en réseau des professionnels de santé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utter contre l’habita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 les services de la DT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dcterms:modified xsi:type="dcterms:W3CDTF">2011-11-08T11:39:00Z</dcterms:modified>
  <cp:revision>21</cp:revision>
  <dc:subject/>
  <dc:title>ESSA</dc:title>
</cp:coreProperties>
</file>