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03BF-6635-4B78-B5B4-305B20614EED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5760" y="6461280"/>
            <a:ext cx="252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77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9 nov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Garges-lès-Goness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 100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 de 26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6% d’employés et d’ouvriers, 4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,5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plus de 22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,5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,6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2 944 € et 23 194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,8% de la population et 48,4% des enfants&lt;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dynamique santé amorcée en 2009 par la semaine de la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volonté de mise en place d’un Atelier Santé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une des premières à bénéficier d'une convention avec l'Agence nationale p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énovation urbaine (AN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q de ses quartiers en Contrat Urbain de Cohésion Sociale (C.U.C.S.)dont 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énéficie d’un avenant expé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à réal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densités de médecins généralistes, de spécialistes de  premier recours e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rurgiens dentistes inférieures à celles du dépar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roblème de vieillissement des médecins généralist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,3% de l’ensemble des résidences principales relevant du Parc Priv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ellemen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7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2" dur="5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7" dur="500"/>
                                        <p:tgtEl>
                                          <p:spTgt spid="8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2" dur="500"/>
                                        <p:tgtEl>
                                          <p:spTgt spid="8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méliorer la connaissance de l’état socio-sanitaire des Garge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our permettre la définition des be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ordonner les actions de santé sur la comm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utter contre la désertification médi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6600"/>
                </a:solidFill>
                <a:latin typeface="Arial"/>
              </a:rPr>
              <a:t>Axe 4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3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3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Garges-lès-Gonesse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00000" y="609480"/>
            <a:ext cx="806472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ctions retenu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ouver les ressources humaines et financières pour réaliser le  diagnosti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1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dentifier les problématiques non explorées par le 1er diagnosti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ouver les ressources humaines et financières pour créer un ASV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fiche 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former les médecins sur les avantages liés au zonag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aire une étude de faisabilité de création d’une maison de santé pluridisciplinair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ormaliser les collaborations entre équipes communales et celles de la délégation territorial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ider à l’accompagnement à travers une action de prévention et de promotion de la santé auprès des personnes occupants des logements reconnus insalubr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fiche 7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924280"/>
            <a:ext cx="574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26828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1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213372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2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8760" y="3619440"/>
            <a:ext cx="884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306864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3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1080" y="450864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Axe 4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4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9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4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9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Anne.GAMBLIN-SRECKI</cp:lastModifiedBy>
  <cp:lastPrinted>2011-11-02T16:07:34Z</cp:lastPrinted>
  <dcterms:modified xsi:type="dcterms:W3CDTF">2011-11-08T11:55:05Z</dcterms:modified>
  <cp:revision>19</cp:revision>
  <dc:subject/>
  <dc:title>ESSA</dc:title>
</cp:coreProperties>
</file>