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2388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CA3C-31C8-4471-9C56-357E62B2515E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6320" y="287460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900" spc="-1" strike="noStrike">
                <a:solidFill>
                  <a:srgbClr val="002395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10/0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6393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ab8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  <a:p>
            <a:pPr lvl="1" marL="788400" indent="0" algn="ctr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68328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337120" indent="7603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9200" indent="733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-152640" y="2742840"/>
            <a:ext cx="89010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férence de Territoire du 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9 novembre 2011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ésentation des CLS à l’avis de la CT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Application de l’article R1434-7 du CSP)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114240"/>
            <a:ext cx="172872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9 Novem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5881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Contrats Locaux de Santé soumis à l’avis de la Conférence de Territoir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70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ntrats locaux de Santé sont présent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genteu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rag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arges-lès-Go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0" algn="just">
              <a:lnSpc>
                <a:spcPct val="100000"/>
              </a:lnSpc>
              <a:spcBef>
                <a:spcPts val="24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ritères de choix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volontaires pour contractual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engagées dans une dynamique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en Contrat Urbain de Cohésion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 communes présentant un indicateur de développement humain inférieur à 0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88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Constat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6240" y="1197000"/>
            <a:ext cx="86994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449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 diagnostic finalisé pour deux communes (Cergy &amp; Erag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449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 diagnostic à amorcer ou à compléter pour deux autres communes (respectivement Garges-lès-Gonesse et Argenteu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53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Des axes stratégiques partagés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 explorent l’ensemble du champ potentiel de l’ARS et qui répondent aux priorités déterminées par celle-ci sur les différents champs d’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Prévention et Promotion de la Santé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ffre ambulatoire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rganisation médico-soci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rganisation hospita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15328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Un axe spécifique permettant le lien entre  environnement et santé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8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us les CLS comportent cet axe, accepté par les communes rencontrées, mettant en exergue la volonté de l’ARS en matière de santé environnement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714240" algn="just">
              <a:spcBef>
                <a:spcPts val="700"/>
              </a:spcBef>
              <a:buClr>
                <a:srgbClr val="3333cc"/>
              </a:buClr>
              <a:buSzPct val="1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utte contre l’habitat ind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Ghislaine.OLIVIER</cp:lastModifiedBy>
  <cp:lastPrinted>2011-11-02T16:16:27Z</cp:lastPrinted>
  <dcterms:modified xsi:type="dcterms:W3CDTF">2011-11-08T11:21:26Z</dcterms:modified>
  <cp:revision>148</cp:revision>
  <dc:subject/>
  <dc:title>Présentation PowerPoint</dc:title>
</cp:coreProperties>
</file>