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04680" y="741240"/>
            <a:ext cx="49352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6040" rIns="86040" tIns="43200" bIns="432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move the slid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9381960"/>
            <a:ext cx="2922480" cy="493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2068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E2E68E2-C93E-45E4-B01A-33EDE08666AD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A0E2032-A1BB-48E4-8B5C-82EA93BE6E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86920" y="37069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967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3456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220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8692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3456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220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967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86920" y="37069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967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3456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8220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18692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3456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8220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967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D:\Mes documents\Lauranne\Dicom\ARS\ARS-PPT-ELEMTS-1\ARS-TERRITOIRE GRAPHIQUE.jpg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A924-2749-43EC-95D7-AF3F1C9F092E}" type="slidenum">
              <a:rPr b="0" lang="fr-FR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3" descr="D:\Mes documents\Lauranne\Dicom\ARS\ARS-PPT\ARS-PPT ECRAN D'OUVERTUR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62120" y="2666880"/>
            <a:ext cx="77724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2395"/>
                </a:solidFill>
                <a:latin typeface="Arial"/>
                <a:ea typeface="Times New Roman"/>
              </a:rPr>
              <a:t>Conférence de territoi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395"/>
                </a:solidFill>
                <a:latin typeface="Arial"/>
                <a:ea typeface="Times New Roman"/>
              </a:rPr>
              <a:t>Permanence des soins 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395"/>
                </a:solidFill>
                <a:latin typeface="Arial"/>
                <a:ea typeface="Times New Roman"/>
              </a:rPr>
              <a:t> </a:t>
            </a:r>
            <a:r>
              <a:rPr b="1" lang="fr-FR" sz="3200" spc="-1" strike="noStrike">
                <a:solidFill>
                  <a:srgbClr val="002395"/>
                </a:solidFill>
                <a:latin typeface="Arial"/>
                <a:ea typeface="Times New Roman"/>
              </a:rPr>
              <a:t>Etablissements de Santé (PD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57120" y="2000160"/>
            <a:ext cx="1127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395"/>
                </a:solidFill>
                <a:latin typeface="Calibri"/>
              </a:rPr>
              <a:t>Ile-de-France</a:t>
            </a:r>
            <a:endParaRPr b="0" lang="en-US" sz="11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835280" y="2135160"/>
            <a:ext cx="50227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9" name="Flèche droite 5"/>
          <p:cNvSpPr/>
          <p:nvPr/>
        </p:nvSpPr>
        <p:spPr>
          <a:xfrm>
            <a:off x="5003640" y="5180040"/>
            <a:ext cx="978120" cy="396720"/>
          </a:xfrm>
          <a:prstGeom prst="rightArrow">
            <a:avLst>
              <a:gd name="adj1" fmla="val 50000"/>
              <a:gd name="adj2" fmla="val 610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0" name="Flèche droite 6"/>
          <p:cNvSpPr/>
          <p:nvPr/>
        </p:nvSpPr>
        <p:spPr>
          <a:xfrm>
            <a:off x="5292720" y="5013360"/>
            <a:ext cx="977760" cy="396720"/>
          </a:xfrm>
          <a:prstGeom prst="rightArrow">
            <a:avLst>
              <a:gd name="adj1" fmla="val 50000"/>
              <a:gd name="adj2" fmla="val 6104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1" name="Flèche droite 7"/>
          <p:cNvSpPr/>
          <p:nvPr/>
        </p:nvSpPr>
        <p:spPr>
          <a:xfrm>
            <a:off x="6948360" y="1866960"/>
            <a:ext cx="978120" cy="396720"/>
          </a:xfrm>
          <a:prstGeom prst="rightArrow">
            <a:avLst>
              <a:gd name="adj1" fmla="val 50000"/>
              <a:gd name="adj2" fmla="val 610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3505320" y="5638680"/>
            <a:ext cx="30430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1f0b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Novembre 2011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3200" spc="-1" strike="noStrike">
                <a:solidFill>
                  <a:srgbClr val="7ab800"/>
                </a:solidFill>
                <a:latin typeface="Arial"/>
                <a:ea typeface="Times New Roman"/>
              </a:rPr>
              <a:t>7 engagements contractuels liés à la mission de PDSES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8610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484280" indent="-154080" algn="just">
              <a:lnSpc>
                <a:spcPct val="90000"/>
              </a:lnSpc>
              <a:spcBef>
                <a:spcPts val="499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Mettre en place une gouvernance interne et territoriale PD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lnSpc>
                <a:spcPct val="90000"/>
              </a:lnSpc>
              <a:spcBef>
                <a:spcPts val="499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Disposer d’un coordinateur PDSES, interlocuteur un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lnSpc>
                <a:spcPct val="90000"/>
              </a:lnSpc>
              <a:spcBef>
                <a:spcPts val="499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Dimensionner ses ressources de manière à pouvoir assurer la PD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lnSpc>
                <a:spcPct val="90000"/>
              </a:lnSpc>
              <a:spcBef>
                <a:spcPts val="499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S’engager au « 0 refus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lnSpc>
                <a:spcPct val="90000"/>
              </a:lnSpc>
              <a:spcBef>
                <a:spcPts val="499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Favoriser le retour des patients vers l</a:t>
            </a:r>
            <a:r>
              <a:rPr b="0" lang="ja-JP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’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établissement souha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lnSpc>
                <a:spcPct val="90000"/>
              </a:lnSpc>
              <a:spcBef>
                <a:spcPts val="499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Assurer le suivi et l’évaluation du dispositif, avec notamment la mise en place d’un registre des ref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lnSpc>
                <a:spcPct val="90000"/>
              </a:lnSpc>
              <a:spcBef>
                <a:spcPts val="601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Garantir l’accessibilité financière aux soins</a:t>
            </a:r>
            <a:r>
              <a:rPr b="0" lang="fr-F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324000" y="692280"/>
            <a:ext cx="861048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6120" indent="-816120">
              <a:buClr>
                <a:srgbClr val="7ab800"/>
              </a:buClr>
              <a:buSzPct val="30000"/>
              <a:buFont typeface="Arial"/>
              <a:buChar char="•"/>
              <a:tabLst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3200" spc="-1" strike="noStrike">
                <a:solidFill>
                  <a:srgbClr val="7ab800"/>
                </a:solidFill>
                <a:latin typeface="Arial"/>
              </a:rPr>
              <a:t>Le dispositif d’évaluation</a:t>
            </a:r>
            <a:r>
              <a:rPr b="1" lang="fr-FR" sz="26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20" name="Content Placeholder 2"/>
          <p:cNvSpPr/>
          <p:nvPr/>
        </p:nvSpPr>
        <p:spPr>
          <a:xfrm>
            <a:off x="324000" y="1628640"/>
            <a:ext cx="856908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2395"/>
              </a:solidFill>
              <a:latin typeface="Arial"/>
            </a:endParaRPr>
          </a:p>
          <a:p>
            <a:pPr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6269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6269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Mise en place d’un registre des refus et des dysfonctionnements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Procédure de gestion des risques en lien avec la plateforme de 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veille sanitaire de l’ARS 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Protocole d’évaluation du dispositif : 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2d2db9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  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Prise en charge chirurgicale 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2d2db9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  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Répercussions éventuelles (urgences, transports…)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2d2db9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  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Conditions d’exercice des praticiens 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2d2db9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  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Recommandations de bonnes pratiques par les sociétés savantes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 algn="ctr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3200" spc="-1" strike="noStrike">
                <a:solidFill>
                  <a:srgbClr val="7ab800"/>
                </a:solidFill>
                <a:latin typeface="Arial"/>
                <a:ea typeface="Times New Roman"/>
              </a:rPr>
              <a:t>Procédure de sélection envisagée pour les établissements assurant </a:t>
            </a:r>
            <a:br>
              <a:rPr sz="3200"/>
            </a:br>
            <a:r>
              <a:rPr b="1" lang="fr-FR" sz="3200" spc="-1" strike="noStrike">
                <a:solidFill>
                  <a:srgbClr val="7ab800"/>
                </a:solidFill>
                <a:latin typeface="Arial"/>
                <a:ea typeface="Times New Roman"/>
              </a:rPr>
              <a:t>la PDSES « nuit complète »</a:t>
            </a:r>
            <a:r>
              <a:rPr b="1" lang="fr-FR" sz="3200" spc="-1" strike="noStrike">
                <a:solidFill>
                  <a:srgbClr val="7ab800"/>
                </a:solidFill>
                <a:latin typeface="Times New Roman"/>
                <a:ea typeface="Times New Roman"/>
              </a:rPr>
              <a:t>   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136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Diffusion du cahier des charges à tous les établiss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Confirmation et dépôt de dossier par les établissements : 30 octobre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Avis du comité consultatif PDSES : autour du 24 novem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2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Décision par le DG de l</a:t>
            </a:r>
            <a:r>
              <a:rPr b="0" lang="ja-JP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’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ARS Ile-de-France : 30 novemb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Avenant au CPOM de l</a:t>
            </a:r>
            <a:r>
              <a:rPr b="0" lang="ja-JP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’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établissement au 01 01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57200" y="5256720"/>
            <a:ext cx="88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=&gt; Pas de procédure de sélection pour les établissements assurant la première partie de nuit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3200" spc="-1" strike="noStrike">
                <a:solidFill>
                  <a:srgbClr val="7ab800"/>
                </a:solidFill>
                <a:latin typeface="Arial"/>
                <a:ea typeface="Times New Roman"/>
              </a:rPr>
              <a:t>Démocratie sanitaire</a:t>
            </a:r>
            <a:r>
              <a:rPr b="1" lang="fr-FR" sz="3200" spc="-1" strike="noStrike">
                <a:solidFill>
                  <a:srgbClr val="7ab800"/>
                </a:solidFill>
                <a:latin typeface="Times New Roman"/>
                <a:ea typeface="Times New Roman"/>
              </a:rPr>
              <a:t> 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136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Instances  : Commission R</a:t>
            </a:r>
            <a:r>
              <a:rPr b="0" lang="fr-F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é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gionale, Conf</a:t>
            </a:r>
            <a:r>
              <a:rPr b="0" lang="fr-F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é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rences de terrritoire, CRSA</a:t>
            </a:r>
            <a:r>
              <a:rPr b="0" lang="fr-F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Professionnels, notamment la conf</a:t>
            </a:r>
            <a:r>
              <a:rPr b="0" lang="fr-F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é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rence r</a:t>
            </a:r>
            <a:r>
              <a:rPr b="0" lang="fr-F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é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gionale des urgentistes d</a:t>
            </a:r>
            <a:r>
              <a:rPr b="0" lang="fr-F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’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Ile-de-Fr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Usag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El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142640" y="1447560"/>
            <a:ext cx="73105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8960" indent="-85896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Définitions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85896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Enjeu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85896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Méthodologie de la démarche PDSES et calendri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85896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Présentation du cahier des charges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85896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Dispositif d’évalu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85896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Procédure de sél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85896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Démocratie sanitaire</a:t>
            </a:r>
            <a:r>
              <a:rPr b="1" lang="fr-FR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304920" y="220680"/>
            <a:ext cx="81532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6120" indent="-816120">
              <a:buSzPct val="100000"/>
              <a:buBlip>
                <a:blip r:embed="rId8"/>
              </a:buBlip>
              <a:tabLst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  <a:ea typeface="Times New Roman"/>
              </a:rPr>
              <a:t>Ordre du jour</a:t>
            </a:r>
            <a:endParaRPr b="0" lang="en-US" sz="29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  <a:ea typeface="Times New Roman"/>
              </a:rPr>
              <a:t>Définitions</a:t>
            </a:r>
            <a:r>
              <a:rPr b="1" lang="fr-FR" sz="2900" spc="-1" strike="noStrike">
                <a:solidFill>
                  <a:srgbClr val="7ab800"/>
                </a:solidFill>
                <a:latin typeface="Times New Roman"/>
                <a:ea typeface="Times New Roman"/>
              </a:rPr>
              <a:t> </a:t>
            </a:r>
            <a:br>
              <a:rPr sz="2900"/>
            </a:br>
            <a:r>
              <a:rPr b="1" lang="fr-FR" sz="2900" spc="-1" strike="noStrike">
                <a:solidFill>
                  <a:srgbClr val="7ab800"/>
                </a:solidFill>
                <a:latin typeface="Times New Roman"/>
              </a:rPr>
              <a:t> 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4902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2d2db9"/>
                </a:solidFill>
                <a:uFillTx/>
                <a:latin typeface="Arial"/>
              </a:rPr>
              <a:t>Permanence des soins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d2db9"/>
                </a:solidFill>
                <a:latin typeface="Arial"/>
              </a:rPr>
              <a:t>Accueil et prise en charge des patients non déjà hospitalisés dans l</a:t>
            </a:r>
            <a:r>
              <a:rPr b="0" i="1" lang="ja-JP" sz="1800" spc="-1" strike="noStrike">
                <a:solidFill>
                  <a:srgbClr val="2d2db9"/>
                </a:solidFill>
                <a:latin typeface="Arial"/>
              </a:rPr>
              <a:t>’</a:t>
            </a:r>
            <a:r>
              <a:rPr b="0" i="1" lang="fr-FR" sz="1800" spc="-1" strike="noStrike">
                <a:solidFill>
                  <a:srgbClr val="2d2db9"/>
                </a:solidFill>
                <a:latin typeface="Arial"/>
              </a:rPr>
              <a:t>établissement et se présentant dans un service d ’urgence aux horaires PDSES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* n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* samedi après-mi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* dimanche ainsi que jours féri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=&gt; engagement volontaire des établiss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=&gt; à distinguer de l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activité des services de médecine d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urg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2d2db9"/>
                </a:solidFill>
                <a:uFillTx/>
                <a:latin typeface="Arial"/>
              </a:rPr>
              <a:t>La continuité des soins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Prise en charge et surveillance des patients déjà hospitalisés au sein de l</a:t>
            </a:r>
            <a:r>
              <a:rPr b="0" lang="ja-JP" sz="1800" spc="-1" strike="noStrike">
                <a:solidFill>
                  <a:srgbClr val="2d2db9"/>
                </a:solidFill>
                <a:latin typeface="Arial"/>
              </a:rPr>
              <a:t>’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établiss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=&gt; obligation réglementaire pour les établissements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3200" spc="-1" strike="noStrike">
                <a:solidFill>
                  <a:srgbClr val="7ab800"/>
                </a:solidFill>
                <a:latin typeface="Arial"/>
                <a:ea typeface="Times New Roman"/>
              </a:rPr>
              <a:t>Enjeux</a:t>
            </a:r>
            <a:r>
              <a:rPr b="1" lang="fr-FR" sz="2900" spc="-1" strike="noStrike">
                <a:solidFill>
                  <a:srgbClr val="7ab800"/>
                </a:solidFill>
                <a:latin typeface="Times New Roman"/>
                <a:ea typeface="Times New Roman"/>
              </a:rPr>
              <a:t> </a:t>
            </a:r>
            <a:br>
              <a:rPr sz="2900"/>
            </a:br>
            <a:r>
              <a:rPr b="1" lang="fr-FR" sz="2900" spc="-1" strike="noStrike">
                <a:solidFill>
                  <a:srgbClr val="7ab800"/>
                </a:solidFill>
                <a:latin typeface="Times New Roman"/>
              </a:rPr>
              <a:t> 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2388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Sécuriser la prise en charge aux horaires de permanence des so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Améliorer l’efficience notamment par une meilleure répartition de la ressource médi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Garantir l’accessibilité des parcours de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815328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3200" spc="-1" strike="noStrike">
                <a:solidFill>
                  <a:srgbClr val="7ab800"/>
                </a:solidFill>
                <a:latin typeface="Arial"/>
              </a:rPr>
              <a:t>Méthode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 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280" y="1447560"/>
            <a:ext cx="82234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14360" indent="-41436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2d2db9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2 groupes régionau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44000" indent="-347760">
              <a:lnSpc>
                <a:spcPct val="90000"/>
              </a:lnSpc>
              <a:spcBef>
                <a:spcPts val="451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Comité de pilotage (fédérations, AP-HP, conférences de directeurs, conférence de Psdt CME, organisations professionnelles  …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44000" indent="-347760">
              <a:lnSpc>
                <a:spcPct val="90000"/>
              </a:lnSpc>
              <a:spcBef>
                <a:spcPts val="451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Comité de concertation (syndicats de praticiens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4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6 consultations d</a:t>
            </a:r>
            <a:r>
              <a:rPr b="1" lang="ja-JP" sz="1800" spc="-1" strike="noStrike">
                <a:solidFill>
                  <a:srgbClr val="2d2db9"/>
                </a:solidFill>
                <a:latin typeface="Arial"/>
              </a:rPr>
              <a:t>’</a:t>
            </a: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exp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3  groupes de travail thématiques régio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3 enquêtes 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(Etablissements de Santé, SAMU-SM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3 séries de réunions départementales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 (février, juin, octobre 20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4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4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es travaux PDSES en 2012 </a:t>
            </a:r>
            <a:br>
              <a:rPr sz="2900"/>
            </a:b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3059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Réorganisation de la prise en charge en chirurgie la n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550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0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Chirurgie viscérale et digestiv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550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0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Chirurgie orthopédique et traumatologiqu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fa1f0b"/>
                </a:solidFill>
                <a:latin typeface="Wingdings"/>
                <a:ea typeface="Wingdings"/>
              </a:rPr>
              <a:t></a:t>
            </a:r>
            <a:r>
              <a:rPr b="1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Sur la base d</a:t>
            </a:r>
            <a:r>
              <a:rPr b="0" lang="ja-JP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’</a:t>
            </a: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un cahier des charges ad-h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fa1f0b"/>
                </a:solidFill>
                <a:latin typeface="Wingdings"/>
                <a:ea typeface="Wingdings"/>
              </a:rPr>
              <a:t></a:t>
            </a: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Passage devant les instances avant 01/01/201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fa1f0b"/>
                </a:solidFill>
                <a:latin typeface="Wingdings"/>
                <a:ea typeface="Wingdings"/>
              </a:rPr>
              <a:t></a:t>
            </a: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2012, année préparatoire permettant des ajustements </a:t>
            </a: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pour le schéma cible SROS-P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Autres chantiers en cours</a:t>
            </a:r>
            <a:br>
              <a:rPr sz="2900"/>
            </a:br>
            <a:r>
              <a:rPr b="1" lang="fr-FR" sz="2900" spc="-1" strike="noStrike">
                <a:solidFill>
                  <a:srgbClr val="7ab800"/>
                </a:solidFill>
                <a:latin typeface="Times New Roman"/>
                <a:ea typeface="Times New Roman"/>
              </a:rPr>
              <a:t> 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1" lang="fr-FR" sz="22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Autres spécialités chirurgicales</a:t>
            </a:r>
            <a:r>
              <a:rPr b="1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3960">
              <a:spcBef>
                <a:spcPts val="499"/>
              </a:spcBef>
              <a:buSzPct val="1545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ORL, stomatologie, vasculaire, ophtalmologie, urologie, pédiatrie,   polytraumatisé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3960">
              <a:spcBef>
                <a:spcPts val="400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Intégrées  en 2012  après avis d’expe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1" lang="fr-FR" sz="22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Psychiatrie</a:t>
            </a:r>
            <a:r>
              <a:rPr b="0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3960">
              <a:spcBef>
                <a:spcPts val="400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Intégrées aux réflexions urgences psychiatriques (loi 5 juillet 20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1" lang="fr-FR" sz="22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Imager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3960">
              <a:spcBef>
                <a:spcPts val="400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Expérimentations de télé imagerie à lancer d’ici fin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1" lang="fr-FR" sz="22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Neuro-chirurgie et neuro-radiologie interventionnelle </a:t>
            </a:r>
            <a:r>
              <a:rPr b="1" lang="fr-FR" sz="22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3960">
              <a:spcBef>
                <a:spcPts val="400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Intégrées en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304920" y="574956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=&gt; Intégration de ces travaux dans le SROS-PRS fin 2012</a:t>
            </a:r>
            <a:endParaRPr b="0" lang="en-US" sz="24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8080" y="1052640"/>
            <a:ext cx="7632720" cy="48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58960" indent="-8589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2395"/>
                </a:solidFill>
                <a:latin typeface="Arial"/>
                <a:ea typeface="Times New Roman"/>
              </a:rPr>
              <a:t>Cahier des charges PD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2395"/>
                </a:solidFill>
                <a:latin typeface="Arial"/>
                <a:ea typeface="Times New Roman"/>
              </a:rPr>
              <a:t>« Prise en charge des patients en chirurgie adulte pour l'activité nocturne » 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ab800"/>
                </a:solidFill>
                <a:latin typeface="Arial"/>
                <a:ea typeface="Times New Roman"/>
              </a:rPr>
              <a:t>* : chirurgie  orthopédique et traumatologique et chirurgie digestive et viscérale</a:t>
            </a:r>
            <a:r>
              <a:rPr b="1" lang="fr-FR" sz="1200" spc="-1" strike="noStrike">
                <a:solidFill>
                  <a:srgbClr val="002395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57120" y="2000160"/>
            <a:ext cx="1127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8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1835280" y="2135160"/>
            <a:ext cx="50227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9" name="Flèche droite 5"/>
          <p:cNvSpPr/>
          <p:nvPr/>
        </p:nvSpPr>
        <p:spPr>
          <a:xfrm>
            <a:off x="3780000" y="5157720"/>
            <a:ext cx="977760" cy="397080"/>
          </a:xfrm>
          <a:prstGeom prst="rightArrow">
            <a:avLst>
              <a:gd name="adj1" fmla="val 50000"/>
              <a:gd name="adj2" fmla="val 6098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0" name="Flèche droite 6"/>
          <p:cNvSpPr/>
          <p:nvPr/>
        </p:nvSpPr>
        <p:spPr>
          <a:xfrm>
            <a:off x="5292720" y="5013360"/>
            <a:ext cx="977760" cy="396720"/>
          </a:xfrm>
          <a:prstGeom prst="rightArrow">
            <a:avLst>
              <a:gd name="adj1" fmla="val 50000"/>
              <a:gd name="adj2" fmla="val 6104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1" name="Flèche droite 7"/>
          <p:cNvSpPr/>
          <p:nvPr/>
        </p:nvSpPr>
        <p:spPr>
          <a:xfrm>
            <a:off x="6948360" y="1866960"/>
            <a:ext cx="978120" cy="396720"/>
          </a:xfrm>
          <a:prstGeom prst="rightArrow">
            <a:avLst>
              <a:gd name="adj1" fmla="val 50000"/>
              <a:gd name="adj2" fmla="val 610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800" spc="-1" strike="noStrike">
                <a:solidFill>
                  <a:srgbClr val="7ab800"/>
                </a:solidFill>
                <a:latin typeface="Arial"/>
                <a:ea typeface="Times New Roman"/>
              </a:rPr>
              <a:t>Un cahier des charges pour un réseau d</a:t>
            </a:r>
            <a:r>
              <a:rPr b="1" lang="ja-JP" sz="2800" spc="-1" strike="noStrike">
                <a:solidFill>
                  <a:srgbClr val="7ab800"/>
                </a:solidFill>
                <a:latin typeface="Arial"/>
                <a:ea typeface="Times New Roman"/>
              </a:rPr>
              <a:t>’</a:t>
            </a:r>
            <a:r>
              <a:rPr b="1" lang="fr-FR" sz="2800" spc="-1" strike="noStrike">
                <a:solidFill>
                  <a:srgbClr val="7ab800"/>
                </a:solidFill>
                <a:latin typeface="Arial"/>
                <a:ea typeface="Times New Roman"/>
              </a:rPr>
              <a:t>établissements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62864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7470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Un réseau gradué d</a:t>
            </a:r>
            <a:r>
              <a:rPr b="1" lang="ja-JP" sz="28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’</a:t>
            </a:r>
            <a:r>
              <a:rPr b="1" lang="fr-FR" sz="28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établiss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7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747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- Couvrant l</a:t>
            </a:r>
            <a:r>
              <a:rPr b="0" lang="ja-JP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’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ensemble des territoires et l’ensemble de la n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235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2350440" indent="-19872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du début de la garde jusqu’à 22h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235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235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2350440" indent="-19872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de 22h30 à 8h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2d2db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Permettant un accès sécurisé à chaque  francil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476"/>
              </a:spcBef>
              <a:buClr>
                <a:srgbClr val="2d2db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Permettant une prise en charge par des équipes complètes, disponibles, « séniorisées » et motivées</a:t>
            </a:r>
            <a:r>
              <a:rPr b="0" lang="fr-FR" sz="19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291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2362320" y="3047400"/>
            <a:ext cx="463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=&gt; les mêmes qu’aujourd’hui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600200" y="4034880"/>
            <a:ext cx="7238880" cy="8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3" marL="13716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=&gt; un établissement pour 400 000 à 600 000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habitants, sauf Paris 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=&gt; procédure de sélection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MAS</cp:lastModifiedBy>
  <cp:lastPrinted>2010-12-15T14:35:13Z</cp:lastPrinted>
  <dcterms:modified xsi:type="dcterms:W3CDTF">2011-10-26T16:58:20Z</dcterms:modified>
  <cp:revision>981</cp:revision>
  <dc:subject/>
  <dc:title>Présentation PowerPoint</dc:title>
</cp:coreProperties>
</file>