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A953-2E87-4576-877A-E817C1923D88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55640" y="2923920"/>
            <a:ext cx="7632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démarche PD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ans le Val d’O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3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4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11480" y="5084640"/>
            <a:ext cx="35002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férence de Territoire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9 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Une démarche conduite en 3 temp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557360"/>
            <a:ext cx="659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état des lieux départ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e concertation avec les a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 propositions de ré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a concert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principes retenus pour la concerta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 concept de territoire continue à faire sens et permet la fédération des acteur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ce qui nous a amené à organiser des réunions par anciennes mail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a collaboration du SAMU est essentielle et structurant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le SAMU a été associé à ces réun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Les fédérations hospitalières sont associée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&gt; organisation des réunions départementa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réunions dans le Val d ’Ois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902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Réunions associant les directions d’établissements publics et priv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24 janvier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lancement de la démarch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s de concertation par bassins territoriaux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6 avril 2011 : 95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29 avril 2011 : 95-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65480" indent="-14148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6 mai 2011 : 95-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6 juin 201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  présentation des enquêtes et de l’état des lieux département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-79020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Réunion du 12 octobre 2011 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nées départementales, présentation du cahier des charges, de la procédure de sélection des sites et éléments sur le mode de financ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7902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7632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Les proposi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395"/>
                </a:solidFill>
                <a:latin typeface="Arial"/>
              </a:rPr>
              <a:t>de réorganis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Flèche droite 7"/>
          <p:cNvSpPr/>
          <p:nvPr/>
        </p:nvSpPr>
        <p:spPr>
          <a:xfrm>
            <a:off x="6934320" y="182880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s candidatures déposée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71240" indent="-47124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’ex 95-1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garde alternée Groupement Hospitalier Eaubonne Montmorency/  Centre Hospitalier d’Argenteuil,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 SAMU est favorable à cette organisation bi-site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tte organisation est d’ores et déjà effective depuis le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ctobre 2011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2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Gonesse est reconnu comme « tête de réseau »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sur le site de Gonesse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deux établissements (Hôpital Privé Nord Parisien de Sarcelles et Gonesse) participent à la gouvernance afin d’assurer la fluidité du dispositi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-4712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3333cc"/>
                </a:solidFill>
                <a:uFillTx/>
                <a:latin typeface="Arial"/>
              </a:rPr>
              <a:t>Sur le 95-3</a:t>
            </a: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 : le CH de Pontoise est naturellement « tête de réseau »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la nuit : 15 235 passages aux urgences et 1 742 interventions)</a:t>
            </a:r>
            <a:r>
              <a:rPr b="0" lang="en-US" sz="17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gnature d’un protocole d’accord entre le CH de Pontoise, le Centre Hospitalier Intercommunal des Portes de l’Oise (CHIPO) de Beaumont-sur-Oise, les Cliniques Ste Marie (Osny) et Conti (L’Isle-Adam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s gardes se feront au CH de Pontoise avec la participation ponctuelle de médecins des autres établissements (CHIPO et des cliniques Ste Marie et Conti) à partir de 22h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282960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mise en œuvre de cette organisation est prévue pour janvier 20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lang="en-US" sz="1700" spc="-1" strike="noStrike">
                <a:solidFill>
                  <a:srgbClr val="009900"/>
                </a:solidFill>
                <a:latin typeface="Arial"/>
              </a:rPr>
              <a:t>Coopérations public / privé intéressantes pour les pat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7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cp:lastPrinted>2011-11-02T11:54:27Z</cp:lastPrinted>
  <dcterms:modified xsi:type="dcterms:W3CDTF">2011-11-10T10:59:05Z</dcterms:modified>
  <cp:revision>704</cp:revision>
  <dc:subject/>
  <dc:title>Présentation PowerPoint</dc:title>
</cp:coreProperties>
</file>