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3161-83BF-40C3-AF1C-706F443B11A8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29718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ntrat Local de Santé d’ERAGNY</a:t>
            </a:r>
            <a:endParaRPr b="1" lang="en-US" sz="2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ERAGN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6 416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0,4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8% d’employés et d’ouvriers, 20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7,5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ux de chômage de 11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,4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4,2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0% des revenus entre 7 682 € et 37 961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2,5% de la population et 20,7% des enfants &lt; 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dicateur de Développement Humain (IDH2):0,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’Eragn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que santé depuis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 de ville 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quartier en Contrat Urbain de Cohésion Sociale (C.U.C.S.) depuis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telier Santé Ville depui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ture de la charte «ville active du Programme National Nutrition Santé» e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en 2008 et réactualisé réguliè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mortalité infantile de 5,8 pour 1000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vieillissement de ses médecins généralist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es médecins généralistes en secteur 1 inférieure à celle du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s de médecins généralistes, de spécialistes de premier recours e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rurgiens dentistes inférieures à celles du dépar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868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15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utter contre la mortalité infan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éliorer la santé globale des jeune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éliorer la santé globale des senior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éserver l’offre de soins présente sur la commu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5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biliser les acteurs pour réduire les inégalités sociales et territoriales de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6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2200" y="15228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d’Eragny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Rectangle 3"/>
          <p:cNvGraphicFramePr/>
          <p:nvPr/>
        </p:nvGraphicFramePr>
        <p:xfrm>
          <a:off x="849240" y="1047600"/>
          <a:ext cx="7972560" cy="47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1047600"/>
                    <a:ext cx="7972560" cy="47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4953600" y="38088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d’Eragny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Rectangle 3"/>
          <p:cNvGraphicFramePr/>
          <p:nvPr/>
        </p:nvGraphicFramePr>
        <p:xfrm>
          <a:off x="324000" y="838080"/>
          <a:ext cx="8582040" cy="519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8080"/>
                    <a:ext cx="8582040" cy="51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AutoShape 4">
            <a:hlinkClick r:id="" action="ppaction://hlinkshowjump?jump=nextslide"/>
          </p:cNvPr>
          <p:cNvSpPr/>
          <p:nvPr/>
        </p:nvSpPr>
        <p:spPr>
          <a:xfrm>
            <a:off x="1143000" y="2163600"/>
            <a:ext cx="7238880" cy="266760"/>
          </a:xfrm>
          <a:custGeom>
            <a:avLst/>
            <a:gdLst>
              <a:gd name="textAreaLeft" fmla="*/ 17280 w 7238880"/>
              <a:gd name="textAreaRight" fmla="*/ 7221600 w 723888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585383" h="21600">
                <a:moveTo>
                  <a:pt x="0" y="0"/>
                </a:moveTo>
                <a:lnTo>
                  <a:pt x="585383" y="0"/>
                </a:lnTo>
                <a:lnTo>
                  <a:pt x="585383" y="21600"/>
                </a:lnTo>
                <a:lnTo>
                  <a:pt x="0" y="21600"/>
                </a:lnTo>
                <a:close/>
              </a:path>
              <a:path fill="lightenLess" w="585383" h="21600">
                <a:moveTo>
                  <a:pt x="0" y="0"/>
                </a:moveTo>
                <a:lnTo>
                  <a:pt x="585383" y="0"/>
                </a:lnTo>
                <a:lnTo>
                  <a:pt x="583983" y="1400"/>
                </a:lnTo>
                <a:lnTo>
                  <a:pt x="1400" y="1400"/>
                </a:lnTo>
                <a:close/>
              </a:path>
              <a:path fill="darken" w="585383" h="21600">
                <a:moveTo>
                  <a:pt x="585383" y="0"/>
                </a:moveTo>
                <a:lnTo>
                  <a:pt x="585383" y="21600"/>
                </a:lnTo>
                <a:lnTo>
                  <a:pt x="583983" y="20200"/>
                </a:lnTo>
                <a:lnTo>
                  <a:pt x="583983" y="1400"/>
                </a:lnTo>
                <a:close/>
              </a:path>
              <a:path fill="darkenLess" w="585383" h="21600">
                <a:moveTo>
                  <a:pt x="58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3983" y="20200"/>
                </a:lnTo>
                <a:close/>
              </a:path>
              <a:path fill="lighten" w="58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383" h="21600">
                <a:moveTo>
                  <a:pt x="285685" y="3794"/>
                </a:moveTo>
                <a:lnTo>
                  <a:pt x="299698" y="10800"/>
                </a:lnTo>
                <a:lnTo>
                  <a:pt x="28568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29920" y="30492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d’Eragny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ean-Marc.PAGANI</cp:lastModifiedBy>
  <cp:lastPrinted>2011-11-03T10:08:07Z</cp:lastPrinted>
  <dcterms:modified xsi:type="dcterms:W3CDTF">2011-11-04T09:33:16Z</dcterms:modified>
  <cp:revision>26</cp:revision>
  <dc:subject/>
  <dc:title>ESSA</dc:title>
</cp:coreProperties>
</file>