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6040" rIns="86040" tIns="43200" bIns="432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381960"/>
            <a:ext cx="292248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2068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61D9F02-7336-45AA-A044-5B8CAC40D5F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8200" y="4690800"/>
            <a:ext cx="49467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21040" y="9381960"/>
            <a:ext cx="29228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80AFAE3-A8A5-4750-AF28-AA3D49119A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3456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2200" y="155736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18692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3456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2200" y="370692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96720" y="370692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69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6720" y="1557360"/>
            <a:ext cx="3532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6920" y="3706920"/>
            <a:ext cx="7239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55736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ACE1-76E0-4D48-8490-63C8725DF774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Conférence de territoi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Permanence des soins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 </a:t>
            </a:r>
            <a:r>
              <a:rPr b="1" lang="fr-FR" sz="3200" spc="-1" strike="noStrike">
                <a:solidFill>
                  <a:srgbClr val="002395"/>
                </a:solidFill>
                <a:latin typeface="Arial"/>
                <a:ea typeface="Times New Roman"/>
              </a:rPr>
              <a:t>Etablissements de Santé (PD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395"/>
                </a:solidFill>
                <a:latin typeface="Calibri"/>
              </a:rPr>
              <a:t>Ile-de-France</a:t>
            </a: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Flèche droite 5"/>
          <p:cNvSpPr/>
          <p:nvPr/>
        </p:nvSpPr>
        <p:spPr>
          <a:xfrm>
            <a:off x="5003640" y="518004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3505320" y="5638680"/>
            <a:ext cx="3043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1f0b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Novembre 2011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7 engagements contractuels liés à la mission de PDSE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ettre en place une gouvernance interne et territoriale PD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sposer d’un coordinateur PDSES, interlocuteur un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mensionner ses ressources de manière à pouvoir assurer la PD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S’engager au « 0 refus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Favoriser le retour des patients vers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établissement souha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ssurer le suivi et l’évaluation du dispositif, avec notamment la mise en place d’un registre des ref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lnSpc>
                <a:spcPct val="90000"/>
              </a:lnSpc>
              <a:spcBef>
                <a:spcPts val="60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Garantir l’accessibilité financière aux soins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24000" y="692280"/>
            <a:ext cx="861048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>
              <a:buClr>
                <a:srgbClr val="7ab800"/>
              </a:buClr>
              <a:buSzPct val="30000"/>
              <a:buFont typeface="Arial"/>
              <a:buChar char="•"/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Le dispositif d’évaluation</a:t>
            </a:r>
            <a:r>
              <a:rPr b="1" lang="fr-FR" sz="26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0" name="Content Placeholder 2"/>
          <p:cNvSpPr/>
          <p:nvPr/>
        </p:nvSpPr>
        <p:spPr>
          <a:xfrm>
            <a:off x="324000" y="1628640"/>
            <a:ext cx="85690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6269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26269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ise en place d’un registre des refus et des dysfonctionnements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cédure de gestion des risques en lien avec la plateforme de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veille sanitaire de l’ARS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tocole d’évaluation du dispositif : 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Prise en charge chirurgicale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Répercussions éventuelles (urgences, transports…)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Conditions d’exercice des praticien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199"/>
              </a:spcBef>
              <a:buClr>
                <a:srgbClr val="2d2db9"/>
              </a:buClr>
              <a:buSzPct val="5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Recommandations de bonnes pratiques par les sociétés savantes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ctr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Procédure de sélection envisagée pour les établissements assurant </a:t>
            </a:r>
            <a:br>
              <a:rPr sz="3200"/>
            </a:b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la PDSES « nuit complète »</a:t>
            </a:r>
            <a:r>
              <a:rPr b="1" lang="fr-FR" sz="32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 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136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ffusion du cahier des charges à tous les établiss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Confirmation et dépôt de dossier par les établissements : 30 octobr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vis du comité consultatif PDSES : autour du 24 nove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2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cision par le DG de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RS Ile-de-France : 30 novem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Avenant au CPOM de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établissement au 01 01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52567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Pas de procédure de sélection pour les établissements assurant la première partie de nuit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Démocratie sanitaire</a:t>
            </a:r>
            <a:r>
              <a:rPr b="1" lang="fr-FR" sz="32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136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Instances  : Commission R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gionale, Conf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ences de terrritoire, CRSA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Professionnels, notamment la conf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ence r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é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gionale des urgentistes d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’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Ile-de-F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Usag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El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142640" y="1447560"/>
            <a:ext cx="731052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8960" indent="-85896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finitions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Enje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Méthodologie de la démarche PDSES et calend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ésentation du cahier des charges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ispositif d’éval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rocédure de sél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85896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Démocratie sanitaire</a:t>
            </a:r>
            <a:r>
              <a:rPr b="1" lang="fr-FR" sz="20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04920" y="220680"/>
            <a:ext cx="81532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8"/>
              </a:buBlip>
              <a:tabLst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  <a:ea typeface="Times New Roman"/>
              </a:rPr>
              <a:t>Ordre du jour</a:t>
            </a:r>
            <a:endParaRPr b="0" lang="en-US" sz="29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  <a:ea typeface="Times New Roman"/>
              </a:rPr>
              <a:t>Définitions</a:t>
            </a: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4902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2d2db9"/>
                </a:solidFill>
                <a:uFillTx/>
                <a:latin typeface="Arial"/>
              </a:rPr>
              <a:t>Permanence des soins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d2db9"/>
                </a:solidFill>
                <a:latin typeface="Arial"/>
              </a:rPr>
              <a:t>Accueil et prise en charge des patients non déjà hospitalisés dans l</a:t>
            </a:r>
            <a:r>
              <a:rPr b="0" i="1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0" i="1" lang="fr-FR" sz="1800" spc="-1" strike="noStrike">
                <a:solidFill>
                  <a:srgbClr val="2d2db9"/>
                </a:solidFill>
                <a:latin typeface="Arial"/>
              </a:rPr>
              <a:t>établissement et se présentant dans un service d ’urgence aux horaires PDSES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n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samedi après-mi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* dimanche ainsi que jours féri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engagement volontaire des établiss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à distinguer de l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activité des services de médecine d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u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2d2db9"/>
                </a:solidFill>
                <a:uFillTx/>
                <a:latin typeface="Arial"/>
              </a:rPr>
              <a:t>La continuité des soins</a:t>
            </a: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Prise en charge et surveillance des patients déjà hospitalisés au sein de l</a:t>
            </a:r>
            <a:r>
              <a:rPr b="0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établiss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=&gt; obligation réglementaire pour les établissements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  <a:ea typeface="Times New Roman"/>
              </a:rPr>
              <a:t>Enjeux</a:t>
            </a: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2388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Sécuriser la prise en charge aux horaires de permanence des so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Améliorer l’efficience notamment par une meilleure répartition de la ressource médi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d2db9"/>
                </a:solidFill>
                <a:latin typeface="Arial"/>
              </a:rPr>
              <a:t>Garantir l’accessibilité des parcours d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Méthode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	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47560"/>
            <a:ext cx="82234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2 groupes régiona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34776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Comité de pilotage (fédérations, AP-HP, conférences de directeurs, conférence de Psdt CME, organisations professionnelles  …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-347760">
              <a:lnSpc>
                <a:spcPct val="90000"/>
              </a:lnSpc>
              <a:spcBef>
                <a:spcPts val="451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Comité de concertation (syndicats de praticien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6 consultations d</a:t>
            </a:r>
            <a:r>
              <a:rPr b="1" lang="ja-JP" sz="1800" spc="-1" strike="noStrike">
                <a:solidFill>
                  <a:srgbClr val="2d2db9"/>
                </a:solidFill>
                <a:latin typeface="Arial"/>
              </a:rPr>
              <a:t>’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exp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 groupes de travail théma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enquêtes 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(Etablissements de Santé, SAMU-SM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2d2db9"/>
                </a:solidFill>
                <a:latin typeface="Arial"/>
              </a:rPr>
              <a:t>3 séries de réunions départementales</a:t>
            </a:r>
            <a:r>
              <a:rPr b="0" lang="fr-FR" sz="1800" spc="-1" strike="noStrike">
                <a:solidFill>
                  <a:srgbClr val="2d2db9"/>
                </a:solidFill>
                <a:latin typeface="Arial"/>
              </a:rPr>
              <a:t> (février, juin, octobre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4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s travaux PDSES en 2012 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3059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d2db9"/>
                </a:solidFill>
                <a:latin typeface="Arial"/>
                <a:ea typeface="Times New Roman"/>
              </a:rPr>
              <a:t>Réorganisation de la prise en charge en chirurgie la n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55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Chirurgie viscérale et digestiv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55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Chirurgie orthopédique et traumatologiq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1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Sur la base d</a:t>
            </a:r>
            <a:r>
              <a:rPr b="0" lang="ja-JP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un cahier des charges ad-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Passage devant les instances avant 01/01/201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fa1f0b"/>
                </a:solidFill>
                <a:latin typeface="Wingdings"/>
                <a:ea typeface="Wingdings"/>
              </a:rPr>
              <a:t>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2012, année préparatoire permettant des ajustements 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a1f0b"/>
                </a:solidFill>
                <a:latin typeface="Arial"/>
                <a:ea typeface="Times New Roman"/>
              </a:rPr>
              <a:t>pour le schéma cible SROS-P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Autres chantiers en cours</a:t>
            </a:r>
            <a:br>
              <a:rPr sz="2900"/>
            </a:br>
            <a:r>
              <a:rPr b="1" lang="fr-FR" sz="2900" spc="-1" strike="noStrike">
                <a:solidFill>
                  <a:srgbClr val="7ab800"/>
                </a:solidFill>
                <a:latin typeface="Times New Roman"/>
                <a:ea typeface="Times New Roman"/>
              </a:rPr>
              <a:t>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Autres spécialités chirurgicales</a:t>
            </a: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99"/>
              </a:spcBef>
              <a:buSzPct val="1545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ORL, stomatologie, vasculaire, ophtalmologie, urologie, pédiatrie,   polytraumatisé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 en 2012  après avis d’exp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Psychiatrie</a:t>
            </a:r>
            <a:r>
              <a:rPr b="0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aux réflexions urgences psychiatriques (loi 5 juillet 20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Imager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Expérimentations de télé imagerie à lancer d’ici fin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Neuro-chirurgie et neuro-radiologie interventionnelle </a:t>
            </a:r>
            <a:r>
              <a:rPr b="1" lang="fr-FR" sz="22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3960">
              <a:spcBef>
                <a:spcPts val="400"/>
              </a:spcBef>
              <a:buClr>
                <a:srgbClr val="2d2db9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2d2db9"/>
                </a:solidFill>
                <a:latin typeface="Arial"/>
                <a:ea typeface="Times New Roman"/>
              </a:rPr>
              <a:t>Intégrées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04920" y="574956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Intégration de ces travaux dans le SROS-PRS fin 2012</a:t>
            </a:r>
            <a:endParaRPr b="0" lang="en-US" sz="24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838080" y="1052640"/>
            <a:ext cx="7632720" cy="48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Cahier des charges PD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395"/>
                </a:solidFill>
                <a:latin typeface="Arial"/>
                <a:ea typeface="Times New Roman"/>
              </a:rPr>
              <a:t>« Prise en charge des patients en chirurgie adulte pour l'activité nocturne » 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Arial"/>
                <a:ea typeface="Times New Roman"/>
              </a:rPr>
              <a:t>* : chirurgie  orthopédique et traumatologique et chirurgie digestive et viscérale</a:t>
            </a:r>
            <a:r>
              <a:rPr b="1" lang="fr-FR" sz="1200" spc="-1" strike="noStrike">
                <a:solidFill>
                  <a:srgbClr val="002395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57120" y="2000160"/>
            <a:ext cx="1127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8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835280" y="2135160"/>
            <a:ext cx="5022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Flèche droite 5"/>
          <p:cNvSpPr/>
          <p:nvPr/>
        </p:nvSpPr>
        <p:spPr>
          <a:xfrm>
            <a:off x="3780000" y="5157720"/>
            <a:ext cx="977760" cy="397080"/>
          </a:xfrm>
          <a:prstGeom prst="rightArrow">
            <a:avLst>
              <a:gd name="adj1" fmla="val 50000"/>
              <a:gd name="adj2" fmla="val 609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Flèche droite 6"/>
          <p:cNvSpPr/>
          <p:nvPr/>
        </p:nvSpPr>
        <p:spPr>
          <a:xfrm>
            <a:off x="5292720" y="5013360"/>
            <a:ext cx="977760" cy="396720"/>
          </a:xfrm>
          <a:prstGeom prst="rightArrow">
            <a:avLst>
              <a:gd name="adj1" fmla="val 50000"/>
              <a:gd name="adj2" fmla="val 6104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Flèche droite 7"/>
          <p:cNvSpPr/>
          <p:nvPr/>
        </p:nvSpPr>
        <p:spPr>
          <a:xfrm>
            <a:off x="6948360" y="1866960"/>
            <a:ext cx="978120" cy="396720"/>
          </a:xfrm>
          <a:prstGeom prst="rightArrow">
            <a:avLst>
              <a:gd name="adj1" fmla="val 50000"/>
              <a:gd name="adj2" fmla="val 610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Un cahier des charges pour un réseau d</a:t>
            </a:r>
            <a:r>
              <a:rPr b="1" lang="ja-JP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’</a:t>
            </a:r>
            <a:r>
              <a:rPr b="1" lang="fr-FR" sz="2800" spc="-1" strike="noStrike">
                <a:solidFill>
                  <a:srgbClr val="7ab800"/>
                </a:solidFill>
                <a:latin typeface="Arial"/>
                <a:ea typeface="Times New Roman"/>
              </a:rPr>
              <a:t>établissement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28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7470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Un réseau gradué d</a:t>
            </a:r>
            <a:r>
              <a:rPr b="1" lang="ja-JP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’</a:t>
            </a:r>
            <a:r>
              <a:rPr b="1" lang="fr-FR" sz="2800" spc="-1" strike="noStrike" u="sng">
                <a:solidFill>
                  <a:srgbClr val="2d2db9"/>
                </a:solidFill>
                <a:uFillTx/>
                <a:latin typeface="Arial"/>
                <a:ea typeface="Times New Roman"/>
              </a:rPr>
              <a:t>établiss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- Couvrant l</a:t>
            </a:r>
            <a:r>
              <a:rPr b="0" lang="ja-JP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’</a:t>
            </a: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ensemble des territoires et l’ensemble de la n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-19872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du début de la garde jusqu’à 22h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50440" indent="-198720">
              <a:lnSpc>
                <a:spcPct val="80000"/>
              </a:lnSpc>
              <a:spcBef>
                <a:spcPts val="451"/>
              </a:spcBef>
              <a:buClr>
                <a:srgbClr val="2d2db9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d2db9"/>
                </a:solidFill>
                <a:latin typeface="Arial"/>
                <a:ea typeface="Times New Roman"/>
              </a:rPr>
              <a:t>de 22h30 à 8h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99"/>
              </a:spcBef>
              <a:buClr>
                <a:srgbClr val="2d2db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ermettant un accès sécurisé à chaque  francil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76"/>
              </a:spcBef>
              <a:buClr>
                <a:srgbClr val="2d2db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d2db9"/>
                </a:solidFill>
                <a:latin typeface="Arial"/>
                <a:ea typeface="Times New Roman"/>
              </a:rPr>
              <a:t>Permettant une prise en charge par des équipes complètes, disponibles, « séniorisées » et motivées</a:t>
            </a:r>
            <a:r>
              <a:rPr b="0" lang="fr-FR" sz="1900" spc="-1" strike="noStrike">
                <a:solidFill>
                  <a:srgbClr val="2d2db9"/>
                </a:solidFill>
                <a:latin typeface="Arial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29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362320" y="3047400"/>
            <a:ext cx="46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les mêmes qu’aujourd’hui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600200" y="4034880"/>
            <a:ext cx="7238880" cy="8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13716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un établissement pour 400 000 à 600 000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habitants, sauf Paris 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lvl="3" marL="13716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=&gt; procédure de sélection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MAS</cp:lastModifiedBy>
  <cp:lastPrinted>2010-12-15T14:35:13Z</cp:lastPrinted>
  <dcterms:modified xsi:type="dcterms:W3CDTF">2011-10-26T16:58:20Z</dcterms:modified>
  <cp:revision>981</cp:revision>
  <dc:subject/>
  <dc:title>Présentation PowerPoint</dc:title>
</cp:coreProperties>
</file>