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153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153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ARS-TERRITOIRE GRAPHIQUE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763120" y="6477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CC15A-CAEC-4660-A9A7-90049B87DBD8}" type="slidenum">
              <a:rPr b="0" lang="en-US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365760" y="6461280"/>
            <a:ext cx="252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Times New Roman"/>
              </a:rPr>
              <a:t>Conférence de Territoire du 9 novembre 201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5" name="Text Box 8"/>
          <p:cNvSpPr/>
          <p:nvPr/>
        </p:nvSpPr>
        <p:spPr>
          <a:xfrm>
            <a:off x="3184560" y="653724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16344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345960" y="6375240"/>
            <a:ext cx="277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</a:rPr>
              <a:t>Conférence de Territoire du 9 novembre 201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pic>
        <p:nvPicPr>
          <p:cNvPr id="44" name="Picture 8" descr="ARS-PPT-LOGO"/>
          <p:cNvPicPr/>
          <p:nvPr/>
        </p:nvPicPr>
        <p:blipFill>
          <a:blip r:embed="rId3"/>
          <a:stretch/>
        </p:blipFill>
        <p:spPr>
          <a:xfrm>
            <a:off x="357120" y="1014480"/>
            <a:ext cx="2341800" cy="14382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0"/>
          <p:cNvSpPr/>
          <p:nvPr/>
        </p:nvSpPr>
        <p:spPr>
          <a:xfrm>
            <a:off x="2843280" y="1268280"/>
            <a:ext cx="619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806400"/>
                <a:tab algn="l" pos="1141560"/>
                <a:tab algn="l" pos="524340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élégation territoriale du Val d’Oise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360" y="297180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51264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Contrat Local de Santé d’ERAGNY</a:t>
            </a:r>
            <a:endParaRPr b="1" lang="en-US" sz="27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Contrat Local de Santé d’ERAGNY</a:t>
            </a:r>
            <a:endParaRPr b="1" lang="en-US" sz="1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68680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Arial"/>
              </a:rPr>
              <a:t>Quelques données chiffrée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6 416 habitants (INSEE 20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30,4% de moins de 20 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48% d’employés et d’ouvriers, 20% de cad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7,5%  des personnes de 15 ans et + sans diplôme en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ux de chômage de 11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4,4% de bénéficiaires de la Couverture Maladie Universelle complémenta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34,2% de foyers fiscaux non impos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80% des revenus entre 7 682 € et 37 961 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2,5% de la population et 20,7% des enfants &lt; 17 ans dans foyer à bas reven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dicateur de Développement Humain (IDH2):0,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1" dur="5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6" dur="500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1" dur="500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6" dur="500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1" dur="500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Contrat Local de Santé d’Eragny</a:t>
            </a:r>
            <a:endParaRPr b="1" lang="en-US" sz="1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46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84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es points for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41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que santé depuis 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41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at de ville en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41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quartier en Contrat Urbain de Cohésion Sociale (C.U.C.S.) depuis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41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Atelier Santé Ville depuis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41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ature de la charte «ville active du Programme National Nutrition Santé» en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41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nostic socio-sanitaire en 2008 et réactualisé réguliè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4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4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Mais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41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ux de mortalité infantile de 5,8 pour 1000 naiss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41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ème de vieillissement de ses médecins généralistes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41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 des médecins généralistes en secteur 1 inférieure à celle du dépar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41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sités de médecins généralistes, de spécialistes de premier recours et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4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rurgiens dentistes inférieures à celles du départ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4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4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4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2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7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2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7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2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7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2" dur="5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7" dur="500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2" dur="500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7" dur="500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2" dur="500"/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7" dur="500"/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2" dur="500"/>
                                        <p:tgtEl>
                                          <p:spTgt spid="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04920" y="990360"/>
            <a:ext cx="8686800" cy="46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8157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xes stratégiques partag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57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57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Axe 1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utter contre la mortalité infant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57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57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Axe 2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méliorer la santé globale des jeunes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57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57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Axe 3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méliorer la santé globale des seniors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57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57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Axe 4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éserver l’offre de soins présente sur la commu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57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57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Axe 5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biliser les acteurs pour réduire les inégalités sociales et territoriales de sant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57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57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Axe 6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éduire les inégalités sociales de santé en lien avec l’environn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57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57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576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En cohérence avec les priorités de l’Agence Régionale de Sant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157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182200" y="152280"/>
            <a:ext cx="371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Contrat Local de Santé d’Eragny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4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9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4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9" dur="500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4" dur="500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9" dur="500"/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4" dur="500"/>
                                        <p:tgtEl>
                                          <p:spTgt spid="8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Rectangle 3"/>
          <p:cNvGraphicFramePr/>
          <p:nvPr/>
        </p:nvGraphicFramePr>
        <p:xfrm>
          <a:off x="849240" y="1047600"/>
          <a:ext cx="7972560" cy="4740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9240" y="1047600"/>
                    <a:ext cx="7972560" cy="474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4953600" y="380880"/>
            <a:ext cx="371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Contrat Local de Santé d’Eragny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Rectangle 3"/>
          <p:cNvGraphicFramePr/>
          <p:nvPr/>
        </p:nvGraphicFramePr>
        <p:xfrm>
          <a:off x="324000" y="838080"/>
          <a:ext cx="8582040" cy="5199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5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838080"/>
                    <a:ext cx="8582040" cy="519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AutoShape 4">
            <a:hlinkClick r:id="" action="ppaction://hlinkshowjump?jump=nextslide"/>
          </p:cNvPr>
          <p:cNvSpPr/>
          <p:nvPr/>
        </p:nvSpPr>
        <p:spPr>
          <a:xfrm>
            <a:off x="1143000" y="2163600"/>
            <a:ext cx="7238880" cy="266760"/>
          </a:xfrm>
          <a:custGeom>
            <a:avLst/>
            <a:gdLst>
              <a:gd name="textAreaLeft" fmla="*/ 17280 w 7238880"/>
              <a:gd name="textAreaRight" fmla="*/ 7221600 w 7238880"/>
              <a:gd name="textAreaTop" fmla="*/ 17280 h 266760"/>
              <a:gd name="textAreaBottom" fmla="*/ 249480 h 266760"/>
            </a:gdLst>
            <a:ahLst/>
            <a:rect l="textAreaLeft" t="textAreaTop" r="textAreaRight" b="textAreaBottom"/>
            <a:pathLst>
              <a:path w="585383" h="21600">
                <a:moveTo>
                  <a:pt x="0" y="0"/>
                </a:moveTo>
                <a:lnTo>
                  <a:pt x="585383" y="0"/>
                </a:lnTo>
                <a:lnTo>
                  <a:pt x="585383" y="21600"/>
                </a:lnTo>
                <a:lnTo>
                  <a:pt x="0" y="21600"/>
                </a:lnTo>
                <a:close/>
              </a:path>
              <a:path fill="lightenLess" w="585383" h="21600">
                <a:moveTo>
                  <a:pt x="0" y="0"/>
                </a:moveTo>
                <a:lnTo>
                  <a:pt x="585383" y="0"/>
                </a:lnTo>
                <a:lnTo>
                  <a:pt x="583983" y="1400"/>
                </a:lnTo>
                <a:lnTo>
                  <a:pt x="1400" y="1400"/>
                </a:lnTo>
                <a:close/>
              </a:path>
              <a:path fill="darken" w="585383" h="21600">
                <a:moveTo>
                  <a:pt x="585383" y="0"/>
                </a:moveTo>
                <a:lnTo>
                  <a:pt x="585383" y="21600"/>
                </a:lnTo>
                <a:lnTo>
                  <a:pt x="583983" y="20200"/>
                </a:lnTo>
                <a:lnTo>
                  <a:pt x="583983" y="1400"/>
                </a:lnTo>
                <a:close/>
              </a:path>
              <a:path fill="darkenLess" w="585383" h="21600">
                <a:moveTo>
                  <a:pt x="5853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3983" y="20200"/>
                </a:lnTo>
                <a:close/>
              </a:path>
              <a:path fill="lighten" w="5853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85383" h="21600">
                <a:moveTo>
                  <a:pt x="285685" y="3794"/>
                </a:moveTo>
                <a:lnTo>
                  <a:pt x="299698" y="10800"/>
                </a:lnTo>
                <a:lnTo>
                  <a:pt x="285685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29920" y="304920"/>
            <a:ext cx="371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Contrat Local de Santé d’Eragny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4:29:05Z</dcterms:created>
  <dc:creator>Joelle.DEVOS</dc:creator>
  <dc:description/>
  <dc:language>en-US</dc:language>
  <cp:lastModifiedBy>Jean-Marc.PAGANI</cp:lastModifiedBy>
  <cp:lastPrinted>2011-11-03T10:08:07Z</cp:lastPrinted>
  <dcterms:modified xsi:type="dcterms:W3CDTF">2011-11-04T09:33:16Z</dcterms:modified>
  <cp:revision>26</cp:revision>
  <dc:subject/>
  <dc:title>ESSA</dc:title>
</cp:coreProperties>
</file>