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52388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C2CD-2008-4E7E-8623-B64228AF2CBC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6320" y="2874600"/>
            <a:ext cx="611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900" spc="-1" strike="noStrike">
                <a:solidFill>
                  <a:srgbClr val="002395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5960" y="6375240"/>
            <a:ext cx="8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10/05/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95280" y="1015920"/>
            <a:ext cx="2448000" cy="1405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6393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ab8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7ab800"/>
              </a:solidFill>
              <a:latin typeface="Arial"/>
            </a:endParaRPr>
          </a:p>
          <a:p>
            <a:pPr lvl="1" marL="788400" indent="0" algn="ctr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22440" indent="683280" algn="ctr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337120" indent="76032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3229200" indent="73368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3229200" indent="7336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229200" indent="7336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86200" y="616572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-152640" y="2742840"/>
            <a:ext cx="890100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nférence de Territoire du </a:t>
            </a:r>
            <a:endParaRPr b="0" lang="en-US" sz="32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9 novembre 2011</a:t>
            </a:r>
            <a:endParaRPr b="0" lang="en-US" sz="32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résentation des CLS à l’avis de la CT</a:t>
            </a:r>
            <a:endParaRPr b="0" lang="en-US" sz="32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(Application de l’article R1434-7 du CSP)</a:t>
            </a:r>
            <a:endParaRPr b="0" lang="en-US" sz="28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6114240"/>
            <a:ext cx="172872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23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9 Novem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58816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Arial"/>
              </a:rPr>
              <a:t>Les Contrats Locaux de Santé soumis à l’avis de la Conférence de Territoire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370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4 contrats locaux de Santé sont présent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rgenteu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rag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arges-lès-Gon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52480" indent="0" algn="just">
              <a:lnSpc>
                <a:spcPct val="100000"/>
              </a:lnSpc>
              <a:spcBef>
                <a:spcPts val="249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1532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ritères de choix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496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 algn="just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 communes volontaires pour contractuali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 communes engagées dans une dynamique de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4 communes en Contrat Urbain de Cohésion Soc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2 communes présentant un indicateur de développement humain inférieur à 0,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85885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Constat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36240" y="1197000"/>
            <a:ext cx="86994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0360" indent="-4492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 diagnostic finalisé pour deux communes (Cergy &amp; Erag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-4492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 diagnostic à amorcer ou à compléter pour deux autres communes (respectivement Garges-lès-Gonesse et Argenteu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0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5328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500" spc="-1" strike="noStrike">
                <a:solidFill>
                  <a:srgbClr val="7ab800"/>
                </a:solidFill>
                <a:latin typeface="Arial"/>
              </a:rPr>
              <a:t>Des axes stratégiques partagés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424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qui explorent l’ensemble du champ potentiel de l’ARS et qui répondent aux priorités déterminées par celle-ci sur les différents champs d’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algn="just">
              <a:lnSpc>
                <a:spcPct val="110000"/>
              </a:lnSpc>
              <a:spcBef>
                <a:spcPts val="675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 Prévention et Promotion de la Santé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180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 offre ambulatoire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 organisation médico-soci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 organisation hospital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15328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Un axe spécifique permettant le lien entre  environnement et santé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2803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us les CLS comportent cet axe, accepté par les communes rencontrées, mettant en exergue la volonté de l’ARS en matière de santé environnement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95280" indent="-714240" algn="just">
              <a:spcBef>
                <a:spcPts val="700"/>
              </a:spcBef>
              <a:buClr>
                <a:srgbClr val="3333cc"/>
              </a:buClr>
              <a:buSzPct val="15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Lutte contre l’habitat indig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Ghislaine.OLIVIER</cp:lastModifiedBy>
  <cp:lastPrinted>2011-11-02T16:16:27Z</cp:lastPrinted>
  <dcterms:modified xsi:type="dcterms:W3CDTF">2011-11-08T11:21:26Z</dcterms:modified>
  <cp:revision>148</cp:revision>
  <dc:subject/>
  <dc:title>Présentation PowerPoint</dc:title>
</cp:coreProperties>
</file>